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926-BA3A-45AA-9159-976F3205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B17-8311-44B3-9CF4-A30D4B4A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E5DF0-D3C1-411C-9257-F45C4FE8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AA97B-B360-47EB-90E9-E306088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32981-A683-42ED-9A93-B98EB99C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0031-D113-48E6-9253-CB0D6AF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C8999-CD4A-431B-BBE6-9F00CA90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0BDC5-BACD-478F-9CF8-F8D7B46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E439D-5310-4612-A186-F58C6196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ABC42-374B-4EB6-ABD3-0483566D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86F2E-7DEB-4445-8D36-5D588807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4CEB9-40F5-4E49-B7B5-5C32D66D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70F-A36C-4880-9508-BF322854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B7332-DDEF-426B-A0A7-6CBA202F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A5252-9113-420D-9049-A0F1F229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ECB6B-FEFB-43F8-BAE8-CAB27E0A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EB9FF-2C0D-4A94-A3DC-51BCCB5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EEDAD-854E-4E2F-8B42-E13D4F42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8A62A-9CB0-4280-86B0-7E39394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FF1F8-A901-40DF-8722-9A881844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070C-663B-42DB-BA40-52798C0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04FB9-1E45-42C2-BAF6-11D387ED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78E2C-96CC-443C-BF33-873B4FF7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9E0-1012-4B9B-8AA5-E85C3442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449A2-38D8-497D-B3C9-94B22295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0A66-900E-4D2F-AB4C-A3375CF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44A7-DD2B-4700-8F8A-D4E37316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03E6-0843-414D-B9D4-2BDD5F5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9768-8C05-40AA-BAD7-AACC302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5E51-98E6-466B-87AF-492FB235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57D3-CD2D-45AD-9434-4CACF49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E9B3-08AE-49A3-B4D8-0CC5A1BF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A34-E56A-4601-A156-7A1DDB42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7E59-D6B2-4891-9DB8-A766E3F5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C83-3A7C-419D-8AF8-7247690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8F0-FCA9-45B1-B185-97466468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4DB9-8D8A-4377-9F38-4B13CDE0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57ED-C29E-440D-A068-EC53B8A7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EFBB-EFDB-4CCC-B4BF-2EB38AC4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B9F7-44A2-4A50-93F3-B6F6CDC2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82F4-EDE0-4E26-82F6-5F9F7F6D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3D03-C4BB-425E-869F-60A13D83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E75C-C463-4A74-A4FE-75C2E2E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7BC-8CC1-45B1-B083-B2253D5B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867E-9EE2-46DF-9B09-10C18B5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793D-A7CF-4A36-AC1D-D166ABF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86A7-65A9-4487-9636-2D08CA2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9458-D57C-4C69-94E7-71AB83B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F012-5A34-4626-BB50-030618F5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4740-4996-4364-9071-660607B6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FB98-35FF-4DF9-9E1E-444E5C0E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32B1-D245-4739-A9EF-44664775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6638-AAFA-4A99-A875-142E39C1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7836-C60E-4B76-AA32-478DD160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E0F-E093-44B9-A44A-69B7A9B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F351-DEB3-4095-8263-F1C6C6BA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5784-2071-48F3-8CFF-2524590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28032-1BB9-405C-AE8B-6E0734D1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FC2B2-98B2-4110-84D0-F9ADD1B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CF20-CAC7-4CAF-B407-C618A612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99B6-7536-440D-B2D4-9ABAE6F2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C8E3-D78A-49B1-BA98-E3B59C9A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B2B1-E955-4D03-B5F4-630E366D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D0AE1-8C72-4099-A208-DB0EE381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3CE4-5889-4D25-9DD7-A48747D7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F41-1842-4AD4-8050-45AFCA5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4DB4-5318-400C-9397-78BB6ED6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C9E1-1832-44BC-BC07-C0A6163C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2F28-43D4-4016-83F9-A0060AA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23FE-A641-476F-B658-F4BB4210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7419-9B22-4B33-B953-CA153198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1A21-49DD-48F9-8FA4-2F6AC2B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E6743-9C5D-4B06-AAB5-3B10B4D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3EB0-09D4-41B5-ABC8-F8830D8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3B58-7429-4F37-B681-50C981F8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4FB7-42FB-4E60-87EF-AB88BB71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37E-AF5F-4D00-B40D-D7C5ADC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AB7B-C6B3-4F60-AB5E-7245DEAC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6B2B-84BE-40B7-8273-6E72CBCB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2439-155B-46BC-982A-D8C89039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71FA3-850A-4D6A-ABB5-B4C6B85E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2FA1-AB06-4A74-8A03-759C6426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1705-ED3E-4B27-9B01-DF2A3209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3C14-C14C-40E3-B0E2-5C2D507B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C3AD-D262-43FB-ACDF-DF36E14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7675-0E19-4FD2-8C1A-26CB5158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D2D0-5F63-40F7-8DEE-E2C45D8E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EA5-C5DE-48D3-B4AE-4FC874D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1735-3893-4590-97B1-F223E3C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625F4-F46A-4EBB-B7AF-3300841B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D55B8-5C36-4B5C-8465-23733E8F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0AA74-D431-4E0A-A581-1713AAC5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5971-877C-4B8B-8C46-38C25F07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EDA1-9996-4280-92EC-77B03A0C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00EDC-6BB1-4B12-B6B8-E65D67E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DF25E-12F0-47C9-B2E9-0D92106D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B6BD-95DA-48A2-9329-5D07B244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57070-ED3D-4E81-A7D3-6587EF5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023-FA36-47AA-94A9-BC73DFF7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BB4D-7C04-45E6-AF8D-7DBEBB7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A764-5667-4FB5-A01B-9BB0D6C2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FF840-7094-4789-9249-79B8DFF2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2AFE-1C0F-44EF-A6F2-ACA0DD90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2402-1B18-4622-BC56-20842D90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3198-4700-4284-93C6-6A9E7A9F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3DA3-1CF0-4838-8C66-5A95FA6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EF388-D020-404F-9E66-4A3D3CFA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6F68-C98A-411E-A22B-C061CC9C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EE234-19DB-4B4F-9E34-E313761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577-DBAF-4C00-9B7F-4846B9B6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087D7-E5A7-4BF2-A729-FCBF18F1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F30B6-A824-491F-B43F-0350B8B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CBAE-1DCC-4DAF-994B-DE964E3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5E4BD-00EA-42CE-B1CA-D919EC2A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DAF52-433D-4429-A350-F93E5E39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CA457-C04F-430B-ACFE-D97C01A0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E0A6F-FC80-4541-8130-35A60E8B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86DE3-F2F3-4BEE-982F-52991E8A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79566-EEA8-4C53-B304-19C8788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B0D4F-C0F4-4283-BFE2-805AC88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B8321B-7CE1-4255-9BD1-A6DF3EAA41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56E000-94F1-43C8-98DF-DCF43869AE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275994-A3F1-40DA-96AE-E455F0CA4D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C5931D-B3E0-4495-9BC0-A0BD29B842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95A09F-7404-4A45-9309-AE134BD0DF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CA8B55-427A-4BF1-B99A-4A0B0A8C59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0E1C18-EBBE-4E6E-8911-C14B74BBA4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E4671F-E4B8-4918-9970-495FEA3DC6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FD5094-F349-4BBE-80CD-28728EB7C6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C9107B-60A1-4622-8878-9AA371B689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900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Medium"/>
              </a:rPr>
              <a:t>«СИНТАКСИС. ПУНКТУАЦИЯ.»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5800" y="5335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амостоятельная работа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тавьте текст. Разбейте слова на предлож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a5644e"/>
                </a:solidFill>
                <a:latin typeface="Franklin Gothic Book"/>
              </a:rPr>
              <a:t>Пришёл, золотой, осень, птицы, лететь, юг, поля, собирать, урожай, скоро, наступить, зим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1" descr=""/>
          <p:cNvPicPr/>
          <p:nvPr/>
        </p:nvPicPr>
        <p:blipFill>
          <a:blip r:embed="rId1"/>
          <a:stretch/>
        </p:blipFill>
        <p:spPr>
          <a:xfrm>
            <a:off x="6778800" y="-6480"/>
            <a:ext cx="7108560" cy="15368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86400" y="1800360"/>
            <a:ext cx="8247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шла золотая осен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тицы полетели на ю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полей собирают урожа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14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коро наступит зи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023840" y="438120"/>
            <a:ext cx="7186680" cy="2146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рочитаем выразительно текст. Обратим внимание на знаки препинания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Сколько предложений в тексте?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Какое из предложений соответствует схеме: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[ ], но [ ]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[- O,O,O,O,O,O]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Какой знак помогает нам понять, что предложение закончено?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Какие еще знаки конца предложения вы знаете?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Запишите текст, обозначая орфограммы и подчеркивая грамматические основ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685800" y="6091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нового узнали на уро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ова тема нашего уро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му училис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1" descr=""/>
          <p:cNvPicPr/>
          <p:nvPr/>
        </p:nvPicPr>
        <p:blipFill>
          <a:blip r:embed="rId1"/>
          <a:stretch/>
        </p:blipFill>
        <p:spPr>
          <a:xfrm>
            <a:off x="549360" y="146160"/>
            <a:ext cx="7613640" cy="1609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228600" y="2209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МОРФОЛОГИЯ – это раздел науки о языке, который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изучает части реч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ОРФОГРАФИЯ – это раздел науки о языке, котор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изучает правильное написани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лов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533520" y="9144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Как объединены данные слов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ыстрый, ласточка, лететь, над, земля, низк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ро, полить, сильная, дожд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ступить, гро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Быстрая ласточка низко летит над землёй. Скоро польёт сильный дождь. Небо нахмурилось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1" descr=""/>
          <p:cNvPicPr/>
          <p:nvPr/>
        </p:nvPicPr>
        <p:blipFill>
          <a:blip r:embed="rId1"/>
          <a:stretch/>
        </p:blipFill>
        <p:spPr>
          <a:xfrm>
            <a:off x="554040" y="-6480"/>
            <a:ext cx="7078680" cy="1616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121932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лово пришло из греческого язы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означало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« синтаксис» - составление, построение, поряд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ИНТАКСИС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это раздел науки о языке, который изучает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построение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ловосочетаний, предложений, текс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1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6881760" cy="16095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826560" y="404280"/>
            <a:ext cx="7543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ПУНКТУАЦИЯ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это слово приш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з латинского язык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«Пунктум» - точ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УНКТУАЦИЯ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это раздел науки о языке, который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изучает правильную постановку знаков препина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1" descr=""/>
          <p:cNvPicPr/>
          <p:nvPr/>
        </p:nvPicPr>
        <p:blipFill>
          <a:blip r:embed="rId1"/>
          <a:stretch/>
        </p:blipFill>
        <p:spPr>
          <a:xfrm>
            <a:off x="622440" y="298440"/>
            <a:ext cx="7016760" cy="16160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685800" y="20570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3200" spc="-1" strike="noStrike">
                <a:solidFill>
                  <a:srgbClr val="a5644e"/>
                </a:solidFill>
                <a:latin typeface="Franklin Gothic Book"/>
              </a:rPr>
              <a:t>КАЗНИТЬ НЕЛЬЗЯ ПОМИЛОВА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Расставьте знаки препинания так, чтобы спасти жизнь чело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 каждым часом ночь холодеет. К рассвету воздух уже обжигает лицо лёгким морозом. Полотнища палатки чуть - чуть провисает, и трава седеет от первого утренни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Пора вставать. На востоке уже наливается тихим светом заря, уже виднеются огромные очертания ив, уже меркнут звёз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95120" y="420840"/>
            <a:ext cx="8802720" cy="1116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Парашютисты опустились в центре стадиона. (взять сказуемое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друг послышались лёгкие шаги. (взять определение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На щеках тают снежинки. (взять подлежащее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Тропинки в саду засыпали листья. (взять дополнение, употребив сущ. в вин. п. с предлогом на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talya</cp:lastModifiedBy>
  <dcterms:modified xsi:type="dcterms:W3CDTF">2013-02-13T13:55:43Z</dcterms:modified>
  <cp:revision>4</cp:revision>
  <dc:subject/>
  <dc:title>PowerPoint Presentation</dc:title>
</cp:coreProperties>
</file>