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AD25-40A8-435B-A1B7-E91F21014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6E3F-DF99-4BA8-9BFA-222794C7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7C5E-FC51-42C5-A32B-7156B2C65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F371-B505-4B19-A074-92A821ADD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96CF-5E1D-4BBA-90FF-9C6B88B0F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58CC-044D-4462-BAAB-EA0438D1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3E6B-413E-4928-A18E-C7FE1A88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FF56-7AD2-4544-89E1-8722944B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563D-5BF3-45EA-9BAD-422BC400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173D-9088-4761-824E-F574A75A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9793-A499-403A-B825-B5D48EDC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0278-341C-4348-BA5B-491D5703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3308-A4A1-4F93-BE77-B4F01EBC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7D92-D03E-4225-A52C-609EB1CD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C4CD-D51B-4EDD-ABD2-33ED7E58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7280-7947-45AC-8615-CEE2495EF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6264-CAD2-4D1A-A2CB-DF6421457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2C8B-697D-41F8-ADD6-957AA102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64D5-178B-478E-A6AD-158AB72E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F594-9AAA-4A30-8C27-10EDF965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51C4-9079-48D1-ADC5-23A40919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A99A-5B27-4FF4-9A32-61D6F434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63B0-6CC9-463F-B582-03667422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2AFA-12C6-48F3-BDA7-D5473E1E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3D45-49E3-4225-8D9D-A4F6D600DD9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5001-8647-4313-82C0-9C5AD4D398A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987640" y="260280"/>
            <a:ext cx="63723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istral"/>
              </a:rPr>
              <a:t>Словарь моды 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istral"/>
              <a:ea typeface="Mistr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istral"/>
              </a:rPr>
              <a:t>от А до Я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istral"/>
              <a:ea typeface="Mistral"/>
            </a:endParaRPr>
          </a:p>
        </p:txBody>
      </p:sp>
      <p:sp>
        <p:nvSpPr>
          <p:cNvPr id="152" name=""/>
          <p:cNvSpPr/>
          <p:nvPr/>
        </p:nvSpPr>
        <p:spPr>
          <a:xfrm>
            <a:off x="1042920" y="5661000"/>
            <a:ext cx="76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зентация составл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ителем технологии МБОУ СОШ пгт. Уруша Амурской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прияновой Ольгой Васильев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979640" y="3933720"/>
            <a:ext cx="1581120" cy="13240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1195200" cy="1944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949440" y="4387680"/>
            <a:ext cx="5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Б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32000" y="188640"/>
            <a:ext cx="2951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Блузо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000" y="836280"/>
            <a:ext cx="3816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Короткая куртка, низ которой заканчивается поясом, собирающим на сборку спинку и полочки. Рукава могут иметь притачные манжеты с застежкой или на резинке. Вместо пояса часто используется цельнокроеная кулиса с вдёрнутым поясом-завязкой. Ткань может быть любо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7547" r="78583" b="75614"/>
          <a:stretch/>
        </p:blipFill>
        <p:spPr>
          <a:xfrm>
            <a:off x="4211640" y="2349360"/>
            <a:ext cx="2735280" cy="2952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rcRect l="54770" t="16307" r="8087" b="3519"/>
          <a:stretch/>
        </p:blipFill>
        <p:spPr>
          <a:xfrm>
            <a:off x="5867280" y="907920"/>
            <a:ext cx="24498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81200" y="360000"/>
            <a:ext cx="2131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Бере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48360" y="1052640"/>
            <a:ext cx="36828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Мягкий плоский головной убор различной величины, круглой или квадратной формы; деталь женской или мужской одежды, особенно распространенная в 15-16 веках. Часто изготовлялся из бархата, украшался вышивкой и перьями. Современен и в настоящее врем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4680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81200" y="439560"/>
            <a:ext cx="260352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Бандо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  <a:ea typeface="Arial"/>
              </a:rPr>
              <a:t>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32000" y="1052280"/>
            <a:ext cx="392580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От фр. -повязка – представляет собой широкую ленту, заменяющую бюстгальтер. По верху и по низу детали в кулиску вдергивается резинка,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по середине бандо присборивается, может на вел</a:t>
            </a:r>
            <a:r>
              <a:rPr b="1" lang="ru-RU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</a:t>
            </a: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кро (липучку)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5" descr="C:\Documents and Settings\User\Рабочий стол\султанова\V273499.jpg"/>
          <p:cNvPicPr/>
          <p:nvPr/>
        </p:nvPicPr>
        <p:blipFill>
          <a:blip r:embed="rId1"/>
          <a:stretch/>
        </p:blipFill>
        <p:spPr>
          <a:xfrm>
            <a:off x="324000" y="2133720"/>
            <a:ext cx="46796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Литератур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ерсесов Я.Н. «История моды» из серии «Я познаю мир», Москва, издательство «АСТ», 1998 г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Журналы  «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ITT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» 2010 г.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Журналы мод «Бурда», 2009-2010 гг.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артинки - анимашки взяты с сайта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animashki.ru</a:t>
            </a: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08:26:03Z</dcterms:created>
  <dc:creator>Admin</dc:creator>
  <dc:description/>
  <dc:language>en-US</dc:language>
  <cp:lastModifiedBy>Admin</cp:lastModifiedBy>
  <dcterms:modified xsi:type="dcterms:W3CDTF">2013-02-12T10:32:07Z</dcterms:modified>
  <cp:revision>18</cp:revision>
  <dc:subject/>
  <dc:title>Слайд 1</dc:title>
</cp:coreProperties>
</file>