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9.png" ContentType="image/png"/>
  <Override PartName="/ppt/media/image17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2.wmf" ContentType="image/x-wmf"/>
  <Override PartName="/ppt/media/image2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4CBE-AD6C-4FD0-B37F-A12F81859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B504-E75C-4AF5-9839-70F44B9B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A1FE-D75C-449E-BF19-4AF5AFF54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ED06-E16A-4F42-AD97-554F47762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4777-2490-4483-9E8E-06736122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F40B-B3C0-4CEF-8103-87DAFB7B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ED1D-8D03-4DBB-8FB5-A5D5F2EA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1CEA-FBDD-4818-A71A-5B4EE67D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2138-72FD-400D-81FA-33FBDBF9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4B3F-2D5E-47FF-9269-85C5766A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752C-7D97-40E0-B125-81BBA9C9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0474-E8AD-4D87-B9A6-BD7D489A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6DE7-7733-4CA8-8625-BD3FAEC33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411280" y="549360"/>
            <a:ext cx="637236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istral"/>
              </a:rPr>
              <a:t>Словарь моды 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istral"/>
              <a:ea typeface="Mistr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istral"/>
              </a:rPr>
              <a:t>от А до Я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istral"/>
              <a:ea typeface="Mistral"/>
            </a:endParaRPr>
          </a:p>
        </p:txBody>
      </p:sp>
      <p:sp>
        <p:nvSpPr>
          <p:cNvPr id="43" name=""/>
          <p:cNvSpPr/>
          <p:nvPr/>
        </p:nvSpPr>
        <p:spPr>
          <a:xfrm>
            <a:off x="1042920" y="5661000"/>
            <a:ext cx="76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зентация составле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чителем технологии МБОУ СОШ пгт. Уруша Амурской об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уприяновой Ольгой Васильев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868000" y="440856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-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D:\Документы\Мои рисунки\Организатор клипов (Microsoft)\j0406226.wmf"/>
          <p:cNvPicPr/>
          <p:nvPr/>
        </p:nvPicPr>
        <p:blipFill>
          <a:blip r:embed="rId1"/>
          <a:stretch/>
        </p:blipFill>
        <p:spPr>
          <a:xfrm>
            <a:off x="755640" y="765000"/>
            <a:ext cx="1179360" cy="1071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D:\Документы\Мои рисунки\Организатор клипов (Microsoft)\j0113278.wmf"/>
          <p:cNvPicPr/>
          <p:nvPr/>
        </p:nvPicPr>
        <p:blipFill>
          <a:blip r:embed="rId2"/>
          <a:stretch/>
        </p:blipFill>
        <p:spPr>
          <a:xfrm>
            <a:off x="539640" y="2565360"/>
            <a:ext cx="1866960" cy="1730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4" descr="D:\Документы\Мои рисунки\Организатор клипов (Microsoft)\j0113388.wmf"/>
          <p:cNvPicPr/>
          <p:nvPr/>
        </p:nvPicPr>
        <p:blipFill>
          <a:blip r:embed="rId3"/>
          <a:stretch/>
        </p:blipFill>
        <p:spPr>
          <a:xfrm>
            <a:off x="2556000" y="4076640"/>
            <a:ext cx="1766880" cy="13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50920" y="981000"/>
            <a:ext cx="4690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альто (гол). - первоначально одежда с рукавами, в настоящее время так называется верхняя распашная одежда, обычно из плотного материала с кармана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«Дипломат» (франц.) –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 19 веке простое дамское полуприлегающее двубортное пальт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219640" y="692280"/>
            <a:ext cx="3673440" cy="5545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26160" y="189000"/>
            <a:ext cx="44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альто - диплом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836640"/>
            <a:ext cx="561636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Важная модная деталь как в мужской, так и в женской одежде. Пояса были известны уже в бронзовом веке. Пояс считался символом чести и целомудрия. Женщинам лёгкого поведения запрещалось носить пояса. В средневековье на него вешали сумочки, кисеты, колокольчики, а также украшения и зеркальц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В 17-18 веках пояс используется очень редко (такова мода), а вот в канун Первой мировой войны пояса снова вернулись, и сейчас являются модным и необходимым элементом одеж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012000" y="476280"/>
            <a:ext cx="2842920" cy="5904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143240" y="189000"/>
            <a:ext cx="143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Поя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26560" y="549360"/>
            <a:ext cx="4475160" cy="57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ужской двубортный или однобортный короткий пиджак  был известен под названием  «сак» в Англии в 19 веке. Во второй половине 17 века сложились три основные элементы мужского гардероба: пиджак, жилет и брюки. В разное время был длинным, имел много карманов и пуговиц, был богато вышитым и шился из тяжелых тканей. Сейчас это элемент и мужской, и женской одеж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14542" t="2735" r="8769" b="0"/>
          <a:stretch/>
        </p:blipFill>
        <p:spPr>
          <a:xfrm>
            <a:off x="5435640" y="1125360"/>
            <a:ext cx="3454200" cy="5086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086520" y="189000"/>
            <a:ext cx="201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иджа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5256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дежда древних египтян, состоящая из куска ткани, прикреплённая к пояс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ожная юбка, богато декорированна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ъёмный перед, который прикалывался к верхней юбке булавками во французской моде 17 ве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русской моде – занавеска, самая модная, декоративно украшенная часть женского костю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156360" y="260280"/>
            <a:ext cx="2849400" cy="6264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404720" y="260280"/>
            <a:ext cx="44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ередник (фартук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78920" y="665280"/>
            <a:ext cx="442764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аты – декоративные детали на карманах, рукавах в виде полосок разной формы, выполняются накладными на застежках или втачиваются  в шв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огоны – декоративные детали в виде полос на плече  или в верхней части рукав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3280" y="981000"/>
            <a:ext cx="4032360" cy="5545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295600" y="189000"/>
            <a:ext cx="332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аты, пого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40360" y="2852640"/>
            <a:ext cx="172692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211640" y="2923920"/>
            <a:ext cx="3672000" cy="10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-360" y="907920"/>
            <a:ext cx="410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ала известна в Европе благодаря путешественникам, завезшим её из тропиков. Только с начала 20 века входит в моду, особенно у мужчин, которым она полностью заменила ночную рубаш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04360" y="189000"/>
            <a:ext cx="208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ижам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08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78920" y="1125360"/>
            <a:ext cx="424836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ервоначально короткий плащ, который носили странники-пилигримы. У богатых были из парчи и бархата, а у бедных из плотных шерстяных ткан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оявившиеся двубортные пальто вытеснили пелерин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2360" y="260280"/>
            <a:ext cx="25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елери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716360" y="260280"/>
            <a:ext cx="395928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4248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гл. - спортивная рубашка мягкая и легкая, с мягким воротником и застежкой до середины груди, чаще всего с короткими рукавами. Воротники, планки, застёжки иногда делают из полотна другого цвета. Название идёт от названия спортивной игры в мя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65440" y="260280"/>
            <a:ext cx="13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о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211640" y="260280"/>
            <a:ext cx="2519280" cy="5284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04000" y="1989000"/>
            <a:ext cx="2340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8920" y="1268280"/>
            <a:ext cx="42483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древней Руси широкая распашная одежда без рукавов, надеваемая внакидку. Позже так стали называть любую верхнюю одежду из лёгкого плотного материала с водоотталкивающими свойствами на застёж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кинтошем назван по имени шотландского химика  Чарльза Макинтоша (1868-192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1080" y="404640"/>
            <a:ext cx="410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лащ - макинто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356000" y="549360"/>
            <a:ext cx="44658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50920" y="907560"/>
            <a:ext cx="38894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д женской одежды, который состоит из лифа и  юбки, может быть цельнокроеным или отрезным по талии, бедрам. Может иметь рукава, воротник, карманы, застежку, а может быть без них, может быть повседневным или нарядны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весь набор одежды человека, кроме верх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27640" y="260280"/>
            <a:ext cx="200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лать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Содержимое 4" descr="235b.jpg"/>
          <p:cNvPicPr/>
          <p:nvPr/>
        </p:nvPicPr>
        <p:blipFill>
          <a:blip r:embed="rId1"/>
          <a:stretch/>
        </p:blipFill>
        <p:spPr>
          <a:xfrm>
            <a:off x="6659640" y="2276640"/>
            <a:ext cx="2232000" cy="4321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rcRect l="14467" t="4472" r="13182" b="0"/>
          <a:stretch/>
        </p:blipFill>
        <p:spPr>
          <a:xfrm>
            <a:off x="4284720" y="260280"/>
            <a:ext cx="2376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78920" y="1916280"/>
            <a:ext cx="324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м. – первоначально узкие мужские брюки для верховой езды, плотно обтягивающие ноги; в настоящее время это длинные облегающие  брюки, женские или детские, трикотажные или вязаные из шер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без следа или с перемычкой на следе ног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17440" y="333360"/>
            <a:ext cx="211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Рейту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427640" y="333360"/>
            <a:ext cx="38894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8000" y="148428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рсесов Я.Н. «История моды» из сер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Я познаю мир», Москва, издательство «АСТ», 1998 г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урналы  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T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» 2010 г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урналы мод «Бурда», 2009-2010 гг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н презентации взят с сайта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ida.ucoz.ru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ртинки - анимашки взяты с сайта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nimashki.ru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3640" y="1844280"/>
            <a:ext cx="489564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иния шва втачивания воротника с подбортом от плечевого шва до точки уступ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88720" y="476280"/>
            <a:ext cx="203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Раскре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867280" y="189000"/>
            <a:ext cx="2952720" cy="6480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003640" y="981000"/>
            <a:ext cx="2089440" cy="1224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124000" y="4149720"/>
            <a:ext cx="3456000" cy="2401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flipV="1">
            <a:off x="4572000" y="2492280"/>
            <a:ext cx="244800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20068800">
            <a:off x="4430160" y="2997000"/>
            <a:ext cx="148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очка усту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187280" y="4652640"/>
            <a:ext cx="324036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48360" y="1989000"/>
            <a:ext cx="32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57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Костюм «Шанел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70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1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ель, предложенная знаменитым модельером Габриэль (Коко) Шанель. Подобие мужского пиджака, без воротника, отделан контрастной тканью, характерная ткань – в клет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356000" y="981000"/>
            <a:ext cx="2521080" cy="4176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72360" y="2276640"/>
            <a:ext cx="2520720" cy="43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284720" y="2205000"/>
            <a:ext cx="1942920" cy="31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47280" y="379080"/>
            <a:ext cx="43326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Кулиска, кули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920" y="1915920"/>
            <a:ext cx="39704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оска ткани, настрачиваемая на изделие для вдёргивание пояса или резинки. Может быть выполнена цельно кроеным способом, и резинка вдёргивается между двумя машинными параллельными строч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443640" y="620640"/>
            <a:ext cx="2305080" cy="5759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427640" y="2421000"/>
            <a:ext cx="1657080" cy="273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23640" y="1844280"/>
            <a:ext cx="489564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иния шва втачивания воротника с подбортом от плечевого шва до точки уступ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8720" y="476280"/>
            <a:ext cx="203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Раскре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867280" y="189000"/>
            <a:ext cx="2952720" cy="6480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003640" y="981000"/>
            <a:ext cx="2089440" cy="1224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124000" y="4149720"/>
            <a:ext cx="3456000" cy="2401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flipV="1">
            <a:off x="4572000" y="2492280"/>
            <a:ext cx="244800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20068800">
            <a:off x="4430160" y="2997000"/>
            <a:ext cx="148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очка усту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187280" y="4652640"/>
            <a:ext cx="324036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48360" y="1989000"/>
            <a:ext cx="32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8" descr="Рисунок4"/>
          <p:cNvPicPr/>
          <p:nvPr/>
        </p:nvPicPr>
        <p:blipFill>
          <a:blip r:embed="rId1"/>
          <a:stretch/>
        </p:blipFill>
        <p:spPr>
          <a:xfrm>
            <a:off x="468360" y="1413000"/>
            <a:ext cx="3200400" cy="35049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837080" y="333360"/>
            <a:ext cx="179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Лацк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93040" y="5373720"/>
            <a:ext cx="438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м. – отогнутая ввер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асть бо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1619280" y="2637000"/>
            <a:ext cx="3024000" cy="107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084720" y="476280"/>
            <a:ext cx="2735280" cy="5689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 flipV="1">
            <a:off x="4859280" y="2060640"/>
            <a:ext cx="2233800" cy="1582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867280" y="620640"/>
            <a:ext cx="3095640" cy="5545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1800360" cy="4319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918880" y="189000"/>
            <a:ext cx="19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Лос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24000" y="1052640"/>
            <a:ext cx="3692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воначально штаны из лосиной или оленьей кожи, позже из замши, элемент военной формы некоторых стран. Сначала смачивались, а затем одевались на тело и на нём уже высых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годня это изящные женские брючки в обтяжку из трикотажа с лайкр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64000" y="1197000"/>
            <a:ext cx="3527640" cy="5327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725080" y="260280"/>
            <a:ext cx="214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Манж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189000"/>
            <a:ext cx="4340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ранц. – «рукавчик», впервые манжеты в виде кружевной оборки на рукавах появились во Франции в 16 веке, в 17 веке из Франции переместились в Европ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нжеты модны до сих пор: принято считать, что манжеты создают  элегантный вид и одежда без манжет теряет свою эффективность. Мужская сорочка невозможна без манже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979640" y="4005360"/>
            <a:ext cx="1728720" cy="244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003640" y="5589720"/>
            <a:ext cx="1152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87640" y="5805360"/>
            <a:ext cx="1224000" cy="216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13:27:50Z</dcterms:created>
  <dc:creator>Teacher</dc:creator>
  <dc:description/>
  <dc:language>en-US</dc:language>
  <cp:lastModifiedBy>Admin</cp:lastModifiedBy>
  <dcterms:modified xsi:type="dcterms:W3CDTF">2013-02-12T10:33:33Z</dcterms:modified>
  <cp:revision>10</cp:revision>
  <dc:subject/>
  <dc:title>Слайд 1</dc:title>
</cp:coreProperties>
</file>