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29.jpeg" ContentType="image/jpeg"/>
  <Override PartName="/ppt/media/image3.wmf" ContentType="image/x-wmf"/>
  <Override PartName="/ppt/media/image2.png" ContentType="image/png"/>
  <Override PartName="/ppt/media/image25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D16-C74F-469A-9D06-CEAD86F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4E8-7FA4-4D5B-8991-54E1A898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BBE-FAC7-4926-A436-A530EB05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675-1CCA-4BFA-9264-0D727930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681-7004-43DE-B528-5133860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2D2-D362-48FA-9AEE-F952EFE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8BD-AA4B-48EC-BFCE-4B8B362C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B16-77BC-4EFF-A7CE-83E89B68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0C0-DA0E-4EE1-8CED-846A0E2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17F-CF3C-44EE-9D36-6057925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B6B-88D4-4E9E-AE64-8F21B658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463-85DE-4E1E-9079-6C7527D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5B6-E60C-49DE-B9EF-E8BF57FF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71640" y="62064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5868360" y="440856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-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D:\Документы\Мои рисунки\Организатор клипов (Microsoft)\j0113372.wmf"/>
          <p:cNvPicPr/>
          <p:nvPr/>
        </p:nvPicPr>
        <p:blipFill>
          <a:blip r:embed="rId1"/>
          <a:stretch/>
        </p:blipFill>
        <p:spPr>
          <a:xfrm>
            <a:off x="900000" y="1557360"/>
            <a:ext cx="202428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D:\Документы\Мои рисунки\Организатор клипов (Microsoft)\j0250600.wmf"/>
          <p:cNvPicPr/>
          <p:nvPr/>
        </p:nvPicPr>
        <p:blipFill>
          <a:blip r:embed="rId2"/>
          <a:stretch/>
        </p:blipFill>
        <p:spPr>
          <a:xfrm>
            <a:off x="1042920" y="3213000"/>
            <a:ext cx="1032120" cy="155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Документы\Мои рисунки\Организатор клипов (Microsoft)\j0351883.wmf"/>
          <p:cNvPicPr/>
          <p:nvPr/>
        </p:nvPicPr>
        <p:blipFill>
          <a:blip r:embed="rId3"/>
          <a:stretch/>
        </p:blipFill>
        <p:spPr>
          <a:xfrm>
            <a:off x="2627280" y="4076640"/>
            <a:ext cx="99396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716360" y="404640"/>
            <a:ext cx="2016360" cy="338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94440" y="2602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уни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3970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т. - мужская и женская одежда древнего Рима, имеет рубашечный крой и рукава до локтей (первоначально вообще без рукавов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туника достигла колен, её стали подпоясывать. Носят поверх брюк, юбки и даже пл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бокам чаще всего имеет глубокие разрезы, без воротника или имеет воротник в виде хому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1656000" cy="309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0" r="0" b="31347"/>
          <a:stretch/>
        </p:blipFill>
        <p:spPr>
          <a:xfrm>
            <a:off x="6372360" y="1773360"/>
            <a:ext cx="2519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. – машинная вязаная ткань, изделия из так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9800" y="47628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рикота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3106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всегда», «по-прежнему» - из будничной домашней одежды барынь превратилась в повседневную курт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ртка – верхняя короткая одежда мягкой формы, сейчас популярна и среди взрослых, и среди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33360"/>
            <a:ext cx="39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ужурка (курт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313080" cy="532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2087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16360" y="836640"/>
            <a:ext cx="3527640" cy="482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. – короткая маечка, блузка на бретельках, которые могут по-разному завяз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ят летом или зимой, надевая под блузку, куртку, жа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5240" y="1890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оп, топ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02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32000" y="3213000"/>
            <a:ext cx="223200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24591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мягкая складка, сбор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а фрака, мунд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4720" y="476280"/>
            <a:ext cx="16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ал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592360" cy="611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492360" y="189000"/>
            <a:ext cx="1729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. (шлафрок или моргенрок) – современная удобная домашняя одежда женская и мужск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-19 веке она называлась неглиже, дезабиль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ьется из самых разн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360" y="260280"/>
            <a:ext cx="16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л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55640" cy="446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44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08360" y="260280"/>
            <a:ext cx="180036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836640"/>
            <a:ext cx="3097080" cy="583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352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оративная деталь, применяющаяся вместо пояса на спине изделия для придания ему большей прита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151128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2924280" cy="5543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60360" y="5493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ляс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таль в форме узкой полоски, применяемая для поддержания погон, пат, хлястика, поя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32360" y="1052640"/>
            <a:ext cx="1224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9440" y="2602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Шлёв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48000" y="5373720"/>
            <a:ext cx="28796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взяты с сайта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27640" y="1052640"/>
            <a:ext cx="1873080" cy="21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3960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ее основа русского народного женского костюма, прямого покроя с длинными рука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редневековье это основа и мужского, и женского костюма, женщины носили под приталенное платье, а мужчины на рубаху с длинными рукавами  одевали рубаху с короткими рука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2720" y="333360"/>
            <a:ext cx="39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убаха, руба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3344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2565360"/>
            <a:ext cx="2952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375444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гл. – теплая фуфайка без застежек, с высоким воротом, надевающаяся через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9440" y="3333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ви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2303640" cy="479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66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19640" y="333360"/>
            <a:ext cx="3097440" cy="619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с. – традиционное женское платье, обычно без рукавов, в некоторых областях России до сих пор сохранились сарафаны самого старого типа: глухое, слабо расклешенное безрукавное платье надеваемое поверх руб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20000" y="476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665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417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большая дамская сумка для женских предметов. В средние века мелкие предметы и деньги укладывали в кармашке на поясе или кожаные мешочки, прикрепленные к поясу; принадлежность придворного туалета. Иногда это были мешочки для швейных принадле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000" y="33336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ум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345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3598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застёжки, скрытой под планкой или клапаном. Супатная застёжка модна и сейчас в плащах, пальто, куртках. Входит в моду супат на женских блузках, мужских рубаш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000" y="54936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уп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11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3754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ороченный жакет с классическим оформлением воротника и лацк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ина до талии или чуть н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8360" y="47628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пенс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67200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4186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ась в период готики, до этого времени спали либо нагими, либо в той одежде, в которой ходили днём. Первые ночные сорочки были больших размеров, иногда идентичные дневным, но две сорочки одновременно носили только богатые лю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вседневной носке  сорочка появилась только в 19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3440" y="18900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орочка ноч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46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20000" y="26028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уа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7" descr="mid_2010_01_20_17_51_15.jpg"/>
          <p:cNvPicPr/>
          <p:nvPr/>
        </p:nvPicPr>
        <p:blipFill>
          <a:blip r:embed="rId1"/>
          <a:srcRect l="10070" t="1283" r="15483" b="53280"/>
          <a:stretch/>
        </p:blipFill>
        <p:spPr>
          <a:xfrm>
            <a:off x="5940360" y="907920"/>
            <a:ext cx="2951280" cy="56167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23017616_1.jpg"/>
          <p:cNvPicPr/>
          <p:nvPr/>
        </p:nvPicPr>
        <p:blipFill>
          <a:blip r:embed="rId2"/>
          <a:srcRect l="20115" t="5757" r="17570" b="53278"/>
          <a:stretch/>
        </p:blipFill>
        <p:spPr>
          <a:xfrm>
            <a:off x="4356000" y="333360"/>
            <a:ext cx="1657440" cy="3168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ранц. – одежда, наряд к определенному случаю, преимущественно женс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 приведения в порядок своего внешнего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умывание, причесывание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30:30Z</dcterms:created>
  <dc:creator>Teacher</dc:creator>
  <dc:description/>
  <dc:language>en-US</dc:language>
  <cp:lastModifiedBy>Admin</cp:lastModifiedBy>
  <dcterms:modified xsi:type="dcterms:W3CDTF">2013-02-12T10:34:25Z</dcterms:modified>
  <cp:revision>6</cp:revision>
  <dc:subject/>
  <dc:title>Слайд 1</dc:title>
</cp:coreProperties>
</file>