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E24D-56AD-4D55-BA52-9A3C9EF19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64B1-0AC8-4E41-BC2D-38E3CF748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4C80-3226-45F0-AC94-CD9AE0206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1B78-0184-42BB-9804-E107FEE88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D2AF-9590-4C19-9389-39BC74253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99BB-7F5E-4F7C-A1D3-B687CD15B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30CD-59F4-4DBA-AAD8-28BA03B6B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5CAB-B5DA-4699-A45B-0AEA153E9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1DA7-5A81-4CDC-966B-A95BD97B8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3018-4B64-41E8-849D-D8D15F87C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6694-B773-49D5-8C47-BA454AFFA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89D4-930D-4E48-B20A-2DC4F92B4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219C6-CDAE-4A0C-8C96-2372CB2BBB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ЧИНЕНИ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льского Никиты</a:t>
            </a:r>
            <a:br>
              <a:rPr sz="2800"/>
            </a:b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Осен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Просмотреть подробности"/>
          <p:cNvPicPr/>
          <p:nvPr/>
        </p:nvPicPr>
        <p:blipFill>
          <a:blip r:embed="rId1"/>
          <a:stretch/>
        </p:blipFill>
        <p:spPr>
          <a:xfrm>
            <a:off x="1835280" y="2421000"/>
            <a:ext cx="55450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лан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очин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Золотая ос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Признаки осе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Осенние дерев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Листопа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Небо осень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Птицы и живот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Мое мнение об осе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ступила осень. Ее часто называют золотой, потому что все вокруг становится золотистого цвета. Это прекрасная и дивная п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Просмотреть подробности"/>
          <p:cNvPicPr/>
          <p:nvPr/>
        </p:nvPicPr>
        <p:blipFill>
          <a:blip r:embed="rId1"/>
          <a:stretch/>
        </p:blipFill>
        <p:spPr>
          <a:xfrm>
            <a:off x="2050920" y="1628640"/>
            <a:ext cx="53294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это время день становится короч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Просмотреть подробности"/>
          <p:cNvPicPr/>
          <p:nvPr/>
        </p:nvPicPr>
        <p:blipFill>
          <a:blip r:embed="rId1"/>
          <a:stretch/>
        </p:blipFill>
        <p:spPr>
          <a:xfrm>
            <a:off x="1763640" y="1225440"/>
            <a:ext cx="5184720" cy="48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сенью на деревьях появляются желтые листья. Деревья меняют свой окрас. Листья становятся разноцветными. С веток опадают листья. При ветре листья кружатся в прекрасном танц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124000" y="1600200"/>
            <a:ext cx="5112000" cy="46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сенью небо серое. На небе много облаков. Чаще идут дожд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ботинки,девушки,дожди,женщины,изображения людей,мини-юбки,моды,ноги,трикотаж,фотографии,чулки,юбки"/>
          <p:cNvPicPr/>
          <p:nvPr/>
        </p:nvPicPr>
        <p:blipFill>
          <a:blip r:embed="rId1"/>
          <a:stretch/>
        </p:blipFill>
        <p:spPr>
          <a:xfrm>
            <a:off x="1763640" y="1125360"/>
            <a:ext cx="532944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это время птицы улетают на юг. Медведи готовятся к спячке. Оставшиеся птицы и животные делают запасы на зи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живая природа,животные,природа,птицы,стаи,фотографии"/>
          <p:cNvPicPr/>
          <p:nvPr/>
        </p:nvPicPr>
        <p:blipFill>
          <a:blip r:embed="rId1"/>
          <a:stretch/>
        </p:blipFill>
        <p:spPr>
          <a:xfrm>
            <a:off x="1763640" y="1341360"/>
            <a:ext cx="532944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Я люблю это время года. Осенью очень красиво. Приятно идти по шуршащим листьям, радоваться редкому солнышк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iStockphoto,Бавария,безмятежная сцена,величественный,весна,горизонты,дымка,зной,изгороди,лето,луга,осень,пейзажи,природа,рассветы,сельские пейзажи,солнечный свет,Солнце,утренние часы,фотографии"/>
          <p:cNvPicPr/>
          <p:nvPr/>
        </p:nvPicPr>
        <p:blipFill>
          <a:blip r:embed="rId1"/>
          <a:stretch/>
        </p:blipFill>
        <p:spPr>
          <a:xfrm>
            <a:off x="1547640" y="1197000"/>
            <a:ext cx="583596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0T12:27:47Z</dcterms:created>
  <dc:creator>юлия</dc:creator>
  <dc:description/>
  <dc:language>en-US</dc:language>
  <cp:lastModifiedBy>***</cp:lastModifiedBy>
  <dcterms:modified xsi:type="dcterms:W3CDTF">2012-10-26T12:07:24Z</dcterms:modified>
  <cp:revision>11</cp:revision>
  <dc:subject/>
  <dc:title>СОЧИНЕНИЕ  Вольского Никиты</dc:title>
</cp:coreProperties>
</file>