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12.jpeg" ContentType="image/jpeg"/>
  <Override PartName="/ppt/media/image8.jpeg" ContentType="image/jpeg"/>
  <Override PartName="/ppt/media/image9.jpeg" ContentType="image/jpeg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B962-1843-45F0-8475-6AADDAC5E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3B15-E5F0-4ED1-AD30-492F75951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3A04-83C9-43CD-A677-324B79DD3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4BC5-DA86-4AE3-AEF1-0A94A023A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49C6-FEE8-4C16-BBFC-BB2AA0A7D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2E65-205B-4221-8848-B8F3B59CE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C6DA-8417-4434-AEA1-5ED7EDA86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464E-F82B-40EA-94C9-C7637965B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A0D6-9953-4284-85A7-9CE1A7D56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FFD6-3E47-4645-9552-0EEAE9F6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B125-E538-4B9B-9801-EBBDBFB3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B175-FBA2-401F-B192-BAA039C6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43A25-F0D0-4A48-840F-F1A93A161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уицид как форма девиантного поведения подрост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181120" y="3809520"/>
            <a:ext cx="39625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полнил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ница 11 клас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БОУ СОШ №9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айнулина Юн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33520" y="2971800"/>
            <a:ext cx="411480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838080" y="1600200"/>
          <a:ext cx="7620120" cy="525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600200"/>
                    <a:ext cx="76201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52280" y="-72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ыла ли у вас попытка суицида      ( парасуицид)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609480" y="1160640"/>
            <a:ext cx="7996320" cy="5470560"/>
            <a:chOff x="609480" y="1160640"/>
            <a:chExt cx="7996320" cy="5470560"/>
          </a:xfrm>
        </p:grpSpPr>
        <p:sp>
          <p:nvSpPr>
            <p:cNvPr id="106" name=""/>
            <p:cNvSpPr/>
            <p:nvPr/>
          </p:nvSpPr>
          <p:spPr>
            <a:xfrm>
              <a:off x="2179800" y="4425120"/>
              <a:ext cx="6426000" cy="197640"/>
            </a:xfrm>
            <a:custGeom>
              <a:avLst/>
              <a:gdLst/>
              <a:ahLst/>
              <a:rect l="l" t="t" r="r" b="b"/>
              <a:pathLst>
                <a:path w="7352" h="378">
                  <a:moveTo>
                    <a:pt x="0" y="378"/>
                  </a:moveTo>
                  <a:lnTo>
                    <a:pt x="511" y="0"/>
                  </a:lnTo>
                  <a:lnTo>
                    <a:pt x="7352" y="0"/>
                  </a:lnTo>
                  <a:lnTo>
                    <a:pt x="6841" y="378"/>
                  </a:lnTo>
                  <a:lnTo>
                    <a:pt x="0" y="37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626560" y="2004840"/>
              <a:ext cx="5979240" cy="2420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179800" y="4425120"/>
              <a:ext cx="6426000" cy="197640"/>
            </a:xfrm>
            <a:custGeom>
              <a:avLst/>
              <a:gdLst/>
              <a:ahLst/>
              <a:rect l="l" t="t" r="r" b="b"/>
              <a:pathLst>
                <a:path w="446" h="23">
                  <a:moveTo>
                    <a:pt x="0" y="23"/>
                  </a:moveTo>
                  <a:lnTo>
                    <a:pt x="31" y="0"/>
                  </a:lnTo>
                  <a:lnTo>
                    <a:pt x="44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79800" y="3943080"/>
              <a:ext cx="6426000" cy="197640"/>
            </a:xfrm>
            <a:custGeom>
              <a:avLst/>
              <a:gdLst/>
              <a:ahLst/>
              <a:rect l="l" t="t" r="r" b="b"/>
              <a:pathLst>
                <a:path w="446" h="23">
                  <a:moveTo>
                    <a:pt x="0" y="23"/>
                  </a:moveTo>
                  <a:lnTo>
                    <a:pt x="31" y="0"/>
                  </a:lnTo>
                  <a:lnTo>
                    <a:pt x="44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179800" y="3460680"/>
              <a:ext cx="6426000" cy="197640"/>
            </a:xfrm>
            <a:custGeom>
              <a:avLst/>
              <a:gdLst/>
              <a:ahLst/>
              <a:rect l="l" t="t" r="r" b="b"/>
              <a:pathLst>
                <a:path w="446" h="23">
                  <a:moveTo>
                    <a:pt x="0" y="23"/>
                  </a:moveTo>
                  <a:lnTo>
                    <a:pt x="31" y="0"/>
                  </a:lnTo>
                  <a:lnTo>
                    <a:pt x="44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179800" y="2969280"/>
              <a:ext cx="6426000" cy="198000"/>
            </a:xfrm>
            <a:custGeom>
              <a:avLst/>
              <a:gdLst/>
              <a:ahLst/>
              <a:rect l="l" t="t" r="r" b="b"/>
              <a:pathLst>
                <a:path w="446" h="23">
                  <a:moveTo>
                    <a:pt x="0" y="23"/>
                  </a:moveTo>
                  <a:lnTo>
                    <a:pt x="31" y="0"/>
                  </a:lnTo>
                  <a:lnTo>
                    <a:pt x="44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179800" y="2487240"/>
              <a:ext cx="6426000" cy="198000"/>
            </a:xfrm>
            <a:custGeom>
              <a:avLst/>
              <a:gdLst/>
              <a:ahLst/>
              <a:rect l="l" t="t" r="r" b="b"/>
              <a:pathLst>
                <a:path w="446" h="23">
                  <a:moveTo>
                    <a:pt x="0" y="23"/>
                  </a:moveTo>
                  <a:lnTo>
                    <a:pt x="31" y="0"/>
                  </a:lnTo>
                  <a:lnTo>
                    <a:pt x="44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79800" y="2004840"/>
              <a:ext cx="6426000" cy="198000"/>
            </a:xfrm>
            <a:custGeom>
              <a:avLst/>
              <a:gdLst/>
              <a:ahLst/>
              <a:rect l="l" t="t" r="r" b="b"/>
              <a:pathLst>
                <a:path w="446" h="23">
                  <a:moveTo>
                    <a:pt x="0" y="23"/>
                  </a:moveTo>
                  <a:lnTo>
                    <a:pt x="31" y="0"/>
                  </a:lnTo>
                  <a:lnTo>
                    <a:pt x="44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179800" y="4425120"/>
              <a:ext cx="6426000" cy="197640"/>
            </a:xfrm>
            <a:custGeom>
              <a:avLst/>
              <a:gdLst/>
              <a:ahLst/>
              <a:rect l="l" t="t" r="r" b="b"/>
              <a:pathLst>
                <a:path w="7352" h="378">
                  <a:moveTo>
                    <a:pt x="7352" y="0"/>
                  </a:moveTo>
                  <a:lnTo>
                    <a:pt x="6841" y="378"/>
                  </a:lnTo>
                  <a:lnTo>
                    <a:pt x="0" y="378"/>
                  </a:lnTo>
                  <a:lnTo>
                    <a:pt x="511" y="0"/>
                  </a:lnTo>
                  <a:lnTo>
                    <a:pt x="7352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626560" y="2004840"/>
              <a:ext cx="5979240" cy="2420280"/>
            </a:xfrm>
            <a:prstGeom prst="rect">
              <a:avLst/>
            </a:prstGeom>
            <a:noFill/>
            <a:ln w="10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824800" y="3701880"/>
              <a:ext cx="172800" cy="860760"/>
            </a:xfrm>
            <a:custGeom>
              <a:avLst/>
              <a:gdLst/>
              <a:ahLst/>
              <a:rect l="l" t="t" r="r" b="b"/>
              <a:pathLst>
                <a:path w="198" h="1646">
                  <a:moveTo>
                    <a:pt x="0" y="1646"/>
                  </a:moveTo>
                  <a:lnTo>
                    <a:pt x="0" y="148"/>
                  </a:lnTo>
                  <a:lnTo>
                    <a:pt x="198" y="0"/>
                  </a:lnTo>
                  <a:lnTo>
                    <a:pt x="198" y="1498"/>
                  </a:lnTo>
                  <a:lnTo>
                    <a:pt x="0" y="1646"/>
                  </a:lnTo>
                  <a:close/>
                </a:path>
              </a:pathLst>
            </a:custGeom>
            <a:solidFill>
              <a:srgbClr val="804040"/>
            </a:solidFill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306400" y="3701880"/>
              <a:ext cx="691200" cy="77400"/>
            </a:xfrm>
            <a:custGeom>
              <a:avLst/>
              <a:gdLst/>
              <a:ahLst/>
              <a:rect l="l" t="t" r="r" b="b"/>
              <a:pathLst>
                <a:path w="791" h="148">
                  <a:moveTo>
                    <a:pt x="593" y="148"/>
                  </a:moveTo>
                  <a:lnTo>
                    <a:pt x="791" y="0"/>
                  </a:lnTo>
                  <a:lnTo>
                    <a:pt x="198" y="0"/>
                  </a:lnTo>
                  <a:lnTo>
                    <a:pt x="0" y="148"/>
                  </a:lnTo>
                  <a:lnTo>
                    <a:pt x="593" y="148"/>
                  </a:lnTo>
                  <a:close/>
                </a:path>
              </a:pathLst>
            </a:custGeom>
            <a:solidFill>
              <a:srgbClr val="bf6060"/>
            </a:solidFill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343920" y="3831120"/>
              <a:ext cx="172080" cy="731520"/>
            </a:xfrm>
            <a:custGeom>
              <a:avLst/>
              <a:gdLst/>
              <a:ahLst/>
              <a:rect l="l" t="t" r="r" b="b"/>
              <a:pathLst>
                <a:path w="197" h="1399">
                  <a:moveTo>
                    <a:pt x="0" y="1399"/>
                  </a:moveTo>
                  <a:lnTo>
                    <a:pt x="0" y="148"/>
                  </a:lnTo>
                  <a:lnTo>
                    <a:pt x="197" y="0"/>
                  </a:lnTo>
                  <a:lnTo>
                    <a:pt x="197" y="1251"/>
                  </a:lnTo>
                  <a:lnTo>
                    <a:pt x="0" y="1399"/>
                  </a:lnTo>
                  <a:close/>
                </a:path>
              </a:pathLst>
            </a:custGeom>
            <a:solidFill>
              <a:srgbClr val="003366"/>
            </a:solidFill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824800" y="3908520"/>
              <a:ext cx="518760" cy="654120"/>
            </a:xfrm>
            <a:prstGeom prst="rect">
              <a:avLst/>
            </a:prstGeom>
            <a:solidFill>
              <a:srgbClr val="0066cc"/>
            </a:solidFill>
            <a:ln w="10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824800" y="3831120"/>
              <a:ext cx="691200" cy="77400"/>
            </a:xfrm>
            <a:custGeom>
              <a:avLst/>
              <a:gdLst/>
              <a:ahLst/>
              <a:rect l="l" t="t" r="r" b="b"/>
              <a:pathLst>
                <a:path w="791" h="148">
                  <a:moveTo>
                    <a:pt x="594" y="148"/>
                  </a:moveTo>
                  <a:lnTo>
                    <a:pt x="791" y="0"/>
                  </a:lnTo>
                  <a:lnTo>
                    <a:pt x="198" y="0"/>
                  </a:lnTo>
                  <a:lnTo>
                    <a:pt x="0" y="148"/>
                  </a:lnTo>
                  <a:lnTo>
                    <a:pt x="594" y="148"/>
                  </a:lnTo>
                  <a:close/>
                </a:path>
              </a:pathLst>
            </a:custGeom>
            <a:solidFill>
              <a:srgbClr val="004d99"/>
            </a:solidFill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861960" y="4097880"/>
              <a:ext cx="172800" cy="464760"/>
            </a:xfrm>
            <a:custGeom>
              <a:avLst/>
              <a:gdLst/>
              <a:ahLst/>
              <a:rect l="l" t="t" r="r" b="b"/>
              <a:pathLst>
                <a:path w="198" h="889">
                  <a:moveTo>
                    <a:pt x="0" y="889"/>
                  </a:moveTo>
                  <a:lnTo>
                    <a:pt x="0" y="148"/>
                  </a:lnTo>
                  <a:lnTo>
                    <a:pt x="198" y="0"/>
                  </a:lnTo>
                  <a:lnTo>
                    <a:pt x="198" y="741"/>
                  </a:lnTo>
                  <a:lnTo>
                    <a:pt x="0" y="889"/>
                  </a:lnTo>
                  <a:close/>
                </a:path>
              </a:pathLst>
            </a:custGeom>
            <a:solidFill>
              <a:srgbClr val="666680"/>
            </a:solidFill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43920" y="4175280"/>
              <a:ext cx="518040" cy="387360"/>
            </a:xfrm>
            <a:prstGeom prst="rect">
              <a:avLst/>
            </a:prstGeom>
            <a:solidFill>
              <a:srgbClr val="ccccff"/>
            </a:solidFill>
            <a:ln w="10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43920" y="4097880"/>
              <a:ext cx="691200" cy="77400"/>
            </a:xfrm>
            <a:custGeom>
              <a:avLst/>
              <a:gdLst/>
              <a:ahLst/>
              <a:rect l="l" t="t" r="r" b="b"/>
              <a:pathLst>
                <a:path w="791" h="148">
                  <a:moveTo>
                    <a:pt x="593" y="148"/>
                  </a:moveTo>
                  <a:lnTo>
                    <a:pt x="791" y="0"/>
                  </a:lnTo>
                  <a:lnTo>
                    <a:pt x="197" y="0"/>
                  </a:lnTo>
                  <a:lnTo>
                    <a:pt x="0" y="148"/>
                  </a:lnTo>
                  <a:lnTo>
                    <a:pt x="593" y="148"/>
                  </a:lnTo>
                  <a:close/>
                </a:path>
              </a:pathLst>
            </a:custGeom>
            <a:solidFill>
              <a:srgbClr val="9999bf"/>
            </a:solidFill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381440" y="4226760"/>
              <a:ext cx="171720" cy="335520"/>
            </a:xfrm>
            <a:custGeom>
              <a:avLst/>
              <a:gdLst/>
              <a:ahLst/>
              <a:rect l="l" t="t" r="r" b="b"/>
              <a:pathLst>
                <a:path w="197" h="642">
                  <a:moveTo>
                    <a:pt x="0" y="642"/>
                  </a:moveTo>
                  <a:lnTo>
                    <a:pt x="0" y="148"/>
                  </a:lnTo>
                  <a:lnTo>
                    <a:pt x="197" y="0"/>
                  </a:lnTo>
                  <a:lnTo>
                    <a:pt x="197" y="494"/>
                  </a:lnTo>
                  <a:lnTo>
                    <a:pt x="0" y="642"/>
                  </a:lnTo>
                  <a:close/>
                </a:path>
              </a:pathLst>
            </a:custGeom>
            <a:solidFill>
              <a:srgbClr val="000040"/>
            </a:solidFill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861960" y="4304520"/>
              <a:ext cx="519120" cy="258120"/>
            </a:xfrm>
            <a:prstGeom prst="rect">
              <a:avLst/>
            </a:prstGeom>
            <a:solidFill>
              <a:srgbClr val="000080"/>
            </a:solidFill>
            <a:ln w="10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61960" y="4226760"/>
              <a:ext cx="691200" cy="77400"/>
            </a:xfrm>
            <a:custGeom>
              <a:avLst/>
              <a:gdLst/>
              <a:ahLst/>
              <a:rect l="l" t="t" r="r" b="b"/>
              <a:pathLst>
                <a:path w="791" h="148">
                  <a:moveTo>
                    <a:pt x="594" y="148"/>
                  </a:moveTo>
                  <a:lnTo>
                    <a:pt x="791" y="0"/>
                  </a:lnTo>
                  <a:lnTo>
                    <a:pt x="198" y="0"/>
                  </a:lnTo>
                  <a:lnTo>
                    <a:pt x="0" y="148"/>
                  </a:lnTo>
                  <a:lnTo>
                    <a:pt x="594" y="148"/>
                  </a:lnTo>
                  <a:close/>
                </a:path>
              </a:pathLst>
            </a:custGeom>
            <a:solidFill>
              <a:srgbClr val="000060"/>
            </a:solidFill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899480" y="4356360"/>
              <a:ext cx="173160" cy="206280"/>
            </a:xfrm>
            <a:custGeom>
              <a:avLst/>
              <a:gdLst/>
              <a:ahLst/>
              <a:rect l="l" t="t" r="r" b="b"/>
              <a:pathLst>
                <a:path w="198" h="395">
                  <a:moveTo>
                    <a:pt x="0" y="395"/>
                  </a:moveTo>
                  <a:lnTo>
                    <a:pt x="0" y="148"/>
                  </a:lnTo>
                  <a:lnTo>
                    <a:pt x="198" y="0"/>
                  </a:lnTo>
                  <a:lnTo>
                    <a:pt x="198" y="247"/>
                  </a:lnTo>
                  <a:lnTo>
                    <a:pt x="0" y="395"/>
                  </a:lnTo>
                  <a:close/>
                </a:path>
              </a:pathLst>
            </a:custGeom>
            <a:solidFill>
              <a:srgbClr val="800080"/>
            </a:solidFill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381440" y="4433400"/>
              <a:ext cx="518040" cy="128880"/>
            </a:xfrm>
            <a:prstGeom prst="rect">
              <a:avLst/>
            </a:prstGeom>
            <a:solidFill>
              <a:srgbClr val="ff00ff"/>
            </a:solidFill>
            <a:ln w="10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81440" y="4356360"/>
              <a:ext cx="691200" cy="77040"/>
            </a:xfrm>
            <a:custGeom>
              <a:avLst/>
              <a:gdLst/>
              <a:ahLst/>
              <a:rect l="l" t="t" r="r" b="b"/>
              <a:pathLst>
                <a:path w="791" h="148">
                  <a:moveTo>
                    <a:pt x="593" y="148"/>
                  </a:moveTo>
                  <a:lnTo>
                    <a:pt x="791" y="0"/>
                  </a:lnTo>
                  <a:lnTo>
                    <a:pt x="197" y="0"/>
                  </a:lnTo>
                  <a:lnTo>
                    <a:pt x="0" y="148"/>
                  </a:lnTo>
                  <a:lnTo>
                    <a:pt x="593" y="148"/>
                  </a:lnTo>
                  <a:close/>
                </a:path>
              </a:pathLst>
            </a:custGeom>
            <a:solidFill>
              <a:srgbClr val="bf00bf"/>
            </a:solidFill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18200" y="3655800"/>
              <a:ext cx="29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589440" y="3938040"/>
              <a:ext cx="29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61400" y="4032360"/>
              <a:ext cx="29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529760" y="4219560"/>
              <a:ext cx="29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552320" y="4502160"/>
              <a:ext cx="29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52320" y="4032360"/>
              <a:ext cx="29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52320" y="356220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552320" y="309240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5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52320" y="262224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93560" y="215064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5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179800" y="4623120"/>
              <a:ext cx="597924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159040" y="4623120"/>
              <a:ext cx="720" cy="4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2025000" y="1775880"/>
              <a:ext cx="3799080" cy="3206520"/>
              <a:chOff x="2025000" y="1775880"/>
              <a:chExt cx="3799080" cy="3206520"/>
            </a:xfrm>
          </p:grpSpPr>
          <p:sp>
            <p:nvSpPr>
              <p:cNvPr id="143" name=""/>
              <p:cNvSpPr/>
              <p:nvPr/>
            </p:nvSpPr>
            <p:spPr>
              <a:xfrm>
                <a:off x="2179800" y="2004840"/>
                <a:ext cx="446400" cy="2617920"/>
              </a:xfrm>
              <a:custGeom>
                <a:avLst/>
                <a:gdLst/>
                <a:ahLst/>
                <a:rect l="l" t="t" r="r" b="b"/>
                <a:pathLst>
                  <a:path w="511" h="5005">
                    <a:moveTo>
                      <a:pt x="0" y="5005"/>
                    </a:moveTo>
                    <a:lnTo>
                      <a:pt x="0" y="379"/>
                    </a:lnTo>
                    <a:lnTo>
                      <a:pt x="511" y="0"/>
                    </a:lnTo>
                    <a:lnTo>
                      <a:pt x="511" y="4627"/>
                    </a:lnTo>
                    <a:lnTo>
                      <a:pt x="0" y="500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179800" y="2004840"/>
                <a:ext cx="446400" cy="2617920"/>
              </a:xfrm>
              <a:custGeom>
                <a:avLst/>
                <a:gdLst/>
                <a:ahLst/>
                <a:rect l="l" t="t" r="r" b="b"/>
                <a:pathLst>
                  <a:path w="511" h="5005">
                    <a:moveTo>
                      <a:pt x="0" y="5005"/>
                    </a:moveTo>
                    <a:lnTo>
                      <a:pt x="0" y="379"/>
                    </a:lnTo>
                    <a:lnTo>
                      <a:pt x="511" y="0"/>
                    </a:lnTo>
                    <a:lnTo>
                      <a:pt x="511" y="4627"/>
                    </a:lnTo>
                    <a:lnTo>
                      <a:pt x="0" y="5005"/>
                    </a:lnTo>
                    <a:close/>
                  </a:path>
                </a:pathLst>
              </a:custGeom>
              <a:noFill/>
              <a:ln w="100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231360" y="2125080"/>
                <a:ext cx="172800" cy="2437560"/>
              </a:xfrm>
              <a:custGeom>
                <a:avLst/>
                <a:gdLst/>
                <a:ahLst/>
                <a:rect l="l" t="t" r="r" b="b"/>
                <a:pathLst>
                  <a:path w="198" h="4660">
                    <a:moveTo>
                      <a:pt x="0" y="4660"/>
                    </a:moveTo>
                    <a:lnTo>
                      <a:pt x="0" y="149"/>
                    </a:lnTo>
                    <a:lnTo>
                      <a:pt x="198" y="0"/>
                    </a:lnTo>
                    <a:lnTo>
                      <a:pt x="198" y="4512"/>
                    </a:lnTo>
                    <a:lnTo>
                      <a:pt x="0" y="4660"/>
                    </a:lnTo>
                    <a:close/>
                  </a:path>
                </a:pathLst>
              </a:custGeom>
              <a:solidFill>
                <a:srgbClr val="4d4d80"/>
              </a:solidFill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712960" y="2203200"/>
                <a:ext cx="518040" cy="2359440"/>
              </a:xfrm>
              <a:prstGeom prst="rect">
                <a:avLst/>
              </a:prstGeom>
              <a:solidFill>
                <a:srgbClr val="9999ff"/>
              </a:solidFill>
              <a:ln w="10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712960" y="2125080"/>
                <a:ext cx="691200" cy="77760"/>
              </a:xfrm>
              <a:custGeom>
                <a:avLst/>
                <a:gdLst/>
                <a:ahLst/>
                <a:rect l="l" t="t" r="r" b="b"/>
                <a:pathLst>
                  <a:path w="791" h="149">
                    <a:moveTo>
                      <a:pt x="593" y="149"/>
                    </a:moveTo>
                    <a:lnTo>
                      <a:pt x="791" y="0"/>
                    </a:lnTo>
                    <a:lnTo>
                      <a:pt x="197" y="0"/>
                    </a:lnTo>
                    <a:lnTo>
                      <a:pt x="0" y="149"/>
                    </a:lnTo>
                    <a:lnTo>
                      <a:pt x="593" y="149"/>
                    </a:lnTo>
                    <a:close/>
                  </a:path>
                </a:pathLst>
              </a:custGeom>
              <a:solidFill>
                <a:srgbClr val="7373bf"/>
              </a:solidFill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750480" y="2779920"/>
                <a:ext cx="171720" cy="1782360"/>
              </a:xfrm>
              <a:custGeom>
                <a:avLst/>
                <a:gdLst/>
                <a:ahLst/>
                <a:rect l="l" t="t" r="r" b="b"/>
                <a:pathLst>
                  <a:path w="197" h="3408">
                    <a:moveTo>
                      <a:pt x="0" y="3408"/>
                    </a:moveTo>
                    <a:lnTo>
                      <a:pt x="0" y="164"/>
                    </a:lnTo>
                    <a:lnTo>
                      <a:pt x="197" y="0"/>
                    </a:lnTo>
                    <a:lnTo>
                      <a:pt x="197" y="3260"/>
                    </a:lnTo>
                    <a:lnTo>
                      <a:pt x="0" y="3408"/>
                    </a:lnTo>
                    <a:close/>
                  </a:path>
                </a:pathLst>
              </a:custGeom>
              <a:solidFill>
                <a:srgbClr val="4d1a33"/>
              </a:solidFill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231360" y="2865960"/>
                <a:ext cx="519120" cy="1696680"/>
              </a:xfrm>
              <a:prstGeom prst="rect">
                <a:avLst/>
              </a:prstGeom>
              <a:solidFill>
                <a:srgbClr val="993366"/>
              </a:solidFill>
              <a:ln w="10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231360" y="2779920"/>
                <a:ext cx="691200" cy="85680"/>
              </a:xfrm>
              <a:custGeom>
                <a:avLst/>
                <a:gdLst/>
                <a:ahLst/>
                <a:rect l="l" t="t" r="r" b="b"/>
                <a:pathLst>
                  <a:path w="791" h="164">
                    <a:moveTo>
                      <a:pt x="594" y="164"/>
                    </a:moveTo>
                    <a:lnTo>
                      <a:pt x="791" y="0"/>
                    </a:lnTo>
                    <a:lnTo>
                      <a:pt x="198" y="0"/>
                    </a:lnTo>
                    <a:lnTo>
                      <a:pt x="0" y="164"/>
                    </a:lnTo>
                    <a:lnTo>
                      <a:pt x="594" y="164"/>
                    </a:lnTo>
                    <a:close/>
                  </a:path>
                </a:pathLst>
              </a:custGeom>
              <a:solidFill>
                <a:srgbClr val="73264d"/>
              </a:solidFill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268880" y="3047040"/>
                <a:ext cx="172800" cy="1515600"/>
              </a:xfrm>
              <a:custGeom>
                <a:avLst/>
                <a:gdLst/>
                <a:ahLst/>
                <a:rect l="l" t="t" r="r" b="b"/>
                <a:pathLst>
                  <a:path w="198" h="2898">
                    <a:moveTo>
                      <a:pt x="0" y="2898"/>
                    </a:moveTo>
                    <a:lnTo>
                      <a:pt x="0" y="148"/>
                    </a:lnTo>
                    <a:lnTo>
                      <a:pt x="198" y="0"/>
                    </a:lnTo>
                    <a:lnTo>
                      <a:pt x="198" y="2750"/>
                    </a:lnTo>
                    <a:lnTo>
                      <a:pt x="0" y="2898"/>
                    </a:lnTo>
                    <a:close/>
                  </a:path>
                </a:pathLst>
              </a:custGeom>
              <a:solidFill>
                <a:srgbClr val="808066"/>
              </a:solidFill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750480" y="3124440"/>
                <a:ext cx="518040" cy="1438200"/>
              </a:xfrm>
              <a:prstGeom prst="rect">
                <a:avLst/>
              </a:prstGeom>
              <a:solidFill>
                <a:srgbClr val="ffffcc"/>
              </a:solidFill>
              <a:ln w="10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750480" y="3047040"/>
                <a:ext cx="691200" cy="77400"/>
              </a:xfrm>
              <a:custGeom>
                <a:avLst/>
                <a:gdLst/>
                <a:ahLst/>
                <a:rect l="l" t="t" r="r" b="b"/>
                <a:pathLst>
                  <a:path w="791" h="148">
                    <a:moveTo>
                      <a:pt x="593" y="148"/>
                    </a:moveTo>
                    <a:lnTo>
                      <a:pt x="791" y="0"/>
                    </a:lnTo>
                    <a:lnTo>
                      <a:pt x="197" y="0"/>
                    </a:lnTo>
                    <a:lnTo>
                      <a:pt x="0" y="148"/>
                    </a:lnTo>
                    <a:lnTo>
                      <a:pt x="593" y="148"/>
                    </a:lnTo>
                    <a:close/>
                  </a:path>
                </a:pathLst>
              </a:custGeom>
              <a:solidFill>
                <a:srgbClr val="bfbf99"/>
              </a:solidFill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786920" y="3434400"/>
                <a:ext cx="173160" cy="1127880"/>
              </a:xfrm>
              <a:custGeom>
                <a:avLst/>
                <a:gdLst/>
                <a:ahLst/>
                <a:rect l="l" t="t" r="r" b="b"/>
                <a:pathLst>
                  <a:path w="198" h="2157">
                    <a:moveTo>
                      <a:pt x="0" y="2157"/>
                    </a:moveTo>
                    <a:lnTo>
                      <a:pt x="0" y="165"/>
                    </a:lnTo>
                    <a:lnTo>
                      <a:pt x="198" y="0"/>
                    </a:lnTo>
                    <a:lnTo>
                      <a:pt x="198" y="2009"/>
                    </a:lnTo>
                    <a:lnTo>
                      <a:pt x="0" y="2157"/>
                    </a:lnTo>
                    <a:close/>
                  </a:path>
                </a:pathLst>
              </a:custGeom>
              <a:solidFill>
                <a:srgbClr val="668080"/>
              </a:solidFill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268880" y="3520800"/>
                <a:ext cx="518040" cy="1041840"/>
              </a:xfrm>
              <a:prstGeom prst="rect">
                <a:avLst/>
              </a:prstGeom>
              <a:solidFill>
                <a:srgbClr val="ccffff"/>
              </a:solidFill>
              <a:ln w="10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268880" y="3434400"/>
                <a:ext cx="691200" cy="86040"/>
              </a:xfrm>
              <a:custGeom>
                <a:avLst/>
                <a:gdLst/>
                <a:ahLst/>
                <a:rect l="l" t="t" r="r" b="b"/>
                <a:pathLst>
                  <a:path w="791" h="165">
                    <a:moveTo>
                      <a:pt x="593" y="165"/>
                    </a:moveTo>
                    <a:lnTo>
                      <a:pt x="791" y="0"/>
                    </a:lnTo>
                    <a:lnTo>
                      <a:pt x="198" y="0"/>
                    </a:lnTo>
                    <a:lnTo>
                      <a:pt x="0" y="165"/>
                    </a:lnTo>
                    <a:lnTo>
                      <a:pt x="593" y="165"/>
                    </a:lnTo>
                    <a:close/>
                  </a:path>
                </a:pathLst>
              </a:custGeom>
              <a:solidFill>
                <a:srgbClr val="99bfbf"/>
              </a:solidFill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306040" y="3572640"/>
                <a:ext cx="172800" cy="990000"/>
              </a:xfrm>
              <a:custGeom>
                <a:avLst/>
                <a:gdLst/>
                <a:ahLst/>
                <a:rect l="l" t="t" r="r" b="b"/>
                <a:pathLst>
                  <a:path w="198" h="1893">
                    <a:moveTo>
                      <a:pt x="0" y="1893"/>
                    </a:moveTo>
                    <a:lnTo>
                      <a:pt x="0" y="148"/>
                    </a:lnTo>
                    <a:lnTo>
                      <a:pt x="198" y="0"/>
                    </a:lnTo>
                    <a:lnTo>
                      <a:pt x="198" y="1745"/>
                    </a:lnTo>
                    <a:lnTo>
                      <a:pt x="0" y="1893"/>
                    </a:lnTo>
                    <a:close/>
                  </a:path>
                </a:pathLst>
              </a:custGeom>
              <a:solidFill>
                <a:srgbClr val="330033"/>
              </a:solidFill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786920" y="3650040"/>
                <a:ext cx="519120" cy="912600"/>
              </a:xfrm>
              <a:prstGeom prst="rect">
                <a:avLst/>
              </a:prstGeom>
              <a:solidFill>
                <a:srgbClr val="660066"/>
              </a:solidFill>
              <a:ln w="10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786920" y="3572640"/>
                <a:ext cx="692280" cy="77040"/>
              </a:xfrm>
              <a:custGeom>
                <a:avLst/>
                <a:gdLst/>
                <a:ahLst/>
                <a:rect l="l" t="t" r="r" b="b"/>
                <a:pathLst>
                  <a:path w="792" h="148">
                    <a:moveTo>
                      <a:pt x="594" y="148"/>
                    </a:moveTo>
                    <a:lnTo>
                      <a:pt x="792" y="0"/>
                    </a:lnTo>
                    <a:lnTo>
                      <a:pt x="198" y="0"/>
                    </a:lnTo>
                    <a:lnTo>
                      <a:pt x="0" y="148"/>
                    </a:lnTo>
                    <a:lnTo>
                      <a:pt x="594" y="148"/>
                    </a:lnTo>
                    <a:close/>
                  </a:path>
                </a:pathLst>
              </a:custGeom>
              <a:solidFill>
                <a:srgbClr val="4d004d"/>
              </a:solidFill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6040" y="3779280"/>
                <a:ext cx="518040" cy="783360"/>
              </a:xfrm>
              <a:prstGeom prst="rect">
                <a:avLst/>
              </a:prstGeom>
              <a:solidFill>
                <a:srgbClr val="ff8080"/>
              </a:solidFill>
              <a:ln w="10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809080" y="1775880"/>
                <a:ext cx="406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441240" y="2530080"/>
                <a:ext cx="40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912840" y="2810880"/>
                <a:ext cx="406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541400" y="3187080"/>
                <a:ext cx="406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013360" y="3374280"/>
                <a:ext cx="293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484240" y="3563640"/>
                <a:ext cx="293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2179800" y="2203200"/>
                <a:ext cx="720" cy="2419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2106720" y="4623120"/>
                <a:ext cx="7236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2106720" y="4140720"/>
                <a:ext cx="7236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2106720" y="3658320"/>
                <a:ext cx="7236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>
                <a:off x="2106720" y="3167640"/>
                <a:ext cx="7236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>
                <a:off x="2106720" y="2685600"/>
                <a:ext cx="7236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2025000" y="2246040"/>
                <a:ext cx="15732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179800" y="4623120"/>
                <a:ext cx="720" cy="43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105160" y="4708080"/>
                <a:ext cx="72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766800" y="4973400"/>
              <a:ext cx="7174800" cy="1605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473840" y="5183280"/>
              <a:ext cx="100440" cy="60120"/>
            </a:xfrm>
            <a:prstGeom prst="rect">
              <a:avLst/>
            </a:prstGeom>
            <a:solidFill>
              <a:srgbClr val="9999ff"/>
            </a:solidFill>
            <a:ln w="10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30440" y="5138640"/>
              <a:ext cx="1899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роблемы в личной жизн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473840" y="5329080"/>
              <a:ext cx="100440" cy="60480"/>
            </a:xfrm>
            <a:prstGeom prst="rect">
              <a:avLst/>
            </a:prstGeom>
            <a:solidFill>
              <a:srgbClr val="993366"/>
            </a:solidFill>
            <a:ln w="10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627920" y="5284800"/>
              <a:ext cx="2419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роблемы в семье, с родителям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73840" y="5475600"/>
              <a:ext cx="100440" cy="60480"/>
            </a:xfrm>
            <a:prstGeom prst="rect">
              <a:avLst/>
            </a:prstGeom>
            <a:solidFill>
              <a:srgbClr val="ffffcc"/>
            </a:solidFill>
            <a:ln w="10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626120" y="5432040"/>
              <a:ext cx="3434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Проблемы со сврерстниками, с учебой, в школ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473840" y="5622120"/>
              <a:ext cx="100440" cy="60480"/>
            </a:xfrm>
            <a:prstGeom prst="rect">
              <a:avLst/>
            </a:prstGeom>
            <a:solidFill>
              <a:srgbClr val="ccffff"/>
            </a:solidFill>
            <a:ln w="10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631880" y="5579280"/>
              <a:ext cx="527040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Непонимание в обществе, коллектив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73840" y="5768640"/>
              <a:ext cx="100440" cy="60120"/>
            </a:xfrm>
            <a:prstGeom prst="rect">
              <a:avLst/>
            </a:prstGeom>
            <a:solidFill>
              <a:srgbClr val="660066"/>
            </a:solidFill>
            <a:ln w="10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711440" y="5732640"/>
              <a:ext cx="5506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Какие-либо трудности ( нехватка денежных средств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473840" y="5906520"/>
              <a:ext cx="100440" cy="60120"/>
            </a:xfrm>
            <a:prstGeom prst="rect">
              <a:avLst/>
            </a:prstGeom>
            <a:solidFill>
              <a:srgbClr val="ff8080"/>
            </a:solidFill>
            <a:ln w="10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631880" y="5862600"/>
              <a:ext cx="5743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Вредные привычки ( употребление алкоголя, наркотических средств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73840" y="6053040"/>
              <a:ext cx="100440" cy="60120"/>
            </a:xfrm>
            <a:prstGeom prst="rect">
              <a:avLst/>
            </a:prstGeom>
            <a:solidFill>
              <a:srgbClr val="0066cc"/>
            </a:solidFill>
            <a:ln w="10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31880" y="6008760"/>
              <a:ext cx="3539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Депрессия, изолированнос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73840" y="6198840"/>
              <a:ext cx="100440" cy="60480"/>
            </a:xfrm>
            <a:prstGeom prst="rect">
              <a:avLst/>
            </a:prstGeom>
            <a:solidFill>
              <a:srgbClr val="ccccff"/>
            </a:solidFill>
            <a:ln w="10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629360" y="6156000"/>
              <a:ext cx="184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Юношеский максимализ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473840" y="6345360"/>
              <a:ext cx="100440" cy="60480"/>
            </a:xfrm>
            <a:prstGeom prst="rect">
              <a:avLst/>
            </a:prstGeom>
            <a:solidFill>
              <a:srgbClr val="000080"/>
            </a:solidFill>
            <a:ln w="10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631160" y="6303960"/>
              <a:ext cx="1384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Минутная слабос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473840" y="6491880"/>
              <a:ext cx="100440" cy="60120"/>
            </a:xfrm>
            <a:prstGeom prst="rect">
              <a:avLst/>
            </a:prstGeom>
            <a:solidFill>
              <a:srgbClr val="ff00ff"/>
            </a:solidFill>
            <a:ln w="10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627920" y="6448320"/>
              <a:ext cx="2221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Смерть близкого родственни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09480" y="1160640"/>
              <a:ext cx="7996320" cy="5469120"/>
            </a:xfrm>
            <a:prstGeom prst="rect">
              <a:avLst/>
            </a:prstGeom>
            <a:noFill/>
            <a:ln w="10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380880" y="1519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овы п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ичины самоубийства сред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подростк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"/>
          <p:cNvGrpSpPr/>
          <p:nvPr/>
        </p:nvGrpSpPr>
        <p:grpSpPr>
          <a:xfrm>
            <a:off x="856080" y="1825920"/>
            <a:ext cx="7608960" cy="4878720"/>
            <a:chOff x="856080" y="1825920"/>
            <a:chExt cx="7608960" cy="4878720"/>
          </a:xfrm>
        </p:grpSpPr>
        <p:sp>
          <p:nvSpPr>
            <p:cNvPr id="200" name=""/>
            <p:cNvSpPr/>
            <p:nvPr/>
          </p:nvSpPr>
          <p:spPr>
            <a:xfrm>
              <a:off x="856080" y="1825920"/>
              <a:ext cx="7608960" cy="4878720"/>
            </a:xfrm>
            <a:prstGeom prst="rect">
              <a:avLst/>
            </a:prstGeom>
            <a:solidFill>
              <a:srgbClr val="ffffff"/>
            </a:solidFill>
            <a:ln w="13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948480" y="3707280"/>
              <a:ext cx="617760" cy="602640"/>
            </a:xfrm>
            <a:custGeom>
              <a:avLst/>
              <a:gdLst/>
              <a:ahLst/>
              <a:rect l="l" t="t" r="r" b="b"/>
              <a:pathLst>
                <a:path w="676" h="842">
                  <a:moveTo>
                    <a:pt x="676" y="390"/>
                  </a:moveTo>
                  <a:lnTo>
                    <a:pt x="0" y="0"/>
                  </a:lnTo>
                  <a:lnTo>
                    <a:pt x="0" y="452"/>
                  </a:lnTo>
                  <a:lnTo>
                    <a:pt x="676" y="842"/>
                  </a:lnTo>
                  <a:lnTo>
                    <a:pt x="676" y="390"/>
                  </a:lnTo>
                  <a:close/>
                </a:path>
              </a:pathLst>
            </a:custGeom>
            <a:solidFill>
              <a:srgbClr val="808066"/>
            </a:solidFill>
            <a:ln w="13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948480" y="3677760"/>
              <a:ext cx="617760" cy="308160"/>
            </a:xfrm>
            <a:custGeom>
              <a:avLst/>
              <a:gdLst/>
              <a:ahLst/>
              <a:rect l="l" t="t" r="r" b="b"/>
              <a:pathLst>
                <a:path w="676" h="431">
                  <a:moveTo>
                    <a:pt x="0" y="41"/>
                  </a:moveTo>
                  <a:lnTo>
                    <a:pt x="82" y="20"/>
                  </a:lnTo>
                  <a:lnTo>
                    <a:pt x="143" y="20"/>
                  </a:lnTo>
                  <a:lnTo>
                    <a:pt x="225" y="20"/>
                  </a:lnTo>
                  <a:lnTo>
                    <a:pt x="307" y="0"/>
                  </a:lnTo>
                  <a:lnTo>
                    <a:pt x="369" y="0"/>
                  </a:lnTo>
                  <a:lnTo>
                    <a:pt x="451" y="0"/>
                  </a:lnTo>
                  <a:lnTo>
                    <a:pt x="533" y="0"/>
                  </a:lnTo>
                  <a:lnTo>
                    <a:pt x="594" y="0"/>
                  </a:lnTo>
                  <a:lnTo>
                    <a:pt x="676" y="0"/>
                  </a:lnTo>
                  <a:lnTo>
                    <a:pt x="676" y="43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ffcc"/>
            </a:solidFill>
            <a:ln w="13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767320" y="4030560"/>
              <a:ext cx="205560" cy="469440"/>
            </a:xfrm>
            <a:custGeom>
              <a:avLst/>
              <a:gdLst/>
              <a:ahLst/>
              <a:rect l="l" t="t" r="r" b="b"/>
              <a:pathLst>
                <a:path w="225" h="656">
                  <a:moveTo>
                    <a:pt x="225" y="205"/>
                  </a:moveTo>
                  <a:lnTo>
                    <a:pt x="184" y="184"/>
                  </a:lnTo>
                  <a:lnTo>
                    <a:pt x="143" y="184"/>
                  </a:lnTo>
                  <a:lnTo>
                    <a:pt x="123" y="164"/>
                  </a:lnTo>
                  <a:lnTo>
                    <a:pt x="102" y="143"/>
                  </a:lnTo>
                  <a:lnTo>
                    <a:pt x="61" y="123"/>
                  </a:lnTo>
                  <a:lnTo>
                    <a:pt x="61" y="102"/>
                  </a:lnTo>
                  <a:lnTo>
                    <a:pt x="41" y="82"/>
                  </a:lnTo>
                  <a:lnTo>
                    <a:pt x="20" y="6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51"/>
                  </a:lnTo>
                  <a:lnTo>
                    <a:pt x="0" y="451"/>
                  </a:lnTo>
                  <a:lnTo>
                    <a:pt x="0" y="492"/>
                  </a:lnTo>
                  <a:lnTo>
                    <a:pt x="0" y="492"/>
                  </a:lnTo>
                  <a:lnTo>
                    <a:pt x="20" y="513"/>
                  </a:lnTo>
                  <a:lnTo>
                    <a:pt x="41" y="533"/>
                  </a:lnTo>
                  <a:lnTo>
                    <a:pt x="61" y="554"/>
                  </a:lnTo>
                  <a:lnTo>
                    <a:pt x="61" y="574"/>
                  </a:lnTo>
                  <a:lnTo>
                    <a:pt x="102" y="595"/>
                  </a:lnTo>
                  <a:lnTo>
                    <a:pt x="123" y="615"/>
                  </a:lnTo>
                  <a:lnTo>
                    <a:pt x="143" y="636"/>
                  </a:lnTo>
                  <a:lnTo>
                    <a:pt x="184" y="636"/>
                  </a:lnTo>
                  <a:lnTo>
                    <a:pt x="225" y="656"/>
                  </a:lnTo>
                  <a:lnTo>
                    <a:pt x="225" y="205"/>
                  </a:lnTo>
                  <a:close/>
                </a:path>
              </a:pathLst>
            </a:custGeom>
            <a:solidFill>
              <a:srgbClr val="4d1a33"/>
            </a:solidFill>
            <a:ln w="13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973240" y="4030560"/>
              <a:ext cx="1312200" cy="469440"/>
            </a:xfrm>
            <a:custGeom>
              <a:avLst/>
              <a:gdLst/>
              <a:ahLst/>
              <a:rect l="l" t="t" r="r" b="b"/>
              <a:pathLst>
                <a:path w="1436" h="656">
                  <a:moveTo>
                    <a:pt x="1436" y="0"/>
                  </a:moveTo>
                  <a:lnTo>
                    <a:pt x="0" y="205"/>
                  </a:lnTo>
                  <a:lnTo>
                    <a:pt x="0" y="656"/>
                  </a:lnTo>
                  <a:lnTo>
                    <a:pt x="1436" y="451"/>
                  </a:lnTo>
                  <a:lnTo>
                    <a:pt x="1436" y="0"/>
                  </a:lnTo>
                  <a:close/>
                </a:path>
              </a:pathLst>
            </a:custGeom>
            <a:solidFill>
              <a:srgbClr val="4d1a33"/>
            </a:solidFill>
            <a:ln w="13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767320" y="3751560"/>
              <a:ext cx="1518120" cy="425880"/>
            </a:xfrm>
            <a:custGeom>
              <a:avLst/>
              <a:gdLst/>
              <a:ahLst/>
              <a:rect l="l" t="t" r="r" b="b"/>
              <a:pathLst>
                <a:path w="1661" h="595">
                  <a:moveTo>
                    <a:pt x="225" y="595"/>
                  </a:moveTo>
                  <a:lnTo>
                    <a:pt x="184" y="574"/>
                  </a:lnTo>
                  <a:lnTo>
                    <a:pt x="143" y="554"/>
                  </a:lnTo>
                  <a:lnTo>
                    <a:pt x="102" y="533"/>
                  </a:lnTo>
                  <a:lnTo>
                    <a:pt x="82" y="513"/>
                  </a:lnTo>
                  <a:lnTo>
                    <a:pt x="61" y="492"/>
                  </a:lnTo>
                  <a:lnTo>
                    <a:pt x="41" y="472"/>
                  </a:lnTo>
                  <a:lnTo>
                    <a:pt x="20" y="451"/>
                  </a:lnTo>
                  <a:lnTo>
                    <a:pt x="0" y="431"/>
                  </a:lnTo>
                  <a:lnTo>
                    <a:pt x="0" y="410"/>
                  </a:lnTo>
                  <a:lnTo>
                    <a:pt x="0" y="390"/>
                  </a:lnTo>
                  <a:lnTo>
                    <a:pt x="0" y="369"/>
                  </a:lnTo>
                  <a:lnTo>
                    <a:pt x="0" y="349"/>
                  </a:lnTo>
                  <a:lnTo>
                    <a:pt x="20" y="328"/>
                  </a:lnTo>
                  <a:lnTo>
                    <a:pt x="20" y="307"/>
                  </a:lnTo>
                  <a:lnTo>
                    <a:pt x="41" y="287"/>
                  </a:lnTo>
                  <a:lnTo>
                    <a:pt x="61" y="266"/>
                  </a:lnTo>
                  <a:lnTo>
                    <a:pt x="82" y="246"/>
                  </a:lnTo>
                  <a:lnTo>
                    <a:pt x="123" y="225"/>
                  </a:lnTo>
                  <a:lnTo>
                    <a:pt x="143" y="205"/>
                  </a:lnTo>
                  <a:lnTo>
                    <a:pt x="184" y="184"/>
                  </a:lnTo>
                  <a:lnTo>
                    <a:pt x="225" y="164"/>
                  </a:lnTo>
                  <a:lnTo>
                    <a:pt x="287" y="143"/>
                  </a:lnTo>
                  <a:lnTo>
                    <a:pt x="328" y="123"/>
                  </a:lnTo>
                  <a:lnTo>
                    <a:pt x="389" y="102"/>
                  </a:lnTo>
                  <a:lnTo>
                    <a:pt x="451" y="82"/>
                  </a:lnTo>
                  <a:lnTo>
                    <a:pt x="512" y="82"/>
                  </a:lnTo>
                  <a:lnTo>
                    <a:pt x="574" y="61"/>
                  </a:lnTo>
                  <a:lnTo>
                    <a:pt x="615" y="41"/>
                  </a:lnTo>
                  <a:lnTo>
                    <a:pt x="677" y="41"/>
                  </a:lnTo>
                  <a:lnTo>
                    <a:pt x="759" y="20"/>
                  </a:lnTo>
                  <a:lnTo>
                    <a:pt x="820" y="20"/>
                  </a:lnTo>
                  <a:lnTo>
                    <a:pt x="902" y="0"/>
                  </a:lnTo>
                  <a:lnTo>
                    <a:pt x="984" y="0"/>
                  </a:lnTo>
                  <a:lnTo>
                    <a:pt x="1661" y="390"/>
                  </a:lnTo>
                  <a:lnTo>
                    <a:pt x="225" y="595"/>
                  </a:lnTo>
                  <a:close/>
                </a:path>
              </a:pathLst>
            </a:custGeom>
            <a:solidFill>
              <a:srgbClr val="993366"/>
            </a:solidFill>
            <a:ln w="13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648600" y="4103640"/>
              <a:ext cx="2848320" cy="631800"/>
            </a:xfrm>
            <a:custGeom>
              <a:avLst/>
              <a:gdLst/>
              <a:ahLst/>
              <a:rect l="l" t="t" r="r" b="b"/>
              <a:pathLst>
                <a:path w="3116" h="883">
                  <a:moveTo>
                    <a:pt x="3116" y="0"/>
                  </a:moveTo>
                  <a:lnTo>
                    <a:pt x="3116" y="21"/>
                  </a:lnTo>
                  <a:lnTo>
                    <a:pt x="3096" y="41"/>
                  </a:lnTo>
                  <a:lnTo>
                    <a:pt x="3096" y="62"/>
                  </a:lnTo>
                  <a:lnTo>
                    <a:pt x="3075" y="82"/>
                  </a:lnTo>
                  <a:lnTo>
                    <a:pt x="3055" y="103"/>
                  </a:lnTo>
                  <a:lnTo>
                    <a:pt x="3034" y="123"/>
                  </a:lnTo>
                  <a:lnTo>
                    <a:pt x="2993" y="144"/>
                  </a:lnTo>
                  <a:lnTo>
                    <a:pt x="2973" y="164"/>
                  </a:lnTo>
                  <a:lnTo>
                    <a:pt x="2952" y="185"/>
                  </a:lnTo>
                  <a:lnTo>
                    <a:pt x="2911" y="205"/>
                  </a:lnTo>
                  <a:lnTo>
                    <a:pt x="2850" y="226"/>
                  </a:lnTo>
                  <a:lnTo>
                    <a:pt x="2809" y="247"/>
                  </a:lnTo>
                  <a:lnTo>
                    <a:pt x="2747" y="267"/>
                  </a:lnTo>
                  <a:lnTo>
                    <a:pt x="2706" y="288"/>
                  </a:lnTo>
                  <a:lnTo>
                    <a:pt x="2645" y="288"/>
                  </a:lnTo>
                  <a:lnTo>
                    <a:pt x="2583" y="308"/>
                  </a:lnTo>
                  <a:lnTo>
                    <a:pt x="2521" y="329"/>
                  </a:lnTo>
                  <a:lnTo>
                    <a:pt x="2439" y="349"/>
                  </a:lnTo>
                  <a:lnTo>
                    <a:pt x="2378" y="349"/>
                  </a:lnTo>
                  <a:lnTo>
                    <a:pt x="2296" y="370"/>
                  </a:lnTo>
                  <a:lnTo>
                    <a:pt x="2234" y="370"/>
                  </a:lnTo>
                  <a:lnTo>
                    <a:pt x="2152" y="390"/>
                  </a:lnTo>
                  <a:lnTo>
                    <a:pt x="2070" y="390"/>
                  </a:lnTo>
                  <a:lnTo>
                    <a:pt x="1988" y="411"/>
                  </a:lnTo>
                  <a:lnTo>
                    <a:pt x="1906" y="411"/>
                  </a:lnTo>
                  <a:lnTo>
                    <a:pt x="1845" y="411"/>
                  </a:lnTo>
                  <a:lnTo>
                    <a:pt x="1763" y="411"/>
                  </a:lnTo>
                  <a:lnTo>
                    <a:pt x="1681" y="431"/>
                  </a:lnTo>
                  <a:lnTo>
                    <a:pt x="1578" y="431"/>
                  </a:lnTo>
                  <a:lnTo>
                    <a:pt x="1496" y="431"/>
                  </a:lnTo>
                  <a:lnTo>
                    <a:pt x="1414" y="431"/>
                  </a:lnTo>
                  <a:lnTo>
                    <a:pt x="1332" y="431"/>
                  </a:lnTo>
                  <a:lnTo>
                    <a:pt x="1230" y="431"/>
                  </a:lnTo>
                  <a:lnTo>
                    <a:pt x="1148" y="411"/>
                  </a:lnTo>
                  <a:lnTo>
                    <a:pt x="1066" y="411"/>
                  </a:lnTo>
                  <a:lnTo>
                    <a:pt x="984" y="411"/>
                  </a:lnTo>
                  <a:lnTo>
                    <a:pt x="902" y="411"/>
                  </a:lnTo>
                  <a:lnTo>
                    <a:pt x="820" y="390"/>
                  </a:lnTo>
                  <a:lnTo>
                    <a:pt x="738" y="390"/>
                  </a:lnTo>
                  <a:lnTo>
                    <a:pt x="656" y="370"/>
                  </a:lnTo>
                  <a:lnTo>
                    <a:pt x="574" y="370"/>
                  </a:lnTo>
                  <a:lnTo>
                    <a:pt x="512" y="349"/>
                  </a:lnTo>
                  <a:lnTo>
                    <a:pt x="451" y="349"/>
                  </a:lnTo>
                  <a:lnTo>
                    <a:pt x="389" y="329"/>
                  </a:lnTo>
                  <a:lnTo>
                    <a:pt x="328" y="308"/>
                  </a:lnTo>
                  <a:lnTo>
                    <a:pt x="266" y="308"/>
                  </a:lnTo>
                  <a:lnTo>
                    <a:pt x="205" y="288"/>
                  </a:lnTo>
                  <a:lnTo>
                    <a:pt x="143" y="267"/>
                  </a:lnTo>
                  <a:lnTo>
                    <a:pt x="82" y="247"/>
                  </a:lnTo>
                  <a:lnTo>
                    <a:pt x="41" y="226"/>
                  </a:lnTo>
                  <a:lnTo>
                    <a:pt x="0" y="205"/>
                  </a:lnTo>
                  <a:lnTo>
                    <a:pt x="0" y="657"/>
                  </a:lnTo>
                  <a:lnTo>
                    <a:pt x="41" y="678"/>
                  </a:lnTo>
                  <a:lnTo>
                    <a:pt x="82" y="698"/>
                  </a:lnTo>
                  <a:lnTo>
                    <a:pt x="143" y="719"/>
                  </a:lnTo>
                  <a:lnTo>
                    <a:pt x="205" y="739"/>
                  </a:lnTo>
                  <a:lnTo>
                    <a:pt x="266" y="760"/>
                  </a:lnTo>
                  <a:lnTo>
                    <a:pt x="328" y="760"/>
                  </a:lnTo>
                  <a:lnTo>
                    <a:pt x="389" y="780"/>
                  </a:lnTo>
                  <a:lnTo>
                    <a:pt x="451" y="801"/>
                  </a:lnTo>
                  <a:lnTo>
                    <a:pt x="512" y="801"/>
                  </a:lnTo>
                  <a:lnTo>
                    <a:pt x="574" y="821"/>
                  </a:lnTo>
                  <a:lnTo>
                    <a:pt x="656" y="821"/>
                  </a:lnTo>
                  <a:lnTo>
                    <a:pt x="738" y="842"/>
                  </a:lnTo>
                  <a:lnTo>
                    <a:pt x="820" y="842"/>
                  </a:lnTo>
                  <a:lnTo>
                    <a:pt x="902" y="862"/>
                  </a:lnTo>
                  <a:lnTo>
                    <a:pt x="984" y="862"/>
                  </a:lnTo>
                  <a:lnTo>
                    <a:pt x="1066" y="862"/>
                  </a:lnTo>
                  <a:lnTo>
                    <a:pt x="1148" y="862"/>
                  </a:lnTo>
                  <a:lnTo>
                    <a:pt x="1230" y="883"/>
                  </a:lnTo>
                  <a:lnTo>
                    <a:pt x="1332" y="883"/>
                  </a:lnTo>
                  <a:lnTo>
                    <a:pt x="1414" y="883"/>
                  </a:lnTo>
                  <a:lnTo>
                    <a:pt x="1496" y="883"/>
                  </a:lnTo>
                  <a:lnTo>
                    <a:pt x="1578" y="883"/>
                  </a:lnTo>
                  <a:lnTo>
                    <a:pt x="1681" y="883"/>
                  </a:lnTo>
                  <a:lnTo>
                    <a:pt x="1763" y="862"/>
                  </a:lnTo>
                  <a:lnTo>
                    <a:pt x="1845" y="862"/>
                  </a:lnTo>
                  <a:lnTo>
                    <a:pt x="1906" y="862"/>
                  </a:lnTo>
                  <a:lnTo>
                    <a:pt x="1988" y="862"/>
                  </a:lnTo>
                  <a:lnTo>
                    <a:pt x="2070" y="842"/>
                  </a:lnTo>
                  <a:lnTo>
                    <a:pt x="2152" y="842"/>
                  </a:lnTo>
                  <a:lnTo>
                    <a:pt x="2234" y="821"/>
                  </a:lnTo>
                  <a:lnTo>
                    <a:pt x="2296" y="821"/>
                  </a:lnTo>
                  <a:lnTo>
                    <a:pt x="2378" y="801"/>
                  </a:lnTo>
                  <a:lnTo>
                    <a:pt x="2439" y="801"/>
                  </a:lnTo>
                  <a:lnTo>
                    <a:pt x="2521" y="780"/>
                  </a:lnTo>
                  <a:lnTo>
                    <a:pt x="2583" y="760"/>
                  </a:lnTo>
                  <a:lnTo>
                    <a:pt x="2645" y="739"/>
                  </a:lnTo>
                  <a:lnTo>
                    <a:pt x="2706" y="739"/>
                  </a:lnTo>
                  <a:lnTo>
                    <a:pt x="2747" y="719"/>
                  </a:lnTo>
                  <a:lnTo>
                    <a:pt x="2809" y="698"/>
                  </a:lnTo>
                  <a:lnTo>
                    <a:pt x="2850" y="678"/>
                  </a:lnTo>
                  <a:lnTo>
                    <a:pt x="2911" y="657"/>
                  </a:lnTo>
                  <a:lnTo>
                    <a:pt x="2952" y="637"/>
                  </a:lnTo>
                  <a:lnTo>
                    <a:pt x="2973" y="616"/>
                  </a:lnTo>
                  <a:lnTo>
                    <a:pt x="2993" y="595"/>
                  </a:lnTo>
                  <a:lnTo>
                    <a:pt x="3034" y="575"/>
                  </a:lnTo>
                  <a:lnTo>
                    <a:pt x="3055" y="554"/>
                  </a:lnTo>
                  <a:lnTo>
                    <a:pt x="3075" y="534"/>
                  </a:lnTo>
                  <a:lnTo>
                    <a:pt x="3096" y="513"/>
                  </a:lnTo>
                  <a:lnTo>
                    <a:pt x="3096" y="493"/>
                  </a:lnTo>
                  <a:lnTo>
                    <a:pt x="3116" y="472"/>
                  </a:lnTo>
                  <a:lnTo>
                    <a:pt x="3116" y="452"/>
                  </a:lnTo>
                  <a:lnTo>
                    <a:pt x="3116" y="0"/>
                  </a:lnTo>
                  <a:close/>
                </a:path>
              </a:pathLst>
            </a:custGeom>
            <a:solidFill>
              <a:srgbClr val="4d4d80"/>
            </a:solidFill>
            <a:ln w="13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648600" y="3795120"/>
              <a:ext cx="2848320" cy="617040"/>
            </a:xfrm>
            <a:custGeom>
              <a:avLst/>
              <a:gdLst/>
              <a:ahLst/>
              <a:rect l="l" t="t" r="r" b="b"/>
              <a:pathLst>
                <a:path w="3116" h="862">
                  <a:moveTo>
                    <a:pt x="1435" y="0"/>
                  </a:moveTo>
                  <a:lnTo>
                    <a:pt x="1537" y="0"/>
                  </a:lnTo>
                  <a:lnTo>
                    <a:pt x="1619" y="0"/>
                  </a:lnTo>
                  <a:lnTo>
                    <a:pt x="1701" y="0"/>
                  </a:lnTo>
                  <a:lnTo>
                    <a:pt x="1783" y="0"/>
                  </a:lnTo>
                  <a:lnTo>
                    <a:pt x="1865" y="0"/>
                  </a:lnTo>
                  <a:lnTo>
                    <a:pt x="1947" y="21"/>
                  </a:lnTo>
                  <a:lnTo>
                    <a:pt x="2029" y="21"/>
                  </a:lnTo>
                  <a:lnTo>
                    <a:pt x="2111" y="41"/>
                  </a:lnTo>
                  <a:lnTo>
                    <a:pt x="2193" y="41"/>
                  </a:lnTo>
                  <a:lnTo>
                    <a:pt x="2275" y="62"/>
                  </a:lnTo>
                  <a:lnTo>
                    <a:pt x="2357" y="62"/>
                  </a:lnTo>
                  <a:lnTo>
                    <a:pt x="2419" y="82"/>
                  </a:lnTo>
                  <a:lnTo>
                    <a:pt x="2501" y="82"/>
                  </a:lnTo>
                  <a:lnTo>
                    <a:pt x="2542" y="103"/>
                  </a:lnTo>
                  <a:lnTo>
                    <a:pt x="2604" y="123"/>
                  </a:lnTo>
                  <a:lnTo>
                    <a:pt x="2665" y="123"/>
                  </a:lnTo>
                  <a:lnTo>
                    <a:pt x="2727" y="144"/>
                  </a:lnTo>
                  <a:lnTo>
                    <a:pt x="2768" y="164"/>
                  </a:lnTo>
                  <a:lnTo>
                    <a:pt x="2829" y="185"/>
                  </a:lnTo>
                  <a:lnTo>
                    <a:pt x="2870" y="205"/>
                  </a:lnTo>
                  <a:lnTo>
                    <a:pt x="2911" y="226"/>
                  </a:lnTo>
                  <a:lnTo>
                    <a:pt x="2952" y="246"/>
                  </a:lnTo>
                  <a:lnTo>
                    <a:pt x="2993" y="267"/>
                  </a:lnTo>
                  <a:lnTo>
                    <a:pt x="3014" y="288"/>
                  </a:lnTo>
                  <a:lnTo>
                    <a:pt x="3055" y="308"/>
                  </a:lnTo>
                  <a:lnTo>
                    <a:pt x="3075" y="329"/>
                  </a:lnTo>
                  <a:lnTo>
                    <a:pt x="3096" y="349"/>
                  </a:lnTo>
                  <a:lnTo>
                    <a:pt x="3096" y="370"/>
                  </a:lnTo>
                  <a:lnTo>
                    <a:pt x="3116" y="390"/>
                  </a:lnTo>
                  <a:lnTo>
                    <a:pt x="3116" y="411"/>
                  </a:lnTo>
                  <a:lnTo>
                    <a:pt x="3116" y="431"/>
                  </a:lnTo>
                  <a:lnTo>
                    <a:pt x="3096" y="472"/>
                  </a:lnTo>
                  <a:lnTo>
                    <a:pt x="3096" y="493"/>
                  </a:lnTo>
                  <a:lnTo>
                    <a:pt x="3075" y="513"/>
                  </a:lnTo>
                  <a:lnTo>
                    <a:pt x="3055" y="534"/>
                  </a:lnTo>
                  <a:lnTo>
                    <a:pt x="3034" y="554"/>
                  </a:lnTo>
                  <a:lnTo>
                    <a:pt x="3014" y="575"/>
                  </a:lnTo>
                  <a:lnTo>
                    <a:pt x="2973" y="595"/>
                  </a:lnTo>
                  <a:lnTo>
                    <a:pt x="2952" y="616"/>
                  </a:lnTo>
                  <a:lnTo>
                    <a:pt x="2911" y="636"/>
                  </a:lnTo>
                  <a:lnTo>
                    <a:pt x="2870" y="657"/>
                  </a:lnTo>
                  <a:lnTo>
                    <a:pt x="2829" y="657"/>
                  </a:lnTo>
                  <a:lnTo>
                    <a:pt x="2768" y="678"/>
                  </a:lnTo>
                  <a:lnTo>
                    <a:pt x="2727" y="698"/>
                  </a:lnTo>
                  <a:lnTo>
                    <a:pt x="2665" y="719"/>
                  </a:lnTo>
                  <a:lnTo>
                    <a:pt x="2604" y="739"/>
                  </a:lnTo>
                  <a:lnTo>
                    <a:pt x="2542" y="760"/>
                  </a:lnTo>
                  <a:lnTo>
                    <a:pt x="2460" y="760"/>
                  </a:lnTo>
                  <a:lnTo>
                    <a:pt x="2398" y="780"/>
                  </a:lnTo>
                  <a:lnTo>
                    <a:pt x="2316" y="801"/>
                  </a:lnTo>
                  <a:lnTo>
                    <a:pt x="2255" y="801"/>
                  </a:lnTo>
                  <a:lnTo>
                    <a:pt x="2173" y="821"/>
                  </a:lnTo>
                  <a:lnTo>
                    <a:pt x="2091" y="821"/>
                  </a:lnTo>
                  <a:lnTo>
                    <a:pt x="2009" y="821"/>
                  </a:lnTo>
                  <a:lnTo>
                    <a:pt x="1927" y="842"/>
                  </a:lnTo>
                  <a:lnTo>
                    <a:pt x="1845" y="842"/>
                  </a:lnTo>
                  <a:lnTo>
                    <a:pt x="1763" y="842"/>
                  </a:lnTo>
                  <a:lnTo>
                    <a:pt x="1681" y="862"/>
                  </a:lnTo>
                  <a:lnTo>
                    <a:pt x="1578" y="862"/>
                  </a:lnTo>
                  <a:lnTo>
                    <a:pt x="1496" y="862"/>
                  </a:lnTo>
                  <a:lnTo>
                    <a:pt x="1414" y="862"/>
                  </a:lnTo>
                  <a:lnTo>
                    <a:pt x="1332" y="862"/>
                  </a:lnTo>
                  <a:lnTo>
                    <a:pt x="1230" y="862"/>
                  </a:lnTo>
                  <a:lnTo>
                    <a:pt x="1148" y="842"/>
                  </a:lnTo>
                  <a:lnTo>
                    <a:pt x="1066" y="842"/>
                  </a:lnTo>
                  <a:lnTo>
                    <a:pt x="984" y="842"/>
                  </a:lnTo>
                  <a:lnTo>
                    <a:pt x="902" y="842"/>
                  </a:lnTo>
                  <a:lnTo>
                    <a:pt x="840" y="821"/>
                  </a:lnTo>
                  <a:lnTo>
                    <a:pt x="758" y="821"/>
                  </a:lnTo>
                  <a:lnTo>
                    <a:pt x="676" y="801"/>
                  </a:lnTo>
                  <a:lnTo>
                    <a:pt x="594" y="801"/>
                  </a:lnTo>
                  <a:lnTo>
                    <a:pt x="533" y="780"/>
                  </a:lnTo>
                  <a:lnTo>
                    <a:pt x="451" y="780"/>
                  </a:lnTo>
                  <a:lnTo>
                    <a:pt x="389" y="760"/>
                  </a:lnTo>
                  <a:lnTo>
                    <a:pt x="328" y="739"/>
                  </a:lnTo>
                  <a:lnTo>
                    <a:pt x="266" y="739"/>
                  </a:lnTo>
                  <a:lnTo>
                    <a:pt x="205" y="719"/>
                  </a:lnTo>
                  <a:lnTo>
                    <a:pt x="143" y="698"/>
                  </a:lnTo>
                  <a:lnTo>
                    <a:pt x="82" y="678"/>
                  </a:lnTo>
                  <a:lnTo>
                    <a:pt x="41" y="657"/>
                  </a:lnTo>
                  <a:lnTo>
                    <a:pt x="0" y="636"/>
                  </a:lnTo>
                  <a:lnTo>
                    <a:pt x="1435" y="431"/>
                  </a:lnTo>
                  <a:lnTo>
                    <a:pt x="1435" y="0"/>
                  </a:lnTo>
                  <a:close/>
                </a:path>
              </a:pathLst>
            </a:custGeom>
            <a:solidFill>
              <a:srgbClr val="9999ff"/>
            </a:solidFill>
            <a:ln w="13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43040" y="2398320"/>
              <a:ext cx="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538680" y="4330800"/>
              <a:ext cx="40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58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095560" y="381456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071960" y="3427200"/>
              <a:ext cx="40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68280" y="5558760"/>
              <a:ext cx="6409440" cy="1102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48360" y="5691240"/>
              <a:ext cx="168840" cy="132480"/>
            </a:xfrm>
            <a:prstGeom prst="rect">
              <a:avLst/>
            </a:prstGeom>
            <a:solidFill>
              <a:srgbClr val="9999ff"/>
            </a:solidFill>
            <a:ln w="13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724120" y="5618160"/>
              <a:ext cx="352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448360" y="6044040"/>
              <a:ext cx="168840" cy="131400"/>
            </a:xfrm>
            <a:prstGeom prst="rect">
              <a:avLst/>
            </a:prstGeom>
            <a:solidFill>
              <a:srgbClr val="993366"/>
            </a:solidFill>
            <a:ln w="13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828880" y="5969160"/>
              <a:ext cx="2679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Да, один такой человек ес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448360" y="6411600"/>
              <a:ext cx="168840" cy="132480"/>
            </a:xfrm>
            <a:prstGeom prst="rect">
              <a:avLst/>
            </a:prstGeom>
            <a:solidFill>
              <a:srgbClr val="ffffcc"/>
            </a:solidFill>
            <a:ln w="13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802960" y="6339240"/>
              <a:ext cx="212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Да, их даже нескольк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56080" y="1825920"/>
              <a:ext cx="7608960" cy="4878720"/>
            </a:xfrm>
            <a:prstGeom prst="rect">
              <a:avLst/>
            </a:prstGeom>
            <a:noFill/>
            <a:ln w="13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685800" y="36756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Знаете ли Вы людей, которые хотели или совершили суицид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"/>
          <p:cNvGrpSpPr/>
          <p:nvPr/>
        </p:nvGrpSpPr>
        <p:grpSpPr>
          <a:xfrm>
            <a:off x="1076400" y="1838880"/>
            <a:ext cx="6777720" cy="4825440"/>
            <a:chOff x="1076400" y="1838880"/>
            <a:chExt cx="6777720" cy="4825440"/>
          </a:xfrm>
        </p:grpSpPr>
        <p:sp>
          <p:nvSpPr>
            <p:cNvPr id="222" name=""/>
            <p:cNvSpPr/>
            <p:nvPr/>
          </p:nvSpPr>
          <p:spPr>
            <a:xfrm>
              <a:off x="1076400" y="1838880"/>
              <a:ext cx="6777720" cy="4825440"/>
            </a:xfrm>
            <a:prstGeom prst="rect">
              <a:avLst/>
            </a:prstGeom>
            <a:solidFill>
              <a:srgbClr val="ffffff"/>
            </a:solidFill>
            <a:ln w="140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796480" y="4372560"/>
              <a:ext cx="980640" cy="861120"/>
            </a:xfrm>
            <a:custGeom>
              <a:avLst/>
              <a:gdLst/>
              <a:ahLst/>
              <a:rect l="l" t="t" r="r" b="b"/>
              <a:pathLst>
                <a:path w="1248" h="1096">
                  <a:moveTo>
                    <a:pt x="1248" y="504"/>
                  </a:moveTo>
                  <a:lnTo>
                    <a:pt x="1182" y="482"/>
                  </a:lnTo>
                  <a:lnTo>
                    <a:pt x="1095" y="482"/>
                  </a:lnTo>
                  <a:lnTo>
                    <a:pt x="1029" y="460"/>
                  </a:lnTo>
                  <a:lnTo>
                    <a:pt x="942" y="438"/>
                  </a:lnTo>
                  <a:lnTo>
                    <a:pt x="876" y="438"/>
                  </a:lnTo>
                  <a:lnTo>
                    <a:pt x="788" y="416"/>
                  </a:lnTo>
                  <a:lnTo>
                    <a:pt x="723" y="416"/>
                  </a:lnTo>
                  <a:lnTo>
                    <a:pt x="635" y="394"/>
                  </a:lnTo>
                  <a:lnTo>
                    <a:pt x="591" y="372"/>
                  </a:lnTo>
                  <a:lnTo>
                    <a:pt x="548" y="350"/>
                  </a:lnTo>
                  <a:lnTo>
                    <a:pt x="460" y="328"/>
                  </a:lnTo>
                  <a:lnTo>
                    <a:pt x="416" y="328"/>
                  </a:lnTo>
                  <a:lnTo>
                    <a:pt x="351" y="307"/>
                  </a:lnTo>
                  <a:lnTo>
                    <a:pt x="307" y="285"/>
                  </a:lnTo>
                  <a:lnTo>
                    <a:pt x="263" y="263"/>
                  </a:lnTo>
                  <a:lnTo>
                    <a:pt x="219" y="241"/>
                  </a:lnTo>
                  <a:lnTo>
                    <a:pt x="175" y="219"/>
                  </a:lnTo>
                  <a:lnTo>
                    <a:pt x="154" y="197"/>
                  </a:lnTo>
                  <a:lnTo>
                    <a:pt x="132" y="175"/>
                  </a:lnTo>
                  <a:lnTo>
                    <a:pt x="88" y="153"/>
                  </a:lnTo>
                  <a:lnTo>
                    <a:pt x="66" y="131"/>
                  </a:lnTo>
                  <a:lnTo>
                    <a:pt x="44" y="109"/>
                  </a:lnTo>
                  <a:lnTo>
                    <a:pt x="22" y="87"/>
                  </a:lnTo>
                  <a:lnTo>
                    <a:pt x="0" y="65"/>
                  </a:lnTo>
                  <a:lnTo>
                    <a:pt x="0" y="43"/>
                  </a:lnTo>
                  <a:lnTo>
                    <a:pt x="0" y="21"/>
                  </a:lnTo>
                  <a:lnTo>
                    <a:pt x="0" y="0"/>
                  </a:lnTo>
                  <a:lnTo>
                    <a:pt x="0" y="592"/>
                  </a:lnTo>
                  <a:lnTo>
                    <a:pt x="0" y="614"/>
                  </a:lnTo>
                  <a:lnTo>
                    <a:pt x="0" y="636"/>
                  </a:lnTo>
                  <a:lnTo>
                    <a:pt x="0" y="657"/>
                  </a:lnTo>
                  <a:lnTo>
                    <a:pt x="22" y="679"/>
                  </a:lnTo>
                  <a:lnTo>
                    <a:pt x="44" y="701"/>
                  </a:lnTo>
                  <a:lnTo>
                    <a:pt x="66" y="723"/>
                  </a:lnTo>
                  <a:lnTo>
                    <a:pt x="88" y="745"/>
                  </a:lnTo>
                  <a:lnTo>
                    <a:pt x="132" y="767"/>
                  </a:lnTo>
                  <a:lnTo>
                    <a:pt x="154" y="789"/>
                  </a:lnTo>
                  <a:lnTo>
                    <a:pt x="175" y="811"/>
                  </a:lnTo>
                  <a:lnTo>
                    <a:pt x="219" y="833"/>
                  </a:lnTo>
                  <a:lnTo>
                    <a:pt x="263" y="855"/>
                  </a:lnTo>
                  <a:lnTo>
                    <a:pt x="307" y="877"/>
                  </a:lnTo>
                  <a:lnTo>
                    <a:pt x="351" y="899"/>
                  </a:lnTo>
                  <a:lnTo>
                    <a:pt x="416" y="921"/>
                  </a:lnTo>
                  <a:lnTo>
                    <a:pt x="460" y="921"/>
                  </a:lnTo>
                  <a:lnTo>
                    <a:pt x="548" y="943"/>
                  </a:lnTo>
                  <a:lnTo>
                    <a:pt x="591" y="964"/>
                  </a:lnTo>
                  <a:lnTo>
                    <a:pt x="635" y="986"/>
                  </a:lnTo>
                  <a:lnTo>
                    <a:pt x="723" y="1008"/>
                  </a:lnTo>
                  <a:lnTo>
                    <a:pt x="788" y="1008"/>
                  </a:lnTo>
                  <a:lnTo>
                    <a:pt x="876" y="1030"/>
                  </a:lnTo>
                  <a:lnTo>
                    <a:pt x="942" y="1030"/>
                  </a:lnTo>
                  <a:lnTo>
                    <a:pt x="1029" y="1052"/>
                  </a:lnTo>
                  <a:lnTo>
                    <a:pt x="1095" y="1074"/>
                  </a:lnTo>
                  <a:lnTo>
                    <a:pt x="1182" y="1074"/>
                  </a:lnTo>
                  <a:lnTo>
                    <a:pt x="1248" y="1096"/>
                  </a:lnTo>
                  <a:lnTo>
                    <a:pt x="1248" y="504"/>
                  </a:lnTo>
                  <a:close/>
                </a:path>
              </a:pathLst>
            </a:custGeom>
            <a:solidFill>
              <a:srgbClr val="4d1a33"/>
            </a:solidFill>
            <a:ln w="140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796480" y="3940920"/>
              <a:ext cx="1668960" cy="827640"/>
            </a:xfrm>
            <a:custGeom>
              <a:avLst/>
              <a:gdLst/>
              <a:ahLst/>
              <a:rect l="l" t="t" r="r" b="b"/>
              <a:pathLst>
                <a:path w="2124" h="1053">
                  <a:moveTo>
                    <a:pt x="1248" y="1053"/>
                  </a:moveTo>
                  <a:lnTo>
                    <a:pt x="1160" y="1031"/>
                  </a:lnTo>
                  <a:lnTo>
                    <a:pt x="1095" y="1031"/>
                  </a:lnTo>
                  <a:lnTo>
                    <a:pt x="985" y="1009"/>
                  </a:lnTo>
                  <a:lnTo>
                    <a:pt x="942" y="987"/>
                  </a:lnTo>
                  <a:lnTo>
                    <a:pt x="832" y="987"/>
                  </a:lnTo>
                  <a:lnTo>
                    <a:pt x="745" y="965"/>
                  </a:lnTo>
                  <a:lnTo>
                    <a:pt x="701" y="943"/>
                  </a:lnTo>
                  <a:lnTo>
                    <a:pt x="613" y="921"/>
                  </a:lnTo>
                  <a:lnTo>
                    <a:pt x="569" y="921"/>
                  </a:lnTo>
                  <a:lnTo>
                    <a:pt x="482" y="899"/>
                  </a:lnTo>
                  <a:lnTo>
                    <a:pt x="416" y="877"/>
                  </a:lnTo>
                  <a:lnTo>
                    <a:pt x="372" y="856"/>
                  </a:lnTo>
                  <a:lnTo>
                    <a:pt x="307" y="834"/>
                  </a:lnTo>
                  <a:lnTo>
                    <a:pt x="285" y="812"/>
                  </a:lnTo>
                  <a:lnTo>
                    <a:pt x="219" y="790"/>
                  </a:lnTo>
                  <a:lnTo>
                    <a:pt x="175" y="768"/>
                  </a:lnTo>
                  <a:lnTo>
                    <a:pt x="154" y="746"/>
                  </a:lnTo>
                  <a:lnTo>
                    <a:pt x="110" y="724"/>
                  </a:lnTo>
                  <a:lnTo>
                    <a:pt x="88" y="702"/>
                  </a:lnTo>
                  <a:lnTo>
                    <a:pt x="66" y="680"/>
                  </a:lnTo>
                  <a:lnTo>
                    <a:pt x="44" y="658"/>
                  </a:lnTo>
                  <a:lnTo>
                    <a:pt x="22" y="636"/>
                  </a:lnTo>
                  <a:lnTo>
                    <a:pt x="0" y="592"/>
                  </a:lnTo>
                  <a:lnTo>
                    <a:pt x="0" y="570"/>
                  </a:lnTo>
                  <a:lnTo>
                    <a:pt x="0" y="549"/>
                  </a:lnTo>
                  <a:lnTo>
                    <a:pt x="0" y="527"/>
                  </a:lnTo>
                  <a:lnTo>
                    <a:pt x="0" y="505"/>
                  </a:lnTo>
                  <a:lnTo>
                    <a:pt x="0" y="483"/>
                  </a:lnTo>
                  <a:lnTo>
                    <a:pt x="22" y="461"/>
                  </a:lnTo>
                  <a:lnTo>
                    <a:pt x="44" y="439"/>
                  </a:lnTo>
                  <a:lnTo>
                    <a:pt x="66" y="395"/>
                  </a:lnTo>
                  <a:lnTo>
                    <a:pt x="88" y="373"/>
                  </a:lnTo>
                  <a:lnTo>
                    <a:pt x="132" y="351"/>
                  </a:lnTo>
                  <a:lnTo>
                    <a:pt x="154" y="329"/>
                  </a:lnTo>
                  <a:lnTo>
                    <a:pt x="197" y="307"/>
                  </a:lnTo>
                  <a:lnTo>
                    <a:pt x="241" y="285"/>
                  </a:lnTo>
                  <a:lnTo>
                    <a:pt x="285" y="263"/>
                  </a:lnTo>
                  <a:lnTo>
                    <a:pt x="329" y="241"/>
                  </a:lnTo>
                  <a:lnTo>
                    <a:pt x="372" y="220"/>
                  </a:lnTo>
                  <a:lnTo>
                    <a:pt x="438" y="198"/>
                  </a:lnTo>
                  <a:lnTo>
                    <a:pt x="526" y="176"/>
                  </a:lnTo>
                  <a:lnTo>
                    <a:pt x="569" y="176"/>
                  </a:lnTo>
                  <a:lnTo>
                    <a:pt x="635" y="154"/>
                  </a:lnTo>
                  <a:lnTo>
                    <a:pt x="701" y="132"/>
                  </a:lnTo>
                  <a:lnTo>
                    <a:pt x="788" y="110"/>
                  </a:lnTo>
                  <a:lnTo>
                    <a:pt x="876" y="110"/>
                  </a:lnTo>
                  <a:lnTo>
                    <a:pt x="942" y="88"/>
                  </a:lnTo>
                  <a:lnTo>
                    <a:pt x="1029" y="66"/>
                  </a:lnTo>
                  <a:lnTo>
                    <a:pt x="1095" y="66"/>
                  </a:lnTo>
                  <a:lnTo>
                    <a:pt x="1182" y="44"/>
                  </a:lnTo>
                  <a:lnTo>
                    <a:pt x="1292" y="44"/>
                  </a:lnTo>
                  <a:lnTo>
                    <a:pt x="1357" y="22"/>
                  </a:lnTo>
                  <a:lnTo>
                    <a:pt x="1467" y="22"/>
                  </a:lnTo>
                  <a:lnTo>
                    <a:pt x="1533" y="22"/>
                  </a:lnTo>
                  <a:lnTo>
                    <a:pt x="1642" y="0"/>
                  </a:lnTo>
                  <a:lnTo>
                    <a:pt x="1751" y="0"/>
                  </a:lnTo>
                  <a:lnTo>
                    <a:pt x="1817" y="0"/>
                  </a:lnTo>
                  <a:lnTo>
                    <a:pt x="1927" y="0"/>
                  </a:lnTo>
                  <a:lnTo>
                    <a:pt x="2014" y="0"/>
                  </a:lnTo>
                  <a:lnTo>
                    <a:pt x="2124" y="0"/>
                  </a:lnTo>
                  <a:lnTo>
                    <a:pt x="2124" y="549"/>
                  </a:lnTo>
                  <a:lnTo>
                    <a:pt x="1248" y="1053"/>
                  </a:lnTo>
                  <a:close/>
                </a:path>
              </a:pathLst>
            </a:custGeom>
            <a:solidFill>
              <a:srgbClr val="993366"/>
            </a:solidFill>
            <a:ln w="140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777120" y="4372560"/>
              <a:ext cx="2356560" cy="895680"/>
            </a:xfrm>
            <a:custGeom>
              <a:avLst/>
              <a:gdLst/>
              <a:ahLst/>
              <a:rect l="l" t="t" r="r" b="b"/>
              <a:pathLst>
                <a:path w="2999" h="1140">
                  <a:moveTo>
                    <a:pt x="2999" y="0"/>
                  </a:moveTo>
                  <a:lnTo>
                    <a:pt x="2999" y="21"/>
                  </a:lnTo>
                  <a:lnTo>
                    <a:pt x="2977" y="43"/>
                  </a:lnTo>
                  <a:lnTo>
                    <a:pt x="2977" y="65"/>
                  </a:lnTo>
                  <a:lnTo>
                    <a:pt x="2955" y="87"/>
                  </a:lnTo>
                  <a:lnTo>
                    <a:pt x="2933" y="109"/>
                  </a:lnTo>
                  <a:lnTo>
                    <a:pt x="2911" y="131"/>
                  </a:lnTo>
                  <a:lnTo>
                    <a:pt x="2889" y="153"/>
                  </a:lnTo>
                  <a:lnTo>
                    <a:pt x="2867" y="175"/>
                  </a:lnTo>
                  <a:lnTo>
                    <a:pt x="2824" y="219"/>
                  </a:lnTo>
                  <a:lnTo>
                    <a:pt x="2802" y="219"/>
                  </a:lnTo>
                  <a:lnTo>
                    <a:pt x="2736" y="241"/>
                  </a:lnTo>
                  <a:lnTo>
                    <a:pt x="2714" y="263"/>
                  </a:lnTo>
                  <a:lnTo>
                    <a:pt x="2649" y="285"/>
                  </a:lnTo>
                  <a:lnTo>
                    <a:pt x="2605" y="307"/>
                  </a:lnTo>
                  <a:lnTo>
                    <a:pt x="2539" y="328"/>
                  </a:lnTo>
                  <a:lnTo>
                    <a:pt x="2473" y="350"/>
                  </a:lnTo>
                  <a:lnTo>
                    <a:pt x="2430" y="372"/>
                  </a:lnTo>
                  <a:lnTo>
                    <a:pt x="2342" y="394"/>
                  </a:lnTo>
                  <a:lnTo>
                    <a:pt x="2298" y="394"/>
                  </a:lnTo>
                  <a:lnTo>
                    <a:pt x="2211" y="416"/>
                  </a:lnTo>
                  <a:lnTo>
                    <a:pt x="2145" y="438"/>
                  </a:lnTo>
                  <a:lnTo>
                    <a:pt x="2058" y="438"/>
                  </a:lnTo>
                  <a:lnTo>
                    <a:pt x="1992" y="460"/>
                  </a:lnTo>
                  <a:lnTo>
                    <a:pt x="1904" y="482"/>
                  </a:lnTo>
                  <a:lnTo>
                    <a:pt x="1839" y="482"/>
                  </a:lnTo>
                  <a:lnTo>
                    <a:pt x="1729" y="504"/>
                  </a:lnTo>
                  <a:lnTo>
                    <a:pt x="1664" y="504"/>
                  </a:lnTo>
                  <a:lnTo>
                    <a:pt x="1554" y="504"/>
                  </a:lnTo>
                  <a:lnTo>
                    <a:pt x="1488" y="526"/>
                  </a:lnTo>
                  <a:lnTo>
                    <a:pt x="1379" y="526"/>
                  </a:lnTo>
                  <a:lnTo>
                    <a:pt x="1270" y="526"/>
                  </a:lnTo>
                  <a:lnTo>
                    <a:pt x="1204" y="526"/>
                  </a:lnTo>
                  <a:lnTo>
                    <a:pt x="1094" y="548"/>
                  </a:lnTo>
                  <a:lnTo>
                    <a:pt x="1029" y="548"/>
                  </a:lnTo>
                  <a:lnTo>
                    <a:pt x="897" y="548"/>
                  </a:lnTo>
                  <a:lnTo>
                    <a:pt x="832" y="548"/>
                  </a:lnTo>
                  <a:lnTo>
                    <a:pt x="722" y="548"/>
                  </a:lnTo>
                  <a:lnTo>
                    <a:pt x="657" y="548"/>
                  </a:lnTo>
                  <a:lnTo>
                    <a:pt x="547" y="526"/>
                  </a:lnTo>
                  <a:lnTo>
                    <a:pt x="460" y="526"/>
                  </a:lnTo>
                  <a:lnTo>
                    <a:pt x="350" y="526"/>
                  </a:lnTo>
                  <a:lnTo>
                    <a:pt x="285" y="526"/>
                  </a:lnTo>
                  <a:lnTo>
                    <a:pt x="175" y="504"/>
                  </a:lnTo>
                  <a:lnTo>
                    <a:pt x="109" y="504"/>
                  </a:lnTo>
                  <a:lnTo>
                    <a:pt x="0" y="504"/>
                  </a:lnTo>
                  <a:lnTo>
                    <a:pt x="0" y="1096"/>
                  </a:lnTo>
                  <a:lnTo>
                    <a:pt x="109" y="1096"/>
                  </a:lnTo>
                  <a:lnTo>
                    <a:pt x="175" y="1096"/>
                  </a:lnTo>
                  <a:lnTo>
                    <a:pt x="285" y="1118"/>
                  </a:lnTo>
                  <a:lnTo>
                    <a:pt x="350" y="1118"/>
                  </a:lnTo>
                  <a:lnTo>
                    <a:pt x="460" y="1118"/>
                  </a:lnTo>
                  <a:lnTo>
                    <a:pt x="547" y="1118"/>
                  </a:lnTo>
                  <a:lnTo>
                    <a:pt x="657" y="1140"/>
                  </a:lnTo>
                  <a:lnTo>
                    <a:pt x="722" y="1140"/>
                  </a:lnTo>
                  <a:lnTo>
                    <a:pt x="832" y="1140"/>
                  </a:lnTo>
                  <a:lnTo>
                    <a:pt x="897" y="1140"/>
                  </a:lnTo>
                  <a:lnTo>
                    <a:pt x="1029" y="1140"/>
                  </a:lnTo>
                  <a:lnTo>
                    <a:pt x="1094" y="1140"/>
                  </a:lnTo>
                  <a:lnTo>
                    <a:pt x="1204" y="1118"/>
                  </a:lnTo>
                  <a:lnTo>
                    <a:pt x="1270" y="1118"/>
                  </a:lnTo>
                  <a:lnTo>
                    <a:pt x="1379" y="1118"/>
                  </a:lnTo>
                  <a:lnTo>
                    <a:pt x="1488" y="1118"/>
                  </a:lnTo>
                  <a:lnTo>
                    <a:pt x="1554" y="1096"/>
                  </a:lnTo>
                  <a:lnTo>
                    <a:pt x="1664" y="1096"/>
                  </a:lnTo>
                  <a:lnTo>
                    <a:pt x="1729" y="1096"/>
                  </a:lnTo>
                  <a:lnTo>
                    <a:pt x="1839" y="1074"/>
                  </a:lnTo>
                  <a:lnTo>
                    <a:pt x="1904" y="1074"/>
                  </a:lnTo>
                  <a:lnTo>
                    <a:pt x="1992" y="1052"/>
                  </a:lnTo>
                  <a:lnTo>
                    <a:pt x="2058" y="1030"/>
                  </a:lnTo>
                  <a:lnTo>
                    <a:pt x="2145" y="1030"/>
                  </a:lnTo>
                  <a:lnTo>
                    <a:pt x="2211" y="1008"/>
                  </a:lnTo>
                  <a:lnTo>
                    <a:pt x="2298" y="986"/>
                  </a:lnTo>
                  <a:lnTo>
                    <a:pt x="2342" y="986"/>
                  </a:lnTo>
                  <a:lnTo>
                    <a:pt x="2430" y="964"/>
                  </a:lnTo>
                  <a:lnTo>
                    <a:pt x="2473" y="943"/>
                  </a:lnTo>
                  <a:lnTo>
                    <a:pt x="2539" y="921"/>
                  </a:lnTo>
                  <a:lnTo>
                    <a:pt x="2605" y="899"/>
                  </a:lnTo>
                  <a:lnTo>
                    <a:pt x="2649" y="877"/>
                  </a:lnTo>
                  <a:lnTo>
                    <a:pt x="2714" y="855"/>
                  </a:lnTo>
                  <a:lnTo>
                    <a:pt x="2736" y="833"/>
                  </a:lnTo>
                  <a:lnTo>
                    <a:pt x="2802" y="811"/>
                  </a:lnTo>
                  <a:lnTo>
                    <a:pt x="2824" y="811"/>
                  </a:lnTo>
                  <a:lnTo>
                    <a:pt x="2867" y="767"/>
                  </a:lnTo>
                  <a:lnTo>
                    <a:pt x="2889" y="745"/>
                  </a:lnTo>
                  <a:lnTo>
                    <a:pt x="2911" y="723"/>
                  </a:lnTo>
                  <a:lnTo>
                    <a:pt x="2933" y="701"/>
                  </a:lnTo>
                  <a:lnTo>
                    <a:pt x="2955" y="679"/>
                  </a:lnTo>
                  <a:lnTo>
                    <a:pt x="2977" y="657"/>
                  </a:lnTo>
                  <a:lnTo>
                    <a:pt x="2977" y="636"/>
                  </a:lnTo>
                  <a:lnTo>
                    <a:pt x="2999" y="614"/>
                  </a:lnTo>
                  <a:lnTo>
                    <a:pt x="2999" y="592"/>
                  </a:lnTo>
                  <a:lnTo>
                    <a:pt x="2999" y="0"/>
                  </a:lnTo>
                  <a:close/>
                </a:path>
              </a:pathLst>
            </a:custGeom>
            <a:solidFill>
              <a:srgbClr val="4d4d80"/>
            </a:solidFill>
            <a:ln w="140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777120" y="3940920"/>
              <a:ext cx="2356560" cy="862200"/>
            </a:xfrm>
            <a:custGeom>
              <a:avLst/>
              <a:gdLst/>
              <a:ahLst/>
              <a:rect l="l" t="t" r="r" b="b"/>
              <a:pathLst>
                <a:path w="2999" h="1097">
                  <a:moveTo>
                    <a:pt x="876" y="0"/>
                  </a:moveTo>
                  <a:lnTo>
                    <a:pt x="985" y="0"/>
                  </a:lnTo>
                  <a:lnTo>
                    <a:pt x="1051" y="0"/>
                  </a:lnTo>
                  <a:lnTo>
                    <a:pt x="1160" y="0"/>
                  </a:lnTo>
                  <a:lnTo>
                    <a:pt x="1248" y="0"/>
                  </a:lnTo>
                  <a:lnTo>
                    <a:pt x="1357" y="0"/>
                  </a:lnTo>
                  <a:lnTo>
                    <a:pt x="1445" y="22"/>
                  </a:lnTo>
                  <a:lnTo>
                    <a:pt x="1532" y="22"/>
                  </a:lnTo>
                  <a:lnTo>
                    <a:pt x="1642" y="22"/>
                  </a:lnTo>
                  <a:lnTo>
                    <a:pt x="1729" y="44"/>
                  </a:lnTo>
                  <a:lnTo>
                    <a:pt x="1795" y="44"/>
                  </a:lnTo>
                  <a:lnTo>
                    <a:pt x="1904" y="66"/>
                  </a:lnTo>
                  <a:lnTo>
                    <a:pt x="1970" y="66"/>
                  </a:lnTo>
                  <a:lnTo>
                    <a:pt x="2058" y="88"/>
                  </a:lnTo>
                  <a:lnTo>
                    <a:pt x="2145" y="110"/>
                  </a:lnTo>
                  <a:lnTo>
                    <a:pt x="2211" y="110"/>
                  </a:lnTo>
                  <a:lnTo>
                    <a:pt x="2298" y="132"/>
                  </a:lnTo>
                  <a:lnTo>
                    <a:pt x="2342" y="154"/>
                  </a:lnTo>
                  <a:lnTo>
                    <a:pt x="2430" y="176"/>
                  </a:lnTo>
                  <a:lnTo>
                    <a:pt x="2495" y="198"/>
                  </a:lnTo>
                  <a:lnTo>
                    <a:pt x="2539" y="198"/>
                  </a:lnTo>
                  <a:lnTo>
                    <a:pt x="2605" y="220"/>
                  </a:lnTo>
                  <a:lnTo>
                    <a:pt x="2670" y="263"/>
                  </a:lnTo>
                  <a:lnTo>
                    <a:pt x="2714" y="263"/>
                  </a:lnTo>
                  <a:lnTo>
                    <a:pt x="2758" y="285"/>
                  </a:lnTo>
                  <a:lnTo>
                    <a:pt x="2802" y="307"/>
                  </a:lnTo>
                  <a:lnTo>
                    <a:pt x="2846" y="329"/>
                  </a:lnTo>
                  <a:lnTo>
                    <a:pt x="2867" y="373"/>
                  </a:lnTo>
                  <a:lnTo>
                    <a:pt x="2911" y="373"/>
                  </a:lnTo>
                  <a:lnTo>
                    <a:pt x="2933" y="417"/>
                  </a:lnTo>
                  <a:lnTo>
                    <a:pt x="2955" y="439"/>
                  </a:lnTo>
                  <a:lnTo>
                    <a:pt x="2977" y="461"/>
                  </a:lnTo>
                  <a:lnTo>
                    <a:pt x="2977" y="483"/>
                  </a:lnTo>
                  <a:lnTo>
                    <a:pt x="2999" y="505"/>
                  </a:lnTo>
                  <a:lnTo>
                    <a:pt x="2999" y="527"/>
                  </a:lnTo>
                  <a:lnTo>
                    <a:pt x="2999" y="570"/>
                  </a:lnTo>
                  <a:lnTo>
                    <a:pt x="2999" y="570"/>
                  </a:lnTo>
                  <a:lnTo>
                    <a:pt x="2977" y="614"/>
                  </a:lnTo>
                  <a:lnTo>
                    <a:pt x="2977" y="636"/>
                  </a:lnTo>
                  <a:lnTo>
                    <a:pt x="2955" y="658"/>
                  </a:lnTo>
                  <a:lnTo>
                    <a:pt x="2911" y="680"/>
                  </a:lnTo>
                  <a:lnTo>
                    <a:pt x="2911" y="702"/>
                  </a:lnTo>
                  <a:lnTo>
                    <a:pt x="2867" y="724"/>
                  </a:lnTo>
                  <a:lnTo>
                    <a:pt x="2846" y="746"/>
                  </a:lnTo>
                  <a:lnTo>
                    <a:pt x="2802" y="768"/>
                  </a:lnTo>
                  <a:lnTo>
                    <a:pt x="2736" y="790"/>
                  </a:lnTo>
                  <a:lnTo>
                    <a:pt x="2714" y="812"/>
                  </a:lnTo>
                  <a:lnTo>
                    <a:pt x="2649" y="834"/>
                  </a:lnTo>
                  <a:lnTo>
                    <a:pt x="2583" y="856"/>
                  </a:lnTo>
                  <a:lnTo>
                    <a:pt x="2539" y="877"/>
                  </a:lnTo>
                  <a:lnTo>
                    <a:pt x="2473" y="899"/>
                  </a:lnTo>
                  <a:lnTo>
                    <a:pt x="2430" y="921"/>
                  </a:lnTo>
                  <a:lnTo>
                    <a:pt x="2342" y="943"/>
                  </a:lnTo>
                  <a:lnTo>
                    <a:pt x="2255" y="965"/>
                  </a:lnTo>
                  <a:lnTo>
                    <a:pt x="2211" y="965"/>
                  </a:lnTo>
                  <a:lnTo>
                    <a:pt x="2123" y="987"/>
                  </a:lnTo>
                  <a:lnTo>
                    <a:pt x="2058" y="987"/>
                  </a:lnTo>
                  <a:lnTo>
                    <a:pt x="1970" y="1009"/>
                  </a:lnTo>
                  <a:lnTo>
                    <a:pt x="1861" y="1031"/>
                  </a:lnTo>
                  <a:lnTo>
                    <a:pt x="1795" y="1031"/>
                  </a:lnTo>
                  <a:lnTo>
                    <a:pt x="1707" y="1053"/>
                  </a:lnTo>
                  <a:lnTo>
                    <a:pt x="1598" y="1053"/>
                  </a:lnTo>
                  <a:lnTo>
                    <a:pt x="1532" y="1075"/>
                  </a:lnTo>
                  <a:lnTo>
                    <a:pt x="1423" y="1075"/>
                  </a:lnTo>
                  <a:lnTo>
                    <a:pt x="1357" y="1075"/>
                  </a:lnTo>
                  <a:lnTo>
                    <a:pt x="1248" y="1075"/>
                  </a:lnTo>
                  <a:lnTo>
                    <a:pt x="1138" y="1097"/>
                  </a:lnTo>
                  <a:lnTo>
                    <a:pt x="1051" y="1097"/>
                  </a:lnTo>
                  <a:lnTo>
                    <a:pt x="941" y="1097"/>
                  </a:lnTo>
                  <a:lnTo>
                    <a:pt x="876" y="1097"/>
                  </a:lnTo>
                  <a:lnTo>
                    <a:pt x="766" y="1097"/>
                  </a:lnTo>
                  <a:lnTo>
                    <a:pt x="657" y="1097"/>
                  </a:lnTo>
                  <a:lnTo>
                    <a:pt x="569" y="1097"/>
                  </a:lnTo>
                  <a:lnTo>
                    <a:pt x="460" y="1075"/>
                  </a:lnTo>
                  <a:lnTo>
                    <a:pt x="350" y="1075"/>
                  </a:lnTo>
                  <a:lnTo>
                    <a:pt x="285" y="1075"/>
                  </a:lnTo>
                  <a:lnTo>
                    <a:pt x="175" y="1053"/>
                  </a:lnTo>
                  <a:lnTo>
                    <a:pt x="109" y="1053"/>
                  </a:lnTo>
                  <a:lnTo>
                    <a:pt x="0" y="1053"/>
                  </a:lnTo>
                  <a:lnTo>
                    <a:pt x="876" y="549"/>
                  </a:lnTo>
                  <a:lnTo>
                    <a:pt x="876" y="0"/>
                  </a:lnTo>
                  <a:close/>
                </a:path>
              </a:pathLst>
            </a:custGeom>
            <a:solidFill>
              <a:srgbClr val="9999ff"/>
            </a:solidFill>
            <a:ln w="140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83720" y="4821120"/>
              <a:ext cx="45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63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00360" y="4077720"/>
              <a:ext cx="45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37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980720" y="5996160"/>
              <a:ext cx="5281560" cy="590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177280" y="6302520"/>
              <a:ext cx="154440" cy="154800"/>
            </a:xfrm>
            <a:prstGeom prst="rect">
              <a:avLst/>
            </a:prstGeom>
            <a:solidFill>
              <a:srgbClr val="9999ff"/>
            </a:solidFill>
            <a:ln w="140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403720" y="6137640"/>
              <a:ext cx="2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Да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985840" y="6302520"/>
              <a:ext cx="154800" cy="154800"/>
            </a:xfrm>
            <a:prstGeom prst="rect">
              <a:avLst/>
            </a:prstGeom>
            <a:solidFill>
              <a:srgbClr val="993366"/>
            </a:solidFill>
            <a:ln w="140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253320" y="6137640"/>
              <a:ext cx="309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961080" y="6279120"/>
              <a:ext cx="154440" cy="154800"/>
            </a:xfrm>
            <a:prstGeom prst="rect">
              <a:avLst/>
            </a:prstGeom>
            <a:solidFill>
              <a:srgbClr val="ffffcc"/>
            </a:solidFill>
            <a:ln w="140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076400" y="1838880"/>
              <a:ext cx="6777720" cy="4825440"/>
            </a:xfrm>
            <a:prstGeom prst="rect">
              <a:avLst/>
            </a:prstGeom>
            <a:noFill/>
            <a:ln w="140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243680" y="6137640"/>
              <a:ext cx="2687400" cy="35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Не слышал о таких служба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0" y="380160"/>
            <a:ext cx="89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Знаете ли Вы куда обратиться в случае кризисной ситуаци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Анализ результат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380880" y="1447920"/>
            <a:ext cx="8382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У школьников отрицательное отношение к суицид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У половины подростков возникает желание покончить жизнь самоубийство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У значительной части школьников есть знакомые, которые думали (или совершили) суицид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Основными причинами являются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.Проблемы в личной жизн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.Взаимотношения в семь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3.Трудности в школе и взаимоотношения со сверстникам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Большая часть подростков не знает куда можно обратиться за помощью в сложных ситуация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1066680" y="685800"/>
            <a:ext cx="7162920" cy="24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асибо за внимани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2590920" y="3429000"/>
            <a:ext cx="403848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33520" y="228600"/>
            <a:ext cx="4267080" cy="3352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828800" y="3809880"/>
            <a:ext cx="6095880" cy="2828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105520" y="228600"/>
            <a:ext cx="3657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Особенности подростков в подростковом возраст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4920" y="1904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ичная нестаби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«Чувство взрослост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звитие самосо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ритичность мыш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требности в самоутверждении.   Направленность лич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гуманистиче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эгоистиче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депрессив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суицида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410080" y="4352760"/>
            <a:ext cx="373392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440" y="1676520"/>
            <a:ext cx="7924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учить и проанализировать проблему суицида и возможности профилактики суицидального поведения подрост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828800" y="3581280"/>
            <a:ext cx="5327640" cy="26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3352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учить теоретический материал, связанный с выбранной те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делить факторы, способствующие суицидальному поведе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следовать специфические особенности суицидального поведения детей и подрост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формулировать профилактические меры антисуицидального характер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ольшинство подростков, совершающих суицид не хотят умирать. Так они пытаются решить проблемы, которые причиняют им физическую и эмоциональную бо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80880" y="2514600"/>
            <a:ext cx="3429000" cy="4114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648320" y="2514600"/>
            <a:ext cx="424944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764640" y="1443600"/>
            <a:ext cx="7284960" cy="5054760"/>
            <a:chOff x="764640" y="1443600"/>
            <a:chExt cx="7284960" cy="5054760"/>
          </a:xfrm>
        </p:grpSpPr>
        <p:grpSp>
          <p:nvGrpSpPr>
            <p:cNvPr id="59" name=""/>
            <p:cNvGrpSpPr/>
            <p:nvPr/>
          </p:nvGrpSpPr>
          <p:grpSpPr>
            <a:xfrm>
              <a:off x="2126520" y="2543400"/>
              <a:ext cx="4351680" cy="2253600"/>
              <a:chOff x="2126520" y="2543400"/>
              <a:chExt cx="4351680" cy="2253600"/>
            </a:xfrm>
          </p:grpSpPr>
          <p:sp>
            <p:nvSpPr>
              <p:cNvPr id="60" name=""/>
              <p:cNvSpPr/>
              <p:nvPr/>
            </p:nvSpPr>
            <p:spPr>
              <a:xfrm>
                <a:off x="5193000" y="4583520"/>
                <a:ext cx="357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87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" name=""/>
              <p:cNvGrpSpPr/>
              <p:nvPr/>
            </p:nvGrpSpPr>
            <p:grpSpPr>
              <a:xfrm>
                <a:off x="2126520" y="2543400"/>
                <a:ext cx="4351680" cy="2011320"/>
                <a:chOff x="2126520" y="2543400"/>
                <a:chExt cx="4351680" cy="201132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3727080" y="2982600"/>
                  <a:ext cx="591480" cy="520560"/>
                </a:xfrm>
                <a:custGeom>
                  <a:avLst/>
                  <a:gdLst/>
                  <a:ahLst/>
                  <a:rect l="l" t="t" r="r" b="b"/>
                  <a:pathLst>
                    <a:path w="514" h="640">
                      <a:moveTo>
                        <a:pt x="0" y="18"/>
                      </a:moveTo>
                      <a:lnTo>
                        <a:pt x="88" y="0"/>
                      </a:lnTo>
                      <a:lnTo>
                        <a:pt x="177" y="0"/>
                      </a:lnTo>
                      <a:lnTo>
                        <a:pt x="248" y="0"/>
                      </a:lnTo>
                      <a:lnTo>
                        <a:pt x="336" y="0"/>
                      </a:lnTo>
                      <a:lnTo>
                        <a:pt x="425" y="0"/>
                      </a:lnTo>
                      <a:lnTo>
                        <a:pt x="514" y="0"/>
                      </a:lnTo>
                      <a:lnTo>
                        <a:pt x="514" y="640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115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2606400" y="2982600"/>
                  <a:ext cx="1760760" cy="585720"/>
                </a:xfrm>
                <a:custGeom>
                  <a:avLst/>
                  <a:gdLst/>
                  <a:ahLst/>
                  <a:rect l="l" t="t" r="r" b="b"/>
                  <a:pathLst>
                    <a:path w="1826" h="622">
                      <a:moveTo>
                        <a:pt x="0" y="195"/>
                      </a:moveTo>
                      <a:lnTo>
                        <a:pt x="53" y="178"/>
                      </a:lnTo>
                      <a:lnTo>
                        <a:pt x="124" y="160"/>
                      </a:lnTo>
                      <a:lnTo>
                        <a:pt x="177" y="142"/>
                      </a:lnTo>
                      <a:lnTo>
                        <a:pt x="248" y="124"/>
                      </a:lnTo>
                      <a:lnTo>
                        <a:pt x="319" y="107"/>
                      </a:lnTo>
                      <a:lnTo>
                        <a:pt x="390" y="107"/>
                      </a:lnTo>
                      <a:lnTo>
                        <a:pt x="461" y="89"/>
                      </a:lnTo>
                      <a:lnTo>
                        <a:pt x="532" y="71"/>
                      </a:lnTo>
                      <a:lnTo>
                        <a:pt x="602" y="71"/>
                      </a:lnTo>
                      <a:lnTo>
                        <a:pt x="673" y="53"/>
                      </a:lnTo>
                      <a:lnTo>
                        <a:pt x="744" y="35"/>
                      </a:lnTo>
                      <a:lnTo>
                        <a:pt x="833" y="35"/>
                      </a:lnTo>
                      <a:lnTo>
                        <a:pt x="904" y="18"/>
                      </a:lnTo>
                      <a:lnTo>
                        <a:pt x="992" y="18"/>
                      </a:lnTo>
                      <a:lnTo>
                        <a:pt x="1063" y="18"/>
                      </a:lnTo>
                      <a:lnTo>
                        <a:pt x="1152" y="0"/>
                      </a:lnTo>
                      <a:lnTo>
                        <a:pt x="1223" y="0"/>
                      </a:lnTo>
                      <a:lnTo>
                        <a:pt x="1312" y="0"/>
                      </a:lnTo>
                      <a:lnTo>
                        <a:pt x="1826" y="622"/>
                      </a:lnTo>
                      <a:lnTo>
                        <a:pt x="0" y="195"/>
                      </a:lnTo>
                      <a:close/>
                    </a:path>
                  </a:pathLst>
                </a:custGeom>
                <a:solidFill>
                  <a:srgbClr val="993366"/>
                </a:solidFill>
                <a:ln w="115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2126520" y="3469320"/>
                  <a:ext cx="4322160" cy="1085400"/>
                </a:xfrm>
                <a:custGeom>
                  <a:avLst/>
                  <a:gdLst/>
                  <a:ahLst/>
                  <a:rect l="l" t="t" r="r" b="b"/>
                  <a:pathLst>
                    <a:path w="4893" h="1334">
                      <a:moveTo>
                        <a:pt x="4893" y="0"/>
                      </a:moveTo>
                      <a:lnTo>
                        <a:pt x="4893" y="18"/>
                      </a:lnTo>
                      <a:lnTo>
                        <a:pt x="4875" y="36"/>
                      </a:lnTo>
                      <a:lnTo>
                        <a:pt x="4875" y="71"/>
                      </a:lnTo>
                      <a:lnTo>
                        <a:pt x="4858" y="89"/>
                      </a:lnTo>
                      <a:lnTo>
                        <a:pt x="4858" y="107"/>
                      </a:lnTo>
                      <a:lnTo>
                        <a:pt x="4840" y="125"/>
                      </a:lnTo>
                      <a:lnTo>
                        <a:pt x="4822" y="142"/>
                      </a:lnTo>
                      <a:lnTo>
                        <a:pt x="4787" y="178"/>
                      </a:lnTo>
                      <a:lnTo>
                        <a:pt x="4769" y="196"/>
                      </a:lnTo>
                      <a:lnTo>
                        <a:pt x="4733" y="214"/>
                      </a:lnTo>
                      <a:lnTo>
                        <a:pt x="4716" y="231"/>
                      </a:lnTo>
                      <a:lnTo>
                        <a:pt x="4680" y="249"/>
                      </a:lnTo>
                      <a:lnTo>
                        <a:pt x="4645" y="285"/>
                      </a:lnTo>
                      <a:lnTo>
                        <a:pt x="4609" y="303"/>
                      </a:lnTo>
                      <a:lnTo>
                        <a:pt x="4556" y="320"/>
                      </a:lnTo>
                      <a:lnTo>
                        <a:pt x="4521" y="338"/>
                      </a:lnTo>
                      <a:lnTo>
                        <a:pt x="4468" y="356"/>
                      </a:lnTo>
                      <a:lnTo>
                        <a:pt x="4414" y="374"/>
                      </a:lnTo>
                      <a:lnTo>
                        <a:pt x="4361" y="391"/>
                      </a:lnTo>
                      <a:lnTo>
                        <a:pt x="4308" y="409"/>
                      </a:lnTo>
                      <a:lnTo>
                        <a:pt x="4255" y="427"/>
                      </a:lnTo>
                      <a:lnTo>
                        <a:pt x="4202" y="445"/>
                      </a:lnTo>
                      <a:lnTo>
                        <a:pt x="4148" y="463"/>
                      </a:lnTo>
                      <a:lnTo>
                        <a:pt x="4078" y="480"/>
                      </a:lnTo>
                      <a:lnTo>
                        <a:pt x="4007" y="480"/>
                      </a:lnTo>
                      <a:lnTo>
                        <a:pt x="3953" y="498"/>
                      </a:lnTo>
                      <a:lnTo>
                        <a:pt x="3883" y="516"/>
                      </a:lnTo>
                      <a:lnTo>
                        <a:pt x="3812" y="534"/>
                      </a:lnTo>
                      <a:lnTo>
                        <a:pt x="3741" y="534"/>
                      </a:lnTo>
                      <a:lnTo>
                        <a:pt x="3670" y="551"/>
                      </a:lnTo>
                      <a:lnTo>
                        <a:pt x="3599" y="569"/>
                      </a:lnTo>
                      <a:lnTo>
                        <a:pt x="3510" y="569"/>
                      </a:lnTo>
                      <a:lnTo>
                        <a:pt x="3439" y="587"/>
                      </a:lnTo>
                      <a:lnTo>
                        <a:pt x="3351" y="587"/>
                      </a:lnTo>
                      <a:lnTo>
                        <a:pt x="3280" y="605"/>
                      </a:lnTo>
                      <a:lnTo>
                        <a:pt x="3191" y="605"/>
                      </a:lnTo>
                      <a:lnTo>
                        <a:pt x="3120" y="605"/>
                      </a:lnTo>
                      <a:lnTo>
                        <a:pt x="3032" y="623"/>
                      </a:lnTo>
                      <a:lnTo>
                        <a:pt x="2943" y="623"/>
                      </a:lnTo>
                      <a:lnTo>
                        <a:pt x="2872" y="623"/>
                      </a:lnTo>
                      <a:lnTo>
                        <a:pt x="2783" y="623"/>
                      </a:lnTo>
                      <a:lnTo>
                        <a:pt x="2695" y="640"/>
                      </a:lnTo>
                      <a:lnTo>
                        <a:pt x="2606" y="640"/>
                      </a:lnTo>
                      <a:lnTo>
                        <a:pt x="2535" y="640"/>
                      </a:lnTo>
                      <a:lnTo>
                        <a:pt x="2447" y="640"/>
                      </a:lnTo>
                      <a:lnTo>
                        <a:pt x="2358" y="640"/>
                      </a:lnTo>
                      <a:lnTo>
                        <a:pt x="2269" y="640"/>
                      </a:lnTo>
                      <a:lnTo>
                        <a:pt x="2181" y="640"/>
                      </a:lnTo>
                      <a:lnTo>
                        <a:pt x="2110" y="623"/>
                      </a:lnTo>
                      <a:lnTo>
                        <a:pt x="2021" y="623"/>
                      </a:lnTo>
                      <a:lnTo>
                        <a:pt x="1933" y="623"/>
                      </a:lnTo>
                      <a:lnTo>
                        <a:pt x="1844" y="623"/>
                      </a:lnTo>
                      <a:lnTo>
                        <a:pt x="1773" y="605"/>
                      </a:lnTo>
                      <a:lnTo>
                        <a:pt x="1684" y="605"/>
                      </a:lnTo>
                      <a:lnTo>
                        <a:pt x="1613" y="605"/>
                      </a:lnTo>
                      <a:lnTo>
                        <a:pt x="1525" y="587"/>
                      </a:lnTo>
                      <a:lnTo>
                        <a:pt x="1454" y="587"/>
                      </a:lnTo>
                      <a:lnTo>
                        <a:pt x="1365" y="569"/>
                      </a:lnTo>
                      <a:lnTo>
                        <a:pt x="1294" y="569"/>
                      </a:lnTo>
                      <a:lnTo>
                        <a:pt x="1223" y="551"/>
                      </a:lnTo>
                      <a:lnTo>
                        <a:pt x="1153" y="534"/>
                      </a:lnTo>
                      <a:lnTo>
                        <a:pt x="1082" y="534"/>
                      </a:lnTo>
                      <a:lnTo>
                        <a:pt x="1011" y="516"/>
                      </a:lnTo>
                      <a:lnTo>
                        <a:pt x="940" y="498"/>
                      </a:lnTo>
                      <a:lnTo>
                        <a:pt x="869" y="480"/>
                      </a:lnTo>
                      <a:lnTo>
                        <a:pt x="798" y="480"/>
                      </a:lnTo>
                      <a:lnTo>
                        <a:pt x="745" y="463"/>
                      </a:lnTo>
                      <a:lnTo>
                        <a:pt x="674" y="445"/>
                      </a:lnTo>
                      <a:lnTo>
                        <a:pt x="621" y="427"/>
                      </a:lnTo>
                      <a:lnTo>
                        <a:pt x="568" y="409"/>
                      </a:lnTo>
                      <a:lnTo>
                        <a:pt x="514" y="391"/>
                      </a:lnTo>
                      <a:lnTo>
                        <a:pt x="461" y="374"/>
                      </a:lnTo>
                      <a:lnTo>
                        <a:pt x="408" y="356"/>
                      </a:lnTo>
                      <a:lnTo>
                        <a:pt x="373" y="338"/>
                      </a:lnTo>
                      <a:lnTo>
                        <a:pt x="319" y="320"/>
                      </a:lnTo>
                      <a:lnTo>
                        <a:pt x="284" y="303"/>
                      </a:lnTo>
                      <a:lnTo>
                        <a:pt x="248" y="285"/>
                      </a:lnTo>
                      <a:lnTo>
                        <a:pt x="213" y="249"/>
                      </a:lnTo>
                      <a:lnTo>
                        <a:pt x="178" y="231"/>
                      </a:lnTo>
                      <a:lnTo>
                        <a:pt x="142" y="214"/>
                      </a:lnTo>
                      <a:lnTo>
                        <a:pt x="124" y="196"/>
                      </a:lnTo>
                      <a:lnTo>
                        <a:pt x="89" y="178"/>
                      </a:lnTo>
                      <a:lnTo>
                        <a:pt x="71" y="142"/>
                      </a:lnTo>
                      <a:lnTo>
                        <a:pt x="53" y="125"/>
                      </a:lnTo>
                      <a:lnTo>
                        <a:pt x="36" y="107"/>
                      </a:lnTo>
                      <a:lnTo>
                        <a:pt x="18" y="89"/>
                      </a:lnTo>
                      <a:lnTo>
                        <a:pt x="18" y="71"/>
                      </a:lnTo>
                      <a:lnTo>
                        <a:pt x="0" y="36"/>
                      </a:lnTo>
                      <a:lnTo>
                        <a:pt x="0" y="18"/>
                      </a:lnTo>
                      <a:lnTo>
                        <a:pt x="0" y="0"/>
                      </a:lnTo>
                      <a:lnTo>
                        <a:pt x="0" y="694"/>
                      </a:lnTo>
                      <a:lnTo>
                        <a:pt x="0" y="711"/>
                      </a:lnTo>
                      <a:lnTo>
                        <a:pt x="0" y="729"/>
                      </a:lnTo>
                      <a:lnTo>
                        <a:pt x="18" y="765"/>
                      </a:lnTo>
                      <a:lnTo>
                        <a:pt x="18" y="783"/>
                      </a:lnTo>
                      <a:lnTo>
                        <a:pt x="36" y="800"/>
                      </a:lnTo>
                      <a:lnTo>
                        <a:pt x="53" y="818"/>
                      </a:lnTo>
                      <a:lnTo>
                        <a:pt x="71" y="836"/>
                      </a:lnTo>
                      <a:lnTo>
                        <a:pt x="89" y="871"/>
                      </a:lnTo>
                      <a:lnTo>
                        <a:pt x="124" y="889"/>
                      </a:lnTo>
                      <a:lnTo>
                        <a:pt x="142" y="907"/>
                      </a:lnTo>
                      <a:lnTo>
                        <a:pt x="178" y="925"/>
                      </a:lnTo>
                      <a:lnTo>
                        <a:pt x="213" y="943"/>
                      </a:lnTo>
                      <a:lnTo>
                        <a:pt x="248" y="978"/>
                      </a:lnTo>
                      <a:lnTo>
                        <a:pt x="284" y="996"/>
                      </a:lnTo>
                      <a:lnTo>
                        <a:pt x="319" y="1014"/>
                      </a:lnTo>
                      <a:lnTo>
                        <a:pt x="373" y="1032"/>
                      </a:lnTo>
                      <a:lnTo>
                        <a:pt x="408" y="1049"/>
                      </a:lnTo>
                      <a:lnTo>
                        <a:pt x="461" y="1067"/>
                      </a:lnTo>
                      <a:lnTo>
                        <a:pt x="514" y="1085"/>
                      </a:lnTo>
                      <a:lnTo>
                        <a:pt x="568" y="1103"/>
                      </a:lnTo>
                      <a:lnTo>
                        <a:pt x="621" y="1120"/>
                      </a:lnTo>
                      <a:lnTo>
                        <a:pt x="674" y="1138"/>
                      </a:lnTo>
                      <a:lnTo>
                        <a:pt x="745" y="1156"/>
                      </a:lnTo>
                      <a:lnTo>
                        <a:pt x="798" y="1174"/>
                      </a:lnTo>
                      <a:lnTo>
                        <a:pt x="869" y="1174"/>
                      </a:lnTo>
                      <a:lnTo>
                        <a:pt x="940" y="1192"/>
                      </a:lnTo>
                      <a:lnTo>
                        <a:pt x="1011" y="1209"/>
                      </a:lnTo>
                      <a:lnTo>
                        <a:pt x="1082" y="1227"/>
                      </a:lnTo>
                      <a:lnTo>
                        <a:pt x="1153" y="1227"/>
                      </a:lnTo>
                      <a:lnTo>
                        <a:pt x="1223" y="1245"/>
                      </a:lnTo>
                      <a:lnTo>
                        <a:pt x="1294" y="1263"/>
                      </a:lnTo>
                      <a:lnTo>
                        <a:pt x="1365" y="1263"/>
                      </a:lnTo>
                      <a:lnTo>
                        <a:pt x="1454" y="1280"/>
                      </a:lnTo>
                      <a:lnTo>
                        <a:pt x="1525" y="1280"/>
                      </a:lnTo>
                      <a:lnTo>
                        <a:pt x="1613" y="1298"/>
                      </a:lnTo>
                      <a:lnTo>
                        <a:pt x="1684" y="1298"/>
                      </a:lnTo>
                      <a:lnTo>
                        <a:pt x="1773" y="1298"/>
                      </a:lnTo>
                      <a:lnTo>
                        <a:pt x="1844" y="1316"/>
                      </a:lnTo>
                      <a:lnTo>
                        <a:pt x="1933" y="1316"/>
                      </a:lnTo>
                      <a:lnTo>
                        <a:pt x="2021" y="1316"/>
                      </a:lnTo>
                      <a:lnTo>
                        <a:pt x="2110" y="1316"/>
                      </a:lnTo>
                      <a:lnTo>
                        <a:pt x="2181" y="1334"/>
                      </a:lnTo>
                      <a:lnTo>
                        <a:pt x="2269" y="1334"/>
                      </a:lnTo>
                      <a:lnTo>
                        <a:pt x="2358" y="1334"/>
                      </a:lnTo>
                      <a:lnTo>
                        <a:pt x="2447" y="1334"/>
                      </a:lnTo>
                      <a:lnTo>
                        <a:pt x="2535" y="1334"/>
                      </a:lnTo>
                      <a:lnTo>
                        <a:pt x="2606" y="1334"/>
                      </a:lnTo>
                      <a:lnTo>
                        <a:pt x="2695" y="1334"/>
                      </a:lnTo>
                      <a:lnTo>
                        <a:pt x="2783" y="1316"/>
                      </a:lnTo>
                      <a:lnTo>
                        <a:pt x="2872" y="1316"/>
                      </a:lnTo>
                      <a:lnTo>
                        <a:pt x="2943" y="1316"/>
                      </a:lnTo>
                      <a:lnTo>
                        <a:pt x="3032" y="1316"/>
                      </a:lnTo>
                      <a:lnTo>
                        <a:pt x="3120" y="1298"/>
                      </a:lnTo>
                      <a:lnTo>
                        <a:pt x="3191" y="1298"/>
                      </a:lnTo>
                      <a:lnTo>
                        <a:pt x="3280" y="1298"/>
                      </a:lnTo>
                      <a:lnTo>
                        <a:pt x="3351" y="1280"/>
                      </a:lnTo>
                      <a:lnTo>
                        <a:pt x="3439" y="1280"/>
                      </a:lnTo>
                      <a:lnTo>
                        <a:pt x="3510" y="1263"/>
                      </a:lnTo>
                      <a:lnTo>
                        <a:pt x="3599" y="1263"/>
                      </a:lnTo>
                      <a:lnTo>
                        <a:pt x="3670" y="1245"/>
                      </a:lnTo>
                      <a:lnTo>
                        <a:pt x="3741" y="1227"/>
                      </a:lnTo>
                      <a:lnTo>
                        <a:pt x="3812" y="1227"/>
                      </a:lnTo>
                      <a:lnTo>
                        <a:pt x="3883" y="1209"/>
                      </a:lnTo>
                      <a:lnTo>
                        <a:pt x="3953" y="1192"/>
                      </a:lnTo>
                      <a:lnTo>
                        <a:pt x="4007" y="1174"/>
                      </a:lnTo>
                      <a:lnTo>
                        <a:pt x="4078" y="1174"/>
                      </a:lnTo>
                      <a:lnTo>
                        <a:pt x="4148" y="1156"/>
                      </a:lnTo>
                      <a:lnTo>
                        <a:pt x="4202" y="1138"/>
                      </a:lnTo>
                      <a:lnTo>
                        <a:pt x="4255" y="1120"/>
                      </a:lnTo>
                      <a:lnTo>
                        <a:pt x="4308" y="1103"/>
                      </a:lnTo>
                      <a:lnTo>
                        <a:pt x="4361" y="1085"/>
                      </a:lnTo>
                      <a:lnTo>
                        <a:pt x="4414" y="1067"/>
                      </a:lnTo>
                      <a:lnTo>
                        <a:pt x="4468" y="1049"/>
                      </a:lnTo>
                      <a:lnTo>
                        <a:pt x="4521" y="1032"/>
                      </a:lnTo>
                      <a:lnTo>
                        <a:pt x="4556" y="1014"/>
                      </a:lnTo>
                      <a:lnTo>
                        <a:pt x="4609" y="996"/>
                      </a:lnTo>
                      <a:lnTo>
                        <a:pt x="4645" y="978"/>
                      </a:lnTo>
                      <a:lnTo>
                        <a:pt x="4680" y="943"/>
                      </a:lnTo>
                      <a:lnTo>
                        <a:pt x="4716" y="925"/>
                      </a:lnTo>
                      <a:lnTo>
                        <a:pt x="4733" y="907"/>
                      </a:lnTo>
                      <a:lnTo>
                        <a:pt x="4769" y="889"/>
                      </a:lnTo>
                      <a:lnTo>
                        <a:pt x="4787" y="871"/>
                      </a:lnTo>
                      <a:lnTo>
                        <a:pt x="4822" y="836"/>
                      </a:lnTo>
                      <a:lnTo>
                        <a:pt x="4840" y="818"/>
                      </a:lnTo>
                      <a:lnTo>
                        <a:pt x="4858" y="800"/>
                      </a:lnTo>
                      <a:lnTo>
                        <a:pt x="4858" y="783"/>
                      </a:lnTo>
                      <a:lnTo>
                        <a:pt x="4875" y="765"/>
                      </a:lnTo>
                      <a:lnTo>
                        <a:pt x="4875" y="729"/>
                      </a:lnTo>
                      <a:lnTo>
                        <a:pt x="4893" y="711"/>
                      </a:lnTo>
                      <a:lnTo>
                        <a:pt x="4893" y="694"/>
                      </a:lnTo>
                      <a:lnTo>
                        <a:pt x="4893" y="0"/>
                      </a:lnTo>
                      <a:close/>
                    </a:path>
                  </a:pathLst>
                </a:custGeom>
                <a:solidFill>
                  <a:srgbClr val="4d4d80"/>
                </a:solidFill>
                <a:ln w="115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2126520" y="2982600"/>
                  <a:ext cx="4351680" cy="1041480"/>
                </a:xfrm>
                <a:custGeom>
                  <a:avLst/>
                  <a:gdLst/>
                  <a:ahLst/>
                  <a:rect l="l" t="t" r="r" b="b"/>
                  <a:pathLst>
                    <a:path w="4893" h="1280">
                      <a:moveTo>
                        <a:pt x="2447" y="0"/>
                      </a:moveTo>
                      <a:lnTo>
                        <a:pt x="2535" y="0"/>
                      </a:lnTo>
                      <a:lnTo>
                        <a:pt x="2606" y="0"/>
                      </a:lnTo>
                      <a:lnTo>
                        <a:pt x="2695" y="0"/>
                      </a:lnTo>
                      <a:lnTo>
                        <a:pt x="2783" y="0"/>
                      </a:lnTo>
                      <a:lnTo>
                        <a:pt x="2872" y="0"/>
                      </a:lnTo>
                      <a:lnTo>
                        <a:pt x="2943" y="18"/>
                      </a:lnTo>
                      <a:lnTo>
                        <a:pt x="3032" y="18"/>
                      </a:lnTo>
                      <a:lnTo>
                        <a:pt x="3120" y="18"/>
                      </a:lnTo>
                      <a:lnTo>
                        <a:pt x="3191" y="36"/>
                      </a:lnTo>
                      <a:lnTo>
                        <a:pt x="3280" y="36"/>
                      </a:lnTo>
                      <a:lnTo>
                        <a:pt x="3351" y="36"/>
                      </a:lnTo>
                      <a:lnTo>
                        <a:pt x="3439" y="53"/>
                      </a:lnTo>
                      <a:lnTo>
                        <a:pt x="3510" y="53"/>
                      </a:lnTo>
                      <a:lnTo>
                        <a:pt x="3599" y="71"/>
                      </a:lnTo>
                      <a:lnTo>
                        <a:pt x="3670" y="89"/>
                      </a:lnTo>
                      <a:lnTo>
                        <a:pt x="3741" y="89"/>
                      </a:lnTo>
                      <a:lnTo>
                        <a:pt x="3812" y="107"/>
                      </a:lnTo>
                      <a:lnTo>
                        <a:pt x="3883" y="125"/>
                      </a:lnTo>
                      <a:lnTo>
                        <a:pt x="3953" y="125"/>
                      </a:lnTo>
                      <a:lnTo>
                        <a:pt x="4007" y="142"/>
                      </a:lnTo>
                      <a:lnTo>
                        <a:pt x="4078" y="160"/>
                      </a:lnTo>
                      <a:lnTo>
                        <a:pt x="4148" y="178"/>
                      </a:lnTo>
                      <a:lnTo>
                        <a:pt x="4202" y="196"/>
                      </a:lnTo>
                      <a:lnTo>
                        <a:pt x="4255" y="213"/>
                      </a:lnTo>
                      <a:lnTo>
                        <a:pt x="4308" y="231"/>
                      </a:lnTo>
                      <a:lnTo>
                        <a:pt x="4361" y="249"/>
                      </a:lnTo>
                      <a:lnTo>
                        <a:pt x="4414" y="267"/>
                      </a:lnTo>
                      <a:lnTo>
                        <a:pt x="4468" y="285"/>
                      </a:lnTo>
                      <a:lnTo>
                        <a:pt x="4521" y="302"/>
                      </a:lnTo>
                      <a:lnTo>
                        <a:pt x="4556" y="320"/>
                      </a:lnTo>
                      <a:lnTo>
                        <a:pt x="4609" y="338"/>
                      </a:lnTo>
                      <a:lnTo>
                        <a:pt x="4645" y="356"/>
                      </a:lnTo>
                      <a:lnTo>
                        <a:pt x="4680" y="374"/>
                      </a:lnTo>
                      <a:lnTo>
                        <a:pt x="4716" y="391"/>
                      </a:lnTo>
                      <a:lnTo>
                        <a:pt x="4733" y="409"/>
                      </a:lnTo>
                      <a:lnTo>
                        <a:pt x="4769" y="445"/>
                      </a:lnTo>
                      <a:lnTo>
                        <a:pt x="4787" y="462"/>
                      </a:lnTo>
                      <a:lnTo>
                        <a:pt x="4822" y="480"/>
                      </a:lnTo>
                      <a:lnTo>
                        <a:pt x="4840" y="498"/>
                      </a:lnTo>
                      <a:lnTo>
                        <a:pt x="4858" y="516"/>
                      </a:lnTo>
                      <a:lnTo>
                        <a:pt x="4858" y="551"/>
                      </a:lnTo>
                      <a:lnTo>
                        <a:pt x="4875" y="569"/>
                      </a:lnTo>
                      <a:lnTo>
                        <a:pt x="4875" y="587"/>
                      </a:lnTo>
                      <a:lnTo>
                        <a:pt x="4893" y="605"/>
                      </a:lnTo>
                      <a:lnTo>
                        <a:pt x="4893" y="640"/>
                      </a:lnTo>
                      <a:lnTo>
                        <a:pt x="4893" y="658"/>
                      </a:lnTo>
                      <a:lnTo>
                        <a:pt x="4875" y="676"/>
                      </a:lnTo>
                      <a:lnTo>
                        <a:pt x="4875" y="711"/>
                      </a:lnTo>
                      <a:lnTo>
                        <a:pt x="4858" y="729"/>
                      </a:lnTo>
                      <a:lnTo>
                        <a:pt x="4858" y="747"/>
                      </a:lnTo>
                      <a:lnTo>
                        <a:pt x="4840" y="765"/>
                      </a:lnTo>
                      <a:lnTo>
                        <a:pt x="4822" y="782"/>
                      </a:lnTo>
                      <a:lnTo>
                        <a:pt x="4787" y="818"/>
                      </a:lnTo>
                      <a:lnTo>
                        <a:pt x="4769" y="836"/>
                      </a:lnTo>
                      <a:lnTo>
                        <a:pt x="4733" y="854"/>
                      </a:lnTo>
                      <a:lnTo>
                        <a:pt x="4716" y="871"/>
                      </a:lnTo>
                      <a:lnTo>
                        <a:pt x="4680" y="889"/>
                      </a:lnTo>
                      <a:lnTo>
                        <a:pt x="4645" y="925"/>
                      </a:lnTo>
                      <a:lnTo>
                        <a:pt x="4609" y="943"/>
                      </a:lnTo>
                      <a:lnTo>
                        <a:pt x="4556" y="960"/>
                      </a:lnTo>
                      <a:lnTo>
                        <a:pt x="4521" y="978"/>
                      </a:lnTo>
                      <a:lnTo>
                        <a:pt x="4468" y="996"/>
                      </a:lnTo>
                      <a:lnTo>
                        <a:pt x="4414" y="1014"/>
                      </a:lnTo>
                      <a:lnTo>
                        <a:pt x="4361" y="1031"/>
                      </a:lnTo>
                      <a:lnTo>
                        <a:pt x="4308" y="1049"/>
                      </a:lnTo>
                      <a:lnTo>
                        <a:pt x="4255" y="1067"/>
                      </a:lnTo>
                      <a:lnTo>
                        <a:pt x="4202" y="1085"/>
                      </a:lnTo>
                      <a:lnTo>
                        <a:pt x="4148" y="1103"/>
                      </a:lnTo>
                      <a:lnTo>
                        <a:pt x="4078" y="1120"/>
                      </a:lnTo>
                      <a:lnTo>
                        <a:pt x="4007" y="1120"/>
                      </a:lnTo>
                      <a:lnTo>
                        <a:pt x="3953" y="1138"/>
                      </a:lnTo>
                      <a:lnTo>
                        <a:pt x="3883" y="1156"/>
                      </a:lnTo>
                      <a:lnTo>
                        <a:pt x="3812" y="1174"/>
                      </a:lnTo>
                      <a:lnTo>
                        <a:pt x="3741" y="1174"/>
                      </a:lnTo>
                      <a:lnTo>
                        <a:pt x="3670" y="1191"/>
                      </a:lnTo>
                      <a:lnTo>
                        <a:pt x="3599" y="1209"/>
                      </a:lnTo>
                      <a:lnTo>
                        <a:pt x="3510" y="1209"/>
                      </a:lnTo>
                      <a:lnTo>
                        <a:pt x="3439" y="1227"/>
                      </a:lnTo>
                      <a:lnTo>
                        <a:pt x="3351" y="1227"/>
                      </a:lnTo>
                      <a:lnTo>
                        <a:pt x="3280" y="1245"/>
                      </a:lnTo>
                      <a:lnTo>
                        <a:pt x="3191" y="1245"/>
                      </a:lnTo>
                      <a:lnTo>
                        <a:pt x="3120" y="1245"/>
                      </a:lnTo>
                      <a:lnTo>
                        <a:pt x="3032" y="1263"/>
                      </a:lnTo>
                      <a:lnTo>
                        <a:pt x="2943" y="1263"/>
                      </a:lnTo>
                      <a:lnTo>
                        <a:pt x="2872" y="1263"/>
                      </a:lnTo>
                      <a:lnTo>
                        <a:pt x="2783" y="1263"/>
                      </a:lnTo>
                      <a:lnTo>
                        <a:pt x="2695" y="1280"/>
                      </a:lnTo>
                      <a:lnTo>
                        <a:pt x="2606" y="1280"/>
                      </a:lnTo>
                      <a:lnTo>
                        <a:pt x="2535" y="1280"/>
                      </a:lnTo>
                      <a:lnTo>
                        <a:pt x="2447" y="1280"/>
                      </a:lnTo>
                      <a:lnTo>
                        <a:pt x="2358" y="1280"/>
                      </a:lnTo>
                      <a:lnTo>
                        <a:pt x="2269" y="1280"/>
                      </a:lnTo>
                      <a:lnTo>
                        <a:pt x="2181" y="1280"/>
                      </a:lnTo>
                      <a:lnTo>
                        <a:pt x="2110" y="1263"/>
                      </a:lnTo>
                      <a:lnTo>
                        <a:pt x="2021" y="1263"/>
                      </a:lnTo>
                      <a:lnTo>
                        <a:pt x="1933" y="1263"/>
                      </a:lnTo>
                      <a:lnTo>
                        <a:pt x="1844" y="1263"/>
                      </a:lnTo>
                      <a:lnTo>
                        <a:pt x="1773" y="1245"/>
                      </a:lnTo>
                      <a:lnTo>
                        <a:pt x="1684" y="1245"/>
                      </a:lnTo>
                      <a:lnTo>
                        <a:pt x="1613" y="1245"/>
                      </a:lnTo>
                      <a:lnTo>
                        <a:pt x="1525" y="1227"/>
                      </a:lnTo>
                      <a:lnTo>
                        <a:pt x="1454" y="1227"/>
                      </a:lnTo>
                      <a:lnTo>
                        <a:pt x="1365" y="1209"/>
                      </a:lnTo>
                      <a:lnTo>
                        <a:pt x="1294" y="1209"/>
                      </a:lnTo>
                      <a:lnTo>
                        <a:pt x="1223" y="1191"/>
                      </a:lnTo>
                      <a:lnTo>
                        <a:pt x="1153" y="1174"/>
                      </a:lnTo>
                      <a:lnTo>
                        <a:pt x="1082" y="1174"/>
                      </a:lnTo>
                      <a:lnTo>
                        <a:pt x="1011" y="1156"/>
                      </a:lnTo>
                      <a:lnTo>
                        <a:pt x="940" y="1138"/>
                      </a:lnTo>
                      <a:lnTo>
                        <a:pt x="869" y="1120"/>
                      </a:lnTo>
                      <a:lnTo>
                        <a:pt x="798" y="1120"/>
                      </a:lnTo>
                      <a:lnTo>
                        <a:pt x="745" y="1103"/>
                      </a:lnTo>
                      <a:lnTo>
                        <a:pt x="674" y="1085"/>
                      </a:lnTo>
                      <a:lnTo>
                        <a:pt x="621" y="1067"/>
                      </a:lnTo>
                      <a:lnTo>
                        <a:pt x="568" y="1049"/>
                      </a:lnTo>
                      <a:lnTo>
                        <a:pt x="514" y="1031"/>
                      </a:lnTo>
                      <a:lnTo>
                        <a:pt x="461" y="1014"/>
                      </a:lnTo>
                      <a:lnTo>
                        <a:pt x="408" y="996"/>
                      </a:lnTo>
                      <a:lnTo>
                        <a:pt x="373" y="978"/>
                      </a:lnTo>
                      <a:lnTo>
                        <a:pt x="319" y="960"/>
                      </a:lnTo>
                      <a:lnTo>
                        <a:pt x="284" y="943"/>
                      </a:lnTo>
                      <a:lnTo>
                        <a:pt x="248" y="925"/>
                      </a:lnTo>
                      <a:lnTo>
                        <a:pt x="213" y="889"/>
                      </a:lnTo>
                      <a:lnTo>
                        <a:pt x="178" y="871"/>
                      </a:lnTo>
                      <a:lnTo>
                        <a:pt x="142" y="854"/>
                      </a:lnTo>
                      <a:lnTo>
                        <a:pt x="124" y="836"/>
                      </a:lnTo>
                      <a:lnTo>
                        <a:pt x="89" y="818"/>
                      </a:lnTo>
                      <a:lnTo>
                        <a:pt x="71" y="782"/>
                      </a:lnTo>
                      <a:lnTo>
                        <a:pt x="53" y="765"/>
                      </a:lnTo>
                      <a:lnTo>
                        <a:pt x="36" y="747"/>
                      </a:lnTo>
                      <a:lnTo>
                        <a:pt x="18" y="729"/>
                      </a:lnTo>
                      <a:lnTo>
                        <a:pt x="18" y="711"/>
                      </a:lnTo>
                      <a:lnTo>
                        <a:pt x="0" y="676"/>
                      </a:lnTo>
                      <a:lnTo>
                        <a:pt x="0" y="658"/>
                      </a:lnTo>
                      <a:lnTo>
                        <a:pt x="0" y="640"/>
                      </a:lnTo>
                      <a:lnTo>
                        <a:pt x="0" y="605"/>
                      </a:lnTo>
                      <a:lnTo>
                        <a:pt x="0" y="587"/>
                      </a:lnTo>
                      <a:lnTo>
                        <a:pt x="18" y="569"/>
                      </a:lnTo>
                      <a:lnTo>
                        <a:pt x="18" y="551"/>
                      </a:lnTo>
                      <a:lnTo>
                        <a:pt x="36" y="516"/>
                      </a:lnTo>
                      <a:lnTo>
                        <a:pt x="53" y="498"/>
                      </a:lnTo>
                      <a:lnTo>
                        <a:pt x="71" y="480"/>
                      </a:lnTo>
                      <a:lnTo>
                        <a:pt x="89" y="462"/>
                      </a:lnTo>
                      <a:lnTo>
                        <a:pt x="124" y="445"/>
                      </a:lnTo>
                      <a:lnTo>
                        <a:pt x="142" y="409"/>
                      </a:lnTo>
                      <a:lnTo>
                        <a:pt x="178" y="391"/>
                      </a:lnTo>
                      <a:lnTo>
                        <a:pt x="213" y="374"/>
                      </a:lnTo>
                      <a:lnTo>
                        <a:pt x="248" y="356"/>
                      </a:lnTo>
                      <a:lnTo>
                        <a:pt x="284" y="338"/>
                      </a:lnTo>
                      <a:lnTo>
                        <a:pt x="319" y="320"/>
                      </a:lnTo>
                      <a:lnTo>
                        <a:pt x="373" y="302"/>
                      </a:lnTo>
                      <a:lnTo>
                        <a:pt x="408" y="285"/>
                      </a:lnTo>
                      <a:lnTo>
                        <a:pt x="461" y="267"/>
                      </a:lnTo>
                      <a:lnTo>
                        <a:pt x="514" y="249"/>
                      </a:lnTo>
                      <a:lnTo>
                        <a:pt x="568" y="231"/>
                      </a:lnTo>
                      <a:lnTo>
                        <a:pt x="621" y="213"/>
                      </a:lnTo>
                      <a:lnTo>
                        <a:pt x="2447" y="640"/>
                      </a:lnTo>
                      <a:lnTo>
                        <a:pt x="2447" y="0"/>
                      </a:lnTo>
                      <a:close/>
                    </a:path>
                  </a:pathLst>
                </a:custGeom>
                <a:solidFill>
                  <a:srgbClr val="9999ff"/>
                </a:solidFill>
                <a:ln w="115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2576520" y="2700360"/>
                  <a:ext cx="35748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0%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3888000" y="2543400"/>
                  <a:ext cx="2581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3%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" name=""/>
            <p:cNvSpPr/>
            <p:nvPr/>
          </p:nvSpPr>
          <p:spPr>
            <a:xfrm>
              <a:off x="764640" y="5321880"/>
              <a:ext cx="7284960" cy="11764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58960" y="5451840"/>
              <a:ext cx="141840" cy="129960"/>
            </a:xfrm>
            <a:prstGeom prst="rect">
              <a:avLst/>
            </a:prstGeom>
            <a:solidFill>
              <a:srgbClr val="9999ff"/>
            </a:solidFill>
            <a:ln w="1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065960" y="5379480"/>
              <a:ext cx="4677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Отрицательное, есть другие способы решения пробле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45640" y="6104880"/>
              <a:ext cx="141120" cy="129240"/>
            </a:xfrm>
            <a:prstGeom prst="rect">
              <a:avLst/>
            </a:prstGeom>
            <a:solidFill>
              <a:srgbClr val="993366"/>
            </a:solidFill>
            <a:ln w="1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064160" y="5729400"/>
              <a:ext cx="4816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Нормально, почему бы и нет, если человек не хочет жи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45640" y="5766120"/>
              <a:ext cx="141120" cy="129240"/>
            </a:xfrm>
            <a:prstGeom prst="rect">
              <a:avLst/>
            </a:prstGeom>
            <a:solidFill>
              <a:srgbClr val="ffffcc"/>
            </a:solidFill>
            <a:ln w="1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066320" y="6077160"/>
              <a:ext cx="4231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Все равно, как хочет, так и решает свои проблем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64640" y="1443600"/>
              <a:ext cx="7284960" cy="5006520"/>
            </a:xfrm>
            <a:prstGeom prst="rect">
              <a:avLst/>
            </a:prstGeom>
            <a:noFill/>
            <a:ln w="1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1148400" y="456480"/>
            <a:ext cx="69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аше о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тношение к с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уицид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39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066680" y="1371600"/>
          <a:ext cx="7086600" cy="548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1371600"/>
                    <a:ext cx="70866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457200" y="151560"/>
            <a:ext cx="807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Возникали ли у Вас мысли о самоубийств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776160" y="1828800"/>
            <a:ext cx="7605720" cy="4898520"/>
            <a:chOff x="776160" y="1828800"/>
            <a:chExt cx="7605720" cy="4898520"/>
          </a:xfrm>
        </p:grpSpPr>
        <p:grpSp>
          <p:nvGrpSpPr>
            <p:cNvPr id="82" name=""/>
            <p:cNvGrpSpPr/>
            <p:nvPr/>
          </p:nvGrpSpPr>
          <p:grpSpPr>
            <a:xfrm>
              <a:off x="2426760" y="2882880"/>
              <a:ext cx="4225680" cy="1632960"/>
              <a:chOff x="2426760" y="2882880"/>
              <a:chExt cx="4225680" cy="1632960"/>
            </a:xfrm>
          </p:grpSpPr>
          <p:sp>
            <p:nvSpPr>
              <p:cNvPr id="83" name=""/>
              <p:cNvSpPr/>
              <p:nvPr/>
            </p:nvSpPr>
            <p:spPr>
              <a:xfrm>
                <a:off x="6118560" y="4060800"/>
                <a:ext cx="5338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100" spc="-1" strike="noStrike">
                    <a:solidFill>
                      <a:srgbClr val="000000"/>
                    </a:solidFill>
                    <a:latin typeface="Arial"/>
                  </a:rPr>
                  <a:t>53</a:t>
                </a: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426760" y="4060800"/>
                <a:ext cx="53424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</a:rPr>
                  <a:t>35%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" name=""/>
              <p:cNvGrpSpPr/>
              <p:nvPr/>
            </p:nvGrpSpPr>
            <p:grpSpPr>
              <a:xfrm>
                <a:off x="3079080" y="2882880"/>
                <a:ext cx="2984400" cy="1632960"/>
                <a:chOff x="3079080" y="2882880"/>
                <a:chExt cx="2984400" cy="163296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3458880" y="3310560"/>
                  <a:ext cx="1169640" cy="383040"/>
                </a:xfrm>
                <a:custGeom>
                  <a:avLst/>
                  <a:gdLst/>
                  <a:ahLst/>
                  <a:rect l="l" t="t" r="r" b="b"/>
                  <a:pathLst>
                    <a:path w="1368" h="542">
                      <a:moveTo>
                        <a:pt x="0" y="180"/>
                      </a:moveTo>
                      <a:lnTo>
                        <a:pt x="67" y="155"/>
                      </a:lnTo>
                      <a:lnTo>
                        <a:pt x="112" y="155"/>
                      </a:lnTo>
                      <a:lnTo>
                        <a:pt x="179" y="129"/>
                      </a:lnTo>
                      <a:lnTo>
                        <a:pt x="269" y="103"/>
                      </a:lnTo>
                      <a:lnTo>
                        <a:pt x="314" y="103"/>
                      </a:lnTo>
                      <a:lnTo>
                        <a:pt x="403" y="77"/>
                      </a:lnTo>
                      <a:lnTo>
                        <a:pt x="471" y="51"/>
                      </a:lnTo>
                      <a:lnTo>
                        <a:pt x="538" y="51"/>
                      </a:lnTo>
                      <a:lnTo>
                        <a:pt x="628" y="51"/>
                      </a:lnTo>
                      <a:lnTo>
                        <a:pt x="717" y="25"/>
                      </a:lnTo>
                      <a:lnTo>
                        <a:pt x="762" y="25"/>
                      </a:lnTo>
                      <a:lnTo>
                        <a:pt x="874" y="25"/>
                      </a:lnTo>
                      <a:lnTo>
                        <a:pt x="964" y="0"/>
                      </a:lnTo>
                      <a:lnTo>
                        <a:pt x="1031" y="0"/>
                      </a:lnTo>
                      <a:lnTo>
                        <a:pt x="1121" y="0"/>
                      </a:lnTo>
                      <a:lnTo>
                        <a:pt x="1211" y="0"/>
                      </a:lnTo>
                      <a:lnTo>
                        <a:pt x="1278" y="0"/>
                      </a:lnTo>
                      <a:lnTo>
                        <a:pt x="1368" y="0"/>
                      </a:lnTo>
                      <a:lnTo>
                        <a:pt x="1368" y="542"/>
                      </a:lnTo>
                      <a:lnTo>
                        <a:pt x="0" y="180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140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3079080" y="3693600"/>
                  <a:ext cx="886320" cy="786240"/>
                </a:xfrm>
                <a:custGeom>
                  <a:avLst/>
                  <a:gdLst/>
                  <a:ahLst/>
                  <a:rect l="l" t="t" r="r" b="b"/>
                  <a:pathLst>
                    <a:path w="1099" h="1112">
                      <a:moveTo>
                        <a:pt x="1099" y="517"/>
                      </a:moveTo>
                      <a:lnTo>
                        <a:pt x="1009" y="491"/>
                      </a:lnTo>
                      <a:lnTo>
                        <a:pt x="919" y="491"/>
                      </a:lnTo>
                      <a:lnTo>
                        <a:pt x="874" y="465"/>
                      </a:lnTo>
                      <a:lnTo>
                        <a:pt x="785" y="465"/>
                      </a:lnTo>
                      <a:lnTo>
                        <a:pt x="695" y="440"/>
                      </a:lnTo>
                      <a:lnTo>
                        <a:pt x="628" y="414"/>
                      </a:lnTo>
                      <a:lnTo>
                        <a:pt x="583" y="414"/>
                      </a:lnTo>
                      <a:lnTo>
                        <a:pt x="516" y="388"/>
                      </a:lnTo>
                      <a:lnTo>
                        <a:pt x="448" y="362"/>
                      </a:lnTo>
                      <a:lnTo>
                        <a:pt x="381" y="336"/>
                      </a:lnTo>
                      <a:lnTo>
                        <a:pt x="359" y="336"/>
                      </a:lnTo>
                      <a:lnTo>
                        <a:pt x="291" y="310"/>
                      </a:lnTo>
                      <a:lnTo>
                        <a:pt x="246" y="285"/>
                      </a:lnTo>
                      <a:lnTo>
                        <a:pt x="202" y="259"/>
                      </a:lnTo>
                      <a:lnTo>
                        <a:pt x="157" y="233"/>
                      </a:lnTo>
                      <a:lnTo>
                        <a:pt x="134" y="207"/>
                      </a:lnTo>
                      <a:lnTo>
                        <a:pt x="89" y="181"/>
                      </a:lnTo>
                      <a:lnTo>
                        <a:pt x="67" y="155"/>
                      </a:lnTo>
                      <a:lnTo>
                        <a:pt x="45" y="130"/>
                      </a:lnTo>
                      <a:lnTo>
                        <a:pt x="22" y="104"/>
                      </a:lnTo>
                      <a:lnTo>
                        <a:pt x="22" y="78"/>
                      </a:lnTo>
                      <a:lnTo>
                        <a:pt x="0" y="52"/>
                      </a:lnTo>
                      <a:lnTo>
                        <a:pt x="0" y="26"/>
                      </a:lnTo>
                      <a:lnTo>
                        <a:pt x="0" y="0"/>
                      </a:lnTo>
                      <a:lnTo>
                        <a:pt x="0" y="595"/>
                      </a:lnTo>
                      <a:lnTo>
                        <a:pt x="0" y="621"/>
                      </a:lnTo>
                      <a:lnTo>
                        <a:pt x="0" y="646"/>
                      </a:lnTo>
                      <a:lnTo>
                        <a:pt x="22" y="672"/>
                      </a:lnTo>
                      <a:lnTo>
                        <a:pt x="22" y="698"/>
                      </a:lnTo>
                      <a:lnTo>
                        <a:pt x="45" y="724"/>
                      </a:lnTo>
                      <a:lnTo>
                        <a:pt x="67" y="750"/>
                      </a:lnTo>
                      <a:lnTo>
                        <a:pt x="89" y="776"/>
                      </a:lnTo>
                      <a:lnTo>
                        <a:pt x="134" y="801"/>
                      </a:lnTo>
                      <a:lnTo>
                        <a:pt x="157" y="827"/>
                      </a:lnTo>
                      <a:lnTo>
                        <a:pt x="202" y="853"/>
                      </a:lnTo>
                      <a:lnTo>
                        <a:pt x="246" y="879"/>
                      </a:lnTo>
                      <a:lnTo>
                        <a:pt x="291" y="905"/>
                      </a:lnTo>
                      <a:lnTo>
                        <a:pt x="359" y="931"/>
                      </a:lnTo>
                      <a:lnTo>
                        <a:pt x="381" y="931"/>
                      </a:lnTo>
                      <a:lnTo>
                        <a:pt x="448" y="957"/>
                      </a:lnTo>
                      <a:lnTo>
                        <a:pt x="516" y="982"/>
                      </a:lnTo>
                      <a:lnTo>
                        <a:pt x="583" y="1008"/>
                      </a:lnTo>
                      <a:lnTo>
                        <a:pt x="628" y="1008"/>
                      </a:lnTo>
                      <a:lnTo>
                        <a:pt x="695" y="1034"/>
                      </a:lnTo>
                      <a:lnTo>
                        <a:pt x="785" y="1060"/>
                      </a:lnTo>
                      <a:lnTo>
                        <a:pt x="874" y="1060"/>
                      </a:lnTo>
                      <a:lnTo>
                        <a:pt x="919" y="1086"/>
                      </a:lnTo>
                      <a:lnTo>
                        <a:pt x="1009" y="1086"/>
                      </a:lnTo>
                      <a:lnTo>
                        <a:pt x="1099" y="1112"/>
                      </a:lnTo>
                      <a:lnTo>
                        <a:pt x="1099" y="517"/>
                      </a:lnTo>
                      <a:close/>
                    </a:path>
                  </a:pathLst>
                </a:custGeom>
                <a:solidFill>
                  <a:srgbClr val="4d1a33"/>
                </a:solidFill>
                <a:ln w="140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3079080" y="3438000"/>
                  <a:ext cx="1483200" cy="621360"/>
                </a:xfrm>
                <a:custGeom>
                  <a:avLst/>
                  <a:gdLst/>
                  <a:ahLst/>
                  <a:rect l="l" t="t" r="r" b="b"/>
                  <a:pathLst>
                    <a:path w="1839" h="879">
                      <a:moveTo>
                        <a:pt x="1099" y="879"/>
                      </a:moveTo>
                      <a:lnTo>
                        <a:pt x="1009" y="853"/>
                      </a:lnTo>
                      <a:lnTo>
                        <a:pt x="919" y="853"/>
                      </a:lnTo>
                      <a:lnTo>
                        <a:pt x="829" y="827"/>
                      </a:lnTo>
                      <a:lnTo>
                        <a:pt x="762" y="827"/>
                      </a:lnTo>
                      <a:lnTo>
                        <a:pt x="673" y="802"/>
                      </a:lnTo>
                      <a:lnTo>
                        <a:pt x="605" y="776"/>
                      </a:lnTo>
                      <a:lnTo>
                        <a:pt x="538" y="750"/>
                      </a:lnTo>
                      <a:lnTo>
                        <a:pt x="471" y="750"/>
                      </a:lnTo>
                      <a:lnTo>
                        <a:pt x="403" y="724"/>
                      </a:lnTo>
                      <a:lnTo>
                        <a:pt x="359" y="698"/>
                      </a:lnTo>
                      <a:lnTo>
                        <a:pt x="291" y="672"/>
                      </a:lnTo>
                      <a:lnTo>
                        <a:pt x="246" y="647"/>
                      </a:lnTo>
                      <a:lnTo>
                        <a:pt x="202" y="621"/>
                      </a:lnTo>
                      <a:lnTo>
                        <a:pt x="157" y="595"/>
                      </a:lnTo>
                      <a:lnTo>
                        <a:pt x="112" y="569"/>
                      </a:lnTo>
                      <a:lnTo>
                        <a:pt x="89" y="543"/>
                      </a:lnTo>
                      <a:lnTo>
                        <a:pt x="67" y="517"/>
                      </a:lnTo>
                      <a:lnTo>
                        <a:pt x="45" y="492"/>
                      </a:lnTo>
                      <a:lnTo>
                        <a:pt x="22" y="466"/>
                      </a:lnTo>
                      <a:lnTo>
                        <a:pt x="0" y="414"/>
                      </a:lnTo>
                      <a:lnTo>
                        <a:pt x="0" y="388"/>
                      </a:lnTo>
                      <a:lnTo>
                        <a:pt x="0" y="362"/>
                      </a:lnTo>
                      <a:lnTo>
                        <a:pt x="0" y="336"/>
                      </a:lnTo>
                      <a:lnTo>
                        <a:pt x="0" y="311"/>
                      </a:lnTo>
                      <a:lnTo>
                        <a:pt x="22" y="285"/>
                      </a:lnTo>
                      <a:lnTo>
                        <a:pt x="45" y="259"/>
                      </a:lnTo>
                      <a:lnTo>
                        <a:pt x="67" y="233"/>
                      </a:lnTo>
                      <a:lnTo>
                        <a:pt x="89" y="207"/>
                      </a:lnTo>
                      <a:lnTo>
                        <a:pt x="112" y="181"/>
                      </a:lnTo>
                      <a:lnTo>
                        <a:pt x="157" y="156"/>
                      </a:lnTo>
                      <a:lnTo>
                        <a:pt x="202" y="104"/>
                      </a:lnTo>
                      <a:lnTo>
                        <a:pt x="246" y="78"/>
                      </a:lnTo>
                      <a:lnTo>
                        <a:pt x="291" y="78"/>
                      </a:lnTo>
                      <a:lnTo>
                        <a:pt x="359" y="52"/>
                      </a:lnTo>
                      <a:lnTo>
                        <a:pt x="403" y="26"/>
                      </a:lnTo>
                      <a:lnTo>
                        <a:pt x="471" y="0"/>
                      </a:lnTo>
                      <a:lnTo>
                        <a:pt x="1839" y="362"/>
                      </a:lnTo>
                      <a:lnTo>
                        <a:pt x="1099" y="879"/>
                      </a:lnTo>
                      <a:close/>
                    </a:path>
                  </a:pathLst>
                </a:custGeom>
                <a:solidFill>
                  <a:srgbClr val="993366"/>
                </a:solidFill>
                <a:ln w="140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3965400" y="3693600"/>
                  <a:ext cx="2098080" cy="822240"/>
                </a:xfrm>
                <a:custGeom>
                  <a:avLst/>
                  <a:gdLst/>
                  <a:ahLst/>
                  <a:rect l="l" t="t" r="r" b="b"/>
                  <a:pathLst>
                    <a:path w="2601" h="1163">
                      <a:moveTo>
                        <a:pt x="2601" y="0"/>
                      </a:moveTo>
                      <a:lnTo>
                        <a:pt x="2601" y="26"/>
                      </a:lnTo>
                      <a:lnTo>
                        <a:pt x="2578" y="52"/>
                      </a:lnTo>
                      <a:lnTo>
                        <a:pt x="2578" y="104"/>
                      </a:lnTo>
                      <a:lnTo>
                        <a:pt x="2556" y="130"/>
                      </a:lnTo>
                      <a:lnTo>
                        <a:pt x="2534" y="155"/>
                      </a:lnTo>
                      <a:lnTo>
                        <a:pt x="2511" y="181"/>
                      </a:lnTo>
                      <a:lnTo>
                        <a:pt x="2489" y="207"/>
                      </a:lnTo>
                      <a:lnTo>
                        <a:pt x="2444" y="233"/>
                      </a:lnTo>
                      <a:lnTo>
                        <a:pt x="2399" y="259"/>
                      </a:lnTo>
                      <a:lnTo>
                        <a:pt x="2354" y="285"/>
                      </a:lnTo>
                      <a:lnTo>
                        <a:pt x="2309" y="310"/>
                      </a:lnTo>
                      <a:lnTo>
                        <a:pt x="2264" y="336"/>
                      </a:lnTo>
                      <a:lnTo>
                        <a:pt x="2197" y="336"/>
                      </a:lnTo>
                      <a:lnTo>
                        <a:pt x="2152" y="362"/>
                      </a:lnTo>
                      <a:lnTo>
                        <a:pt x="2085" y="388"/>
                      </a:lnTo>
                      <a:lnTo>
                        <a:pt x="2018" y="414"/>
                      </a:lnTo>
                      <a:lnTo>
                        <a:pt x="1928" y="440"/>
                      </a:lnTo>
                      <a:lnTo>
                        <a:pt x="1861" y="440"/>
                      </a:lnTo>
                      <a:lnTo>
                        <a:pt x="1771" y="465"/>
                      </a:lnTo>
                      <a:lnTo>
                        <a:pt x="1726" y="465"/>
                      </a:lnTo>
                      <a:lnTo>
                        <a:pt x="1637" y="491"/>
                      </a:lnTo>
                      <a:lnTo>
                        <a:pt x="1547" y="517"/>
                      </a:lnTo>
                      <a:lnTo>
                        <a:pt x="1457" y="517"/>
                      </a:lnTo>
                      <a:lnTo>
                        <a:pt x="1367" y="517"/>
                      </a:lnTo>
                      <a:lnTo>
                        <a:pt x="1278" y="543"/>
                      </a:lnTo>
                      <a:lnTo>
                        <a:pt x="1188" y="543"/>
                      </a:lnTo>
                      <a:lnTo>
                        <a:pt x="1098" y="543"/>
                      </a:lnTo>
                      <a:lnTo>
                        <a:pt x="1009" y="569"/>
                      </a:lnTo>
                      <a:lnTo>
                        <a:pt x="897" y="569"/>
                      </a:lnTo>
                      <a:lnTo>
                        <a:pt x="807" y="569"/>
                      </a:lnTo>
                      <a:lnTo>
                        <a:pt x="717" y="569"/>
                      </a:lnTo>
                      <a:lnTo>
                        <a:pt x="605" y="569"/>
                      </a:lnTo>
                      <a:lnTo>
                        <a:pt x="560" y="569"/>
                      </a:lnTo>
                      <a:lnTo>
                        <a:pt x="448" y="543"/>
                      </a:lnTo>
                      <a:lnTo>
                        <a:pt x="358" y="543"/>
                      </a:lnTo>
                      <a:lnTo>
                        <a:pt x="269" y="543"/>
                      </a:lnTo>
                      <a:lnTo>
                        <a:pt x="179" y="543"/>
                      </a:lnTo>
                      <a:lnTo>
                        <a:pt x="89" y="517"/>
                      </a:lnTo>
                      <a:lnTo>
                        <a:pt x="0" y="517"/>
                      </a:lnTo>
                      <a:lnTo>
                        <a:pt x="0" y="1112"/>
                      </a:lnTo>
                      <a:lnTo>
                        <a:pt x="89" y="1112"/>
                      </a:lnTo>
                      <a:lnTo>
                        <a:pt x="179" y="1137"/>
                      </a:lnTo>
                      <a:lnTo>
                        <a:pt x="269" y="1137"/>
                      </a:lnTo>
                      <a:lnTo>
                        <a:pt x="358" y="1137"/>
                      </a:lnTo>
                      <a:lnTo>
                        <a:pt x="448" y="1137"/>
                      </a:lnTo>
                      <a:lnTo>
                        <a:pt x="560" y="1163"/>
                      </a:lnTo>
                      <a:lnTo>
                        <a:pt x="605" y="1163"/>
                      </a:lnTo>
                      <a:lnTo>
                        <a:pt x="717" y="1163"/>
                      </a:lnTo>
                      <a:lnTo>
                        <a:pt x="807" y="1163"/>
                      </a:lnTo>
                      <a:lnTo>
                        <a:pt x="897" y="1163"/>
                      </a:lnTo>
                      <a:lnTo>
                        <a:pt x="1009" y="1163"/>
                      </a:lnTo>
                      <a:lnTo>
                        <a:pt x="1098" y="1137"/>
                      </a:lnTo>
                      <a:lnTo>
                        <a:pt x="1188" y="1137"/>
                      </a:lnTo>
                      <a:lnTo>
                        <a:pt x="1278" y="1137"/>
                      </a:lnTo>
                      <a:lnTo>
                        <a:pt x="1367" y="1112"/>
                      </a:lnTo>
                      <a:lnTo>
                        <a:pt x="1457" y="1112"/>
                      </a:lnTo>
                      <a:lnTo>
                        <a:pt x="1547" y="1112"/>
                      </a:lnTo>
                      <a:lnTo>
                        <a:pt x="1637" y="1086"/>
                      </a:lnTo>
                      <a:lnTo>
                        <a:pt x="1726" y="1060"/>
                      </a:lnTo>
                      <a:lnTo>
                        <a:pt x="1771" y="1060"/>
                      </a:lnTo>
                      <a:lnTo>
                        <a:pt x="1861" y="1034"/>
                      </a:lnTo>
                      <a:lnTo>
                        <a:pt x="1928" y="1034"/>
                      </a:lnTo>
                      <a:lnTo>
                        <a:pt x="2018" y="1008"/>
                      </a:lnTo>
                      <a:lnTo>
                        <a:pt x="2085" y="982"/>
                      </a:lnTo>
                      <a:lnTo>
                        <a:pt x="2152" y="957"/>
                      </a:lnTo>
                      <a:lnTo>
                        <a:pt x="2197" y="931"/>
                      </a:lnTo>
                      <a:lnTo>
                        <a:pt x="2264" y="931"/>
                      </a:lnTo>
                      <a:lnTo>
                        <a:pt x="2309" y="905"/>
                      </a:lnTo>
                      <a:lnTo>
                        <a:pt x="2354" y="879"/>
                      </a:lnTo>
                      <a:lnTo>
                        <a:pt x="2399" y="853"/>
                      </a:lnTo>
                      <a:lnTo>
                        <a:pt x="2444" y="827"/>
                      </a:lnTo>
                      <a:lnTo>
                        <a:pt x="2489" y="801"/>
                      </a:lnTo>
                      <a:lnTo>
                        <a:pt x="2511" y="776"/>
                      </a:lnTo>
                      <a:lnTo>
                        <a:pt x="2534" y="750"/>
                      </a:lnTo>
                      <a:lnTo>
                        <a:pt x="2556" y="724"/>
                      </a:lnTo>
                      <a:lnTo>
                        <a:pt x="2578" y="698"/>
                      </a:lnTo>
                      <a:lnTo>
                        <a:pt x="2578" y="646"/>
                      </a:lnTo>
                      <a:lnTo>
                        <a:pt x="2601" y="621"/>
                      </a:lnTo>
                      <a:lnTo>
                        <a:pt x="2601" y="595"/>
                      </a:lnTo>
                      <a:lnTo>
                        <a:pt x="2601" y="0"/>
                      </a:lnTo>
                      <a:close/>
                    </a:path>
                  </a:pathLst>
                </a:custGeom>
                <a:solidFill>
                  <a:srgbClr val="4d4d80"/>
                </a:solidFill>
                <a:ln w="140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3965400" y="3310560"/>
                  <a:ext cx="2098080" cy="785520"/>
                </a:xfrm>
                <a:custGeom>
                  <a:avLst/>
                  <a:gdLst/>
                  <a:ahLst/>
                  <a:rect l="l" t="t" r="r" b="b"/>
                  <a:pathLst>
                    <a:path w="2601" h="1111">
                      <a:moveTo>
                        <a:pt x="740" y="0"/>
                      </a:moveTo>
                      <a:lnTo>
                        <a:pt x="852" y="0"/>
                      </a:lnTo>
                      <a:lnTo>
                        <a:pt x="941" y="0"/>
                      </a:lnTo>
                      <a:lnTo>
                        <a:pt x="1031" y="0"/>
                      </a:lnTo>
                      <a:lnTo>
                        <a:pt x="1121" y="0"/>
                      </a:lnTo>
                      <a:lnTo>
                        <a:pt x="1233" y="0"/>
                      </a:lnTo>
                      <a:lnTo>
                        <a:pt x="1323" y="25"/>
                      </a:lnTo>
                      <a:lnTo>
                        <a:pt x="1412" y="25"/>
                      </a:lnTo>
                      <a:lnTo>
                        <a:pt x="1502" y="51"/>
                      </a:lnTo>
                      <a:lnTo>
                        <a:pt x="1592" y="51"/>
                      </a:lnTo>
                      <a:lnTo>
                        <a:pt x="1681" y="77"/>
                      </a:lnTo>
                      <a:lnTo>
                        <a:pt x="1749" y="77"/>
                      </a:lnTo>
                      <a:lnTo>
                        <a:pt x="1816" y="103"/>
                      </a:lnTo>
                      <a:lnTo>
                        <a:pt x="1883" y="103"/>
                      </a:lnTo>
                      <a:lnTo>
                        <a:pt x="1950" y="129"/>
                      </a:lnTo>
                      <a:lnTo>
                        <a:pt x="2040" y="155"/>
                      </a:lnTo>
                      <a:lnTo>
                        <a:pt x="2107" y="180"/>
                      </a:lnTo>
                      <a:lnTo>
                        <a:pt x="2152" y="180"/>
                      </a:lnTo>
                      <a:lnTo>
                        <a:pt x="2220" y="206"/>
                      </a:lnTo>
                      <a:lnTo>
                        <a:pt x="2287" y="232"/>
                      </a:lnTo>
                      <a:lnTo>
                        <a:pt x="2332" y="258"/>
                      </a:lnTo>
                      <a:lnTo>
                        <a:pt x="2377" y="284"/>
                      </a:lnTo>
                      <a:lnTo>
                        <a:pt x="2421" y="310"/>
                      </a:lnTo>
                      <a:lnTo>
                        <a:pt x="2466" y="336"/>
                      </a:lnTo>
                      <a:lnTo>
                        <a:pt x="2489" y="361"/>
                      </a:lnTo>
                      <a:lnTo>
                        <a:pt x="2534" y="387"/>
                      </a:lnTo>
                      <a:lnTo>
                        <a:pt x="2556" y="413"/>
                      </a:lnTo>
                      <a:lnTo>
                        <a:pt x="2556" y="465"/>
                      </a:lnTo>
                      <a:lnTo>
                        <a:pt x="2578" y="491"/>
                      </a:lnTo>
                      <a:lnTo>
                        <a:pt x="2601" y="516"/>
                      </a:lnTo>
                      <a:lnTo>
                        <a:pt x="2601" y="542"/>
                      </a:lnTo>
                      <a:lnTo>
                        <a:pt x="2601" y="568"/>
                      </a:lnTo>
                      <a:lnTo>
                        <a:pt x="2578" y="594"/>
                      </a:lnTo>
                      <a:lnTo>
                        <a:pt x="2578" y="620"/>
                      </a:lnTo>
                      <a:lnTo>
                        <a:pt x="2556" y="646"/>
                      </a:lnTo>
                      <a:lnTo>
                        <a:pt x="2556" y="672"/>
                      </a:lnTo>
                      <a:lnTo>
                        <a:pt x="2534" y="697"/>
                      </a:lnTo>
                      <a:lnTo>
                        <a:pt x="2489" y="723"/>
                      </a:lnTo>
                      <a:lnTo>
                        <a:pt x="2466" y="749"/>
                      </a:lnTo>
                      <a:lnTo>
                        <a:pt x="2421" y="775"/>
                      </a:lnTo>
                      <a:lnTo>
                        <a:pt x="2377" y="801"/>
                      </a:lnTo>
                      <a:lnTo>
                        <a:pt x="2332" y="827"/>
                      </a:lnTo>
                      <a:lnTo>
                        <a:pt x="2287" y="852"/>
                      </a:lnTo>
                      <a:lnTo>
                        <a:pt x="2220" y="878"/>
                      </a:lnTo>
                      <a:lnTo>
                        <a:pt x="2152" y="904"/>
                      </a:lnTo>
                      <a:lnTo>
                        <a:pt x="2107" y="930"/>
                      </a:lnTo>
                      <a:lnTo>
                        <a:pt x="2040" y="956"/>
                      </a:lnTo>
                      <a:lnTo>
                        <a:pt x="1950" y="956"/>
                      </a:lnTo>
                      <a:lnTo>
                        <a:pt x="1883" y="982"/>
                      </a:lnTo>
                      <a:lnTo>
                        <a:pt x="1816" y="1007"/>
                      </a:lnTo>
                      <a:lnTo>
                        <a:pt x="1726" y="1007"/>
                      </a:lnTo>
                      <a:lnTo>
                        <a:pt x="1637" y="1033"/>
                      </a:lnTo>
                      <a:lnTo>
                        <a:pt x="1547" y="1059"/>
                      </a:lnTo>
                      <a:lnTo>
                        <a:pt x="1457" y="1059"/>
                      </a:lnTo>
                      <a:lnTo>
                        <a:pt x="1367" y="1059"/>
                      </a:lnTo>
                      <a:lnTo>
                        <a:pt x="1278" y="1085"/>
                      </a:lnTo>
                      <a:lnTo>
                        <a:pt x="1188" y="1085"/>
                      </a:lnTo>
                      <a:lnTo>
                        <a:pt x="1098" y="1085"/>
                      </a:lnTo>
                      <a:lnTo>
                        <a:pt x="1031" y="1085"/>
                      </a:lnTo>
                      <a:lnTo>
                        <a:pt x="941" y="1111"/>
                      </a:lnTo>
                      <a:lnTo>
                        <a:pt x="852" y="1111"/>
                      </a:lnTo>
                      <a:lnTo>
                        <a:pt x="740" y="1111"/>
                      </a:lnTo>
                      <a:lnTo>
                        <a:pt x="650" y="1111"/>
                      </a:lnTo>
                      <a:lnTo>
                        <a:pt x="560" y="1111"/>
                      </a:lnTo>
                      <a:lnTo>
                        <a:pt x="448" y="1085"/>
                      </a:lnTo>
                      <a:lnTo>
                        <a:pt x="358" y="1085"/>
                      </a:lnTo>
                      <a:lnTo>
                        <a:pt x="269" y="1085"/>
                      </a:lnTo>
                      <a:lnTo>
                        <a:pt x="179" y="1085"/>
                      </a:lnTo>
                      <a:lnTo>
                        <a:pt x="89" y="1059"/>
                      </a:lnTo>
                      <a:lnTo>
                        <a:pt x="0" y="1059"/>
                      </a:lnTo>
                      <a:lnTo>
                        <a:pt x="740" y="542"/>
                      </a:lnTo>
                      <a:lnTo>
                        <a:pt x="740" y="0"/>
                      </a:lnTo>
                      <a:close/>
                    </a:path>
                  </a:pathLst>
                </a:custGeom>
                <a:solidFill>
                  <a:srgbClr val="9999ff"/>
                </a:solidFill>
                <a:ln w="140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609360" y="2882880"/>
                  <a:ext cx="534240" cy="32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1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ru-RU" sz="21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n-US" sz="2100" spc="-1" strike="noStrike">
                      <a:solidFill>
                        <a:srgbClr val="000000"/>
                      </a:solidFill>
                      <a:latin typeface="Arial"/>
                    </a:rPr>
                    <a:t>%</a:t>
                  </a:r>
                  <a:endParaRPr b="0" lang="en-US" sz="2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2" name=""/>
            <p:cNvSpPr/>
            <p:nvPr/>
          </p:nvSpPr>
          <p:spPr>
            <a:xfrm>
              <a:off x="830880" y="5301360"/>
              <a:ext cx="7405560" cy="1364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975960" y="5428800"/>
              <a:ext cx="162720" cy="164520"/>
            </a:xfrm>
            <a:prstGeom prst="rect">
              <a:avLst/>
            </a:prstGeom>
            <a:solidFill>
              <a:srgbClr val="9999ff"/>
            </a:solidFill>
            <a:ln w="140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265760" y="5812200"/>
              <a:ext cx="309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75960" y="5898240"/>
              <a:ext cx="162720" cy="163800"/>
            </a:xfrm>
            <a:prstGeom prst="rect">
              <a:avLst/>
            </a:prstGeom>
            <a:solidFill>
              <a:srgbClr val="993366"/>
            </a:solidFill>
            <a:ln w="140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253880" y="5392800"/>
              <a:ext cx="360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Был момент, когда не очень хотелось жи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75960" y="6319800"/>
              <a:ext cx="162720" cy="164520"/>
            </a:xfrm>
            <a:prstGeom prst="rect">
              <a:avLst/>
            </a:prstGeom>
            <a:solidFill>
              <a:srgbClr val="ffffcc"/>
            </a:solidFill>
            <a:ln w="140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266120" y="6192360"/>
              <a:ext cx="22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76160" y="1828800"/>
              <a:ext cx="7605720" cy="4898520"/>
            </a:xfrm>
            <a:prstGeom prst="rect">
              <a:avLst/>
            </a:prstGeom>
            <a:noFill/>
            <a:ln w="140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09480" y="44208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ыло ли у Вас желание покончить жизнь самоубийством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3-02-04T11:45:35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