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6059-5169-4184-BA27-D31F661B5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47A5-32D3-4973-9A0B-B3159AD2D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D0F3-48BC-44A6-9669-60EAF06D5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67F2-E0E8-4837-AB95-17A2ACB63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A5DA1-D7CF-4C45-9595-07E88C7FD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18FC9-1F43-41FC-9508-F726CBBC2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4205A-CBA7-401C-97B0-2117C0429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014B8-5C4D-4F91-B496-6D78561F8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4183C-2067-4DE5-828C-84FD1B7C9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978B7-72D1-415A-9DDB-F913EC920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F5D04-12F4-4ABA-90F1-5D43579B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971E-7241-478E-A252-BC0762A4C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B7C1D-AEA9-4211-9602-F62C0383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FA0D3-4EEE-4F54-9AB5-7FD7F769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2032F-2F4B-4B79-ADB0-E1EF7FAA7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1E676-375E-4808-BD4D-313537E65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5C59F-EFA8-4E72-8C59-D8D096283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9741-9756-409F-BBD8-FB83CB491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5248-E921-45A7-87D9-7E958953D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E25B-9DC9-41F7-B37A-860BB02FE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824B-A956-4138-AC9A-F58F6161E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F701-C138-4974-9E8D-577E851D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9D91-0AA9-4F50-8940-9A459B4C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6CB5-EB55-4419-9A2A-29664567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F6CBF-F1F2-43CD-B809-AA772F14DFB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7AF2E-FBA0-4A58-8B42-7D09F1E68969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4"/>
          <p:cNvSpPr txBox="1"/>
          <p:nvPr/>
        </p:nvSpPr>
        <p:spPr>
          <a:xfrm>
            <a:off x="344520" y="260280"/>
            <a:ext cx="4319640" cy="6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ст</a:t>
            </a:r>
            <a:endParaRPr b="0" lang="en-US" sz="6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WordArt 5"/>
          <p:cNvSpPr txBox="1"/>
          <p:nvPr/>
        </p:nvSpPr>
        <p:spPr>
          <a:xfrm>
            <a:off x="460440" y="1052640"/>
            <a:ext cx="583236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а  тему:</a:t>
            </a:r>
            <a:endParaRPr b="0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WordArt 6"/>
          <p:cNvSpPr txBox="1"/>
          <p:nvPr/>
        </p:nvSpPr>
        <p:spPr>
          <a:xfrm>
            <a:off x="460440" y="2125800"/>
            <a:ext cx="5767200" cy="40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9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деепричастие</a:t>
            </a:r>
            <a:endParaRPr b="1" lang="en-US" sz="9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и</a:t>
            </a:r>
            <a:endParaRPr b="1" lang="en-US" sz="9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деепричастный оборот</a:t>
            </a:r>
            <a:endParaRPr b="1" lang="en-US" sz="9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076720" y="328464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дготовила: ученица 6 «Б» класс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отова Юл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Tahoma"/>
              </a:rPr>
              <a:t>Л) -а, -я 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Tahoma"/>
              </a:rPr>
              <a:t>Р) -а, -я, -в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Tahoma"/>
              </a:rPr>
              <a:t>Д) -в, -вши , -ши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WordArt 4"/>
          <p:cNvSpPr txBox="1"/>
          <p:nvPr/>
        </p:nvSpPr>
        <p:spPr>
          <a:xfrm>
            <a:off x="611280" y="333360"/>
            <a:ext cx="829620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акие суффиксы имеет деепричастие </a:t>
            </a:r>
            <a:endParaRPr b="0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есовершенного вида?</a:t>
            </a:r>
            <a:endParaRPr b="0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push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971640" y="242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2bdc"/>
                </a:solidFill>
                <a:latin typeface="Tahoma"/>
              </a:rPr>
              <a:t>Е) Ели , стоявшие по колено в сугробах были громадно высок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2bdc"/>
                </a:solidFill>
                <a:latin typeface="Tahoma"/>
              </a:rPr>
              <a:t>А) Туча ,нависшая над высокими вершинами топол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2bdc"/>
                </a:solidFill>
                <a:latin typeface="Tahoma"/>
              </a:rPr>
              <a:t>К)Выехав на большую дорогу , мы увидели большой до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WordArt 4"/>
          <p:cNvSpPr txBox="1"/>
          <p:nvPr/>
        </p:nvSpPr>
        <p:spPr>
          <a:xfrm>
            <a:off x="250920" y="260280"/>
            <a:ext cx="86677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1717b5"/>
                  </a:solidFill>
                  <a:miter/>
                </a:ln>
                <a:solidFill>
                  <a:srgbClr val="6f6f6f"/>
                </a:solidFill>
                <a:latin typeface="Arial"/>
              </a:rPr>
              <a:t>В каком предложении есть </a:t>
            </a:r>
            <a:endParaRPr b="1" lang="en-US" sz="5400" spc="1" strike="noStrike">
              <a:ln w="12600">
                <a:solidFill>
                  <a:srgbClr val="1717b5"/>
                </a:solidFill>
                <a:miter/>
              </a:ln>
              <a:solidFill>
                <a:srgbClr val="6f6f6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1717b5"/>
                  </a:solidFill>
                  <a:miter/>
                </a:ln>
                <a:solidFill>
                  <a:srgbClr val="6f6f6f"/>
                </a:solidFill>
                <a:latin typeface="Arial"/>
              </a:rPr>
              <a:t>деепричастный оборот? (Знаки препинания расставлены не все) </a:t>
            </a:r>
            <a:endParaRPr b="1" lang="en-US" sz="5400" spc="1" strike="noStrike">
              <a:ln w="12600">
                <a:solidFill>
                  <a:srgbClr val="1717b5"/>
                </a:solidFill>
                <a:miter/>
              </a:ln>
              <a:solidFill>
                <a:srgbClr val="6f6f6f"/>
              </a:solidFill>
              <a:latin typeface="Arial"/>
              <a:ea typeface="Arial"/>
            </a:endParaRPr>
          </a:p>
        </p:txBody>
      </p:sp>
    </p:spTree>
  </p:cSld>
  <p:transition>
    <p:push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98320" y="1916280"/>
            <a:ext cx="8120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Tahoma"/>
              </a:rPr>
              <a:t>С) Я шла домой , улыбаясь от счастья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Tahoma"/>
              </a:rPr>
              <a:t>Т) Ученик , прочитавший книгу 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Tahoma"/>
              </a:rPr>
              <a:t>Д) Учёные предвидят метеоритные бури 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WordArt 4"/>
          <p:cNvSpPr txBox="1"/>
          <p:nvPr/>
        </p:nvSpPr>
        <p:spPr>
          <a:xfrm>
            <a:off x="250920" y="189000"/>
            <a:ext cx="84675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каком предложении есть деепричаст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ли деепричастный оборот 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59832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e4a8"/>
                </a:solidFill>
                <a:latin typeface="Tahoma"/>
              </a:rPr>
              <a:t>И) наречие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e4a8"/>
                </a:solidFill>
                <a:latin typeface="Tahoma"/>
              </a:rPr>
              <a:t>Б) нет главного слов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e4a8"/>
                </a:solidFill>
                <a:latin typeface="Tahoma"/>
              </a:rPr>
              <a:t>А) деепричастие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WordArt 4"/>
          <p:cNvSpPr txBox="1"/>
          <p:nvPr/>
        </p:nvSpPr>
        <p:spPr>
          <a:xfrm>
            <a:off x="179280" y="115920"/>
            <a:ext cx="8610840" cy="139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В деепричастном обороте дееприч. + нареч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какое главное слово 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1160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) Его лошадка , снег почуяв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летётся рысью как – нибуд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Ш) Я работаю в школе и учу их грамматике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И) Обещанного три года жду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WordArt 4"/>
          <p:cNvSpPr txBox="1"/>
          <p:nvPr/>
        </p:nvSpPr>
        <p:spPr>
          <a:xfrm>
            <a:off x="755640" y="333360"/>
            <a:ext cx="7632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каком предложении есть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еепричастный оборот?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push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5"/>
          <p:cNvSpPr txBox="1"/>
          <p:nvPr/>
        </p:nvSpPr>
        <p:spPr>
          <a:xfrm>
            <a:off x="755640" y="1989000"/>
            <a:ext cx="7416720" cy="13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)л 2)к 3)с 4)а 5)с = </a:t>
            </a:r>
            <a:endParaRPr b="0" i="1" lang="en-US" sz="9600" spc="1" strike="noStrike">
              <a:ln w="9360">
                <a:solidFill>
                  <a:srgbClr val="00ff00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4" name="WordArt 6"/>
          <p:cNvSpPr txBox="1"/>
          <p:nvPr/>
        </p:nvSpPr>
        <p:spPr>
          <a:xfrm>
            <a:off x="1619280" y="1157400"/>
            <a:ext cx="5256360" cy="151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тветы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5" name="WordArt 7"/>
          <p:cNvSpPr txBox="1"/>
          <p:nvPr/>
        </p:nvSpPr>
        <p:spPr>
          <a:xfrm>
            <a:off x="3132000" y="3500280"/>
            <a:ext cx="3143520" cy="272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ласс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sh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6T21:02:27Z</dcterms:created>
  <dc:creator>Customer</dc:creator>
  <dc:description/>
  <dc:language>en-US</dc:language>
  <cp:lastModifiedBy>Мой</cp:lastModifiedBy>
  <dcterms:modified xsi:type="dcterms:W3CDTF">2012-03-24T14:21:53Z</dcterms:modified>
  <cp:revision>5</cp:revision>
  <dc:subject/>
  <dc:title>Слайд 1</dc:title>
</cp:coreProperties>
</file>