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8FB-CBDE-41CF-9F2A-FE000D64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154-EE02-4B7C-94AF-98933FA1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717-F320-411F-B59F-F2920266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1F4-F96B-40FA-B0A7-B1815527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53AA-9578-4982-AC71-4F5B8D99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7D82-7758-4333-9B9B-EB07EF5F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C57-E078-4EF5-A0C2-0E8D06C2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F435-01AB-44AC-AAD3-33334FA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B55A-B74F-48D6-9911-0EB8543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0E0E-0B52-45F8-B01A-5546874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DE6-A97A-4F26-A990-C21ED49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C9E-2D5F-4F67-9E29-5B421CAC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60BA-C13E-411F-BD7E-05E102B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56C-A3D5-478E-A41A-9665E88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246E-6EF7-4171-BB9D-A8B43122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C76A-D3D3-4FEF-8EE5-CC2ED3C6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1A4D-661B-4A07-84AF-AB2874B3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0F5-FF71-493B-BF6E-FFBBB9BB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273-10F4-4929-AA09-396A680E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E43-DCA3-487D-AF7A-3B22A0A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EC3-0D95-4857-B480-222EEF8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C9D-3057-423F-80AD-A55E3023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C02-2460-4EC8-B9A9-C949278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F54-E792-47D2-9E45-1D6A27A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D7E7-9514-48A7-8D44-582D26B5DB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A191-5F2B-4D59-91E6-6FB61A31CE1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344520" y="260280"/>
            <a:ext cx="43196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460440" y="1052640"/>
            <a:ext cx="58323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тему: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460440" y="2125800"/>
            <a:ext cx="5767200" cy="40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епричастие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епричастный оборот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076720" y="3284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готовила: ученица 6 «Б» класс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това Юл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Л) -а, -я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Р) -а, -я, -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Д) -в, -вши , -ши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611280" y="333360"/>
            <a:ext cx="82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суффиксы имеет деепричастие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совершенного вида?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2bdc"/>
                </a:solidFill>
                <a:latin typeface="Tahoma"/>
              </a:rPr>
              <a:t>Е) Ели , стоявшие по колено в сугробах были громадно высо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2bdc"/>
                </a:solidFill>
                <a:latin typeface="Tahoma"/>
              </a:rPr>
              <a:t>А) Туча ,нависшая над высокими вершинами топ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2bdc"/>
                </a:solidFill>
                <a:latin typeface="Tahoma"/>
              </a:rPr>
              <a:t>К)Выехав на большую дорогу , мы увидели большой д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50920" y="260280"/>
            <a:ext cx="8667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1717b5"/>
                  </a:solidFill>
                  <a:miter/>
                </a:ln>
                <a:solidFill>
                  <a:srgbClr val="6f6f6f"/>
                </a:solidFill>
                <a:latin typeface="Arial"/>
              </a:rPr>
              <a:t>В каком предложении есть </a:t>
            </a:r>
            <a:endParaRPr b="1" lang="en-US" sz="5400" spc="1" strike="noStrike">
              <a:ln w="12600">
                <a:solidFill>
                  <a:srgbClr val="1717b5"/>
                </a:solidFill>
                <a:miter/>
              </a:ln>
              <a:solidFill>
                <a:srgbClr val="6f6f6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1717b5"/>
                  </a:solidFill>
                  <a:miter/>
                </a:ln>
                <a:solidFill>
                  <a:srgbClr val="6f6f6f"/>
                </a:solidFill>
                <a:latin typeface="Arial"/>
              </a:rPr>
              <a:t>деепричастный оборот? (Знаки препинания расставлены не все) </a:t>
            </a:r>
            <a:endParaRPr b="1" lang="en-US" sz="5400" spc="1" strike="noStrike">
              <a:ln w="12600">
                <a:solidFill>
                  <a:srgbClr val="1717b5"/>
                </a:solidFill>
                <a:miter/>
              </a:ln>
              <a:solidFill>
                <a:srgbClr val="6f6f6f"/>
              </a:solidFill>
              <a:latin typeface="Arial"/>
              <a:ea typeface="Arial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98320" y="191628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С) Я шла домой , улыбаясь от счасть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Т) Ученик , прочитавший книгу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Д) Учёные предвидят метеоритные бури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50920" y="189000"/>
            <a:ext cx="8467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каком предложении есть деепричас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деепричастный оборот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9832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e4a8"/>
                </a:solidFill>
                <a:latin typeface="Tahoma"/>
              </a:rPr>
              <a:t>И) нареч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e4a8"/>
                </a:solidFill>
                <a:latin typeface="Tahoma"/>
              </a:rPr>
              <a:t>Б) нет главного сл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e4a8"/>
                </a:solidFill>
                <a:latin typeface="Tahoma"/>
              </a:rPr>
              <a:t>А) деепричас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9280" y="115920"/>
            <a:ext cx="861084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деепричастном обороте дееприч. + нареч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ое главное слово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) Его лошадка , снег почуя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етётся рысью как – нибуд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Ш) Я работаю в школе и учу их грамматик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) Обещанного три года ж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755640" y="33336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аком предложении ес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епричастный оборот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5"/>
          <p:cNvSpPr txBox="1"/>
          <p:nvPr/>
        </p:nvSpPr>
        <p:spPr>
          <a:xfrm>
            <a:off x="755640" y="1989000"/>
            <a:ext cx="7416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)л 2)к 3)с 4)а 5)с = </a:t>
            </a:r>
            <a:endParaRPr b="0" i="1" lang="en-US" sz="9600" spc="1" strike="noStrike">
              <a:ln w="936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619280" y="1157400"/>
            <a:ext cx="525636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твет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3132000" y="3500280"/>
            <a:ext cx="3143520" cy="27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ас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1:02:27Z</dcterms:created>
  <dc:creator>Customer</dc:creator>
  <dc:description/>
  <dc:language>en-US</dc:language>
  <cp:lastModifiedBy>Мой</cp:lastModifiedBy>
  <dcterms:modified xsi:type="dcterms:W3CDTF">2012-03-24T14:21:53Z</dcterms:modified>
  <cp:revision>5</cp:revision>
  <dc:subject/>
  <dc:title>Слайд 1</dc:title>
</cp:coreProperties>
</file>