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609-8706-4F36-B379-0D0BEEEF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D68-3D18-491A-8B17-E9464D60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8B7E3-756B-4E9D-9989-7F6A562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0AEEA-1F46-46F7-85B4-A796C4D8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B507A-6A81-4F5C-AE7E-27CDABF1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C4C9-06E0-4855-85B5-EC62470E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3F20F-F5E7-43B5-8B95-81D10AC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78644-14FA-48BE-9D64-A94B300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541B4-E3DA-434A-8B2E-3B298779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45EC2-0928-41DE-89CB-8FADC359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D579F-5AAF-4F18-ADA6-ACAE6BF9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D577C-2CB5-4C76-AB4E-771F5AE0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724-0CAC-442F-B93A-DBF62F76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77635-9BAA-4018-A03B-CD47432D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BB408-28D4-4857-994E-7CA146D9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853F6-8E93-4D8C-B459-1AAAA9EC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704BA-82D8-4093-AEF0-55AEB019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B3C44-F76D-44B8-BF6B-50E535C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5BE9B-AB1C-42C6-990C-6945DF44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B2B6-BAC6-46CA-98CD-8A63617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02F66-866A-4FD6-BA84-B0B8651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F9422-26D1-4851-9966-38AF79DF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82CD7-D89E-40A1-9761-13BBBCAD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E05-D593-4C39-9357-BCB7B0BB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A46C7-C989-444A-BCD4-C22B8031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00E67-DBA7-4125-8D86-519F4FBB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9F90-64DA-45A6-97E8-1123641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592B5-D033-4164-A739-D0943104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B25C6-73E6-4A2D-8A13-72278A64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8B93C-41C8-4EC9-8DA1-C401AECE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F96D4-B6DA-4A77-A43D-831D23E0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5D9AD-F1B9-4614-A3D9-B28B33BB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9512-19B2-43CA-BDB7-DD4E049D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D13B-728F-4926-B815-7D7F480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42DB-2567-43BC-8735-8044BA49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2C9F4-482D-4730-96A4-BD11EE63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C7319-A7D2-444E-8D3A-993DCB86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217B1-F339-42B6-BE9E-DC5652A0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B3768-22F2-4016-A11A-9626A81B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1E019-7396-4D3D-A25B-CAB786C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E33B4-77C6-43B0-9CB1-D944FFE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FD521-788C-4BB2-A5DF-C7F2FCD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5F35E-2246-4764-A3EF-D7DF2C4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92593-934C-4222-BD62-7077D5B3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633CD-8E01-4B9A-9ABE-05C4C7BE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90EA-35A7-4E49-95C2-B0796916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CF425-D222-47B9-B259-A78CA2B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836A7-85CA-4CF2-B9AA-70292A5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DF92-18B0-4474-8372-9EB85A4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10D8-9D7D-43CA-BF4A-D7CC7FA8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E2405-9808-415A-A818-C594F8B6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A27E-0DEE-4CD2-83C4-C4823CE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DB4-DAA8-4AD0-A47A-F00046E5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35B4-874C-47CC-B0C7-805B0ECE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C7E4-AF87-4E33-9ABC-A858813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9A24-26D4-4C28-8CE7-8BF94F7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CC9-4434-478A-9909-8FB7B42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7AB2-3F2D-46E2-AB79-E69E3758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8CB3-D18D-49A2-AE65-1BC248F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16F6-F2F9-4863-ACFB-40FB04D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B58E-666B-45C8-80DA-EEE4C7A8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099-4BC1-454A-85B8-7478017F1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5AE8-C292-4D4F-A9D1-DAE6A8A5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6B58D-BCB0-4E3D-B4E7-C192FD4F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1386-C8F1-4493-B700-453D506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F6404-8B73-4A00-99C5-2CE4006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AAB9-2C1D-40DF-AEF3-9078B34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793-A5FB-43B5-A150-31DE2D8D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A96D-220D-4FEE-87EE-2B6C8CB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2484-71D3-498C-AF8A-F76381C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7412-D324-499C-9C4C-B7AAF6A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33936-192E-47A8-9075-3FD76225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E89F-8C02-4502-BC0E-F783DBEB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91FC-E82B-44BB-B8BB-6DB8CAF0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13CD-7181-4C33-9CBF-086955ED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801B4-CABE-4622-BCA9-00876237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CF94B-1B76-48A9-93C4-8B07E5F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BE631-9AF6-4E5A-AF61-00A0A3A4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010-3319-4AB3-8A79-D4FE6203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16DD3-65CC-4B93-B6C7-87E919CC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4BE92-5E06-4193-A581-95DCE873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CB85-F1F3-46F9-B6D6-B4E832F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6F3B-6469-4C48-963C-444D201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3545-E488-4AFF-A306-6D86066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3837-5BF0-4FAE-B954-1187FB3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F281-A4B5-4E8D-BA85-4229ABC4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C4DB-5715-4C0A-80A9-67857F40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6890-4002-4DEA-BC56-3924F39A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6F5DF-D35E-46C6-AFDF-1D6E2E4B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968-55CF-47B6-BD56-9176217B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0398B-AC8D-4054-9BE5-BFEB0DBB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7BD7A-380A-4916-A6D2-E2F45EBF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5CBF5-B3E8-455A-BF09-94F6324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99E56-FD62-4474-BBCA-8E9549AC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35C49-6DAB-4B88-8F84-24BB268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9128A-A682-4B2C-892B-EE1F569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DA61C-708E-48C4-AF41-020663A6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E95E2-B464-4CB5-97A5-D29A91A5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609E0-1D1E-454D-9D3B-4C62B21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E468B-02D5-4DB9-B809-427E232B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BEB-09FC-4091-AD59-214D63E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87179-0866-4E51-AB13-7BAEEDA2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A08C-F7F9-43A5-8AFA-D358ED5C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CF96-2B3F-4C31-90BD-AA7BE91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9B8A-B358-4262-85D5-D393F170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D9F7-86B0-4275-8A00-8B3E0819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77E91-CD08-4A5B-9059-E90A7CB5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45BEA-DC06-4368-9EF8-F583AF65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630A3-4671-42CF-BBA9-F10AD09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1299E-4C0F-4E90-8BF8-EEBDCBD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4DF1-C677-48B3-9BA9-F7860057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8E7-966B-492A-A35E-A703B51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C3B3C-D92C-430D-992A-3A7CAE86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F660-95D4-4FF9-89FE-4D803F6D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5406-477D-4898-8A1A-BB4A1ECA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7CE3-C823-4302-99C9-EDD66145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B1CE-F418-4DB1-A4E9-5B7CB1F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1DDA3-218C-4C2F-92B5-24E99C18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95EC2-4CFA-4867-BD15-385B0777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E6979-2B9F-4210-9589-9F6733E6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37EA-9E16-4C3A-BFA0-1823B9AB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F8E29-AB3A-4CDB-84AA-780603FC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CFB-D8FE-4259-89BD-42C8D84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ED75-DE4B-4235-8308-DEE3362E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97ECB-2A55-4838-8AD8-E2299DD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5F29B-7A4F-4AB6-BA66-019640CA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09B3-11C4-45DA-8A6B-02BB44D3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9D4B-8C5B-400B-8139-0980C2C2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6402-6DC0-476A-8C46-C1FCE8B4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12C74-2BF5-4776-997E-2D70E608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35A2-545A-4446-BC4F-541C25F6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2DF91-7A17-4EA6-A0DD-6D303169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77540-1498-4EA7-B890-05686103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DEF-944B-4C8B-9AFE-6199837B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1AD15-BE73-4FA9-91D1-CA15D614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D79A-4EA5-4773-904E-7EF589A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8E5B-396A-4EA7-BE47-1CE1C97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B97D2-BA77-4A75-B529-4EE3B0B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1BE0-5298-41F9-B51D-97EC3AA3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12565-0AD3-41A0-A71D-5725CC8E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7A545-DE10-44AA-89FD-5D6EF81C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02BE-63E9-4EBA-9977-79CB7DA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19CDB-7587-4309-BC84-9624A3E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93B52-D5DB-4CE1-B7F7-87DAA3CD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76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4119c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b14ba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a7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c08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6f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8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f0f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5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69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a21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12ac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82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63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76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a1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94"/>
                  </a:gs>
                  <a:gs pos="100000">
                    <a:srgbClr val="99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a21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E28-25D4-4728-BD89-5384F9C72C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9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9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2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20ED-3AA8-4A21-9531-23728E26DE7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71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D27-E6C7-4171-9874-D2CADD78CA76}" type="slidenum">
              <a:rPr b="0" lang="ru-RU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82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2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83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3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3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3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3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4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4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4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4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5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5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5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6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6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6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7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7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7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7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8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8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8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9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9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9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90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90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90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91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91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91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2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2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2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2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3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93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93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94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2689-831E-4964-9614-D85EF7478E4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50000">
                  <a:srgbClr val="9900ff"/>
                </a:gs>
                <a:gs pos="100000">
                  <a:srgbClr val="66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B559-5476-4941-AD0D-C63510C7A6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2C18-A7DF-4952-9684-D50BA06FC0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9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100000">
                    <a:srgbClr val="88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5d1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cc99ff"/>
                </a:gs>
                <a:gs pos="100000">
                  <a:srgbClr val="c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DC4-136E-41D3-90F0-E6DF158AF92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FAED-2C78-4279-BFBB-177F0698249A}" type="slidenum">
              <a:rPr b="0" lang="ru-RU" sz="12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27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2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3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ff03e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753bc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007-5461-4045-A053-76083C82740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76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4119c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8b14ba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a7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c08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6f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b71af6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8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9f0f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5e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69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cc"/>
                </a:gs>
                <a:gs pos="100000">
                  <a:srgbClr val="a21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11a4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012ac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b71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82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7c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63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ad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014c2"/>
                </a:gs>
                <a:gs pos="100000">
                  <a:srgbClr val="b71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76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94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a1"/>
                </a:gs>
                <a:gs pos="100000">
                  <a:srgbClr val="9900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3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94"/>
                  </a:gs>
                  <a:gs pos="100000">
                    <a:srgbClr val="99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cc"/>
                  </a:gs>
                  <a:gs pos="100000">
                    <a:srgbClr val="a21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A7D1-F283-424B-AFF2-A2CF5EDF1A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8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6600ff"/>
                </a:gs>
                <a:gs pos="50000">
                  <a:srgbClr val="9900ff"/>
                </a:gs>
                <a:gs pos="100000">
                  <a:srgbClr val="66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ff"/>
                </a:gs>
                <a:gs pos="5000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6600ff"/>
                </a:gs>
                <a:gs pos="100000">
                  <a:srgbClr val="99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46B2-D92E-4307-873E-8B6FE3C2A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3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0891-3647-4EA0-9022-1F056DFA4A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WordArt 4"/>
          <p:cNvSpPr txBox="1"/>
          <p:nvPr/>
        </p:nvSpPr>
        <p:spPr>
          <a:xfrm>
            <a:off x="0" y="0"/>
            <a:ext cx="8964720" cy="587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ест  на  тему: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cc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епричастие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cc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1.Выберите суффиксы деепричастия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М) -ущ-, -ющ-, -ащ-, -ящ-, -вш-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-ш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Р) -а, -я, -в, -вш, -вши, -ш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ff"/>
                </a:solidFill>
                <a:latin typeface="Arial"/>
              </a:rPr>
              <a:t>У) -енн-, -ши-, -вши-, -нн-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5c5ff"/>
                </a:solidFill>
                <a:latin typeface="Times New Roman"/>
              </a:rPr>
              <a:t>2.Выберите деепричастия.</a:t>
            </a:r>
            <a:endParaRPr b="1" lang="en-US" sz="5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Е) Крикнув, крикнувш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Л) Скакавший, увлёкш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К) Нёсши, говоривший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3.От какого словосочетания образовано деепричастие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З) добавочное действ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Н) дополнительное действие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П) причастный к действи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У)Как? Что делая? Что сделав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Е)Где? Куда? Что сделала? Почему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cc"/>
                </a:solidFill>
                <a:latin typeface="Arial"/>
              </a:rPr>
              <a:t>А)Что делая? Как? Где? Для чего?</a:t>
            </a:r>
            <a:endParaRPr b="0" lang="en-US" sz="36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9" name="WordArt 4"/>
          <p:cNvSpPr txBox="1"/>
          <p:nvPr/>
        </p:nvSpPr>
        <p:spPr>
          <a:xfrm>
            <a:off x="395280" y="47628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.Выберите вопросы деепричастия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) Вид, род, переходность, возвратност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) Вид, наклонение, переходност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) Переходность, вид, возвратность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WordArt 5"/>
          <p:cNvSpPr txBox="1"/>
          <p:nvPr/>
        </p:nvSpPr>
        <p:spPr>
          <a:xfrm>
            <a:off x="755640" y="260280"/>
            <a:ext cx="72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.Какие морфологически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2" name="WordArt 6"/>
          <p:cNvSpPr txBox="1"/>
          <p:nvPr/>
        </p:nvSpPr>
        <p:spPr>
          <a:xfrm>
            <a:off x="611280" y="907920"/>
            <a:ext cx="7705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знаки есть у деепричастия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914400" y="328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5.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4.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3.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2.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e1a8"/>
                </a:solidFill>
                <a:latin typeface="Arial"/>
              </a:rPr>
              <a:t>1.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WordArt 4"/>
          <p:cNvSpPr txBox="1"/>
          <p:nvPr/>
        </p:nvSpPr>
        <p:spPr>
          <a:xfrm>
            <a:off x="1187280" y="115920"/>
            <a:ext cx="6840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ЕРКА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5" name="Picture 6" descr="j0286034"/>
          <p:cNvPicPr/>
          <p:nvPr/>
        </p:nvPicPr>
        <p:blipFill>
          <a:blip r:embed="rId1"/>
          <a:stretch/>
        </p:blipFill>
        <p:spPr>
          <a:xfrm>
            <a:off x="3276720" y="3068640"/>
            <a:ext cx="4105080" cy="39387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0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392436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Ученица 6 «Б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убнова Мар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WordArt 4"/>
          <p:cNvSpPr txBox="1"/>
          <p:nvPr/>
        </p:nvSpPr>
        <p:spPr>
          <a:xfrm>
            <a:off x="324000" y="0"/>
            <a:ext cx="864684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Ё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0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5:16:21Z</dcterms:created>
  <dc:creator>User</dc:creator>
  <dc:description/>
  <dc:language>en-US</dc:language>
  <cp:lastModifiedBy>Мой</cp:lastModifiedBy>
  <dcterms:modified xsi:type="dcterms:W3CDTF">2012-03-24T14:52:43Z</dcterms:modified>
  <cp:revision>4</cp:revision>
  <dc:subject/>
  <dc:title>Тест на тему: Деепричаст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