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C22-C5A9-4F12-B063-26E522E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A0E-A634-4EF0-8F00-765247F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BF65A-DB26-4AA3-9A8B-EDFFDF77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04FD5-D1F0-4493-A99E-B7C93D46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52FDD-F62D-49C0-91C7-F46320F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61B3-65CA-4089-BC1F-5D3DB5E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A42FB-31C1-4BB0-A070-2972F98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7E198-7EAF-4835-B0FC-3032ACD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7062-141D-4241-967F-64999431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18B20-2D8A-4802-BE18-CF86475A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14218-9DFB-4479-9958-F5E117C9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97F5C-BD79-4C1D-8ADB-91E1D8C3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C64-E812-4D67-B13B-D46691AB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E6160-F246-4149-9684-00D81BEE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C1BFF-AB4F-41C8-B90C-76A4FCC3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B07C4-9025-455F-9493-1A8EABA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A16BD-C65A-4D40-83A3-28A9FB23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9F0BF-5705-483E-A1D7-AFE1B392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25765-6247-4EA8-8718-8AA0B2A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6AC0-2AD2-4610-8972-FCACFE6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16EB-4003-4099-B226-C2C08BD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A74B-F868-444F-8726-160DECF7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84D4C-F4E8-45C0-99FE-1CEBA4AE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B3D-6F33-4717-AFCD-121C1C78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B5F77-55E7-4043-B066-B525E02E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26A4E-D446-4852-8E89-94524B68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BB70-2CBB-4D95-AAA1-41CFB21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77A4-D150-46F1-A865-69BD153A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3623-9500-4DE7-8805-3D8D85EB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33FA-4A80-47E5-8A3A-EB63C6A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9466-8A84-4B32-B275-972E4336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7804-02EB-4958-A6FC-3A622FB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E82C-87A7-4073-AE9C-8E14AD2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D0623-D10A-4003-8B31-79BE205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DF9-F8AE-4D28-B823-7D9C6BA3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DFDAB-C538-421D-A4B9-C2C0996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0C6F-C27E-45CD-B8D0-741F6482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E0902-2C1F-43A0-A03C-F80C18A0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8E4B-6BF1-445F-8BE8-073CAC29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38DF9-6C2A-4EF5-8FD9-1C94E2B1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ADFBB-C51B-4655-A608-C2EF8479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623E6-B446-4D1D-A9ED-C6FC7B6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24354-31D4-407B-8248-C0A4B52C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19A2-0163-4098-8420-20455C50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3CB98-9DA9-4945-B609-3FD7B41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948-B725-40DC-8BF4-2343FF4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25A10-15CD-4B63-AB29-4FA42EE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7403-1C81-416F-B669-C5563F7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D5F33-DCAA-4E5D-8F32-3D5632C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9276-3B62-4DE6-B7CC-01C73AB4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35D2-AE58-4A3E-AF66-A7A2BC7F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D5F-7543-46C6-A2B6-D0F62EA0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9B9A-BD44-4066-9018-7EB2F98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0F67-6473-48E1-A29F-8528323E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980-C481-4F78-810C-25797DF4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D92-BAB6-4152-89B4-80850BD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C14-7EB2-4B45-ACAD-C450882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3B0-B554-4475-9707-B2C8F5B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8B46-BC78-4A47-8655-C304182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C0EE-24CB-4E27-81D4-469ECFF0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3DCA-1212-4D2D-841E-59F00780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CCE-F0B0-4AFE-818F-E931D132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57CD-F504-4074-9507-1C25779F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93C2-FDCB-4E01-93D7-2478789E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8A0A-BBB9-4E33-95CA-A5355B16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1BCA-2E87-47F2-92CC-D9308B69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6ADA-CF72-4CD6-88E7-E747CBCE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E6B-ADC5-48B7-823C-8BD2205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DB7A-F8B4-412B-873E-8153C67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37BD-AC40-419D-BF04-9DF4D15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59BF-C033-4845-93BA-17FFA99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0BFB-D411-4BE8-B8C0-D64E615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A1B8-8CD2-43A3-8428-A2E99A15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53DD-CA7C-4F23-B63F-58E890C3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89AF-0480-4F30-8DB3-A303499F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DB86-A2E4-466D-A412-C5852180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69EF-C862-4244-B4DC-2C21253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0CDC-11B0-4CD3-BC06-DFFC2BE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ADF-CAE9-4AC1-B816-6C45614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C0AB-A32B-47AD-B558-BE7ECFDE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B670-8611-4A73-B8BA-F679C3E1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8881-BA9D-4D52-89EF-BDAD8A2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E20B-3AF6-4E3F-AD7E-8ECBF54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65BE-9A2A-4312-A3C2-907B9F6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2703-20CB-45CF-9B8F-4FB73C4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572A-2DEC-4E28-B325-C111146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9CC78-8992-4F3D-9911-36EE0F7E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8634-6116-4915-99C2-DD836C91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A768F-BF57-4C27-8096-749586E2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5EA-E21C-4217-AE7F-BC8FE747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9DA7E-CC8E-4570-8D96-6B57DF9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D2D35-4398-4A51-8A10-D5000C64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C7358-1FA7-4108-BDB4-3ABABB5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1A123-1931-434E-B7F3-37FA572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47AEF-6E31-45C0-96B7-ADC5FBA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768B6-0A15-4848-BCA9-AA8CF80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C3AA0-ECD5-44BE-A429-34938C9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8C62F-EACA-4540-863C-EBFE0DF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0C29F-F5E9-45EC-A829-0073690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4B639-2685-4CE4-8E2E-1CB3B50D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E7B-D316-4FFF-9071-EB0F7FD4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6ED50-42AC-42DC-949B-F0CF27DA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6F00-1BB4-4D0B-BF13-3A79C24B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32A2-8FB2-45CF-80E5-2B31852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2885-FE9A-4C53-ADB1-35FD9DD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F5AA-7CD2-410D-88FD-37339414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1B6F-8459-4718-AE13-A2143D3B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2B2F-CD7C-4906-8E6B-6313B05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749F-0182-49AF-A8D5-86DBBC5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45E8-098C-4F4F-A568-4AAF9B6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AA211-4674-4A89-9EF7-E562D9F8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92A-AAE8-45CF-951C-AE422DB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E996-0FF6-47DB-8439-D74A2E5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4E0A-B20E-475E-B769-FBEED618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D5E1-FC65-41B7-AE81-14A0707E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90C3-094F-43DD-AB87-C8D3475E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8B17-70B1-4234-94EB-4BC0DDF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A00F-5A20-4AB1-8256-733964A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3D03-53B4-449D-B5B5-5DC98AC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5735-1738-4CFD-9EB7-3F27E206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F15D-412A-4DAF-B7D6-38A8050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CEB4-E647-49A1-B525-7C1D8DB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472-E943-4E69-A625-BA02F84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5DA1-6D2F-458C-B9E0-D4E640E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03F7-1518-440C-A1A7-BF1D11A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5A5A-B22C-4349-BD9B-134897E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849CD-D1CD-4B2E-9028-50D1E72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B885-F904-4507-AF56-85AE2210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E6B2-FE9F-4C51-82B0-8389FA7D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81A8-7FBA-482C-8D5A-66EBBC7F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D94F2-8A40-4053-AE15-FCB54E72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F075D-1D71-4DC6-A02D-1E563B3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49C8-37C3-44D9-B11C-B186F787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D41-237C-4E8D-9884-6888E314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5B4DC-F49B-46FD-8399-B51208C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5285-AB08-4C35-B8E8-27C43CD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972A-4B3E-4CDD-A7D7-EA3A074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B2F8-6ED0-4400-9645-1A77EB5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1294-68D5-431A-BC36-D6BA1D6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36C3-1327-429E-8D86-C6FAA984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9B004-297A-43BE-B3C1-6DD1B343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47EED-5DB1-4EF1-9F8D-9D421ABC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130D-2D8F-4809-B311-4C7FC88F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2BE62-2C24-4AC2-A002-694A6476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76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4119c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b14ba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a7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c08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6f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8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f0f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5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69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a21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12ac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82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63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76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a1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94"/>
                  </a:gs>
                  <a:gs pos="100000">
                    <a:srgbClr val="99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a21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10A8-F143-4862-9A7C-00121E55DF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9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9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2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01C8-2703-4330-A3D4-EC3DC796DF6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71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AB20-453F-46A0-8BC8-CFD3542E095A}" type="slidenum">
              <a:rPr b="0" lang="ru-RU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82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2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83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3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3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3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3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4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4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4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5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5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6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7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8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9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9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0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0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0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1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1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2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2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2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2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3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93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93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4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B77-3164-4E5C-B99E-1035BF7658F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50000">
                  <a:srgbClr val="9900ff"/>
                </a:gs>
                <a:gs pos="100000">
                  <a:srgbClr val="66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12C-97C6-4133-B871-05A11D5323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1A2-06B1-4823-B86C-48ADDF0332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3126-19AC-49C2-9142-C7879F48906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DB6-CE69-447F-B2FB-F8D0E8AC2A16}" type="slidenum">
              <a:rPr b="0" lang="ru-RU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7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2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3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DEA8-89BD-4256-B306-2A463A936FE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76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4119c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b14ba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a7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c08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6f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8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f0f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5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69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a21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12ac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82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63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76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a1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3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94"/>
                  </a:gs>
                  <a:gs pos="100000">
                    <a:srgbClr val="99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a21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8DF9-8565-430E-B90A-31F5ADAAAF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50000">
                  <a:srgbClr val="9900ff"/>
                </a:gs>
                <a:gs pos="100000">
                  <a:srgbClr val="66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C7B2-6B20-43B6-B809-4A9ACE6563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79B3-60D6-4DB3-9FE8-9DC33E0B55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WordArt 4"/>
          <p:cNvSpPr txBox="1"/>
          <p:nvPr/>
        </p:nvSpPr>
        <p:spPr>
          <a:xfrm>
            <a:off x="0" y="0"/>
            <a:ext cx="8964720" cy="587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ст  на  тему: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епричаст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1.Выберите суффиксы деепричастия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М) -ущ-, -ющ-, -ащ-, -ящ-, -вш-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-ш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Р) -а, -я, -в, -вш, -вши, -ш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У) -енн-, -ши-, -вши-, -нн-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2.Выберите деепричастия.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Е) Крикнув, крикнувш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Л) Скакавший, увлёкш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) Нёсши, говоривши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3.От какого словосочетания образовано деепричастие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З) добавочное действ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Н) дополнительное действ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П) причастный к действи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У)Как? Что делая? Что сделав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Е)Где? Куда? Что сделала? Почему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А)Что делая? Как? Где? Для чего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9" name="WordArt 4"/>
          <p:cNvSpPr txBox="1"/>
          <p:nvPr/>
        </p:nvSpPr>
        <p:spPr>
          <a:xfrm>
            <a:off x="395280" y="47628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.Выберите вопросы деепричастия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) Вид, род, переходность, возвратност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) Вид, наклонение, переходност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) Переходность, вид, возвратность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WordArt 5"/>
          <p:cNvSpPr txBox="1"/>
          <p:nvPr/>
        </p:nvSpPr>
        <p:spPr>
          <a:xfrm>
            <a:off x="755640" y="260280"/>
            <a:ext cx="72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.Какие морфологически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2" name="WordArt 6"/>
          <p:cNvSpPr txBox="1"/>
          <p:nvPr/>
        </p:nvSpPr>
        <p:spPr>
          <a:xfrm>
            <a:off x="611280" y="907920"/>
            <a:ext cx="770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и есть у деепричасти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914400" y="328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5.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4.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3.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1.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WordArt 4"/>
          <p:cNvSpPr txBox="1"/>
          <p:nvPr/>
        </p:nvSpPr>
        <p:spPr>
          <a:xfrm>
            <a:off x="1187280" y="115920"/>
            <a:ext cx="684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ЕРКА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5" name="Picture 6" descr="j0286034"/>
          <p:cNvPicPr/>
          <p:nvPr/>
        </p:nvPicPr>
        <p:blipFill>
          <a:blip r:embed="rId1"/>
          <a:stretch/>
        </p:blipFill>
        <p:spPr>
          <a:xfrm>
            <a:off x="3276720" y="3068640"/>
            <a:ext cx="4105080" cy="39387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0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392436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ченица 6 «Б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убнова Мар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WordArt 4"/>
          <p:cNvSpPr txBox="1"/>
          <p:nvPr/>
        </p:nvSpPr>
        <p:spPr>
          <a:xfrm>
            <a:off x="324000" y="0"/>
            <a:ext cx="864684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Ё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0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16:21Z</dcterms:created>
  <dc:creator>User</dc:creator>
  <dc:description/>
  <dc:language>en-US</dc:language>
  <cp:lastModifiedBy>Мой</cp:lastModifiedBy>
  <dcterms:modified xsi:type="dcterms:W3CDTF">2012-03-24T14:52:43Z</dcterms:modified>
  <cp:revision>4</cp:revision>
  <dc:subject/>
  <dc:title>Тест на тему: Деепричаст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