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8BA-FB9F-43D6-99CF-DF082CB4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DC5-5372-4B60-AC88-40FCDAC9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820-BE11-4AB1-80C3-A90ED9C0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E25-A821-49ED-810C-032294C7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3D6E-B04A-4175-9E17-6FCFE333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229C-291F-4D51-83CF-9A20054D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3C16-3F04-4D88-86C6-74984F26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2D39-2E3B-45A7-A091-8E13F0A5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8859-A319-46BD-8BE4-32A3A22F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4AB5-8884-499A-B86D-5F847367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01A5-E208-46F7-8BD1-CCF4DA99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289-15B2-4651-86D0-8E4F36AE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E372-A0D1-4B04-AFFD-F635FC5E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18EB-21A6-4A99-AF28-8F2BCD4C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B103-89E8-4956-8F1E-43D8E0A8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61BE-E6DD-4CA0-8F8C-BB383632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ABA8-DFA1-443D-BE90-BDA3F97F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27F-6E22-4971-ACA8-1D85A4C7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5DD-503D-46A6-B6B1-2852E4AF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D20-AE49-4407-9071-F5C6690B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E10-F8D7-4132-81A7-DED86582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D24-6AE1-4F53-AD22-EEC3BEFD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71D-5C97-44EC-8E0A-8BF4840E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FDA-258B-463D-AC61-B68176D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8548-AD78-44FD-A09F-CD6B6DF9EA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d4a4b54241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EC4E-B0FF-48E4-969B-8EA4A696E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123640" y="5805000"/>
            <a:ext cx="55198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Ноябрь 2012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2" descr="D:\Мама\скачанный материал\эмблема ДОУ пингвинчик.png"/>
          <p:cNvPicPr/>
          <p:nvPr/>
        </p:nvPicPr>
        <p:blipFill>
          <a:blip r:embed="rId1"/>
          <a:stretch/>
        </p:blipFill>
        <p:spPr>
          <a:xfrm>
            <a:off x="6834240" y="214200"/>
            <a:ext cx="2114640" cy="23576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5" descr=""/>
          <p:cNvPicPr/>
          <p:nvPr/>
        </p:nvPicPr>
        <p:blipFill>
          <a:blip r:embed="rId2"/>
          <a:stretch/>
        </p:blipFill>
        <p:spPr>
          <a:xfrm>
            <a:off x="133200" y="23760"/>
            <a:ext cx="6900840" cy="26701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" descr=""/>
          <p:cNvPicPr/>
          <p:nvPr/>
        </p:nvPicPr>
        <p:blipFill>
          <a:blip r:embed="rId3"/>
          <a:stretch/>
        </p:blipFill>
        <p:spPr>
          <a:xfrm>
            <a:off x="353880" y="2225520"/>
            <a:ext cx="7021800" cy="28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 этой серии книг О. Земцовой вот такие задания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7" descr="22-333.jpg"/>
          <p:cNvPicPr/>
          <p:nvPr/>
        </p:nvPicPr>
        <p:blipFill>
          <a:blip r:embed="rId1"/>
          <a:stretch/>
        </p:blipFill>
        <p:spPr>
          <a:xfrm rot="19306200">
            <a:off x="-923400" y="1874520"/>
            <a:ext cx="5956200" cy="369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 rot="19315800">
            <a:off x="263160" y="1959120"/>
            <a:ext cx="6070680" cy="38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 rot="19395600">
            <a:off x="1949400" y="1888920"/>
            <a:ext cx="6229440" cy="404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Picture 4" descr=""/>
          <p:cNvPicPr/>
          <p:nvPr/>
        </p:nvPicPr>
        <p:blipFill>
          <a:blip r:embed="rId4"/>
          <a:stretch/>
        </p:blipFill>
        <p:spPr>
          <a:xfrm rot="3143400">
            <a:off x="4466520" y="981720"/>
            <a:ext cx="4368600" cy="567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ругая серия книг О. Земц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одержимое 5" descr="2-3.jpg"/>
          <p:cNvPicPr/>
          <p:nvPr/>
        </p:nvPicPr>
        <p:blipFill>
          <a:blip r:embed="rId1"/>
          <a:stretch/>
        </p:blipFill>
        <p:spPr>
          <a:xfrm>
            <a:off x="285840" y="785880"/>
            <a:ext cx="2381040" cy="304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4071960" y="785880"/>
            <a:ext cx="2381400" cy="31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6357960" y="3429000"/>
            <a:ext cx="2381400" cy="306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4" descr=""/>
          <p:cNvPicPr/>
          <p:nvPr/>
        </p:nvPicPr>
        <p:blipFill>
          <a:blip r:embed="rId4"/>
          <a:stretch/>
        </p:blipFill>
        <p:spPr>
          <a:xfrm>
            <a:off x="1785960" y="3571920"/>
            <a:ext cx="238140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40"/>
                            </p:stCondLst>
                            <p:childTnLst>
                              <p:par>
                                <p:cTn id="2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4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40"/>
                            </p:stCondLst>
                            <p:childTnLst>
                              <p:par>
                                <p:cTn id="2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040"/>
                            </p:stCondLst>
                            <p:childTnLst>
                              <p:par>
                                <p:cTn id="2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400880" cy="484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В этой серии умных книг вот такие задани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1571760"/>
            <a:ext cx="28954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071880" y="2428920"/>
            <a:ext cx="2928960" cy="409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Picture 4" descr=""/>
          <p:cNvPicPr/>
          <p:nvPr/>
        </p:nvPicPr>
        <p:blipFill>
          <a:blip r:embed="rId4"/>
          <a:stretch/>
        </p:blipFill>
        <p:spPr>
          <a:xfrm>
            <a:off x="6180120" y="1571760"/>
            <a:ext cx="296388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440"/>
                            </p:stCondLst>
                            <p:childTnLst>
                              <p:par>
                                <p:cTn id="3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440"/>
                            </p:stCondLst>
                            <p:childTnLst>
                              <p:par>
                                <p:cTn id="3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440"/>
                            </p:stCondLst>
                            <p:childTnLst>
                              <p:par>
                                <p:cTn id="3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440"/>
                            </p:stCondLst>
                            <p:childTnLst>
                              <p:par>
                                <p:cTn id="3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13920" y="213840"/>
            <a:ext cx="65581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сё хорошее в людях – из детств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Как истоки добра пробуд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рикоснуться к природе всем сердц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дивиться, узнать, полюби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ы хотим, чтоб земля расцветал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 росли, как цветы, малыш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Чтоб для них экология ст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Не наукой, а частью душ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2" descr="D:\Мама\скачанный материал\эмблема ДОУ пингвинчик.png"/>
          <p:cNvPicPr/>
          <p:nvPr/>
        </p:nvPicPr>
        <p:blipFill>
          <a:blip r:embed="rId1"/>
          <a:stretch/>
        </p:blipFill>
        <p:spPr>
          <a:xfrm>
            <a:off x="7358040" y="1000080"/>
            <a:ext cx="160164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ажным методом экологического воспитания является слово, его правильное использование в различных формах работы с детьми. Словесный метод связан, прежде всего, с чтением художественной литературы и включает в себя: само чтение литературного текста, вопросы к тексту, пояснения воспитателя, пересказ детей, беседа о прочитанно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5" descr="DSC09888.JPG"/>
          <p:cNvPicPr/>
          <p:nvPr/>
        </p:nvPicPr>
        <p:blipFill>
          <a:blip r:embed="rId1"/>
          <a:stretch/>
        </p:blipFill>
        <p:spPr>
          <a:xfrm>
            <a:off x="5143680" y="1500120"/>
            <a:ext cx="307152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285840" y="1714680"/>
            <a:ext cx="2460600" cy="285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2571840" y="3857760"/>
            <a:ext cx="2274840" cy="262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Дети слушают литературные произведения, разыгрывают сказки, стихотворения, вместе с воспитателем создают к ним иллюстрации, поделки из природного материала. Такие  разные формы деятельности позволяют ребенку понять новую информацию и обнаружить свое понимание недоступных для наблюдения явлений природы, их взаимосвязи между соб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DSC09840.JPG"/>
          <p:cNvPicPr/>
          <p:nvPr/>
        </p:nvPicPr>
        <p:blipFill>
          <a:blip r:embed="rId1"/>
          <a:stretch/>
        </p:blipFill>
        <p:spPr>
          <a:xfrm>
            <a:off x="285840" y="1857240"/>
            <a:ext cx="431784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071960" y="3357720"/>
            <a:ext cx="4762440" cy="31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libri"/>
              </a:rPr>
              <a:t>Для воспитания у детей ценностного отношения к природе, эстетического и эмоционального отклика на ее объекты в системе экологической работы с детьми используют детскую природоведческую книгу. Детская природоведческая книга - это книга о природе, которая  является для детей источником научно-достоверных знаний. В ней писатели-природоведы знакомят детей с природой, используя жанры познавательной сказки и реалистического рассказа. Их произведения не только дают детям знания, но и учат их точной наблюдательност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201276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571920" y="1643040"/>
            <a:ext cx="218268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572160" y="1643040"/>
            <a:ext cx="188280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1714680" y="4214880"/>
            <a:ext cx="17287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5500800" y="4214880"/>
            <a:ext cx="163836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исунки-иллюстрации в дошкольном возрасте воспринимаются ребенком как точное отражение действительности, почти как сама действительность. Поэтому изображения должны быть узнаваемы и понятны, статичны. Иллюстрация в произведениях художественной литературы тесно связана с текстом и способствует пониманию его смысла. Таким образом, в познавательной книге рисунок выполняет познавательные, дополняющие и эстетические функции, наряду с текстом формируя систему знаний и представлений детей об окружающем их мире.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DSC09815.JPG"/>
          <p:cNvPicPr/>
          <p:nvPr/>
        </p:nvPicPr>
        <p:blipFill>
          <a:blip r:embed="rId1"/>
          <a:stretch/>
        </p:blipFill>
        <p:spPr>
          <a:xfrm rot="19950600">
            <a:off x="549000" y="2793600"/>
            <a:ext cx="4114800" cy="276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Picture 4" descr="D:\Мама\презентация к педсовету\DSC09816.JPG"/>
          <p:cNvPicPr/>
          <p:nvPr/>
        </p:nvPicPr>
        <p:blipFill>
          <a:blip r:embed="rId2"/>
          <a:stretch/>
        </p:blipFill>
        <p:spPr>
          <a:xfrm rot="19861200">
            <a:off x="4119480" y="2827080"/>
            <a:ext cx="4438800" cy="281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Иногда трудно найти хорошо проиллюстрированную природоведческую книгу, и, в таком случае, воспитатели нашего детского сада пользуются материалами методического кабинета, где можно найти очень интересные для ознакомления с окружающим миром материа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DSC09896.JPG"/>
          <p:cNvPicPr/>
          <p:nvPr/>
        </p:nvPicPr>
        <p:blipFill>
          <a:blip r:embed="rId1"/>
          <a:stretch/>
        </p:blipFill>
        <p:spPr>
          <a:xfrm rot="19491600">
            <a:off x="242640" y="2555640"/>
            <a:ext cx="4081320" cy="28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 rot="19486800">
            <a:off x="1311120" y="2420640"/>
            <a:ext cx="4110120" cy="28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 rot="3305400">
            <a:off x="2902320" y="1954800"/>
            <a:ext cx="2879640" cy="439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 rot="19510200">
            <a:off x="3044520" y="2653920"/>
            <a:ext cx="4695840" cy="28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5"/>
          <a:stretch/>
        </p:blipFill>
        <p:spPr>
          <a:xfrm rot="19497600">
            <a:off x="4194000" y="2682360"/>
            <a:ext cx="4534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84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840"/>
                            </p:stCondLst>
                            <p:childTnLst>
                              <p:par>
                                <p:cTn id="1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484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784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840"/>
                            </p:stCondLst>
                            <p:childTnLst>
                              <p:par>
                                <p:cTn id="1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868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качестве основных можно назвать следующие требования к иллюстрациям                    книг для детей: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иллюстрации должны быть связаны с замыслом писателя, должны помочь ребенку понять основные моменты содержания книги, подсказать, как относится автор к героям и их поступкам, дополняя тем самым смысл текста;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мера, степень полноты отражения содержания в иллюстрациях должна определяться функциями, которые они выполняют; 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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  учитываются такие факторы, как возраст читателя, специфика содержания произведения литературы.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обходимо учитывать: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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достоверность изображений, их схожесть с реальными предметами и явлениями, узнаваемость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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целостность иллюстративного ряда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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эстетическую ценность иллюстраций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ри выборе художественных произведений о природе для чтения их детям воспитателю нужно помнить о том, что: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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    сообщаемые автором сведения о природе должны быть правильными, реалистичными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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    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вязи и закономерности природы раскрыты в доступной детям степени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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  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 произведение должно быть занимательным (интересная фабула, четкая сюжетная линия)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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   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но должно быть эмоциональным, насыщенным поэтическими оборотами, выразительными средств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Для ведения эколого-воспитательного процесса в ДОУ необходимы разные книги. Целесообразно также использование различных энциклопедий. Дети с большим интересом рассматривают их, делятся впечатлениями. А самое главное – у детей появляется огромный интерес к познанию нового , ещё неизвестного для них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5" descr="DSC09890.JPG"/>
          <p:cNvPicPr/>
          <p:nvPr/>
        </p:nvPicPr>
        <p:blipFill>
          <a:blip r:embed="rId1"/>
          <a:stretch/>
        </p:blipFill>
        <p:spPr>
          <a:xfrm>
            <a:off x="214200" y="1428840"/>
            <a:ext cx="2860920" cy="36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214800" y="242892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6072120" y="3071880"/>
            <a:ext cx="28479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840"/>
                            </p:stCondLst>
                            <p:childTnLst>
                              <p:par>
                                <p:cTn id="1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84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4840"/>
                            </p:stCondLst>
                            <p:childTnLst>
                              <p:par>
                                <p:cTn id="1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ратите внимание!</a:t>
            </a:r>
            <a:br>
              <a:rPr sz="3200"/>
            </a:b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Умные книжки Ольги Земцовой (изд. Маха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(3-4).jpg"/>
          <p:cNvPicPr/>
          <p:nvPr/>
        </p:nvPicPr>
        <p:blipFill>
          <a:blip r:embed="rId1"/>
          <a:stretch/>
        </p:blipFill>
        <p:spPr>
          <a:xfrm rot="1143000">
            <a:off x="1819080" y="3519360"/>
            <a:ext cx="2450880" cy="327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 rot="1170600">
            <a:off x="4889520" y="1306440"/>
            <a:ext cx="2381400" cy="316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 rot="1158600">
            <a:off x="6690960" y="3564000"/>
            <a:ext cx="238140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 rot="1174200">
            <a:off x="184320" y="878040"/>
            <a:ext cx="2381040" cy="321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4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2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Admin</cp:lastModifiedBy>
  <dcterms:modified xsi:type="dcterms:W3CDTF">2013-02-12T17:26:12Z</dcterms:modified>
  <cp:revision>43</cp:revision>
  <dc:subject/>
  <dc:title>Слайд 1</dc:title>
</cp:coreProperties>
</file>