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gif" ContentType="image/gif"/>
  <Override PartName="/ppt/media/pluck.wav" ContentType="audio/x-wav"/>
  <Override PartName="/ppt/media/chimes.wav" ContentType="audio/x-wav"/>
  <Override PartName="/ppt/media/image13.gif" ContentType="image/gif"/>
  <Override PartName="/ppt/media/image18.jpeg" ContentType="image/jpeg"/>
  <Override PartName="/ppt/media/image17.gif" ContentType="image/gif"/>
  <Override PartName="/ppt/media/image16.wmf" ContentType="image/x-wmf"/>
  <Override PartName="/ppt/media/image15.gif" ContentType="image/gif"/>
  <Override PartName="/ppt/media/image14.gif" ContentType="image/gif"/>
  <Override PartName="/ppt/media/image11.png" ContentType="image/png"/>
  <Override PartName="/ppt/media/image1.jpeg" ContentType="image/jpeg"/>
  <Override PartName="/ppt/media/glasses.wav" ContentType="audio/x-wav"/>
  <Override PartName="/ppt/media/image3.jpeg" ContentType="image/jpeg"/>
  <Override PartName="/ppt/media/image12.gif" ContentType="image/gif"/>
  <Override PartName="/ppt/media/image4.jpeg" ContentType="image/jpeg"/>
  <Override PartName="/ppt/media/image2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C69-BEB3-404A-97A6-62624ACF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0458-B6D0-439D-B3F5-64BC5FAE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38B-CC59-45C5-A1AC-6599FF41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7B1-22B4-45FC-B62F-41186B8B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BB65-A08C-472C-8670-1B76A320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30D9-AF83-44D3-86C7-9A246470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1FD7-7838-41ED-8537-FE0F1E0A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335A-9D49-4589-B09D-536E9092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01D4-6C55-42D1-BC4F-94E1D65E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8D05-32C1-4936-915E-1955737F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7464-5712-49BB-B3CB-AC5C8242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743-F5A4-43E5-92B7-00C1AD89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5662-E3FE-4278-AC82-E71302D1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F946-6369-4E4F-AC2B-5797F48D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1CC6-32BD-4777-8C18-9448952F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493F-7DE2-4A48-ABB3-290F6DF4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F46F-74FA-4EE2-A666-C5BC026A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C0BA0-A575-4713-A628-FBD4C56F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3EDF6-BA98-4696-AEFB-F0F82612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FC9E-5D51-4346-97D6-0B363FD0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44E0-5AFE-4E59-AD71-D2026630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1A37B-FD50-4607-97E6-905FBE57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4E5-6406-4C68-8AA6-6E8E8873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2E6C-876B-4750-9D1C-E3989839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861D7-A4BE-4BA9-AC98-667066D7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DE68-6CA5-4805-80CC-94506E52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CFC03-BA96-409A-AD8B-38DB0D3B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E6A6-FD7D-4D5C-A14F-2F6EBEA7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DF20F-E76A-41FA-AA2F-E6FF7706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E69EA-1D1A-4222-983E-BFE76B38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D9E97-C4F1-46CC-91C3-FFEC47F8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8E961-7428-42B6-B561-AF89FCE9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A7853-28E1-4E32-BE13-8E8862C0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BFF-BEDA-4E06-8C31-C2C1507C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1CCF5-FC04-413D-B716-826680BA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509D5-DA88-47F2-BE7A-537FF4DB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A09CC-8230-4544-88CF-8F7DA9E5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5CA98-7814-41E6-AEEA-F2308D2A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17E6F-EEC4-4006-92C6-6C7C21BD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E3EDC-483B-48B6-B804-2EEEDBC8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C672-BF24-4A16-B998-202DDBCE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355F7-DC52-4941-8E1E-FF907415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90585-A143-492B-BF13-F84DD159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31F6E-685C-4567-824E-EF08B6CF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B98-E819-4E65-869E-1AAD435A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958AA-67E0-4603-A816-E5A035CD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F869A-EF4A-4061-8F38-133C0027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32557-4532-47E9-8294-067FC6A2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CC763-2EDF-49AE-AF53-71E6F1EA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0A350-EC31-4834-82C9-F11F6BDA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9C9A6-4C84-4A41-BD27-7EB49D0D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5DBC6-6B06-4DF6-B798-63730800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D398B-3F7C-4053-9808-1F91FABB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F70CD-B048-4D0A-90CF-CCBAECF5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3070B-86F7-43A2-844D-CF86F43B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A098-E21D-45D6-AD2F-FF725D80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83D6E-A0AF-4967-839F-3EBFCB57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E80B7-91BA-49E0-9DE3-800A8440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AF175-F58A-429D-BBB5-A0163DE6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67E2D-92F2-440C-B113-2098EE07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32EF7-3098-44BC-92BE-26357DCF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3E72B-B958-49F0-B8AD-C473E7B1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1AD72-9EF6-4610-AFE7-ECFF5588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FA1A8-445D-49DE-9615-B43152B1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85E29-AA5C-4B61-8C2F-2564D105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00ACD-8C58-4268-90B6-54296741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A48-8348-4482-B251-A8F12633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80730-47FB-4046-B22B-4C8A721A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AD737-2666-4578-ACF5-2349B420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3C54B-25DB-458F-83BA-606F10B2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145-E3B2-43A6-AAAB-A592CE04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34AF68-7932-487D-949D-FDDEAD61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1184BB-345D-4130-91B5-620CBB1D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943323-73EE-44E0-B1F6-19B4D322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907C83-4D57-4363-8390-5DDB649E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BEA673-812E-4117-A21D-41202CBE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224-E641-4FF4-BCA6-C5EFB8E4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789E60-42E7-4BAE-9B09-3C8CB448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259591-C59C-4B34-8B7E-1638B57D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3F2395-C0C6-4D19-A833-36DD43A0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FDB214-D994-434F-BE85-9234AFDF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F676DD-E7AD-4B81-B82E-C6C01ABD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484149-5692-4F5C-865E-96C85D46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D882FD-1C89-4550-82C2-D946878F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7EB3-BDB6-4E88-9AC1-184BB62DD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78D4-BFDC-4755-8FFC-0A65AC254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3390-1CCD-49B8-90C4-5A05E3484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557A-AE85-4D81-84EB-80C1F517E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4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5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FFBF-B854-408D-971E-8D953C820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D61D-BA8C-4035-8816-2A84C60F6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ftr" idx="19"/>
          </p:nvPr>
        </p:nvSpPr>
        <p:spPr>
          <a:xfrm>
            <a:off x="2410920" y="6248520"/>
            <a:ext cx="51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Сообщество "ИКТ в начальной школе". 200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body"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PlaceHolder 1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6179-0CEC-4704-9F28-E5B344DDE7BA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pluck.wav"/><Relationship Id="rId3" Type="http://schemas.openxmlformats.org/officeDocument/2006/relationships/audio" Target="../media/pluck.wav"/><Relationship Id="rId4" Type="http://schemas.openxmlformats.org/officeDocument/2006/relationships/audio" Target="../media/pluck.wav"/><Relationship Id="rId5" Type="http://schemas.openxmlformats.org/officeDocument/2006/relationships/audio" Target="../media/pluck.wav"/><Relationship Id="rId6" Type="http://schemas.openxmlformats.org/officeDocument/2006/relationships/audio" Target="../media/pluck.wav"/><Relationship Id="rId7" Type="http://schemas.openxmlformats.org/officeDocument/2006/relationships/audio" Target="../media/pluck.wav"/><Relationship Id="rId8" Type="http://schemas.openxmlformats.org/officeDocument/2006/relationships/audio" Target="../media/pluck.wav"/><Relationship Id="rId9" Type="http://schemas.openxmlformats.org/officeDocument/2006/relationships/audio" Target="../media/pluck.wav"/><Relationship Id="rId10" Type="http://schemas.openxmlformats.org/officeDocument/2006/relationships/audio" Target="../media/pluck.wav"/><Relationship Id="rId11" Type="http://schemas.openxmlformats.org/officeDocument/2006/relationships/audio" Target="../media/pluck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pluck.wav"/><Relationship Id="rId18" Type="http://schemas.openxmlformats.org/officeDocument/2006/relationships/audio" Target="../media/pluck.wav"/><Relationship Id="rId19" Type="http://schemas.openxmlformats.org/officeDocument/2006/relationships/audio" Target="../media/pluck.wav"/><Relationship Id="rId20" Type="http://schemas.openxmlformats.org/officeDocument/2006/relationships/audio" Target="../media/pluck.wav"/><Relationship Id="rId21" Type="http://schemas.openxmlformats.org/officeDocument/2006/relationships/audio" Target="../media/pluck.wav"/><Relationship Id="rId2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audio" Target="../media/chimes.wav"/><Relationship Id="rId10" Type="http://schemas.openxmlformats.org/officeDocument/2006/relationships/audio" Target="../media/glasses.wav"/><Relationship Id="rId11" Type="http://schemas.openxmlformats.org/officeDocument/2006/relationships/audio" Target="../media/glasses.wav"/><Relationship Id="rId12" Type="http://schemas.openxmlformats.org/officeDocument/2006/relationships/audio" Target="../media/chimes.wav"/><Relationship Id="rId13" Type="http://schemas.openxmlformats.org/officeDocument/2006/relationships/audio" Target="../media/glasses.wav"/><Relationship Id="rId14" Type="http://schemas.openxmlformats.org/officeDocument/2006/relationships/audio" Target="../media/chimes.wav"/><Relationship Id="rId15" Type="http://schemas.openxmlformats.org/officeDocument/2006/relationships/audio" Target="../media/glasses.wav"/><Relationship Id="rId16" Type="http://schemas.openxmlformats.org/officeDocument/2006/relationships/audio" Target="../media/chimes.wav"/><Relationship Id="rId17" Type="http://schemas.openxmlformats.org/officeDocument/2006/relationships/audio" Target="../media/glasses.wav"/><Relationship Id="rId18" Type="http://schemas.openxmlformats.org/officeDocument/2006/relationships/audio" Target="../media/chimes.wav"/><Relationship Id="rId19" Type="http://schemas.openxmlformats.org/officeDocument/2006/relationships/audio" Target="../media/glass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glasses.wav"/><Relationship Id="rId23" Type="http://schemas.openxmlformats.org/officeDocument/2006/relationships/audio" Target="../media/glasses.wav"/><Relationship Id="rId24" Type="http://schemas.openxmlformats.org/officeDocument/2006/relationships/audio" Target="../media/chimes.wav"/><Relationship Id="rId25" Type="http://schemas.openxmlformats.org/officeDocument/2006/relationships/audio" Target="../media/glasses.wav"/><Relationship Id="rId26" Type="http://schemas.openxmlformats.org/officeDocument/2006/relationships/audio" Target="../media/chimes.wav"/><Relationship Id="rId27" Type="http://schemas.openxmlformats.org/officeDocument/2006/relationships/audio" Target="../media/glasses.wav"/><Relationship Id="rId28" Type="http://schemas.openxmlformats.org/officeDocument/2006/relationships/audio" Target="../media/chimes.wav"/><Relationship Id="rId29" Type="http://schemas.openxmlformats.org/officeDocument/2006/relationships/audio" Target="../media/glasses.wav"/><Relationship Id="rId30" Type="http://schemas.openxmlformats.org/officeDocument/2006/relationships/audio" Target="../media/chimes.wav"/><Relationship Id="rId31" Type="http://schemas.openxmlformats.org/officeDocument/2006/relationships/audio" Target="../media/glasses.wav"/><Relationship Id="rId32" Type="http://schemas.openxmlformats.org/officeDocument/2006/relationships/audio" Target="../media/chimes.wav"/><Relationship Id="rId33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pluck.wav"/><Relationship Id="rId3" Type="http://schemas.openxmlformats.org/officeDocument/2006/relationships/audio" Target="../media/pluck.wav"/><Relationship Id="rId4" Type="http://schemas.openxmlformats.org/officeDocument/2006/relationships/audio" Target="../media/pluck.wav"/><Relationship Id="rId5" Type="http://schemas.openxmlformats.org/officeDocument/2006/relationships/audio" Target="../media/chimes.wav"/><Relationship Id="rId6" Type="http://schemas.openxmlformats.org/officeDocument/2006/relationships/audio" Target="../media/pluck.wav"/><Relationship Id="rId7" Type="http://schemas.openxmlformats.org/officeDocument/2006/relationships/audio" Target="../media/pluck.wav"/><Relationship Id="rId8" Type="http://schemas.openxmlformats.org/officeDocument/2006/relationships/audio" Target="../media/pluck.wav"/><Relationship Id="rId9" Type="http://schemas.openxmlformats.org/officeDocument/2006/relationships/audio" Target="../media/pluck.wav"/><Relationship Id="rId10" Type="http://schemas.openxmlformats.org/officeDocument/2006/relationships/audio" Target="../media/chimes.wav"/><Relationship Id="rId11" Type="http://schemas.openxmlformats.org/officeDocument/2006/relationships/audio" Target="../media/pluck.wav"/><Relationship Id="rId12" Type="http://schemas.openxmlformats.org/officeDocument/2006/relationships/audio" Target="../media/pluck.wav"/><Relationship Id="rId13" Type="http://schemas.openxmlformats.org/officeDocument/2006/relationships/audio" Target="../media/pluck.wav"/><Relationship Id="rId14" Type="http://schemas.openxmlformats.org/officeDocument/2006/relationships/audio" Target="../media/pluck.wav"/><Relationship Id="rId15" Type="http://schemas.openxmlformats.org/officeDocument/2006/relationships/audio" Target="../media/pluck.wav"/><Relationship Id="rId16" Type="http://schemas.openxmlformats.org/officeDocument/2006/relationships/audio" Target="../media/pluck.wav"/><Relationship Id="rId17" Type="http://schemas.openxmlformats.org/officeDocument/2006/relationships/audio" Target="../media/pluck.wav"/><Relationship Id="rId18" Type="http://schemas.openxmlformats.org/officeDocument/2006/relationships/audio" Target="../media/pluck.wav"/><Relationship Id="rId19" Type="http://schemas.openxmlformats.org/officeDocument/2006/relationships/audio" Target="../media/pluck.wav"/><Relationship Id="rId20" Type="http://schemas.openxmlformats.org/officeDocument/2006/relationships/audio" Target="../media/pluck.wav"/><Relationship Id="rId21" Type="http://schemas.openxmlformats.org/officeDocument/2006/relationships/audio" Target="../media/pluck.wav"/><Relationship Id="rId22" Type="http://schemas.openxmlformats.org/officeDocument/2006/relationships/audio" Target="../media/pluck.wav"/><Relationship Id="rId23" Type="http://schemas.openxmlformats.org/officeDocument/2006/relationships/audio" Target="../media/pluck.wav"/><Relationship Id="rId24" Type="http://schemas.openxmlformats.org/officeDocument/2006/relationships/audio" Target="../media/chimes.wav"/><Relationship Id="rId25" Type="http://schemas.openxmlformats.org/officeDocument/2006/relationships/audio" Target="../media/pluck.wav"/><Relationship Id="rId26" Type="http://schemas.openxmlformats.org/officeDocument/2006/relationships/audio" Target="../media/pluck.wav"/><Relationship Id="rId27" Type="http://schemas.openxmlformats.org/officeDocument/2006/relationships/audio" Target="../media/pluck.wav"/><Relationship Id="rId28" Type="http://schemas.openxmlformats.org/officeDocument/2006/relationships/audio" Target="../media/pluck.wav"/><Relationship Id="rId29" Type="http://schemas.openxmlformats.org/officeDocument/2006/relationships/audio" Target="../media/pluck.wav"/><Relationship Id="rId30" Type="http://schemas.openxmlformats.org/officeDocument/2006/relationships/audio" Target="../media/pluck.wav"/><Relationship Id="rId31" Type="http://schemas.openxmlformats.org/officeDocument/2006/relationships/audio" Target="../media/pluck.wav"/><Relationship Id="rId32" Type="http://schemas.openxmlformats.org/officeDocument/2006/relationships/audio" Target="../media/pluck.wav"/><Relationship Id="rId33" Type="http://schemas.openxmlformats.org/officeDocument/2006/relationships/audio" Target="../media/pluck.wav"/><Relationship Id="rId34" Type="http://schemas.openxmlformats.org/officeDocument/2006/relationships/audio" Target="../media/pluck.wav"/><Relationship Id="rId35" Type="http://schemas.openxmlformats.org/officeDocument/2006/relationships/audio" Target="../media/pluck.wav"/><Relationship Id="rId36" Type="http://schemas.openxmlformats.org/officeDocument/2006/relationships/audio" Target="../media/pluck.wav"/><Relationship Id="rId37" Type="http://schemas.openxmlformats.org/officeDocument/2006/relationships/audio" Target="../media/pluck.wav"/><Relationship Id="rId38" Type="http://schemas.openxmlformats.org/officeDocument/2006/relationships/audio" Target="../media/chimes.wav"/><Relationship Id="rId39" Type="http://schemas.openxmlformats.org/officeDocument/2006/relationships/audio" Target="../media/pluck.wav"/><Relationship Id="rId40" Type="http://schemas.openxmlformats.org/officeDocument/2006/relationships/audio" Target="../media/pluck.wav"/><Relationship Id="rId41" Type="http://schemas.openxmlformats.org/officeDocument/2006/relationships/audio" Target="../media/pluck.wav"/><Relationship Id="rId42" Type="http://schemas.openxmlformats.org/officeDocument/2006/relationships/audio" Target="../media/pluck.wav"/><Relationship Id="rId43" Type="http://schemas.openxmlformats.org/officeDocument/2006/relationships/audio" Target="../media/chimes.wav"/><Relationship Id="rId44" Type="http://schemas.openxmlformats.org/officeDocument/2006/relationships/audio" Target="../media/pluck.wav"/><Relationship Id="rId45" Type="http://schemas.openxmlformats.org/officeDocument/2006/relationships/audio" Target="../media/pluck.wav"/><Relationship Id="rId46" Type="http://schemas.openxmlformats.org/officeDocument/2006/relationships/audio" Target="../media/pluck.wav"/><Relationship Id="rId47" Type="http://schemas.openxmlformats.org/officeDocument/2006/relationships/audio" Target="../media/pluck.wav"/><Relationship Id="rId48" Type="http://schemas.openxmlformats.org/officeDocument/2006/relationships/audio" Target="../media/pluck.wav"/><Relationship Id="rId49" Type="http://schemas.openxmlformats.org/officeDocument/2006/relationships/audio" Target="../media/pluck.wav"/><Relationship Id="rId50" Type="http://schemas.openxmlformats.org/officeDocument/2006/relationships/audio" Target="../media/pluck.wav"/><Relationship Id="rId51" Type="http://schemas.openxmlformats.org/officeDocument/2006/relationships/audio" Target="../media/pluck.wav"/><Relationship Id="rId52" Type="http://schemas.openxmlformats.org/officeDocument/2006/relationships/audio" Target="../media/pluck.wav"/><Relationship Id="rId53" Type="http://schemas.openxmlformats.org/officeDocument/2006/relationships/audio" Target="../media/pluck.wav"/><Relationship Id="rId54" Type="http://schemas.openxmlformats.org/officeDocument/2006/relationships/audio" Target="../media/chimes.wav"/><Relationship Id="rId55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hyperlink" Target="file:///usr/lib/libreoffice/share/gallery/sounds/apert.wav" TargetMode="External"/><Relationship Id="rId10" Type="http://schemas.openxmlformats.org/officeDocument/2006/relationships/hyperlink" Target="file:///tmp/home/.config/libreoffice/4/user/gallery/arrow.wav" TargetMode="External"/><Relationship Id="rId11" Type="http://schemas.openxmlformats.org/officeDocument/2006/relationships/hyperlink" Target="file:///usr/lib/libreoffice/share/gallery/sounds/apert.wav" TargetMode="External"/><Relationship Id="rId1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pluck.wav"/><Relationship Id="rId4" Type="http://schemas.openxmlformats.org/officeDocument/2006/relationships/audio" Target="../media/pluck.wav"/><Relationship Id="rId5" Type="http://schemas.openxmlformats.org/officeDocument/2006/relationships/audio" Target="../media/pluck.wav"/><Relationship Id="rId6" Type="http://schemas.openxmlformats.org/officeDocument/2006/relationships/audio" Target="../media/pluck.wav"/><Relationship Id="rId7" Type="http://schemas.openxmlformats.org/officeDocument/2006/relationships/audio" Target="../media/pluck.wav"/><Relationship Id="rId8" Type="http://schemas.openxmlformats.org/officeDocument/2006/relationships/audio" Target="../media/pluck.wav"/><Relationship Id="rId9" Type="http://schemas.openxmlformats.org/officeDocument/2006/relationships/audio" Target="../media/pluck.wav"/><Relationship Id="rId10" Type="http://schemas.openxmlformats.org/officeDocument/2006/relationships/audio" Target="../media/pluck.wav"/><Relationship Id="rId11" Type="http://schemas.openxmlformats.org/officeDocument/2006/relationships/audio" Target="../media/pluck.wav"/><Relationship Id="rId12" Type="http://schemas.openxmlformats.org/officeDocument/2006/relationships/audio" Target="../media/pluck.wav"/><Relationship Id="rId13" Type="http://schemas.openxmlformats.org/officeDocument/2006/relationships/audio" Target="../media/pluck.wav"/><Relationship Id="rId14" Type="http://schemas.openxmlformats.org/officeDocument/2006/relationships/audio" Target="../media/chimes.wav"/><Relationship Id="rId15" Type="http://schemas.openxmlformats.org/officeDocument/2006/relationships/audio" Target="../media/pluck.wav"/><Relationship Id="rId16" Type="http://schemas.openxmlformats.org/officeDocument/2006/relationships/audio" Target="../media/pluck.wav"/><Relationship Id="rId17" Type="http://schemas.openxmlformats.org/officeDocument/2006/relationships/audio" Target="../media/pluck.wav"/><Relationship Id="rId18" Type="http://schemas.openxmlformats.org/officeDocument/2006/relationships/audio" Target="../media/pluck.wav"/><Relationship Id="rId19" Type="http://schemas.openxmlformats.org/officeDocument/2006/relationships/audio" Target="../media/pluck.wav"/><Relationship Id="rId20" Type="http://schemas.openxmlformats.org/officeDocument/2006/relationships/audio" Target="../media/pluck.wav"/><Relationship Id="rId21" Type="http://schemas.openxmlformats.org/officeDocument/2006/relationships/audio" Target="../media/pluck.wav"/><Relationship Id="rId22" Type="http://schemas.openxmlformats.org/officeDocument/2006/relationships/audio" Target="../media/pluck.wav"/><Relationship Id="rId23" Type="http://schemas.openxmlformats.org/officeDocument/2006/relationships/audio" Target="../media/pluck.wav"/><Relationship Id="rId24" Type="http://schemas.openxmlformats.org/officeDocument/2006/relationships/audio" Target="../media/pluck.wav"/><Relationship Id="rId25" Type="http://schemas.openxmlformats.org/officeDocument/2006/relationships/audio" Target="../media/pluck.wav"/><Relationship Id="rId26" Type="http://schemas.openxmlformats.org/officeDocument/2006/relationships/audio" Target="../media/pluck.wav"/><Relationship Id="rId27" Type="http://schemas.openxmlformats.org/officeDocument/2006/relationships/audio" Target="../media/pluck.wav"/><Relationship Id="rId28" Type="http://schemas.openxmlformats.org/officeDocument/2006/relationships/audio" Target="../media/pluck.wav"/><Relationship Id="rId29" Type="http://schemas.openxmlformats.org/officeDocument/2006/relationships/audio" Target="../media/pluck.wav"/><Relationship Id="rId30" Type="http://schemas.openxmlformats.org/officeDocument/2006/relationships/audio" Target="../media/pluck.wav"/><Relationship Id="rId31" Type="http://schemas.openxmlformats.org/officeDocument/2006/relationships/audio" Target="../media/chimes.wav"/><Relationship Id="rId32" Type="http://schemas.openxmlformats.org/officeDocument/2006/relationships/audio" Target="../media/pluck.wav"/><Relationship Id="rId33" Type="http://schemas.openxmlformats.org/officeDocument/2006/relationships/audio" Target="../media/pluck.wav"/><Relationship Id="rId34" Type="http://schemas.openxmlformats.org/officeDocument/2006/relationships/audio" Target="../media/pluck.wav"/><Relationship Id="rId35" Type="http://schemas.openxmlformats.org/officeDocument/2006/relationships/audio" Target="../media/pluck.wav"/><Relationship Id="rId36" Type="http://schemas.openxmlformats.org/officeDocument/2006/relationships/audio" Target="../media/pluck.wav"/><Relationship Id="rId37" Type="http://schemas.openxmlformats.org/officeDocument/2006/relationships/audio" Target="../media/chimes.wav"/><Relationship Id="rId38" Type="http://schemas.openxmlformats.org/officeDocument/2006/relationships/audio" Target="../media/pluck.wav"/><Relationship Id="rId39" Type="http://schemas.openxmlformats.org/officeDocument/2006/relationships/audio" Target="../media/pluck.wav"/><Relationship Id="rId40" Type="http://schemas.openxmlformats.org/officeDocument/2006/relationships/audio" Target="../media/pluck.wav"/><Relationship Id="rId41" Type="http://schemas.openxmlformats.org/officeDocument/2006/relationships/audio" Target="../media/pluck.wav"/><Relationship Id="rId42" Type="http://schemas.openxmlformats.org/officeDocument/2006/relationships/audio" Target="../media/pluck.wav"/><Relationship Id="rId43" Type="http://schemas.openxmlformats.org/officeDocument/2006/relationships/audio" Target="../media/pluck.wav"/><Relationship Id="rId44" Type="http://schemas.openxmlformats.org/officeDocument/2006/relationships/audio" Target="../media/pluck.wav"/><Relationship Id="rId45" Type="http://schemas.openxmlformats.org/officeDocument/2006/relationships/audio" Target="../media/pluck.wav"/><Relationship Id="rId46" Type="http://schemas.openxmlformats.org/officeDocument/2006/relationships/audio" Target="../media/pluck.wav"/><Relationship Id="rId47" Type="http://schemas.openxmlformats.org/officeDocument/2006/relationships/audio" Target="../media/chimes.wav"/><Relationship Id="rId48" Type="http://schemas.openxmlformats.org/officeDocument/2006/relationships/audio" Target="../media/pluck.wav"/><Relationship Id="rId49" Type="http://schemas.openxmlformats.org/officeDocument/2006/relationships/audio" Target="../media/pluck.wav"/><Relationship Id="rId50" Type="http://schemas.openxmlformats.org/officeDocument/2006/relationships/audio" Target="../media/pluck.wav"/><Relationship Id="rId51" Type="http://schemas.openxmlformats.org/officeDocument/2006/relationships/audio" Target="../media/chimes.wav"/><Relationship Id="rId52" Type="http://schemas.openxmlformats.org/officeDocument/2006/relationships/audio" Target="../media/chimes.wav"/><Relationship Id="rId53" Type="http://schemas.openxmlformats.org/officeDocument/2006/relationships/audio" Target="../media/pluck.wav"/><Relationship Id="rId54" Type="http://schemas.openxmlformats.org/officeDocument/2006/relationships/audio" Target="../media/pluck.wav"/><Relationship Id="rId55" Type="http://schemas.openxmlformats.org/officeDocument/2006/relationships/audio" Target="../media/pluck.wav"/><Relationship Id="rId56" Type="http://schemas.openxmlformats.org/officeDocument/2006/relationships/audio" Target="../media/pluck.wav"/><Relationship Id="rId57" Type="http://schemas.openxmlformats.org/officeDocument/2006/relationships/audio" Target="../media/pluck.wav"/><Relationship Id="rId58" Type="http://schemas.openxmlformats.org/officeDocument/2006/relationships/audio" Target="../media/chimes.wav"/><Relationship Id="rId59" Type="http://schemas.openxmlformats.org/officeDocument/2006/relationships/audio" Target="../media/pluck.wav"/><Relationship Id="rId60" Type="http://schemas.openxmlformats.org/officeDocument/2006/relationships/audio" Target="../media/pluck.wav"/><Relationship Id="rId61" Type="http://schemas.openxmlformats.org/officeDocument/2006/relationships/audio" Target="../media/pluck.wav"/><Relationship Id="rId62" Type="http://schemas.openxmlformats.org/officeDocument/2006/relationships/audio" Target="../media/pluck.wav"/><Relationship Id="rId63" Type="http://schemas.openxmlformats.org/officeDocument/2006/relationships/audio" Target="../media/pluck.wav"/><Relationship Id="rId64" Type="http://schemas.openxmlformats.org/officeDocument/2006/relationships/audio" Target="../media/pluck.wav"/><Relationship Id="rId65" Type="http://schemas.openxmlformats.org/officeDocument/2006/relationships/audio" Target="../media/pluck.wav"/><Relationship Id="rId66" Type="http://schemas.openxmlformats.org/officeDocument/2006/relationships/audio" Target="../media/pluck.wav"/><Relationship Id="rId67" Type="http://schemas.openxmlformats.org/officeDocument/2006/relationships/audio" Target="../media/pluck.wav"/><Relationship Id="rId68" Type="http://schemas.openxmlformats.org/officeDocument/2006/relationships/audio" Target="../media/chimes.wav"/><Relationship Id="rId69" Type="http://schemas.openxmlformats.org/officeDocument/2006/relationships/audio" Target="../media/pluck.wav"/><Relationship Id="rId70" Type="http://schemas.openxmlformats.org/officeDocument/2006/relationships/audio" Target="../media/pluck.wav"/><Relationship Id="rId71" Type="http://schemas.openxmlformats.org/officeDocument/2006/relationships/audio" Target="../media/pluck.wav"/><Relationship Id="rId72" Type="http://schemas.openxmlformats.org/officeDocument/2006/relationships/audio" Target="../media/pluck.wav"/><Relationship Id="rId73" Type="http://schemas.openxmlformats.org/officeDocument/2006/relationships/audio" Target="../media/pluck.wav"/><Relationship Id="rId74" Type="http://schemas.openxmlformats.org/officeDocument/2006/relationships/audio" Target="../media/chimes.wav"/><Relationship Id="rId75" Type="http://schemas.openxmlformats.org/officeDocument/2006/relationships/audio" Target="../media/pluck.wav"/><Relationship Id="rId76" Type="http://schemas.openxmlformats.org/officeDocument/2006/relationships/audio" Target="../media/pluck.wav"/><Relationship Id="rId77" Type="http://schemas.openxmlformats.org/officeDocument/2006/relationships/audio" Target="../media/pluck.wav"/><Relationship Id="rId78" Type="http://schemas.openxmlformats.org/officeDocument/2006/relationships/audio" Target="../media/pluck.wav"/><Relationship Id="rId79" Type="http://schemas.openxmlformats.org/officeDocument/2006/relationships/audio" Target="../media/pluck.wav"/><Relationship Id="rId80" Type="http://schemas.openxmlformats.org/officeDocument/2006/relationships/audio" Target="../media/pluck.wav"/><Relationship Id="rId81" Type="http://schemas.openxmlformats.org/officeDocument/2006/relationships/audio" Target="../media/pluck.wav"/><Relationship Id="rId82" Type="http://schemas.openxmlformats.org/officeDocument/2006/relationships/audio" Target="../media/pluck.wav"/><Relationship Id="rId83" Type="http://schemas.openxmlformats.org/officeDocument/2006/relationships/audio" Target="../media/pluck.wav"/><Relationship Id="rId84" Type="http://schemas.openxmlformats.org/officeDocument/2006/relationships/audio" Target="../media/pluck.wav"/><Relationship Id="rId85" Type="http://schemas.openxmlformats.org/officeDocument/2006/relationships/audio" Target="../media/pluck.wav"/><Relationship Id="rId86" Type="http://schemas.openxmlformats.org/officeDocument/2006/relationships/audio" Target="../media/chimes.wav"/><Relationship Id="rId87" Type="http://schemas.openxmlformats.org/officeDocument/2006/relationships/audio" Target="../media/pluck.wav"/><Relationship Id="rId88" Type="http://schemas.openxmlformats.org/officeDocument/2006/relationships/audio" Target="../media/chimes.wav"/><Relationship Id="rId89" Type="http://schemas.openxmlformats.org/officeDocument/2006/relationships/audio" Target="../media/pluck.wav"/><Relationship Id="rId90" Type="http://schemas.openxmlformats.org/officeDocument/2006/relationships/audio" Target="../media/pluck.wav"/><Relationship Id="rId91" Type="http://schemas.openxmlformats.org/officeDocument/2006/relationships/audio" Target="../media/pluck.wav"/><Relationship Id="rId9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glasses.wav"/><Relationship Id="rId3" Type="http://schemas.openxmlformats.org/officeDocument/2006/relationships/audio" Target="../media/chimes.wav"/><Relationship Id="rId4" Type="http://schemas.openxmlformats.org/officeDocument/2006/relationships/audio" Target="../media/glasses.wav"/><Relationship Id="rId5" Type="http://schemas.openxmlformats.org/officeDocument/2006/relationships/slideLayout" Target="../slideLayouts/slideLayout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pluck.wav"/><Relationship Id="rId8" Type="http://schemas.openxmlformats.org/officeDocument/2006/relationships/audio" Target="../media/pluck.wav"/><Relationship Id="rId9" Type="http://schemas.openxmlformats.org/officeDocument/2006/relationships/audio" Target="../media/pluck.wav"/><Relationship Id="rId10" Type="http://schemas.openxmlformats.org/officeDocument/2006/relationships/audio" Target="../media/pluck.wav"/><Relationship Id="rId11" Type="http://schemas.openxmlformats.org/officeDocument/2006/relationships/audio" Target="../media/pluck.wav"/><Relationship Id="rId12" Type="http://schemas.openxmlformats.org/officeDocument/2006/relationships/audio" Target="../media/pluck.wav"/><Relationship Id="rId1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glasses.wav"/><Relationship Id="rId4" Type="http://schemas.openxmlformats.org/officeDocument/2006/relationships/audio" Target="../media/glasses.wav"/><Relationship Id="rId5" Type="http://schemas.openxmlformats.org/officeDocument/2006/relationships/audio" Target="../media/glasses.wav"/><Relationship Id="rId6" Type="http://schemas.openxmlformats.org/officeDocument/2006/relationships/audio" Target="../media/chimes.wav"/><Relationship Id="rId7" Type="http://schemas.openxmlformats.org/officeDocument/2006/relationships/audio" Target="../media/glasses.wav"/><Relationship Id="rId8" Type="http://schemas.openxmlformats.org/officeDocument/2006/relationships/audio" Target="../media/glass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glasses.wav"/><Relationship Id="rId12" Type="http://schemas.openxmlformats.org/officeDocument/2006/relationships/audio" Target="../media/chimes.wav"/><Relationship Id="rId13" Type="http://schemas.openxmlformats.org/officeDocument/2006/relationships/audio" Target="../media/glasses.wav"/><Relationship Id="rId14" Type="http://schemas.openxmlformats.org/officeDocument/2006/relationships/audio" Target="../media/glasses.wav"/><Relationship Id="rId15" Type="http://schemas.openxmlformats.org/officeDocument/2006/relationships/audio" Target="../media/glasses.wav"/><Relationship Id="rId16" Type="http://schemas.openxmlformats.org/officeDocument/2006/relationships/audio" Target="../media/glasses.wav"/><Relationship Id="rId17" Type="http://schemas.openxmlformats.org/officeDocument/2006/relationships/audio" Target="../media/glasses.wav"/><Relationship Id="rId18" Type="http://schemas.openxmlformats.org/officeDocument/2006/relationships/audio" Target="../media/glasses.wav"/><Relationship Id="rId19" Type="http://schemas.openxmlformats.org/officeDocument/2006/relationships/audio" Target="../media/glasses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10.jpe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image" Target="../media/image10.jpeg"/><Relationship Id="rId23" Type="http://schemas.openxmlformats.org/officeDocument/2006/relationships/image" Target="../media/image10.jpeg"/><Relationship Id="rId24" Type="http://schemas.openxmlformats.org/officeDocument/2006/relationships/image" Target="../media/image10.jpeg"/><Relationship Id="rId25" Type="http://schemas.openxmlformats.org/officeDocument/2006/relationships/image" Target="../media/image10.jpeg"/><Relationship Id="rId26" Type="http://schemas.openxmlformats.org/officeDocument/2006/relationships/image" Target="../media/image10.jpeg"/><Relationship Id="rId27" Type="http://schemas.openxmlformats.org/officeDocument/2006/relationships/image" Target="../media/image10.jpeg"/><Relationship Id="rId28" Type="http://schemas.openxmlformats.org/officeDocument/2006/relationships/image" Target="../media/image10.jpeg"/><Relationship Id="rId29" Type="http://schemas.openxmlformats.org/officeDocument/2006/relationships/image" Target="../media/image10.jpeg"/><Relationship Id="rId30" Type="http://schemas.openxmlformats.org/officeDocument/2006/relationships/image" Target="../media/image10.jpeg"/><Relationship Id="rId31" Type="http://schemas.openxmlformats.org/officeDocument/2006/relationships/image" Target="../media/image10.jpeg"/><Relationship Id="rId32" Type="http://schemas.openxmlformats.org/officeDocument/2006/relationships/image" Target="../media/image10.jpeg"/><Relationship Id="rId33" Type="http://schemas.openxmlformats.org/officeDocument/2006/relationships/image" Target="../media/image10.jpeg"/><Relationship Id="rId34" Type="http://schemas.openxmlformats.org/officeDocument/2006/relationships/image" Target="../media/image10.jpeg"/><Relationship Id="rId35" Type="http://schemas.openxmlformats.org/officeDocument/2006/relationships/image" Target="../media/image10.jpeg"/><Relationship Id="rId36" Type="http://schemas.openxmlformats.org/officeDocument/2006/relationships/image" Target="../media/image10.jpeg"/><Relationship Id="rId37" Type="http://schemas.openxmlformats.org/officeDocument/2006/relationships/image" Target="../media/image10.jpeg"/><Relationship Id="rId38" Type="http://schemas.openxmlformats.org/officeDocument/2006/relationships/image" Target="../media/image10.jpeg"/><Relationship Id="rId39" Type="http://schemas.openxmlformats.org/officeDocument/2006/relationships/image" Target="../media/image10.jpeg"/><Relationship Id="rId40" Type="http://schemas.openxmlformats.org/officeDocument/2006/relationships/image" Target="../media/image10.jpeg"/><Relationship Id="rId41" Type="http://schemas.openxmlformats.org/officeDocument/2006/relationships/image" Target="../media/image11.png"/><Relationship Id="rId42" Type="http://schemas.openxmlformats.org/officeDocument/2006/relationships/image" Target="../media/image10.jpeg"/><Relationship Id="rId43" Type="http://schemas.openxmlformats.org/officeDocument/2006/relationships/audio" Target="../media/pluck.wav"/><Relationship Id="rId44" Type="http://schemas.openxmlformats.org/officeDocument/2006/relationships/audio" Target="../media/pluck.wav"/><Relationship Id="rId45" Type="http://schemas.openxmlformats.org/officeDocument/2006/relationships/audio" Target="../media/pluck.wav"/><Relationship Id="rId46" Type="http://schemas.openxmlformats.org/officeDocument/2006/relationships/audio" Target="../media/pluck.wav"/><Relationship Id="rId47" Type="http://schemas.openxmlformats.org/officeDocument/2006/relationships/audio" Target="../media/pluck.wav"/><Relationship Id="rId48" Type="http://schemas.openxmlformats.org/officeDocument/2006/relationships/audio" Target="../media/pluck.wav"/><Relationship Id="rId49" Type="http://schemas.openxmlformats.org/officeDocument/2006/relationships/audio" Target="../media/pluck.wav"/><Relationship Id="rId50" Type="http://schemas.openxmlformats.org/officeDocument/2006/relationships/audio" Target="../media/pluck.wav"/><Relationship Id="rId51" Type="http://schemas.openxmlformats.org/officeDocument/2006/relationships/audio" Target="../media/pluck.wav"/><Relationship Id="rId52" Type="http://schemas.openxmlformats.org/officeDocument/2006/relationships/audio" Target="../media/pluck.wav"/><Relationship Id="rId53" Type="http://schemas.openxmlformats.org/officeDocument/2006/relationships/audio" Target="../media/pluck.wav"/><Relationship Id="rId54" Type="http://schemas.openxmlformats.org/officeDocument/2006/relationships/audio" Target="../media/chimes.wav"/><Relationship Id="rId55" Type="http://schemas.openxmlformats.org/officeDocument/2006/relationships/audio" Target="../media/pluck.wav"/><Relationship Id="rId56" Type="http://schemas.openxmlformats.org/officeDocument/2006/relationships/audio" Target="../media/pluck.wav"/><Relationship Id="rId57" Type="http://schemas.openxmlformats.org/officeDocument/2006/relationships/audio" Target="../media/chimes.wav"/><Relationship Id="rId58" Type="http://schemas.openxmlformats.org/officeDocument/2006/relationships/audio" Target="../media/pluck.wav"/><Relationship Id="rId59" Type="http://schemas.openxmlformats.org/officeDocument/2006/relationships/audio" Target="../media/pluck.wav"/><Relationship Id="rId60" Type="http://schemas.openxmlformats.org/officeDocument/2006/relationships/audio" Target="../media/pluck.wav"/><Relationship Id="rId61" Type="http://schemas.openxmlformats.org/officeDocument/2006/relationships/audio" Target="../media/pluck.wav"/><Relationship Id="rId62" Type="http://schemas.openxmlformats.org/officeDocument/2006/relationships/audio" Target="../media/pluck.wav"/><Relationship Id="rId63" Type="http://schemas.openxmlformats.org/officeDocument/2006/relationships/audio" Target="../media/chimes.wav"/><Relationship Id="rId64" Type="http://schemas.openxmlformats.org/officeDocument/2006/relationships/audio" Target="../media/pluck.wav"/><Relationship Id="rId65" Type="http://schemas.openxmlformats.org/officeDocument/2006/relationships/audio" Target="../media/pluck.wav"/><Relationship Id="rId66" Type="http://schemas.openxmlformats.org/officeDocument/2006/relationships/audio" Target="../media/chimes.wav"/><Relationship Id="rId67" Type="http://schemas.openxmlformats.org/officeDocument/2006/relationships/audio" Target="../media/pluck.wav"/><Relationship Id="rId68" Type="http://schemas.openxmlformats.org/officeDocument/2006/relationships/audio" Target="../media/pluck.wav"/><Relationship Id="rId69" Type="http://schemas.openxmlformats.org/officeDocument/2006/relationships/audio" Target="../media/chimes.wav"/><Relationship Id="rId70" Type="http://schemas.openxmlformats.org/officeDocument/2006/relationships/audio" Target="../media/pluck.wav"/><Relationship Id="rId71" Type="http://schemas.openxmlformats.org/officeDocument/2006/relationships/audio" Target="../media/pluck.wav"/><Relationship Id="rId72" Type="http://schemas.openxmlformats.org/officeDocument/2006/relationships/audio" Target="../media/pluck.wav"/><Relationship Id="rId73" Type="http://schemas.openxmlformats.org/officeDocument/2006/relationships/audio" Target="../media/pluck.wav"/><Relationship Id="rId74" Type="http://schemas.openxmlformats.org/officeDocument/2006/relationships/audio" Target="../media/pluck.wav"/><Relationship Id="rId75" Type="http://schemas.openxmlformats.org/officeDocument/2006/relationships/audio" Target="../media/pluck.wav"/><Relationship Id="rId76" Type="http://schemas.openxmlformats.org/officeDocument/2006/relationships/audio" Target="../media/pluck.wav"/><Relationship Id="rId77" Type="http://schemas.openxmlformats.org/officeDocument/2006/relationships/audio" Target="../media/pluck.wav"/><Relationship Id="rId78" Type="http://schemas.openxmlformats.org/officeDocument/2006/relationships/audio" Target="../media/chimes.wav"/><Relationship Id="rId79" Type="http://schemas.openxmlformats.org/officeDocument/2006/relationships/audio" Target="../media/pluck.wav"/><Relationship Id="rId80" Type="http://schemas.openxmlformats.org/officeDocument/2006/relationships/audio" Target="../media/pluck.wav"/><Relationship Id="rId81" Type="http://schemas.openxmlformats.org/officeDocument/2006/relationships/audio" Target="../media/pluck.wav"/><Relationship Id="rId82" Type="http://schemas.openxmlformats.org/officeDocument/2006/relationships/audio" Target="../media/chimes.wav"/><Relationship Id="rId83" Type="http://schemas.openxmlformats.org/officeDocument/2006/relationships/audio" Target="../media/pluck.wav"/><Relationship Id="rId8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image" Target="../media/image10.jpeg"/><Relationship Id="rId18" Type="http://schemas.openxmlformats.org/officeDocument/2006/relationships/image" Target="../media/image10.jpeg"/><Relationship Id="rId19" Type="http://schemas.openxmlformats.org/officeDocument/2006/relationships/image" Target="../media/image10.jpeg"/><Relationship Id="rId20" Type="http://schemas.openxmlformats.org/officeDocument/2006/relationships/image" Target="../media/image10.jpeg"/><Relationship Id="rId21" Type="http://schemas.openxmlformats.org/officeDocument/2006/relationships/audio" Target="../media/pluck.wav"/><Relationship Id="rId22" Type="http://schemas.openxmlformats.org/officeDocument/2006/relationships/audio" Target="../media/pluck.wav"/><Relationship Id="rId23" Type="http://schemas.openxmlformats.org/officeDocument/2006/relationships/audio" Target="../media/pluck.wav"/><Relationship Id="rId24" Type="http://schemas.openxmlformats.org/officeDocument/2006/relationships/audio" Target="../media/chimes.wav"/><Relationship Id="rId25" Type="http://schemas.openxmlformats.org/officeDocument/2006/relationships/audio" Target="../media/pluck.wav"/><Relationship Id="rId26" Type="http://schemas.openxmlformats.org/officeDocument/2006/relationships/audio" Target="../media/pluck.wav"/><Relationship Id="rId27" Type="http://schemas.openxmlformats.org/officeDocument/2006/relationships/audio" Target="../media/pluck.wav"/><Relationship Id="rId28" Type="http://schemas.openxmlformats.org/officeDocument/2006/relationships/audio" Target="../media/pluck.wav"/><Relationship Id="rId29" Type="http://schemas.openxmlformats.org/officeDocument/2006/relationships/audio" Target="../media/chimes.wav"/><Relationship Id="rId30" Type="http://schemas.openxmlformats.org/officeDocument/2006/relationships/audio" Target="../media/pluck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pluck.wav"/><Relationship Id="rId35" Type="http://schemas.openxmlformats.org/officeDocument/2006/relationships/audio" Target="../media/chimes.wav"/><Relationship Id="rId36" Type="http://schemas.openxmlformats.org/officeDocument/2006/relationships/audio" Target="../media/pluck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pluck.wav"/><Relationship Id="rId40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92000" y="1538280"/>
            <a:ext cx="775656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Упражнения </a:t>
            </a:r>
            <a:br>
              <a:rPr sz="4200"/>
            </a:b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в правописании парных звонких и глухих согласных на конце слов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32000" y="4689000"/>
            <a:ext cx="6400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2 клас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63080" y="6039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4eb"/>
            </a:gs>
            <a:gs pos="100000">
              <a:srgbClr val="eee5e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. Выбери проверочное слово и кликни кнопкой мыши по  выбранному слову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971640" y="26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232000" y="261936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…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672000" y="261936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м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232000" y="342900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651640" y="261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з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362720" y="2619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з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971640" y="342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900000" y="4149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971640" y="486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232000" y="4149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141640" y="486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лу…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97164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871640" y="2529000"/>
            <a:ext cx="1800360" cy="3744720"/>
            <a:chOff x="1871640" y="2529000"/>
            <a:chExt cx="1800360" cy="3744720"/>
          </a:xfrm>
        </p:grpSpPr>
        <p:sp>
          <p:nvSpPr>
            <p:cNvPr id="641" name=""/>
            <p:cNvSpPr/>
            <p:nvPr/>
          </p:nvSpPr>
          <p:spPr>
            <a:xfrm>
              <a:off x="1871640" y="2960640"/>
              <a:ext cx="29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72000" y="2529000"/>
              <a:ext cx="0" cy="374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71640" y="3752640"/>
              <a:ext cx="29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71640" y="4473360"/>
              <a:ext cx="29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871640" y="5194080"/>
              <a:ext cx="29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71640" y="5841720"/>
              <a:ext cx="29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2141640" y="5589720"/>
            <a:ext cx="13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ук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672000" y="342900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д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562720" y="3429000"/>
            <a:ext cx="12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093080" y="3429000"/>
            <a:ext cx="17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д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451640" y="4149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672000" y="4149720"/>
            <a:ext cx="12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292720" y="4149720"/>
            <a:ext cx="17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ок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672000" y="486900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лу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472000" y="4869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луб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1640" y="48690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луб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84720" y="5589720"/>
            <a:ext cx="15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67200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укав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72000" y="558972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ук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92920" y="558972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зрук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951280" y="5589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771640" y="261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7002360" y="1808280"/>
            <a:ext cx="1800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думай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68128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681280" y="4149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51280" y="486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2050920" y="6219720"/>
            <a:ext cx="3219480" cy="487440"/>
            <a:chOff x="2050920" y="6219720"/>
            <a:chExt cx="3219480" cy="487440"/>
          </a:xfrm>
        </p:grpSpPr>
        <p:sp>
          <p:nvSpPr>
            <p:cNvPr id="668" name=""/>
            <p:cNvSpPr/>
            <p:nvPr/>
          </p:nvSpPr>
          <p:spPr>
            <a:xfrm>
              <a:off x="2771640" y="6219720"/>
              <a:ext cx="1727280" cy="216000"/>
            </a:xfrm>
            <a:custGeom>
              <a:avLst/>
              <a:gdLst>
                <a:gd name="textAreaLeft" fmla="*/ 302040 w 1727280"/>
                <a:gd name="textAreaRight" fmla="*/ 1252440 w 1727280"/>
                <a:gd name="textAreaTop" fmla="*/ 28800 h 216000"/>
                <a:gd name="textAreaBottom" fmla="*/ 1872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2050920" y="6362640"/>
              <a:ext cx="3219480" cy="344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50021"/>
                      </a:gs>
                      <a:gs pos="100000">
                        <a:srgbClr val="825600"/>
                      </a:gs>
                    </a:gsLst>
                    <a:lin ang="13500000"/>
                  </a:gradFill>
                  <a:latin typeface="Times New Roman"/>
                </a:rPr>
                <a:t>Выбери проверочное слово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825600"/>
                    </a:gs>
                  </a:gsLst>
                  <a:lin ang="13500000"/>
                </a:gradFill>
                <a:latin typeface="Times New Roman"/>
                <a:ea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900000" y="1719360"/>
            <a:ext cx="5688000" cy="520560"/>
            <a:chOff x="900000" y="1719360"/>
            <a:chExt cx="5688000" cy="520560"/>
          </a:xfrm>
        </p:grpSpPr>
        <p:sp>
          <p:nvSpPr>
            <p:cNvPr id="671" name=""/>
            <p:cNvSpPr/>
            <p:nvPr/>
          </p:nvSpPr>
          <p:spPr>
            <a:xfrm>
              <a:off x="900000" y="1719360"/>
              <a:ext cx="5688000" cy="520560"/>
            </a:xfrm>
            <a:prstGeom prst="rect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Образец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торо</a:t>
              </a:r>
              <a:r>
                <a:rPr b="1" lang="ru-RU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жи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ть – сторо</a:t>
              </a:r>
              <a:r>
                <a:rPr b="1" lang="ru-RU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ж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97280" y="222372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341280" y="2619360"/>
            <a:ext cx="1459080" cy="539640"/>
            <a:chOff x="341280" y="2619360"/>
            <a:chExt cx="1459080" cy="539640"/>
          </a:xfrm>
        </p:grpSpPr>
        <p:sp>
          <p:nvSpPr>
            <p:cNvPr id="674" name=""/>
            <p:cNvSpPr/>
            <p:nvPr/>
          </p:nvSpPr>
          <p:spPr>
            <a:xfrm>
              <a:off x="341280" y="2619360"/>
              <a:ext cx="145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ма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за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62000" y="315900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50920" y="3429000"/>
            <a:ext cx="1711080" cy="539640"/>
            <a:chOff x="250920" y="3429000"/>
            <a:chExt cx="1711080" cy="539640"/>
          </a:xfrm>
        </p:grpSpPr>
        <p:sp>
          <p:nvSpPr>
            <p:cNvPr id="677" name=""/>
            <p:cNvSpPr/>
            <p:nvPr/>
          </p:nvSpPr>
          <p:spPr>
            <a:xfrm>
              <a:off x="250920" y="3429000"/>
              <a:ext cx="171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е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ду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71640" y="396864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50920" y="4149720"/>
            <a:ext cx="1711080" cy="539640"/>
            <a:chOff x="250920" y="4149720"/>
            <a:chExt cx="1711080" cy="539640"/>
          </a:xfrm>
        </p:grpSpPr>
        <p:sp>
          <p:nvSpPr>
            <p:cNvPr id="680" name=""/>
            <p:cNvSpPr/>
            <p:nvPr/>
          </p:nvSpPr>
          <p:spPr>
            <a:xfrm>
              <a:off x="250920" y="4149720"/>
              <a:ext cx="171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бо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ко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о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71640" y="468936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341280" y="4869000"/>
            <a:ext cx="1638360" cy="539640"/>
            <a:chOff x="341280" y="4869000"/>
            <a:chExt cx="1638360" cy="539640"/>
          </a:xfrm>
        </p:grpSpPr>
        <p:sp>
          <p:nvSpPr>
            <p:cNvPr id="683" name=""/>
            <p:cNvSpPr/>
            <p:nvPr/>
          </p:nvSpPr>
          <p:spPr>
            <a:xfrm>
              <a:off x="341280" y="4869000"/>
              <a:ext cx="163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голу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бо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20920" y="5408640"/>
              <a:ext cx="18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431640" y="5589720"/>
            <a:ext cx="1440000" cy="539640"/>
            <a:chOff x="431640" y="5589720"/>
            <a:chExt cx="1440000" cy="539640"/>
          </a:xfrm>
        </p:grpSpPr>
        <p:sp>
          <p:nvSpPr>
            <p:cNvPr id="686" name=""/>
            <p:cNvSpPr/>
            <p:nvPr/>
          </p:nvSpPr>
          <p:spPr>
            <a:xfrm>
              <a:off x="431640" y="5589720"/>
              <a:ext cx="14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ука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11280" y="6129360"/>
              <a:ext cx="1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8263080" y="6219720"/>
            <a:ext cx="630000" cy="451080"/>
          </a:xfrm>
          <a:custGeom>
            <a:avLst/>
            <a:gdLst>
              <a:gd name="textAreaLeft" fmla="*/ 29160 w 630000"/>
              <a:gd name="textAreaRight" fmla="*/ 600840 w 63000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30161" h="21600">
                <a:moveTo>
                  <a:pt x="0" y="0"/>
                </a:moveTo>
                <a:lnTo>
                  <a:pt x="30161" y="0"/>
                </a:lnTo>
                <a:lnTo>
                  <a:pt x="30161" y="21600"/>
                </a:lnTo>
                <a:lnTo>
                  <a:pt x="0" y="21600"/>
                </a:lnTo>
                <a:close/>
              </a:path>
              <a:path fill="lightenLess" w="30161" h="21600">
                <a:moveTo>
                  <a:pt x="0" y="0"/>
                </a:moveTo>
                <a:lnTo>
                  <a:pt x="30161" y="0"/>
                </a:lnTo>
                <a:lnTo>
                  <a:pt x="28761" y="1400"/>
                </a:lnTo>
                <a:lnTo>
                  <a:pt x="1400" y="1400"/>
                </a:lnTo>
                <a:close/>
              </a:path>
              <a:path fill="darken" w="30161" h="21600">
                <a:moveTo>
                  <a:pt x="30161" y="0"/>
                </a:moveTo>
                <a:lnTo>
                  <a:pt x="30161" y="21600"/>
                </a:lnTo>
                <a:lnTo>
                  <a:pt x="28761" y="20200"/>
                </a:lnTo>
                <a:lnTo>
                  <a:pt x="28761" y="1400"/>
                </a:lnTo>
                <a:close/>
              </a:path>
              <a:path fill="darkenLess" w="30161" h="21600">
                <a:moveTo>
                  <a:pt x="30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61" y="20200"/>
                </a:lnTo>
                <a:close/>
              </a:path>
              <a:path fill="lighten" w="30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61" h="21600">
                <a:moveTo>
                  <a:pt x="8074" y="7493"/>
                </a:moveTo>
                <a:lnTo>
                  <a:pt x="11581" y="7493"/>
                </a:lnTo>
                <a:lnTo>
                  <a:pt x="11581" y="12828"/>
                </a:lnTo>
                <a:cubicBezTo>
                  <a:pt x="11581" y="13751"/>
                  <a:pt x="12382" y="14482"/>
                  <a:pt x="13418" y="14482"/>
                </a:cubicBezTo>
                <a:lnTo>
                  <a:pt x="15080" y="14482"/>
                </a:lnTo>
                <a:cubicBezTo>
                  <a:pt x="16116" y="14482"/>
                  <a:pt x="16917" y="13751"/>
                  <a:pt x="16917" y="12828"/>
                </a:cubicBezTo>
                <a:lnTo>
                  <a:pt x="16917" y="7493"/>
                </a:lnTo>
                <a:lnTo>
                  <a:pt x="15080" y="7493"/>
                </a:lnTo>
                <a:lnTo>
                  <a:pt x="18588" y="3985"/>
                </a:lnTo>
                <a:lnTo>
                  <a:pt x="22261" y="7493"/>
                </a:lnTo>
                <a:lnTo>
                  <a:pt x="20424" y="7493"/>
                </a:lnTo>
                <a:lnTo>
                  <a:pt x="20424" y="12828"/>
                </a:lnTo>
                <a:cubicBezTo>
                  <a:pt x="20424" y="15596"/>
                  <a:pt x="17848" y="18155"/>
                  <a:pt x="15080" y="18155"/>
                </a:cubicBezTo>
                <a:lnTo>
                  <a:pt x="13418" y="18155"/>
                </a:lnTo>
                <a:cubicBezTo>
                  <a:pt x="10650" y="18155"/>
                  <a:pt x="8074" y="15596"/>
                  <a:pt x="8074" y="12828"/>
                </a:cubicBezTo>
                <a:close/>
              </a:path>
            </a:pathLst>
          </a:custGeom>
          <a:solidFill>
            <a:srgbClr val="e6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 flipH="1">
            <a:off x="6372000" y="1898640"/>
            <a:ext cx="539640" cy="1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1" dur="indefinite" restart="never" nodeType="tmRoot">
          <p:childTnLst>
            <p:seq>
              <p:cTn id="2172" dur="indefinite" nodeType="mainSeq">
                <p:childTnLst>
                  <p:par>
                    <p:cTn id="2173" fill="hold">
                      <p:stCondLst>
                        <p:cond delay="0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0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2181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8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500"/>
                            </p:stCondLst>
                            <p:childTnLst>
                              <p:par>
                                <p:cTn id="2195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6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0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1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5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2206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0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20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1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5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6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0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2231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246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7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2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6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2257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6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272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3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8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2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2283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8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298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9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3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4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8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2309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1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500"/>
                            </p:stCondLst>
                            <p:childTnLst>
                              <p:par>
                                <p:cTn id="2324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5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9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0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4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2335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3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9" fill="hold">
                            <p:stCondLst>
                              <p:cond delay="500"/>
                            </p:stCondLst>
                            <p:childTnLst>
                              <p:par>
                                <p:cTn id="2350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1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5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6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0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2361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6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500"/>
                            </p:stCondLst>
                            <p:childTnLst>
                              <p:par>
                                <p:cTn id="2376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7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2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6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2387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9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500"/>
                            </p:stCondLst>
                            <p:childTnLst>
                              <p:par>
                                <p:cTn id="2402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3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7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8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2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2413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1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500"/>
                            </p:stCondLst>
                            <p:childTnLst>
                              <p:par>
                                <p:cTn id="2428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9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3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4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8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2439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4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0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2451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5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2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2463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6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4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2475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7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6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2487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9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8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2499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0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5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7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8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0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2511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1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9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0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2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2523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2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1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4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2535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3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1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3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6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2547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5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3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5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6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92360" y="153828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542360" y="153828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592360" y="1177920"/>
            <a:ext cx="811080" cy="35892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62000" y="189000"/>
            <a:ext cx="898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 Кликни кнопкой мыши и вставь пропущенную парную согласную на конце сл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062000" y="135900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62000" y="225900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2000" y="306864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к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062000" y="396864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рко…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062000" y="495936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062000" y="585936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012000" y="126828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я…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012000" y="306864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ё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12000" y="396864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л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012000" y="495936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592360" y="243828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82720" y="22590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873080" y="13590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73080" y="306864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962000" y="396864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873080" y="4959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63440" y="5859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732720" y="1268280"/>
            <a:ext cx="2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824880" y="3068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913800" y="396864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003800" y="4959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12000" y="585936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ы…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732720" y="585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592360" y="2978280"/>
            <a:ext cx="809640" cy="35856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592360" y="3338640"/>
            <a:ext cx="811080" cy="35856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542360" y="2077920"/>
            <a:ext cx="811080" cy="35892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542360" y="243828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592360" y="5769000"/>
            <a:ext cx="811080" cy="35892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92360" y="612936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592360" y="4780080"/>
            <a:ext cx="811080" cy="35856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592360" y="513864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012000" y="2259000"/>
            <a:ext cx="1530360" cy="503280"/>
          </a:xfrm>
          <a:prstGeom prst="rect">
            <a:avLst/>
          </a:prstGeom>
          <a:gradFill rotWithShape="0">
            <a:gsLst>
              <a:gs pos="0">
                <a:srgbClr val="fdf8e3"/>
              </a:gs>
              <a:gs pos="100000">
                <a:srgbClr val="feebd2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л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913800" y="225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 rot="5400000">
            <a:off x="531720" y="1258560"/>
            <a:ext cx="190440" cy="5716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2592360" y="2077920"/>
            <a:ext cx="811080" cy="35892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 rot="5400000">
            <a:off x="531720" y="3058920"/>
            <a:ext cx="190440" cy="5716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2592360" y="3879720"/>
            <a:ext cx="811080" cy="35892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592360" y="423864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 rot="5400000">
            <a:off x="531720" y="4947840"/>
            <a:ext cx="190440" cy="57168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4"/>
          <a:stretch/>
        </p:blipFill>
        <p:spPr>
          <a:xfrm rot="5400000">
            <a:off x="5488920" y="1253160"/>
            <a:ext cx="179280" cy="5716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7542360" y="1177920"/>
            <a:ext cx="811080" cy="35892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5"/>
          <a:stretch/>
        </p:blipFill>
        <p:spPr>
          <a:xfrm rot="5400000">
            <a:off x="5483160" y="3058920"/>
            <a:ext cx="190440" cy="5716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7542360" y="2978280"/>
            <a:ext cx="811080" cy="35856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542360" y="3338640"/>
            <a:ext cx="809640" cy="35856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542360" y="3879720"/>
            <a:ext cx="811080" cy="35892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542360" y="423864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542360" y="4780080"/>
            <a:ext cx="811080" cy="35856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542360" y="513864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542360" y="5769000"/>
            <a:ext cx="811080" cy="358920"/>
          </a:xfrm>
          <a:prstGeom prst="rect">
            <a:avLst/>
          </a:prstGeom>
          <a:gradFill rotWithShape="0">
            <a:gsLst>
              <a:gs pos="0">
                <a:srgbClr val="fdeed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542360" y="6129360"/>
            <a:ext cx="809640" cy="358920"/>
          </a:xfrm>
          <a:prstGeom prst="rect">
            <a:avLst/>
          </a:prstGeom>
          <a:gradFill rotWithShape="0">
            <a:gsLst>
              <a:gs pos="0">
                <a:srgbClr val="ffffe1"/>
              </a:gs>
              <a:gs pos="100000">
                <a:srgbClr val="fdeed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6"/>
          <a:stretch/>
        </p:blipFill>
        <p:spPr>
          <a:xfrm rot="5400000">
            <a:off x="5483160" y="4947840"/>
            <a:ext cx="190440" cy="571680"/>
          </a:xfrm>
          <a:prstGeom prst="rect">
            <a:avLst/>
          </a:prstGeom>
          <a:ln w="0">
            <a:noFill/>
          </a:ln>
        </p:spPr>
      </p:pic>
      <p:pic>
        <p:nvPicPr>
          <p:cNvPr id="747" name="302" descr=""/>
          <p:cNvPicPr/>
          <p:nvPr/>
        </p:nvPicPr>
        <p:blipFill>
          <a:blip r:embed="rId7"/>
          <a:stretch/>
        </p:blipFill>
        <p:spPr>
          <a:xfrm>
            <a:off x="3941640" y="4959360"/>
            <a:ext cx="1047960" cy="1457280"/>
          </a:xfrm>
          <a:prstGeom prst="rect">
            <a:avLst/>
          </a:prstGeom>
          <a:ln w="0">
            <a:noFill/>
          </a:ln>
        </p:spPr>
      </p:pic>
      <p:pic>
        <p:nvPicPr>
          <p:cNvPr id="748" name="302" descr=""/>
          <p:cNvPicPr/>
          <p:nvPr/>
        </p:nvPicPr>
        <p:blipFill>
          <a:blip r:embed="rId8"/>
          <a:stretch/>
        </p:blipFill>
        <p:spPr>
          <a:xfrm flipH="1">
            <a:off x="4032360" y="4959360"/>
            <a:ext cx="1047600" cy="145728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 txBox="1"/>
          <p:nvPr/>
        </p:nvSpPr>
        <p:spPr>
          <a:xfrm>
            <a:off x="3762360" y="3068640"/>
            <a:ext cx="153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думай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13640" y="6407280"/>
            <a:ext cx="630360" cy="450720"/>
          </a:xfrm>
          <a:custGeom>
            <a:avLst/>
            <a:gdLst>
              <a:gd name="textAreaLeft" fmla="*/ 29160 w 630360"/>
              <a:gd name="textAreaRight" fmla="*/ 601200 w 630360"/>
              <a:gd name="textAreaTop" fmla="*/ 29160 h 450720"/>
              <a:gd name="textAreaBottom" fmla="*/ 421560 h 450720"/>
            </a:gdLst>
            <a:ahLst/>
            <a:rect l="textAreaLeft" t="textAreaTop" r="textAreaRight" b="textAreaBottom"/>
            <a:pathLst>
              <a:path w="30202" h="21600">
                <a:moveTo>
                  <a:pt x="0" y="0"/>
                </a:moveTo>
                <a:lnTo>
                  <a:pt x="30202" y="0"/>
                </a:lnTo>
                <a:lnTo>
                  <a:pt x="30202" y="21600"/>
                </a:lnTo>
                <a:lnTo>
                  <a:pt x="0" y="21600"/>
                </a:lnTo>
                <a:close/>
              </a:path>
              <a:path fill="lightenLess" w="30202" h="21600">
                <a:moveTo>
                  <a:pt x="0" y="0"/>
                </a:moveTo>
                <a:lnTo>
                  <a:pt x="30202" y="0"/>
                </a:lnTo>
                <a:lnTo>
                  <a:pt x="28802" y="1400"/>
                </a:lnTo>
                <a:lnTo>
                  <a:pt x="1400" y="1400"/>
                </a:lnTo>
                <a:close/>
              </a:path>
              <a:path fill="darken" w="30202" h="21600">
                <a:moveTo>
                  <a:pt x="30202" y="0"/>
                </a:moveTo>
                <a:lnTo>
                  <a:pt x="30202" y="21600"/>
                </a:lnTo>
                <a:lnTo>
                  <a:pt x="28802" y="20200"/>
                </a:lnTo>
                <a:lnTo>
                  <a:pt x="28802" y="1400"/>
                </a:lnTo>
                <a:close/>
              </a:path>
              <a:path fill="darkenLess" w="30202" h="21600">
                <a:moveTo>
                  <a:pt x="30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2" y="20200"/>
                </a:lnTo>
                <a:close/>
              </a:path>
              <a:path fill="lighten" w="30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2" h="21600">
                <a:moveTo>
                  <a:pt x="8095" y="7493"/>
                </a:moveTo>
                <a:lnTo>
                  <a:pt x="11602" y="7493"/>
                </a:lnTo>
                <a:lnTo>
                  <a:pt x="11602" y="12828"/>
                </a:lnTo>
                <a:cubicBezTo>
                  <a:pt x="11602" y="13751"/>
                  <a:pt x="12403" y="14482"/>
                  <a:pt x="13439" y="14482"/>
                </a:cubicBezTo>
                <a:lnTo>
                  <a:pt x="15101" y="14482"/>
                </a:lnTo>
                <a:cubicBezTo>
                  <a:pt x="16137" y="14482"/>
                  <a:pt x="16938" y="13751"/>
                  <a:pt x="16938" y="12828"/>
                </a:cubicBezTo>
                <a:lnTo>
                  <a:pt x="16938" y="7493"/>
                </a:lnTo>
                <a:lnTo>
                  <a:pt x="15101" y="7493"/>
                </a:lnTo>
                <a:lnTo>
                  <a:pt x="18609" y="3985"/>
                </a:lnTo>
                <a:lnTo>
                  <a:pt x="22282" y="7493"/>
                </a:lnTo>
                <a:lnTo>
                  <a:pt x="20445" y="7493"/>
                </a:lnTo>
                <a:lnTo>
                  <a:pt x="20445" y="12828"/>
                </a:lnTo>
                <a:cubicBezTo>
                  <a:pt x="20445" y="15596"/>
                  <a:pt x="17869" y="18155"/>
                  <a:pt x="15101" y="18155"/>
                </a:cubicBezTo>
                <a:lnTo>
                  <a:pt x="13439" y="18155"/>
                </a:lnTo>
                <a:cubicBezTo>
                  <a:pt x="10671" y="18155"/>
                  <a:pt x="8095" y="15596"/>
                  <a:pt x="8095" y="12828"/>
                </a:cubicBezTo>
                <a:close/>
              </a:path>
            </a:pathLst>
          </a:custGeom>
          <a:solidFill>
            <a:srgbClr val="e6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3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2574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57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8" dur="250" autoRev="1" fill="hold"/>
                                        <p:tgtEl>
                                          <p:spTgt spid="6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1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-0.00156 0.14351 E">
                                      <p:cBhvr>
                                        <p:cTn id="2583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2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2593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9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500"/>
                            </p:stCondLst>
                            <p:childTnLst>
                              <p:par>
                                <p:cTn id="2603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4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8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2609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1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500"/>
                            </p:stCondLst>
                            <p:childTnLst>
                              <p:par>
                                <p:cTn id="2619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0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4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2625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2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9" dur="250" autoRev="1" fill="hold"/>
                                        <p:tgtEl>
                                          <p:spTgt spid="7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7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2648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5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7" fill="hold">
                            <p:stCondLst>
                              <p:cond delay="500"/>
                            </p:stCondLst>
                            <p:childTnLst>
                              <p:par>
                                <p:cTn id="2658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9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0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3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2664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6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8" dur="250" autoRev="1" fill="hold"/>
                                        <p:tgtEl>
                                          <p:spTgt spid="7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8148E-006 L -0.00156 0.14352 E">
                                      <p:cBhvr>
                                        <p:cTn id="2673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4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2685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8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4" fill="hold">
                            <p:stCondLst>
                              <p:cond delay="500"/>
                            </p:stCondLst>
                            <p:childTnLst>
                              <p:par>
                                <p:cTn id="2695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6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0" restart="whenNotActive" nodeType="interactiveSeq" fill="hold">
                <p:stCondLst>
                  <p:cond evt="onClick">
                    <p:tgtEl>
                      <p:spTgt spid="732"/>
                    </p:tgtEl>
                  </p:cond>
                </p:stCondLst>
                <p:childTnLst>
                  <p:par>
                    <p:cTn id="2701" fill="hold">
                      <p:stCondLst>
                        <p:cond evt="onClick">
                          <p:tgtEl>
                            <p:spTgt spid="732"/>
                          </p:tgtEl>
                        </p:cond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7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5" dur="250" autoRev="1" fill="hold"/>
                                        <p:tgtEl>
                                          <p:spTgt spid="7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5" restart="whenNotActive" nodeType="interactiveSeq" fill="hold">
                <p:stCondLst>
                  <p:cond evt="onClick">
                    <p:tgtEl>
                      <p:spTgt spid="726"/>
                    </p:tgtEl>
                  </p:cond>
                </p:stCondLst>
                <p:childTnLst>
                  <p:par>
                    <p:cTn id="2726" fill="hold">
                      <p:stCondLst>
                        <p:cond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2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5" fill="hold">
                            <p:stCondLst>
                              <p:cond delay="500"/>
                            </p:stCondLst>
                            <p:childTnLst>
                              <p:par>
                                <p:cTn id="2736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7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1" restart="whenNotActive" nodeType="interactiveSeq" fill="hold">
                <p:stCondLst>
                  <p:cond evt="onClick">
                    <p:tgtEl>
                      <p:spTgt spid="725"/>
                    </p:tgtEl>
                  </p:cond>
                </p:stCondLst>
                <p:childTnLst>
                  <p:par>
                    <p:cTn id="2742" fill="hold">
                      <p:stCondLst>
                        <p:cond evt="onClick">
                          <p:tgtEl>
                            <p:spTgt spid="725"/>
                          </p:tgtEl>
                        </p:cond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74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6" dur="250" autoRev="1" fill="hold"/>
                                        <p:tgtEl>
                                          <p:spTgt spid="7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4444E-006 L -0.00156 0.13056 E">
                                      <p:cBhvr>
                                        <p:cTn id="2751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2" restart="whenNotActive" nodeType="interactiveSeq" fill="hold">
                <p:stCondLst>
                  <p:cond evt="onClick">
                    <p:tgtEl>
                      <p:spTgt spid="723"/>
                    </p:tgtEl>
                  </p:cond>
                </p:stCondLst>
                <p:childTnLst>
                  <p:par>
                    <p:cTn id="2763" fill="hold">
                      <p:stCondLst>
                        <p:cond evt="onClick">
                          <p:tgtEl>
                            <p:spTgt spid="723"/>
                          </p:tgtEl>
                        </p:cond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6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73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4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8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2779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78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3" dur="250" autoRev="1" fill="hold"/>
                                        <p:tgtEl>
                                          <p:spTgt spid="7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1" dur="100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100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3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1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2812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81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6" dur="250" autoRev="1" fill="hold"/>
                                        <p:tgtEl>
                                          <p:spTgt spid="7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L -0.00174 0.14444 E">
                                      <p:cBhvr>
                                        <p:cTn id="2821" dur="2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2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2833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3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2" fill="hold">
                            <p:stCondLst>
                              <p:cond delay="500"/>
                            </p:stCondLst>
                            <p:childTnLst>
                              <p:par>
                                <p:cTn id="2843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4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5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8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2849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5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8" fill="hold">
                            <p:stCondLst>
                              <p:cond delay="500"/>
                            </p:stCondLst>
                            <p:childTnLst>
                              <p:par>
                                <p:cTn id="2859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0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4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2865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86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9" dur="250" autoRev="1" fill="hold"/>
                                        <p:tgtEl>
                                          <p:spTgt spid="7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9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2890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2891" fill="hold">
                            <p:stCondLst>
                              <p:cond delay="0"/>
                            </p:stCondLst>
                            <p:childTnLst>
                              <p:par>
                                <p:cTn id="28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9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0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1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5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2906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0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0" dur="250" autoRev="1" fill="hold"/>
                                        <p:tgtEl>
                                          <p:spTgt spid="7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-0.00174 0.13033 E">
                                      <p:cBhvr>
                                        <p:cTn id="2915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6" restart="whenNotActive" nodeType="interactiveSeq" fill="hold">
                <p:stCondLst>
                  <p:cond evt="onClick">
                    <p:tgtEl>
                      <p:spTgt spid="741"/>
                    </p:tgtEl>
                  </p:cond>
                </p:stCondLst>
                <p:childTnLst>
                  <p:par>
                    <p:cTn id="2927" fill="hold">
                      <p:stCondLst>
                        <p:cond evt="onClick">
                          <p:tgtEl>
                            <p:spTgt spid="741"/>
                          </p:tgtEl>
                        </p:cond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3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6" fill="hold">
                            <p:stCondLst>
                              <p:cond delay="500"/>
                            </p:stCondLst>
                            <p:childTnLst>
                              <p:par>
                                <p:cTn id="2937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8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2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2943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4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7" dur="250" autoRev="1" fill="hold"/>
                                        <p:tgtEl>
                                          <p:spTgt spid="7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7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2968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7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7" fill="hold">
                            <p:stCondLst>
                              <p:cond delay="500"/>
                            </p:stCondLst>
                            <p:childTnLst>
                              <p:par>
                                <p:cTn id="2978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9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3" restart="whenNotActive" nodeType="interactiveSeq" fill="hold">
                <p:stCondLst>
                  <p:cond evt="onClick">
                    <p:tgtEl>
                      <p:spTgt spid="743"/>
                    </p:tgtEl>
                  </p:cond>
                </p:stCondLst>
                <p:childTnLst>
                  <p:par>
                    <p:cTn id="2984" fill="hold">
                      <p:stCondLst>
                        <p:cond evt="onClick">
                          <p:tgtEl>
                            <p:spTgt spid="743"/>
                          </p:tgtEl>
                        </p:cond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8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8" dur="250" autoRev="1" fill="hold"/>
                                        <p:tgtEl>
                                          <p:spTgt spid="7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L -0.00174 0.13056 E">
                                      <p:cBhvr>
                                        <p:cTn id="2993" dur="2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4" restart="whenNotActive" nodeType="interactiveSeq" fill="hold">
                <p:stCondLst>
                  <p:cond evt="onClick">
                    <p:tgtEl>
                      <p:spTgt spid="744"/>
                    </p:tgtEl>
                  </p:cond>
                </p:stCondLst>
                <p:childTnLst>
                  <p:par>
                    <p:cTn id="3005" fill="hold">
                      <p:stCondLst>
                        <p:cond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0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4" fill="hold">
                            <p:stCondLst>
                              <p:cond delay="500"/>
                            </p:stCondLst>
                            <p:childTnLst>
                              <p:par>
                                <p:cTn id="3015" nodeType="after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6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0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3021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3022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2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5" dur="250" autoRev="1" fill="hold"/>
                                        <p:tgtEl>
                                          <p:spTgt spid="7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8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823080" y="28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272360" y="5680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04000" y="5661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373800" y="5661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940360" y="567684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472000" y="5680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308720" y="4707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875640" y="4707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443640" y="4707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012000" y="46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62720" y="46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91200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46272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56272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272360" y="28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923080" y="28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472000" y="28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226360" y="2008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775640" y="2008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326360" y="2008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40360" y="2008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407280" y="2008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975280" y="2008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543640" y="2008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11164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771640" y="5680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320920" y="5680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20920" y="5680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0364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770200" y="46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3856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870200" y="46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420920" y="46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372360" y="28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1200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95128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51928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05092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60164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771640" y="28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322360" y="28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420920" y="28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871640" y="28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870200" y="5680080"/>
            <a:ext cx="45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502000" y="1989000"/>
            <a:ext cx="36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50920" y="2039760"/>
            <a:ext cx="45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601640" y="1989000"/>
            <a:ext cx="45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601640" y="2116080"/>
            <a:ext cx="449280" cy="322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050920" y="2114640"/>
            <a:ext cx="451080" cy="323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2000" y="2116080"/>
            <a:ext cx="360360" cy="322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422360" y="29782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871640" y="297828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322360" y="29782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771640" y="297828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220920" y="29782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601640" y="387972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050920" y="387972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502000" y="387972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951280" y="3879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420920" y="47800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870200" y="478008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320920" y="47800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70200" y="478008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220920" y="4780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20920" y="5769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870200" y="5769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320920" y="5769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770200" y="5769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220920" y="576900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075280" y="2097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526000" y="2097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975280" y="209700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426360" y="2097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875640" y="2097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26360" y="2097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775640" y="2097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226360" y="209700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72000" y="297828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923080" y="29782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372360" y="297828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23080" y="297828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272360" y="297828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723080" y="29782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560920" y="387972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012000" y="387972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461280" y="387972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912000" y="387972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361280" y="3879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580000" y="4780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012000" y="4780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443640" y="4780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875640" y="4780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308720" y="4780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472000" y="5769000"/>
            <a:ext cx="4510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923080" y="5769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372360" y="5769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823080" y="5769000"/>
            <a:ext cx="44928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72360" y="5769000"/>
            <a:ext cx="45072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222720" y="2978280"/>
            <a:ext cx="45072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862360" y="162864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20920" y="522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723080" y="243828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220920" y="5769000"/>
            <a:ext cx="45108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361280" y="3879720"/>
            <a:ext cx="450720" cy="3589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723080" y="2978280"/>
            <a:ext cx="44928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362720" y="333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862360" y="2114640"/>
            <a:ext cx="387360" cy="322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62360" y="2077920"/>
            <a:ext cx="44928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220920" y="2438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723080" y="576900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723080" y="5769000"/>
            <a:ext cx="451080" cy="3589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723080" y="522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4121280" y="3699000"/>
            <a:ext cx="846000" cy="119844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8263080" y="6219720"/>
            <a:ext cx="630000" cy="451080"/>
          </a:xfrm>
          <a:custGeom>
            <a:avLst/>
            <a:gdLst>
              <a:gd name="textAreaLeft" fmla="*/ 29160 w 630000"/>
              <a:gd name="textAreaRight" fmla="*/ 600840 w 63000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30161" h="21600">
                <a:moveTo>
                  <a:pt x="0" y="0"/>
                </a:moveTo>
                <a:lnTo>
                  <a:pt x="30161" y="0"/>
                </a:lnTo>
                <a:lnTo>
                  <a:pt x="30161" y="21600"/>
                </a:lnTo>
                <a:lnTo>
                  <a:pt x="0" y="21600"/>
                </a:lnTo>
                <a:close/>
              </a:path>
              <a:path fill="lightenLess" w="30161" h="21600">
                <a:moveTo>
                  <a:pt x="0" y="0"/>
                </a:moveTo>
                <a:lnTo>
                  <a:pt x="30161" y="0"/>
                </a:lnTo>
                <a:lnTo>
                  <a:pt x="28761" y="1400"/>
                </a:lnTo>
                <a:lnTo>
                  <a:pt x="1400" y="1400"/>
                </a:lnTo>
                <a:close/>
              </a:path>
              <a:path fill="darken" w="30161" h="21600">
                <a:moveTo>
                  <a:pt x="30161" y="0"/>
                </a:moveTo>
                <a:lnTo>
                  <a:pt x="30161" y="21600"/>
                </a:lnTo>
                <a:lnTo>
                  <a:pt x="28761" y="20200"/>
                </a:lnTo>
                <a:lnTo>
                  <a:pt x="28761" y="1400"/>
                </a:lnTo>
                <a:close/>
              </a:path>
              <a:path fill="darkenLess" w="30161" h="21600">
                <a:moveTo>
                  <a:pt x="30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61" y="20200"/>
                </a:lnTo>
                <a:close/>
              </a:path>
              <a:path fill="lighten" w="30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61" h="21600">
                <a:moveTo>
                  <a:pt x="8074" y="7493"/>
                </a:moveTo>
                <a:lnTo>
                  <a:pt x="11581" y="7493"/>
                </a:lnTo>
                <a:lnTo>
                  <a:pt x="11581" y="12828"/>
                </a:lnTo>
                <a:cubicBezTo>
                  <a:pt x="11581" y="13751"/>
                  <a:pt x="12382" y="14482"/>
                  <a:pt x="13418" y="14482"/>
                </a:cubicBezTo>
                <a:lnTo>
                  <a:pt x="15080" y="14482"/>
                </a:lnTo>
                <a:cubicBezTo>
                  <a:pt x="16116" y="14482"/>
                  <a:pt x="16917" y="13751"/>
                  <a:pt x="16917" y="12828"/>
                </a:cubicBezTo>
                <a:lnTo>
                  <a:pt x="16917" y="7493"/>
                </a:lnTo>
                <a:lnTo>
                  <a:pt x="15080" y="7493"/>
                </a:lnTo>
                <a:lnTo>
                  <a:pt x="18588" y="3985"/>
                </a:lnTo>
                <a:lnTo>
                  <a:pt x="22261" y="7493"/>
                </a:lnTo>
                <a:lnTo>
                  <a:pt x="20424" y="7493"/>
                </a:lnTo>
                <a:lnTo>
                  <a:pt x="20424" y="12828"/>
                </a:lnTo>
                <a:cubicBezTo>
                  <a:pt x="20424" y="15596"/>
                  <a:pt x="17848" y="18155"/>
                  <a:pt x="15080" y="18155"/>
                </a:cubicBezTo>
                <a:lnTo>
                  <a:pt x="13418" y="18155"/>
                </a:lnTo>
                <a:cubicBezTo>
                  <a:pt x="10650" y="18155"/>
                  <a:pt x="8074" y="15596"/>
                  <a:pt x="8074" y="12828"/>
                </a:cubicBezTo>
                <a:close/>
              </a:path>
            </a:pathLst>
          </a:custGeom>
          <a:solidFill>
            <a:srgbClr val="e6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241280" y="368280"/>
            <a:ext cx="75614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9. Найди ошибки в написании парной согласн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Кликни кнопкой мыши и исправь ошибки в написани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парных звонких и глухих согласных на конце сло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2" dur="indefinite" restart="never" nodeType="tmRoot">
          <p:childTnLst>
            <p:seq>
              <p:cTn id="3033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3034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3035" fill="hold">
                            <p:stCondLst>
                              <p:cond delay="0"/>
                            </p:stCondLst>
                            <p:childTnLst>
                              <p:par>
                                <p:cTn id="303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37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0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3041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44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7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3048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51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4" restart="whenNotActive" nodeType="interactiveSeq" fill="hold">
                <p:stCondLst>
                  <p:cond evt="onClick">
                    <p:tgtEl>
                      <p:spTgt spid="857"/>
                    </p:tgtEl>
                  </p:cond>
                </p:stCondLst>
                <p:childTnLst>
                  <p:par>
                    <p:cTn id="3055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58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9" dur="250" autoRev="1" fill="hold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2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5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6" restart="whenNotActive" nodeType="interactiveSeq" fill="hold">
                <p:stCondLst>
                  <p:cond evt="onClick">
                    <p:tgtEl>
                      <p:spTgt spid="801"/>
                    </p:tgtEl>
                  </p:cond>
                </p:stCondLst>
                <p:childTnLst>
                  <p:par>
                    <p:cTn id="3067" fill="hold">
                      <p:stCondLst>
                        <p:cond evt="onClick">
                          <p:tgtEl>
                            <p:spTgt spid="801"/>
                          </p:tgtEl>
                        </p:cond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7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3" restart="whenNotActive" nodeType="interactiveSeq" fill="hold">
                <p:stCondLst>
                  <p:cond evt="onClick">
                    <p:tgtEl>
                      <p:spTgt spid="802"/>
                    </p:tgtEl>
                  </p:cond>
                </p:stCondLst>
                <p:childTnLst>
                  <p:par>
                    <p:cTn id="3074" fill="hold">
                      <p:stCondLst>
                        <p:cond evt="onClick">
                          <p:tgtEl>
                            <p:spTgt spid="802"/>
                          </p:tgtEl>
                        </p:cond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7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0" restart="whenNotActive" nodeType="interactiveSeq" fill="hold">
                <p:stCondLst>
                  <p:cond evt="onClick">
                    <p:tgtEl>
                      <p:spTgt spid="803"/>
                    </p:tgtEl>
                  </p:cond>
                </p:stCondLst>
                <p:childTnLst>
                  <p:par>
                    <p:cTn id="3081" fill="hold">
                      <p:stCondLst>
                        <p:cond evt="onClick">
                          <p:tgtEl>
                            <p:spTgt spid="803"/>
                          </p:tgtEl>
                        </p:cond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84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7" restart="whenNotActive" nodeType="interactiveSeq" fill="hold">
                <p:stCondLst>
                  <p:cond evt="onClick">
                    <p:tgtEl>
                      <p:spTgt spid="804"/>
                    </p:tgtEl>
                  </p:cond>
                </p:stCondLst>
                <p:childTnLst>
                  <p:par>
                    <p:cTn id="3088" fill="hold">
                      <p:stCondLst>
                        <p:cond evt="onClick">
                          <p:tgtEl>
                            <p:spTgt spid="804"/>
                          </p:tgtEl>
                        </p:cond>
                      </p:stCondLst>
                      <p:childTnLst>
                        <p:par>
                          <p:cTn id="3089" fill="hold">
                            <p:stCondLst>
                              <p:cond delay="0"/>
                            </p:stCondLst>
                            <p:childTnLst>
                              <p:par>
                                <p:cTn id="309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091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4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3095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9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9" dur="250" autoRev="1" fill="hold"/>
                                        <p:tgtEl>
                                          <p:spTgt spid="8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2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5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6" restart="whenNotActive" nodeType="interactiveSeq" fill="hold">
                <p:stCondLst>
                  <p:cond evt="onClick">
                    <p:tgtEl>
                      <p:spTgt spid="806"/>
                    </p:tgtEl>
                  </p:cond>
                </p:stCondLst>
                <p:childTnLst>
                  <p:par>
                    <p:cTn id="3107" fill="hold">
                      <p:stCondLst>
                        <p:cond evt="onClick">
                          <p:tgtEl>
                            <p:spTgt spid="806"/>
                          </p:tgtEl>
                        </p:cond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10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2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3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3114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3115" fill="hold">
                            <p:stCondLst>
                              <p:cond delay="0"/>
                            </p:stCondLst>
                            <p:childTnLst>
                              <p:par>
                                <p:cTn id="311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17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0" restart="whenNotActive" nodeType="interactiveSeq" fill="hold">
                <p:stCondLst>
                  <p:cond evt="onClick">
                    <p:tgtEl>
                      <p:spTgt spid="808"/>
                    </p:tgtEl>
                  </p:cond>
                </p:stCondLst>
                <p:childTnLst>
                  <p:par>
                    <p:cTn id="3121" fill="hold">
                      <p:stCondLst>
                        <p:cond evt="onClick">
                          <p:tgtEl>
                            <p:spTgt spid="808"/>
                          </p:tgtEl>
                        </p:cond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7" restart="whenNotActive" nodeType="interactiveSeq" fill="hold">
                <p:stCondLst>
                  <p:cond evt="onClick">
                    <p:tgtEl>
                      <p:spTgt spid="809"/>
                    </p:tgtEl>
                  </p:cond>
                </p:stCondLst>
                <p:childTnLst>
                  <p:par>
                    <p:cTn id="3128" fill="hold">
                      <p:stCondLst>
                        <p:cond evt="onClick">
                          <p:tgtEl>
                            <p:spTgt spid="809"/>
                          </p:tgtEl>
                        </p:cond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31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4" restart="whenNotActive" nodeType="interactiveSeq" fill="hold">
                <p:stCondLst>
                  <p:cond evt="onClick">
                    <p:tgtEl>
                      <p:spTgt spid="810"/>
                    </p:tgtEl>
                  </p:cond>
                </p:stCondLst>
                <p:childTnLst>
                  <p:par>
                    <p:cTn id="3135" fill="hold">
                      <p:stCondLst>
                        <p:cond evt="onClick">
                          <p:tgtEl>
                            <p:spTgt spid="810"/>
                          </p:tgtEl>
                        </p:cond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3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1" restart="whenNotActive" nodeType="interactiveSeq" fill="hold">
                <p:stCondLst>
                  <p:cond evt="onClick">
                    <p:tgtEl>
                      <p:spTgt spid="811"/>
                    </p:tgtEl>
                  </p:cond>
                </p:stCondLst>
                <p:childTnLst>
                  <p:par>
                    <p:cTn id="3142" fill="hold">
                      <p:stCondLst>
                        <p:cond evt="onClick">
                          <p:tgtEl>
                            <p:spTgt spid="811"/>
                          </p:tgtEl>
                        </p:cond>
                      </p:stCondLst>
                      <p:childTnLst>
                        <p:par>
                          <p:cTn id="3143" fill="hold">
                            <p:stCondLst>
                              <p:cond delay="0"/>
                            </p:stCondLst>
                            <p:childTnLst>
                              <p:par>
                                <p:cTn id="314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45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6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8" restart="whenNotActive" nodeType="interactiveSeq" fill="hold">
                <p:stCondLst>
                  <p:cond evt="onClick">
                    <p:tgtEl>
                      <p:spTgt spid="812"/>
                    </p:tgtEl>
                  </p:cond>
                </p:stCondLst>
                <p:childTnLst>
                  <p:par>
                    <p:cTn id="3149" fill="hold">
                      <p:stCondLst>
                        <p:cond evt="onClick">
                          <p:tgtEl>
                            <p:spTgt spid="812"/>
                          </p:tgtEl>
                        </p:cond>
                      </p:stCondLst>
                      <p:childTnLst>
                        <p:par>
                          <p:cTn id="3150" fill="hold">
                            <p:stCondLst>
                              <p:cond delay="0"/>
                            </p:stCondLst>
                            <p:childTnLst>
                              <p:par>
                                <p:cTn id="315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52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5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3156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59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2" restart="whenNotActive" nodeType="interactiveSeq" fill="hold">
                <p:stCondLst>
                  <p:cond evt="onClick">
                    <p:tgtEl>
                      <p:spTgt spid="814"/>
                    </p:tgtEl>
                  </p:cond>
                </p:stCondLst>
                <p:childTnLst>
                  <p:par>
                    <p:cTn id="3163" fill="hold">
                      <p:stCondLst>
                        <p:cond evt="onClick">
                          <p:tgtEl>
                            <p:spTgt spid="814"/>
                          </p:tgtEl>
                        </p:cond>
                      </p:stCondLst>
                      <p:childTnLst>
                        <p:par>
                          <p:cTn id="3164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66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9" restart="whenNotActive" nodeType="interactiveSeq" fill="hold">
                <p:stCondLst>
                  <p:cond evt="onClick">
                    <p:tgtEl>
                      <p:spTgt spid="815"/>
                    </p:tgtEl>
                  </p:cond>
                </p:stCondLst>
                <p:childTnLst>
                  <p:par>
                    <p:cTn id="3170" fill="hold">
                      <p:stCondLst>
                        <p:cond evt="onClick">
                          <p:tgtEl>
                            <p:spTgt spid="815"/>
                          </p:tgtEl>
                        </p:cond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73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6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3177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8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3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3184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8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0" restart="whenNotActive" nodeType="interactiveSeq" fill="hold">
                <p:stCondLst>
                  <p:cond evt="onClick">
                    <p:tgtEl>
                      <p:spTgt spid="818"/>
                    </p:tgtEl>
                  </p:cond>
                </p:stCondLst>
                <p:childTnLst>
                  <p:par>
                    <p:cTn id="3191" fill="hold">
                      <p:stCondLst>
                        <p:cond evt="onClick">
                          <p:tgtEl>
                            <p:spTgt spid="818"/>
                          </p:tgtEl>
                        </p:cond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194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7" restart="whenNotActive" nodeType="interactiveSeq" fill="hold">
                <p:stCondLst>
                  <p:cond evt="onClick">
                    <p:tgtEl>
                      <p:spTgt spid="819"/>
                    </p:tgtEl>
                  </p:cond>
                </p:stCondLst>
                <p:childTnLst>
                  <p:par>
                    <p:cTn id="3198" fill="hold">
                      <p:stCondLst>
                        <p:cond evt="onClick">
                          <p:tgtEl>
                            <p:spTgt spid="819"/>
                          </p:tgtEl>
                        </p:cond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20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2" dur="250" autoRev="1" fill="hold"/>
                                        <p:tgtEl>
                                          <p:spTgt spid="8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5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8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9" restart="whenNotActive" nodeType="interactiveSeq" fill="hold">
                <p:stCondLst>
                  <p:cond evt="onClick">
                    <p:tgtEl>
                      <p:spTgt spid="820"/>
                    </p:tgtEl>
                  </p:cond>
                </p:stCondLst>
                <p:childTnLst>
                  <p:par>
                    <p:cTn id="3210" fill="hold">
                      <p:stCondLst>
                        <p:cond evt="onClick">
                          <p:tgtEl>
                            <p:spTgt spid="820"/>
                          </p:tgtEl>
                        </p:cond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1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6" restart="whenNotActive" nodeType="interactiveSeq" fill="hold">
                <p:stCondLst>
                  <p:cond evt="onClick">
                    <p:tgtEl>
                      <p:spTgt spid="821"/>
                    </p:tgtEl>
                  </p:cond>
                </p:stCondLst>
                <p:childTnLst>
                  <p:par>
                    <p:cTn id="3217" fill="hold">
                      <p:stCondLst>
                        <p:cond evt="onClick">
                          <p:tgtEl>
                            <p:spTgt spid="821"/>
                          </p:tgtEl>
                        </p:cond>
                      </p:stCondLst>
                      <p:childTnLst>
                        <p:par>
                          <p:cTn id="3218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20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3" restart="whenNotActive" nodeType="interactiveSeq" fill="hold">
                <p:stCondLst>
                  <p:cond evt="onClick">
                    <p:tgtEl>
                      <p:spTgt spid="822"/>
                    </p:tgtEl>
                  </p:cond>
                </p:stCondLst>
                <p:childTnLst>
                  <p:par>
                    <p:cTn id="3224" fill="hold">
                      <p:stCondLst>
                        <p:cond evt="onClick">
                          <p:tgtEl>
                            <p:spTgt spid="822"/>
                          </p:tgtEl>
                        </p:cond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2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0" restart="whenNotActive" nodeType="interactiveSeq" fill="hold">
                <p:stCondLst>
                  <p:cond evt="onClick">
                    <p:tgtEl>
                      <p:spTgt spid="823"/>
                    </p:tgtEl>
                  </p:cond>
                </p:stCondLst>
                <p:childTnLst>
                  <p:par>
                    <p:cTn id="3231" fill="hold">
                      <p:stCondLst>
                        <p:cond evt="onClick">
                          <p:tgtEl>
                            <p:spTgt spid="823"/>
                          </p:tgtEl>
                        </p:cond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34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7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3238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4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4" restart="whenNotActive" nodeType="interactiveSeq" fill="hold">
                <p:stCondLst>
                  <p:cond evt="onClick">
                    <p:tgtEl>
                      <p:spTgt spid="825"/>
                    </p:tgtEl>
                  </p:cond>
                </p:stCondLst>
                <p:childTnLst>
                  <p:par>
                    <p:cTn id="3245" fill="hold">
                      <p:stCondLst>
                        <p:cond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3246" fill="hold">
                            <p:stCondLst>
                              <p:cond delay="0"/>
                            </p:stCondLst>
                            <p:childTnLst>
                              <p:par>
                                <p:cTn id="324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48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1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3252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3253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55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8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3259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62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4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5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3266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3267" fill="hold">
                            <p:stCondLst>
                              <p:cond delay="0"/>
                            </p:stCondLst>
                            <p:childTnLst>
                              <p:par>
                                <p:cTn id="326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69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2" restart="whenNotActive" nodeType="interactiveSeq" fill="hold">
                <p:stCondLst>
                  <p:cond evt="onClick">
                    <p:tgtEl>
                      <p:spTgt spid="829"/>
                    </p:tgtEl>
                  </p:cond>
                </p:stCondLst>
                <p:childTnLst>
                  <p:par>
                    <p:cTn id="3273" fill="hold">
                      <p:stCondLst>
                        <p:cond evt="onClick">
                          <p:tgtEl>
                            <p:spTgt spid="829"/>
                          </p:tgtEl>
                        </p:cond>
                      </p:stCondLst>
                      <p:childTnLst>
                        <p:par>
                          <p:cTn id="3274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76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9" restart="whenNotActive" nodeType="interactiveSeq" fill="hold">
                <p:stCondLst>
                  <p:cond evt="onClick">
                    <p:tgtEl>
                      <p:spTgt spid="830"/>
                    </p:tgtEl>
                  </p:cond>
                </p:stCondLst>
                <p:childTnLst>
                  <p:par>
                    <p:cTn id="3280" fill="hold">
                      <p:stCondLst>
                        <p:cond evt="onClick">
                          <p:tgtEl>
                            <p:spTgt spid="830"/>
                          </p:tgtEl>
                        </p:cond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83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6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3287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3288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90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3" restart="whenNotActive" nodeType="interactiveSeq" fill="hold">
                <p:stCondLst>
                  <p:cond evt="onClick">
                    <p:tgtEl>
                      <p:spTgt spid="832"/>
                    </p:tgtEl>
                  </p:cond>
                </p:stCondLst>
                <p:childTnLst>
                  <p:par>
                    <p:cTn id="3294" fill="hold">
                      <p:stCondLst>
                        <p:cond evt="onClick">
                          <p:tgtEl>
                            <p:spTgt spid="832"/>
                          </p:tgtEl>
                        </p:cond>
                      </p:stCondLst>
                      <p:childTnLst>
                        <p:par>
                          <p:cTn id="3295" fill="hold">
                            <p:stCondLst>
                              <p:cond delay="0"/>
                            </p:stCondLst>
                            <p:childTnLst>
                              <p:par>
                                <p:cTn id="329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97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0" restart="whenNotActive" nodeType="interactiveSeq" fill="hold">
                <p:stCondLst>
                  <p:cond evt="onClick">
                    <p:tgtEl>
                      <p:spTgt spid="833"/>
                    </p:tgtEl>
                  </p:cond>
                </p:stCondLst>
                <p:childTnLst>
                  <p:par>
                    <p:cTn id="3301" fill="hold">
                      <p:stCondLst>
                        <p:cond evt="onClick">
                          <p:tgtEl>
                            <p:spTgt spid="833"/>
                          </p:tgtEl>
                        </p:cond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30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5" dur="250" autoRev="1" fill="hold"/>
                                        <p:tgtEl>
                                          <p:spTgt spid="8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1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2" restart="whenNotActive" nodeType="interactiveSeq" fill="hold">
                <p:stCondLst>
                  <p:cond evt="onClick">
                    <p:tgtEl>
                      <p:spTgt spid="834"/>
                    </p:tgtEl>
                  </p:cond>
                </p:stCondLst>
                <p:childTnLst>
                  <p:par>
                    <p:cTn id="3313" fill="hold">
                      <p:stCondLst>
                        <p:cond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1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9" restart="whenNotActive" nodeType="interactiveSeq" fill="hold">
                <p:stCondLst>
                  <p:cond evt="onClick">
                    <p:tgtEl>
                      <p:spTgt spid="835"/>
                    </p:tgtEl>
                  </p:cond>
                </p:stCondLst>
                <p:childTnLst>
                  <p:par>
                    <p:cTn id="3320" fill="hold">
                      <p:stCondLst>
                        <p:cond evt="onClick">
                          <p:tgtEl>
                            <p:spTgt spid="835"/>
                          </p:tgtEl>
                        </p:cond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23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6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3327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30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3" restart="whenNotActive" nodeType="interactiveSeq" fill="hold">
                <p:stCondLst>
                  <p:cond evt="onClick">
                    <p:tgtEl>
                      <p:spTgt spid="837"/>
                    </p:tgtEl>
                  </p:cond>
                </p:stCondLst>
                <p:childTnLst>
                  <p:par>
                    <p:cTn id="3334" fill="hold">
                      <p:stCondLst>
                        <p:cond evt="onClick">
                          <p:tgtEl>
                            <p:spTgt spid="837"/>
                          </p:tgtEl>
                        </p:cond>
                      </p:stCondLst>
                      <p:childTnLst>
                        <p:par>
                          <p:cTn id="3335" fill="hold">
                            <p:stCondLst>
                              <p:cond delay="0"/>
                            </p:stCondLst>
                            <p:childTnLst>
                              <p:par>
                                <p:cTn id="333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37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0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3341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34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5" dur="250" autoRev="1" fill="hold"/>
                                        <p:tgtEl>
                                          <p:spTgt spid="8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8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1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2" restart="whenNotActive" nodeType="interactiveSeq" fill="hold">
                <p:stCondLst>
                  <p:cond evt="onClick">
                    <p:tgtEl>
                      <p:spTgt spid="839"/>
                    </p:tgtEl>
                  </p:cond>
                </p:stCondLst>
                <p:childTnLst>
                  <p:par>
                    <p:cTn id="3353" fill="hold">
                      <p:stCondLst>
                        <p:cond evt="onClick">
                          <p:tgtEl>
                            <p:spTgt spid="839"/>
                          </p:tgtEl>
                        </p:cond>
                      </p:stCondLst>
                      <p:childTnLst>
                        <p:par>
                          <p:cTn id="3354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56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9" restart="whenNotActive" nodeType="interactiveSeq" fill="hold">
                <p:stCondLst>
                  <p:cond evt="onClick">
                    <p:tgtEl>
                      <p:spTgt spid="840"/>
                    </p:tgtEl>
                  </p:cond>
                </p:stCondLst>
                <p:childTnLst>
                  <p:par>
                    <p:cTn id="3360" fill="hold">
                      <p:stCondLst>
                        <p:cond evt="onClick">
                          <p:tgtEl>
                            <p:spTgt spid="840"/>
                          </p:tgtEl>
                        </p:cond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63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6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3367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3368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70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3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3374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3375" fill="hold">
                            <p:stCondLst>
                              <p:cond delay="0"/>
                            </p:stCondLst>
                            <p:childTnLst>
                              <p:par>
                                <p:cTn id="337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7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0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3381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84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8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7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3388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91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4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3395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398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0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1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3402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05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8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3409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3410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12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5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3416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pluck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419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2" restart="whenNotActive" nodeType="interactiveSeq" fill="hold">
                <p:stCondLst>
                  <p:cond evt="onClick">
                    <p:tgtEl>
                      <p:spTgt spid="860"/>
                    </p:tgtEl>
                  </p:cond>
                </p:stCondLst>
                <p:childTnLst>
                  <p:par>
                    <p:cTn id="3423" fill="hold">
                      <p:stCondLst>
                        <p:cond evt="onClick">
                          <p:tgtEl>
                            <p:spTgt spid="860"/>
                          </p:tgtEl>
                        </p:cond>
                      </p:stCondLst>
                      <p:childTnLst>
                        <p:par>
                          <p:cTn id="3424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42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7" dur="250" autoRev="1" fill="hold"/>
                                        <p:tgtEl>
                                          <p:spTgt spid="8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0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3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123640" y="189000"/>
            <a:ext cx="482436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1308240" y="762120"/>
          <a:ext cx="6616440" cy="574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762120"/>
                    <a:ext cx="6616440" cy="5740200"/>
                  </a:xfrm>
                  <a:prstGeom prst="rect">
                    <a:avLst/>
                  </a:prstGeom>
                  <a:ln w="38160">
                    <a:solidFill>
                      <a:srgbClr val="66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9" name=""/>
          <p:cNvSpPr/>
          <p:nvPr/>
        </p:nvSpPr>
        <p:spPr>
          <a:xfrm>
            <a:off x="824400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edd8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3"/>
          <a:stretch/>
        </p:blipFill>
        <p:spPr>
          <a:xfrm>
            <a:off x="7772400" y="5157720"/>
            <a:ext cx="137160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4" dur="indefinite" restart="never" nodeType="tmRoot">
          <p:childTnLst>
            <p:seq>
              <p:cTn id="3435" dur="indefinite" nodeType="mainSeq">
                <p:childTnLst>
                  <p:par>
                    <p:cTn id="3436" fill="hold">
                      <p:stCondLst>
                        <p:cond delay="0"/>
                      </p:stCondLst>
                      <p:childTnLst>
                        <p:par>
                          <p:cTn id="3437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d8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39640" y="602100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 скачали эту презентацию на сайте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ki.rd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39640" y="2492280"/>
            <a:ext cx="8353440" cy="220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Жакулина Ирин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6d5"/>
            </a:gs>
            <a:gs pos="100000">
              <a:srgbClr val="dbdac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502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яснительная записк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395280" y="692280"/>
            <a:ext cx="842472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нажер содержит 9 упражнений для фронтальной  и индивидуальной работы по отработке навыка правописания парных звонких и глухих согласных на конце сл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ыполнении заданий нужно не перебирать варианты ответов, а обдумывать каждый ответ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выбора упражнения на слайде-меню нужно кликнуть левой кнопкой мыши по его номеру, нажатие   кнопки        завершает показ слай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жатие кнопки         на каждом слайде – возврат на слайд-мен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выполнении заданий нужно кликнуть левой кнопкой мыши 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1 – по букве, обознающей звонкий согласный зву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2 – по выбранному слов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3, 4 – по слову с парной согласной на конце слов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5 – по парной согласной на конце слов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6 – слове по парной согласной, в столбике слов по выбранному слов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7 – по проверочному слову среди группы сл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8 – по выбранной букв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9 – по букве, которая является ошибкой в написании парной согласной на конце слов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. № 10 – по выделенной ячейке, затем в поле со списком          на    , потом по коду правильного ответа (после выполнения теста Фай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→ Выход →     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упражнениях № 1-9 неверный ответ высвечивается красным цв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Желаю удач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84360" y="2492280"/>
            <a:ext cx="270000" cy="270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df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4400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4500720" y="2205000"/>
            <a:ext cx="271440" cy="271440"/>
          </a:xfrm>
          <a:custGeom>
            <a:avLst/>
            <a:gdLst>
              <a:gd name="textAreaLeft" fmla="*/ 17280 w 271440"/>
              <a:gd name="textAreaRight" fmla="*/ 254160 w 271440"/>
              <a:gd name="textAreaTop" fmla="*/ 17280 h 271440"/>
              <a:gd name="textAreaBottom" fmla="*/ 25416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df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885080" y="5661000"/>
            <a:ext cx="270000" cy="270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df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0800000">
            <a:off x="7740720" y="5445000"/>
            <a:ext cx="216000" cy="14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6d5"/>
            </a:gs>
            <a:gs pos="100000">
              <a:srgbClr val="dbdac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пражнения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1" name="">
            <a:hlinkClick r:id="rId1" action="ppaction://hlinksldjump"/>
          </p:cNvPr>
          <p:cNvSpPr/>
          <p:nvPr/>
        </p:nvSpPr>
        <p:spPr>
          <a:xfrm>
            <a:off x="539640" y="69228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03280" y="1341360"/>
            <a:ext cx="63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ставка слова подходящего по смысл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2" action="ppaction://hlinksldjump"/>
          </p:cNvPr>
          <p:cNvSpPr/>
          <p:nvPr/>
        </p:nvSpPr>
        <p:spPr>
          <a:xfrm>
            <a:off x="539640" y="126828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03280" y="76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дчеркивание букв, обозначающих парные звонкие   согласные звук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3" action="ppaction://hlinksldjump"/>
          </p:cNvPr>
          <p:cNvSpPr/>
          <p:nvPr/>
        </p:nvSpPr>
        <p:spPr>
          <a:xfrm>
            <a:off x="539640" y="184464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4" action="ppaction://hlinksldjump"/>
          </p:cNvPr>
          <p:cNvSpPr/>
          <p:nvPr/>
        </p:nvSpPr>
        <p:spPr>
          <a:xfrm>
            <a:off x="539640" y="242100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rId5" action="ppaction://hlinksldjump"/>
          </p:cNvPr>
          <p:cNvSpPr/>
          <p:nvPr/>
        </p:nvSpPr>
        <p:spPr>
          <a:xfrm>
            <a:off x="539640" y="299736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6" action="ppaction://hlinksldjump"/>
          </p:cNvPr>
          <p:cNvSpPr/>
          <p:nvPr/>
        </p:nvSpPr>
        <p:spPr>
          <a:xfrm>
            <a:off x="539640" y="3573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7" action="ppaction://hlinksldjump"/>
          </p:cNvPr>
          <p:cNvSpPr/>
          <p:nvPr/>
        </p:nvSpPr>
        <p:spPr>
          <a:xfrm>
            <a:off x="539640" y="414972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8" action="ppaction://hlinksldjump"/>
          </p:cNvPr>
          <p:cNvSpPr/>
          <p:nvPr/>
        </p:nvSpPr>
        <p:spPr>
          <a:xfrm>
            <a:off x="539640" y="472428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9"/>
          </p:cNvPr>
          <p:cNvSpPr/>
          <p:nvPr/>
        </p:nvSpPr>
        <p:spPr>
          <a:xfrm>
            <a:off x="539640" y="530064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3280" y="1916280"/>
            <a:ext cx="77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ыписывание слов, требующих проверки при написан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03280" y="2421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дчёркивание слов с парными звонкими и глухими согласными на конце слов, которые нужно проверя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20920" y="314172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дчёркивание орфограммы–парная согласная на конце сло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20920" y="3573360"/>
            <a:ext cx="77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дчеркивание орфограммы и нахождение проверочного сло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03280" y="4292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одбор проверочного сло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420920" y="4797360"/>
            <a:ext cx="77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ставка пропущенной парной согласной на конце сло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03280" y="5300640"/>
            <a:ext cx="69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нахождение ошибок в написании парной согласной на конц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endshow"/>
            <a:hlinkClick r:id="rId10"/>
          </p:cNvPr>
          <p:cNvSpPr/>
          <p:nvPr/>
        </p:nvSpPr>
        <p:spPr>
          <a:xfrm>
            <a:off x="8442360" y="612936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e5e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11"/>
          </p:cNvPr>
          <p:cNvSpPr/>
          <p:nvPr/>
        </p:nvSpPr>
        <p:spPr>
          <a:xfrm>
            <a:off x="539640" y="587700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03280" y="6021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тест «Проверь себя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71640" y="277920"/>
            <a:ext cx="7651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.Кликни левой кнопкой мыши и подчеркни в стихотворении буквы, которые обозначают парный звонкий согласный зву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62000" y="1808280"/>
            <a:ext cx="36036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420920" y="1808280"/>
            <a:ext cx="2696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411280" y="180828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92360" y="1808280"/>
            <a:ext cx="2696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41640" y="1808280"/>
            <a:ext cx="2696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81280" y="180828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1280" y="1808280"/>
            <a:ext cx="2696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2092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92360" y="180828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41640" y="180828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11640" y="180828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62360" y="180828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932360" y="180828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02360" y="1808280"/>
            <a:ext cx="2696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472000" y="180828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74200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6272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9272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3272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00236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7236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4236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81200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82000" y="18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164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062000" y="2708280"/>
            <a:ext cx="36036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7164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41640" y="2708280"/>
            <a:ext cx="2696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41128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8128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95128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0200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7200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4164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1164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8164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75128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0236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7200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742000" y="270828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12000" y="2708280"/>
            <a:ext cx="2696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9236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62000" y="3608280"/>
            <a:ext cx="36036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062000" y="4508640"/>
            <a:ext cx="36036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2092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41640" y="3608280"/>
            <a:ext cx="36036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200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7164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4164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9236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4164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21164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48164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75128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272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92720" y="3608280"/>
            <a:ext cx="271440" cy="4492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4200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1200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8164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55164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82308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09308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6272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632720" y="3608280"/>
            <a:ext cx="271440" cy="45108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209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6200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3200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68128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95128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209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47184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74328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01328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829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529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227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927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5627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1200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627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73272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00236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45164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72308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99308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32720" y="4508640"/>
            <a:ext cx="27000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263080" y="4508640"/>
            <a:ext cx="2714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732720" y="5319720"/>
            <a:ext cx="197964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А. Пушк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172360" y="6039000"/>
            <a:ext cx="630360" cy="450720"/>
          </a:xfrm>
          <a:custGeom>
            <a:avLst/>
            <a:gdLst>
              <a:gd name="textAreaLeft" fmla="*/ 29160 w 630360"/>
              <a:gd name="textAreaRight" fmla="*/ 601200 w 630360"/>
              <a:gd name="textAreaTop" fmla="*/ 29160 h 450720"/>
              <a:gd name="textAreaBottom" fmla="*/ 421560 h 450720"/>
            </a:gdLst>
            <a:ahLst/>
            <a:rect l="textAreaLeft" t="textAreaTop" r="textAreaRight" b="textAreaBottom"/>
            <a:pathLst>
              <a:path w="30202" h="21600">
                <a:moveTo>
                  <a:pt x="0" y="0"/>
                </a:moveTo>
                <a:lnTo>
                  <a:pt x="30202" y="0"/>
                </a:lnTo>
                <a:lnTo>
                  <a:pt x="30202" y="21600"/>
                </a:lnTo>
                <a:lnTo>
                  <a:pt x="0" y="21600"/>
                </a:lnTo>
                <a:close/>
              </a:path>
              <a:path fill="lightenLess" w="30202" h="21600">
                <a:moveTo>
                  <a:pt x="0" y="0"/>
                </a:moveTo>
                <a:lnTo>
                  <a:pt x="30202" y="0"/>
                </a:lnTo>
                <a:lnTo>
                  <a:pt x="28802" y="1400"/>
                </a:lnTo>
                <a:lnTo>
                  <a:pt x="1400" y="1400"/>
                </a:lnTo>
                <a:close/>
              </a:path>
              <a:path fill="darken" w="30202" h="21600">
                <a:moveTo>
                  <a:pt x="30202" y="0"/>
                </a:moveTo>
                <a:lnTo>
                  <a:pt x="30202" y="21600"/>
                </a:lnTo>
                <a:lnTo>
                  <a:pt x="28802" y="20200"/>
                </a:lnTo>
                <a:lnTo>
                  <a:pt x="28802" y="1400"/>
                </a:lnTo>
                <a:close/>
              </a:path>
              <a:path fill="darkenLess" w="30202" h="21600">
                <a:moveTo>
                  <a:pt x="30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2" y="20200"/>
                </a:lnTo>
                <a:close/>
              </a:path>
              <a:path fill="lighten" w="30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2" h="21600">
                <a:moveTo>
                  <a:pt x="8095" y="7493"/>
                </a:moveTo>
                <a:lnTo>
                  <a:pt x="11602" y="7493"/>
                </a:lnTo>
                <a:lnTo>
                  <a:pt x="11602" y="12828"/>
                </a:lnTo>
                <a:cubicBezTo>
                  <a:pt x="11602" y="13751"/>
                  <a:pt x="12403" y="14482"/>
                  <a:pt x="13439" y="14482"/>
                </a:cubicBezTo>
                <a:lnTo>
                  <a:pt x="15101" y="14482"/>
                </a:lnTo>
                <a:cubicBezTo>
                  <a:pt x="16137" y="14482"/>
                  <a:pt x="16938" y="13751"/>
                  <a:pt x="16938" y="12828"/>
                </a:cubicBezTo>
                <a:lnTo>
                  <a:pt x="16938" y="7493"/>
                </a:lnTo>
                <a:lnTo>
                  <a:pt x="15101" y="7493"/>
                </a:lnTo>
                <a:lnTo>
                  <a:pt x="18609" y="3985"/>
                </a:lnTo>
                <a:lnTo>
                  <a:pt x="22282" y="7493"/>
                </a:lnTo>
                <a:lnTo>
                  <a:pt x="20445" y="7493"/>
                </a:lnTo>
                <a:lnTo>
                  <a:pt x="20445" y="12828"/>
                </a:lnTo>
                <a:cubicBezTo>
                  <a:pt x="20445" y="15596"/>
                  <a:pt x="17869" y="18155"/>
                  <a:pt x="15101" y="18155"/>
                </a:cubicBezTo>
                <a:lnTo>
                  <a:pt x="13439" y="18155"/>
                </a:lnTo>
                <a:cubicBezTo>
                  <a:pt x="10671" y="18155"/>
                  <a:pt x="8095" y="15596"/>
                  <a:pt x="8095" y="12828"/>
                </a:cubicBezTo>
                <a:close/>
              </a:path>
            </a:pathLst>
          </a:custGeom>
          <a:solidFill>
            <a:srgbClr val="e6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150920" y="5229360"/>
            <a:ext cx="900000" cy="1276200"/>
          </a:xfrm>
          <a:prstGeom prst="rect">
            <a:avLst/>
          </a:prstGeom>
          <a:ln w="0">
            <a:noFill/>
          </a:ln>
          <a:effectLst>
            <a:outerShdw dist="71785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84" name=""/>
          <p:cNvSpPr txBox="1"/>
          <p:nvPr/>
        </p:nvSpPr>
        <p:spPr>
          <a:xfrm>
            <a:off x="3311640" y="5408640"/>
            <a:ext cx="220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умай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281640" y="2708280"/>
            <a:ext cx="181080" cy="450720"/>
          </a:xfrm>
          <a:prstGeom prst="rect">
            <a:avLst/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02000" y="6039000"/>
            <a:ext cx="41418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0000"/>
                </a:solidFill>
                <a:latin typeface="Arial"/>
              </a:rPr>
              <a:t>Подчеркни в стихотворе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e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xit" presetID="1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9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5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8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3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6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7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3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614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2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637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4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5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1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2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3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746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4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6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7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798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0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816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1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3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4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5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868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7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8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899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0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1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912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1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2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4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5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3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964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6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977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9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990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9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003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0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01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1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6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047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mp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1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052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5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078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8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1280" y="367920"/>
            <a:ext cx="71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Допиши предложения, выбрав подходящее по смыслу слово и кликнув по нему кнопкой мыш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50920" y="1808280"/>
            <a:ext cx="5491440" cy="990360"/>
          </a:xfrm>
          <a:prstGeom prst="horizontalScroll">
            <a:avLst>
              <a:gd name="adj" fmla="val 12500"/>
            </a:avLst>
          </a:prstGeom>
          <a:solidFill>
            <a:srgbClr val="e6e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 реке плывёт 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050920" y="4149720"/>
            <a:ext cx="5581800" cy="990720"/>
          </a:xfrm>
          <a:prstGeom prst="horizontalScroll">
            <a:avLst>
              <a:gd name="adj" fmla="val 12500"/>
            </a:avLst>
          </a:prstGeom>
          <a:solidFill>
            <a:srgbClr val="e6e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аков корень, таков и 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71640" y="3068640"/>
            <a:ext cx="1530360" cy="647640"/>
          </a:xfrm>
          <a:prstGeom prst="roundRect">
            <a:avLst>
              <a:gd name="adj" fmla="val 16667"/>
            </a:avLst>
          </a:prstGeom>
          <a:solidFill>
            <a:srgbClr val="e6e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л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81640" y="3068640"/>
            <a:ext cx="1530360" cy="647640"/>
          </a:xfrm>
          <a:prstGeom prst="roundRect">
            <a:avLst>
              <a:gd name="adj" fmla="val 16667"/>
            </a:avLst>
          </a:prstGeom>
          <a:solidFill>
            <a:srgbClr val="e6e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л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71640" y="5408640"/>
            <a:ext cx="1528920" cy="647640"/>
          </a:xfrm>
          <a:prstGeom prst="roundRect">
            <a:avLst>
              <a:gd name="adj" fmla="val 16667"/>
            </a:avLst>
          </a:prstGeom>
          <a:solidFill>
            <a:srgbClr val="e6e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л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81640" y="5408640"/>
            <a:ext cx="1441440" cy="647640"/>
          </a:xfrm>
          <a:prstGeom prst="roundRect">
            <a:avLst>
              <a:gd name="adj" fmla="val 16667"/>
            </a:avLst>
          </a:prstGeom>
          <a:solidFill>
            <a:srgbClr val="e6e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л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502000" y="3159000"/>
            <a:ext cx="220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5111640" y="5499000"/>
            <a:ext cx="2210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842000" y="1989000"/>
            <a:ext cx="11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ло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923080" y="4329000"/>
            <a:ext cx="171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пл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172360" y="6039000"/>
            <a:ext cx="630360" cy="450720"/>
          </a:xfrm>
          <a:custGeom>
            <a:avLst/>
            <a:gdLst>
              <a:gd name="textAreaLeft" fmla="*/ 29160 w 630360"/>
              <a:gd name="textAreaRight" fmla="*/ 601200 w 630360"/>
              <a:gd name="textAreaTop" fmla="*/ 29160 h 450720"/>
              <a:gd name="textAreaBottom" fmla="*/ 421560 h 450720"/>
            </a:gdLst>
            <a:ahLst/>
            <a:rect l="textAreaLeft" t="textAreaTop" r="textAreaRight" b="textAreaBottom"/>
            <a:pathLst>
              <a:path w="30202" h="21600">
                <a:moveTo>
                  <a:pt x="0" y="0"/>
                </a:moveTo>
                <a:lnTo>
                  <a:pt x="30202" y="0"/>
                </a:lnTo>
                <a:lnTo>
                  <a:pt x="30202" y="21600"/>
                </a:lnTo>
                <a:lnTo>
                  <a:pt x="0" y="21600"/>
                </a:lnTo>
                <a:close/>
              </a:path>
              <a:path fill="lightenLess" w="30202" h="21600">
                <a:moveTo>
                  <a:pt x="0" y="0"/>
                </a:moveTo>
                <a:lnTo>
                  <a:pt x="30202" y="0"/>
                </a:lnTo>
                <a:lnTo>
                  <a:pt x="28802" y="1400"/>
                </a:lnTo>
                <a:lnTo>
                  <a:pt x="1400" y="1400"/>
                </a:lnTo>
                <a:close/>
              </a:path>
              <a:path fill="darken" w="30202" h="21600">
                <a:moveTo>
                  <a:pt x="30202" y="0"/>
                </a:moveTo>
                <a:lnTo>
                  <a:pt x="30202" y="21600"/>
                </a:lnTo>
                <a:lnTo>
                  <a:pt x="28802" y="20200"/>
                </a:lnTo>
                <a:lnTo>
                  <a:pt x="28802" y="1400"/>
                </a:lnTo>
                <a:close/>
              </a:path>
              <a:path fill="darkenLess" w="30202" h="21600">
                <a:moveTo>
                  <a:pt x="30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2" y="20200"/>
                </a:lnTo>
                <a:close/>
              </a:path>
              <a:path fill="lighten" w="30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2" h="21600">
                <a:moveTo>
                  <a:pt x="8095" y="7493"/>
                </a:moveTo>
                <a:lnTo>
                  <a:pt x="11602" y="7493"/>
                </a:lnTo>
                <a:lnTo>
                  <a:pt x="11602" y="12828"/>
                </a:lnTo>
                <a:cubicBezTo>
                  <a:pt x="11602" y="13751"/>
                  <a:pt x="12403" y="14482"/>
                  <a:pt x="13439" y="14482"/>
                </a:cubicBezTo>
                <a:lnTo>
                  <a:pt x="15101" y="14482"/>
                </a:lnTo>
                <a:cubicBezTo>
                  <a:pt x="16137" y="14482"/>
                  <a:pt x="16938" y="13751"/>
                  <a:pt x="16938" y="12828"/>
                </a:cubicBezTo>
                <a:lnTo>
                  <a:pt x="16938" y="7493"/>
                </a:lnTo>
                <a:lnTo>
                  <a:pt x="15101" y="7493"/>
                </a:lnTo>
                <a:lnTo>
                  <a:pt x="18609" y="3985"/>
                </a:lnTo>
                <a:lnTo>
                  <a:pt x="22282" y="7493"/>
                </a:lnTo>
                <a:lnTo>
                  <a:pt x="20445" y="7493"/>
                </a:lnTo>
                <a:lnTo>
                  <a:pt x="20445" y="12828"/>
                </a:lnTo>
                <a:cubicBezTo>
                  <a:pt x="20445" y="15596"/>
                  <a:pt x="17869" y="18155"/>
                  <a:pt x="15101" y="18155"/>
                </a:cubicBezTo>
                <a:lnTo>
                  <a:pt x="13439" y="18155"/>
                </a:lnTo>
                <a:cubicBezTo>
                  <a:pt x="10671" y="18155"/>
                  <a:pt x="8095" y="15596"/>
                  <a:pt x="8095" y="12828"/>
                </a:cubicBezTo>
                <a:close/>
              </a:path>
            </a:pathLst>
          </a:custGeom>
          <a:solidFill>
            <a:srgbClr val="e6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0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6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107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1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2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7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128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3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3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144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511280" y="549360"/>
            <a:ext cx="59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Кликни кнопкой мыши и выпиши только те слова, которые нужно проверя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411280" y="3159000"/>
            <a:ext cx="1079640" cy="54000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тру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62720" y="4149720"/>
            <a:ext cx="1081080" cy="5414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то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562720" y="2259000"/>
            <a:ext cx="107928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гри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420920" y="2259000"/>
            <a:ext cx="107928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шка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402000" y="4149720"/>
            <a:ext cx="107964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е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632720" y="2259000"/>
            <a:ext cx="107964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а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420920" y="4149720"/>
            <a:ext cx="107928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утю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402000" y="2259000"/>
            <a:ext cx="107964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ды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632720" y="4149720"/>
            <a:ext cx="107964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три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41280" y="5408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41640" y="5408640"/>
            <a:ext cx="108108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тру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202360" y="5408640"/>
            <a:ext cx="98892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гри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681280" y="5408640"/>
            <a:ext cx="108108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шка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72360" y="5408640"/>
            <a:ext cx="107928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е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32720" y="5408640"/>
            <a:ext cx="1079640" cy="53964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три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172360" y="6039000"/>
            <a:ext cx="630360" cy="450720"/>
          </a:xfrm>
          <a:custGeom>
            <a:avLst/>
            <a:gdLst>
              <a:gd name="textAreaLeft" fmla="*/ 29160 w 630360"/>
              <a:gd name="textAreaRight" fmla="*/ 601200 w 630360"/>
              <a:gd name="textAreaTop" fmla="*/ 29160 h 450720"/>
              <a:gd name="textAreaBottom" fmla="*/ 421560 h 450720"/>
            </a:gdLst>
            <a:ahLst/>
            <a:rect l="textAreaLeft" t="textAreaTop" r="textAreaRight" b="textAreaBottom"/>
            <a:pathLst>
              <a:path w="30202" h="21600">
                <a:moveTo>
                  <a:pt x="0" y="0"/>
                </a:moveTo>
                <a:lnTo>
                  <a:pt x="30202" y="0"/>
                </a:lnTo>
                <a:lnTo>
                  <a:pt x="30202" y="21600"/>
                </a:lnTo>
                <a:lnTo>
                  <a:pt x="0" y="21600"/>
                </a:lnTo>
                <a:close/>
              </a:path>
              <a:path fill="lightenLess" w="30202" h="21600">
                <a:moveTo>
                  <a:pt x="0" y="0"/>
                </a:moveTo>
                <a:lnTo>
                  <a:pt x="30202" y="0"/>
                </a:lnTo>
                <a:lnTo>
                  <a:pt x="28802" y="1400"/>
                </a:lnTo>
                <a:lnTo>
                  <a:pt x="1400" y="1400"/>
                </a:lnTo>
                <a:close/>
              </a:path>
              <a:path fill="darken" w="30202" h="21600">
                <a:moveTo>
                  <a:pt x="30202" y="0"/>
                </a:moveTo>
                <a:lnTo>
                  <a:pt x="30202" y="21600"/>
                </a:lnTo>
                <a:lnTo>
                  <a:pt x="28802" y="20200"/>
                </a:lnTo>
                <a:lnTo>
                  <a:pt x="28802" y="1400"/>
                </a:lnTo>
                <a:close/>
              </a:path>
              <a:path fill="darkenLess" w="30202" h="21600">
                <a:moveTo>
                  <a:pt x="30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2" y="20200"/>
                </a:lnTo>
                <a:close/>
              </a:path>
              <a:path fill="lighten" w="30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2" h="21600">
                <a:moveTo>
                  <a:pt x="8095" y="7493"/>
                </a:moveTo>
                <a:lnTo>
                  <a:pt x="11602" y="7493"/>
                </a:lnTo>
                <a:lnTo>
                  <a:pt x="11602" y="12828"/>
                </a:lnTo>
                <a:cubicBezTo>
                  <a:pt x="11602" y="13751"/>
                  <a:pt x="12403" y="14482"/>
                  <a:pt x="13439" y="14482"/>
                </a:cubicBezTo>
                <a:lnTo>
                  <a:pt x="15101" y="14482"/>
                </a:lnTo>
                <a:cubicBezTo>
                  <a:pt x="16137" y="14482"/>
                  <a:pt x="16938" y="13751"/>
                  <a:pt x="16938" y="12828"/>
                </a:cubicBezTo>
                <a:lnTo>
                  <a:pt x="16938" y="7493"/>
                </a:lnTo>
                <a:lnTo>
                  <a:pt x="15101" y="7493"/>
                </a:lnTo>
                <a:lnTo>
                  <a:pt x="18609" y="3985"/>
                </a:lnTo>
                <a:lnTo>
                  <a:pt x="22282" y="7493"/>
                </a:lnTo>
                <a:lnTo>
                  <a:pt x="20445" y="7493"/>
                </a:lnTo>
                <a:lnTo>
                  <a:pt x="20445" y="12828"/>
                </a:lnTo>
                <a:cubicBezTo>
                  <a:pt x="20445" y="15596"/>
                  <a:pt x="17869" y="18155"/>
                  <a:pt x="15101" y="18155"/>
                </a:cubicBezTo>
                <a:lnTo>
                  <a:pt x="13439" y="18155"/>
                </a:lnTo>
                <a:cubicBezTo>
                  <a:pt x="10671" y="18155"/>
                  <a:pt x="8095" y="15596"/>
                  <a:pt x="8095" y="12828"/>
                </a:cubicBezTo>
                <a:close/>
              </a:path>
            </a:pathLst>
          </a:custGeom>
          <a:solidFill>
            <a:srgbClr val="e6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51640" y="3159000"/>
            <a:ext cx="1079640" cy="54000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льв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481640" y="3159000"/>
            <a:ext cx="1079280" cy="540000"/>
          </a:xfrm>
          <a:prstGeom prst="foldedCorner">
            <a:avLst>
              <a:gd name="adj" fmla="val 12500"/>
            </a:avLst>
          </a:prstGeom>
          <a:solidFill>
            <a:srgbClr val="ebea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ма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7632720" y="728640"/>
            <a:ext cx="1143000" cy="7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8" dur="indefinite" restart="never" nodeType="tmRoot">
          <p:childTnLst>
            <p:seq>
              <p:cTn id="1149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1150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5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8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159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6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168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7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6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1177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8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5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1186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8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4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195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9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1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8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1219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2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0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1231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2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243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4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4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255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5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6823080" y="1898640"/>
            <a:ext cx="2616120" cy="4349880"/>
            <a:chOff x="6823080" y="1898640"/>
            <a:chExt cx="2616120" cy="4349880"/>
          </a:xfrm>
        </p:grpSpPr>
        <p:sp>
          <p:nvSpPr>
            <p:cNvPr id="520" name=""/>
            <p:cNvSpPr/>
            <p:nvPr/>
          </p:nvSpPr>
          <p:spPr>
            <a:xfrm>
              <a:off x="7272360" y="1898640"/>
              <a:ext cx="1847880" cy="604800"/>
            </a:xfrm>
            <a:prstGeom prst="cloudCallout">
              <a:avLst>
                <a:gd name="adj1" fmla="val -20101"/>
                <a:gd name="adj2" fmla="val 72833"/>
              </a:avLst>
            </a:prstGeom>
            <a:solidFill>
              <a:srgbClr val="e1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Подумай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1" name="" descr=""/>
            <p:cNvPicPr/>
            <p:nvPr/>
          </p:nvPicPr>
          <p:blipFill>
            <a:blip r:embed="rId2"/>
            <a:stretch/>
          </p:blipFill>
          <p:spPr>
            <a:xfrm>
              <a:off x="6823080" y="2619360"/>
              <a:ext cx="2616120" cy="362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2" name=""/>
          <p:cNvSpPr/>
          <p:nvPr/>
        </p:nvSpPr>
        <p:spPr>
          <a:xfrm>
            <a:off x="1601640" y="998640"/>
            <a:ext cx="5940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4.В тексте кликни кнопкой мыши и подчеркни слова со звонкими и глухими согласными на конце слова, которые нужно проверять при их написан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513640" y="6219720"/>
            <a:ext cx="630360" cy="451080"/>
          </a:xfrm>
          <a:custGeom>
            <a:avLst/>
            <a:gdLst>
              <a:gd name="textAreaLeft" fmla="*/ 29160 w 630360"/>
              <a:gd name="textAreaRight" fmla="*/ 601200 w 63036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30178" h="21600">
                <a:moveTo>
                  <a:pt x="0" y="0"/>
                </a:moveTo>
                <a:lnTo>
                  <a:pt x="30178" y="0"/>
                </a:lnTo>
                <a:lnTo>
                  <a:pt x="30178" y="21600"/>
                </a:lnTo>
                <a:lnTo>
                  <a:pt x="0" y="21600"/>
                </a:lnTo>
                <a:close/>
              </a:path>
              <a:path fill="lightenLess" w="30178" h="21600">
                <a:moveTo>
                  <a:pt x="0" y="0"/>
                </a:moveTo>
                <a:lnTo>
                  <a:pt x="30178" y="0"/>
                </a:lnTo>
                <a:lnTo>
                  <a:pt x="28778" y="1400"/>
                </a:lnTo>
                <a:lnTo>
                  <a:pt x="1400" y="1400"/>
                </a:lnTo>
                <a:close/>
              </a:path>
              <a:path fill="darken" w="30178" h="21600">
                <a:moveTo>
                  <a:pt x="30178" y="0"/>
                </a:moveTo>
                <a:lnTo>
                  <a:pt x="30178" y="21600"/>
                </a:lnTo>
                <a:lnTo>
                  <a:pt x="28778" y="20200"/>
                </a:lnTo>
                <a:lnTo>
                  <a:pt x="28778" y="1400"/>
                </a:lnTo>
                <a:close/>
              </a:path>
              <a:path fill="darkenLess" w="30178" h="21600">
                <a:moveTo>
                  <a:pt x="30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78" y="20200"/>
                </a:lnTo>
                <a:close/>
              </a:path>
              <a:path fill="lighten" w="30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78" h="21600">
                <a:moveTo>
                  <a:pt x="8083" y="7493"/>
                </a:moveTo>
                <a:lnTo>
                  <a:pt x="11590" y="7493"/>
                </a:lnTo>
                <a:lnTo>
                  <a:pt x="11590" y="12828"/>
                </a:lnTo>
                <a:cubicBezTo>
                  <a:pt x="11590" y="13751"/>
                  <a:pt x="12391" y="14482"/>
                  <a:pt x="13427" y="14482"/>
                </a:cubicBezTo>
                <a:lnTo>
                  <a:pt x="15089" y="14482"/>
                </a:lnTo>
                <a:cubicBezTo>
                  <a:pt x="16125" y="14482"/>
                  <a:pt x="16925" y="13751"/>
                  <a:pt x="16925" y="12828"/>
                </a:cubicBezTo>
                <a:lnTo>
                  <a:pt x="16925" y="7493"/>
                </a:lnTo>
                <a:lnTo>
                  <a:pt x="15089" y="7493"/>
                </a:lnTo>
                <a:lnTo>
                  <a:pt x="18597" y="3985"/>
                </a:lnTo>
                <a:lnTo>
                  <a:pt x="22270" y="7493"/>
                </a:lnTo>
                <a:lnTo>
                  <a:pt x="20433" y="7493"/>
                </a:lnTo>
                <a:lnTo>
                  <a:pt x="20433" y="12828"/>
                </a:lnTo>
                <a:cubicBezTo>
                  <a:pt x="20433" y="15596"/>
                  <a:pt x="17857" y="18155"/>
                  <a:pt x="15089" y="18155"/>
                </a:cubicBezTo>
                <a:lnTo>
                  <a:pt x="13427" y="18155"/>
                </a:lnTo>
                <a:cubicBezTo>
                  <a:pt x="10659" y="18155"/>
                  <a:pt x="8083" y="15596"/>
                  <a:pt x="8083" y="12828"/>
                </a:cubicBezTo>
                <a:close/>
              </a:path>
            </a:pathLst>
          </a:custGeom>
          <a:solidFill>
            <a:srgbClr val="d2ef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92360" y="2619360"/>
            <a:ext cx="270000" cy="358920"/>
          </a:xfrm>
          <a:custGeom>
            <a:avLst/>
            <a:gdLst>
              <a:gd name="textAreaLeft" fmla="*/ 12960 w 270000"/>
              <a:gd name="textAreaRight" fmla="*/ 257040 w 270000"/>
              <a:gd name="textAreaTop" fmla="*/ 12960 h 358920"/>
              <a:gd name="textAreaBottom" fmla="*/ 345960 h 358920"/>
            </a:gdLst>
            <a:ahLst/>
            <a:rect l="textAreaLeft" t="textAreaTop" r="textAreaRight" b="textAreaBottom"/>
            <a:pathLst>
              <a:path w="21600" h="28704">
                <a:moveTo>
                  <a:pt x="3600" y="0"/>
                </a:moveTo>
                <a:arcTo wR="3600" hR="3600" stAng="16200000" swAng="-5400000"/>
                <a:lnTo>
                  <a:pt x="0" y="25104"/>
                </a:lnTo>
                <a:arcTo wR="3600" hR="3600" stAng="10800000" swAng="-5400000"/>
                <a:lnTo>
                  <a:pt x="18000" y="287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132000" y="2619360"/>
            <a:ext cx="71928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51280" y="2619360"/>
            <a:ext cx="90360" cy="358920"/>
          </a:xfrm>
          <a:custGeom>
            <a:avLst/>
            <a:gdLst>
              <a:gd name="textAreaLeft" fmla="*/ 4320 w 90360"/>
              <a:gd name="textAreaRight" fmla="*/ 86040 w 90360"/>
              <a:gd name="textAreaTop" fmla="*/ 4320 h 358920"/>
              <a:gd name="textAreaBottom" fmla="*/ 354600 h 358920"/>
            </a:gdLst>
            <a:ahLst/>
            <a:rect l="textAreaLeft" t="textAreaTop" r="textAreaRight" b="textAreaBottom"/>
            <a:pathLst>
              <a:path w="21600" h="85543">
                <a:moveTo>
                  <a:pt x="3600" y="0"/>
                </a:moveTo>
                <a:arcTo wR="3600" hR="3600" stAng="16200000" swAng="-5400000"/>
                <a:lnTo>
                  <a:pt x="0" y="81943"/>
                </a:lnTo>
                <a:arcTo wR="3600" hR="3600" stAng="10800000" swAng="-5400000"/>
                <a:lnTo>
                  <a:pt x="18000" y="85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211640" y="2619360"/>
            <a:ext cx="271440" cy="358920"/>
          </a:xfrm>
          <a:custGeom>
            <a:avLst/>
            <a:gdLst>
              <a:gd name="textAreaLeft" fmla="*/ 12960 w 271440"/>
              <a:gd name="textAreaRight" fmla="*/ 258480 w 271440"/>
              <a:gd name="textAreaTop" fmla="*/ 12960 h 358920"/>
              <a:gd name="textAreaBottom" fmla="*/ 345960 h 358920"/>
            </a:gdLst>
            <a:ahLst/>
            <a:rect l="textAreaLeft" t="textAreaTop" r="textAreaRight" b="textAreaBottom"/>
            <a:pathLst>
              <a:path w="21600" h="28552">
                <a:moveTo>
                  <a:pt x="3600" y="0"/>
                </a:moveTo>
                <a:arcTo wR="3600" hR="3600" stAng="16200000" swAng="-5400000"/>
                <a:lnTo>
                  <a:pt x="0" y="24952"/>
                </a:lnTo>
                <a:arcTo wR="3600" hR="3600" stAng="10800000" swAng="-5400000"/>
                <a:lnTo>
                  <a:pt x="18000" y="28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662360" y="2619360"/>
            <a:ext cx="90036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742000" y="2619360"/>
            <a:ext cx="108108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ып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912000" y="2619360"/>
            <a:ext cx="63036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н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542360" y="2619360"/>
            <a:ext cx="90360" cy="358920"/>
          </a:xfrm>
          <a:custGeom>
            <a:avLst/>
            <a:gdLst>
              <a:gd name="textAreaLeft" fmla="*/ 4320 w 90360"/>
              <a:gd name="textAreaRight" fmla="*/ 86040 w 90360"/>
              <a:gd name="textAreaTop" fmla="*/ 4320 h 358920"/>
              <a:gd name="textAreaBottom" fmla="*/ 354600 h 358920"/>
            </a:gdLst>
            <a:ahLst/>
            <a:rect l="textAreaLeft" t="textAreaTop" r="textAreaRight" b="textAreaBottom"/>
            <a:pathLst>
              <a:path w="21600" h="85543">
                <a:moveTo>
                  <a:pt x="3600" y="0"/>
                </a:moveTo>
                <a:arcTo wR="3600" hR="3600" stAng="16200000" swAng="-5400000"/>
                <a:lnTo>
                  <a:pt x="0" y="81943"/>
                </a:lnTo>
                <a:arcTo wR="3600" hR="3600" stAng="10800000" swAng="-5400000"/>
                <a:lnTo>
                  <a:pt x="18000" y="85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592360" y="3159000"/>
            <a:ext cx="71928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1280" y="3159000"/>
            <a:ext cx="162108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тано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72000" y="3159000"/>
            <a:ext cx="54000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012000" y="3159000"/>
            <a:ext cx="90360" cy="358920"/>
          </a:xfrm>
          <a:custGeom>
            <a:avLst/>
            <a:gdLst>
              <a:gd name="textAreaLeft" fmla="*/ 4320 w 90360"/>
              <a:gd name="textAreaRight" fmla="*/ 86040 w 90360"/>
              <a:gd name="textAreaTop" fmla="*/ 4320 h 358920"/>
              <a:gd name="textAreaBottom" fmla="*/ 354600 h 358920"/>
            </a:gdLst>
            <a:ahLst/>
            <a:rect l="textAreaLeft" t="textAreaTop" r="textAreaRight" b="textAreaBottom"/>
            <a:pathLst>
              <a:path w="21600" h="85543">
                <a:moveTo>
                  <a:pt x="3600" y="0"/>
                </a:moveTo>
                <a:arcTo wR="3600" hR="3600" stAng="16200000" swAng="-5400000"/>
                <a:lnTo>
                  <a:pt x="0" y="81943"/>
                </a:lnTo>
                <a:arcTo wR="3600" hR="3600" stAng="10800000" swAng="-5400000"/>
                <a:lnTo>
                  <a:pt x="18000" y="85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592360" y="3789360"/>
            <a:ext cx="98892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51280" y="3789360"/>
            <a:ext cx="135108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тро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472000" y="3789360"/>
            <a:ext cx="720720" cy="35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92360" y="4419720"/>
            <a:ext cx="450720" cy="358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311640" y="4419720"/>
            <a:ext cx="1260360" cy="358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луб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932360" y="4419720"/>
            <a:ext cx="719280" cy="358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ь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51640" y="4419720"/>
            <a:ext cx="90360" cy="358560"/>
          </a:xfrm>
          <a:custGeom>
            <a:avLst/>
            <a:gdLst>
              <a:gd name="textAreaLeft" fmla="*/ 4320 w 90360"/>
              <a:gd name="textAreaRight" fmla="*/ 86040 w 90360"/>
              <a:gd name="textAreaTop" fmla="*/ 4320 h 358560"/>
              <a:gd name="textAreaBottom" fmla="*/ 354240 h 358560"/>
            </a:gdLst>
            <a:ahLst/>
            <a:rect l="textAreaLeft" t="textAreaTop" r="textAreaRight" b="textAreaBottom"/>
            <a:pathLst>
              <a:path w="21600" h="85457">
                <a:moveTo>
                  <a:pt x="3600" y="0"/>
                </a:moveTo>
                <a:arcTo wR="3600" hR="3600" stAng="16200000" swAng="-5400000"/>
                <a:lnTo>
                  <a:pt x="0" y="81857"/>
                </a:lnTo>
                <a:arcTo wR="3600" hR="3600" stAng="10800000" swAng="-5400000"/>
                <a:lnTo>
                  <a:pt x="18000" y="854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032360" y="5049720"/>
            <a:ext cx="2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211640" y="50497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Шук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111640" y="504972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агду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192720" y="5049720"/>
            <a:ext cx="2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6" dur="indefinite" restart="never" nodeType="tmRoot">
          <p:childTnLst>
            <p:seq>
              <p:cTn id="1267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1268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7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500"/>
                            </p:stCondLst>
                            <p:childTnLst>
                              <p:par>
                                <p:cTn id="1276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9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1280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8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1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292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0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3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304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309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1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500"/>
                            </p:stCondLst>
                            <p:childTnLst>
                              <p:par>
                                <p:cTn id="1317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0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321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2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2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1333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7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1338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2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1343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4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4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1355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9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360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1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372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7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500"/>
                            </p:stCondLst>
                            <p:childTnLst>
                              <p:par>
                                <p:cTn id="1380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500"/>
                            </p:stCondLst>
                            <p:childTnLst>
                              <p:par>
                                <p:cTn id="1404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1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432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40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241280" y="1962720"/>
            <a:ext cx="540000" cy="581400"/>
          </a:xfrm>
          <a:prstGeom prst="rect">
            <a:avLst/>
          </a:prstGeom>
          <a:blipFill rotWithShape="0">
            <a:blip r:embed="rId1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41280" y="368280"/>
            <a:ext cx="711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Кликни кнопкой мыши и подчеркни парные согласные, которые при написании нужно провер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781280" y="1962720"/>
            <a:ext cx="539640" cy="581400"/>
          </a:xfrm>
          <a:prstGeom prst="rect">
            <a:avLst/>
          </a:prstGeom>
          <a:blipFill rotWithShape="0">
            <a:blip r:embed="rId2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320920" y="1962720"/>
            <a:ext cx="539640" cy="581400"/>
          </a:xfrm>
          <a:prstGeom prst="rect">
            <a:avLst/>
          </a:prstGeom>
          <a:blipFill rotWithShape="0">
            <a:blip r:embed="rId3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62360" y="1962720"/>
            <a:ext cx="539640" cy="581400"/>
          </a:xfrm>
          <a:prstGeom prst="rect">
            <a:avLst/>
          </a:prstGeom>
          <a:blipFill rotWithShape="0">
            <a:blip r:embed="rId4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402000" y="1962720"/>
            <a:ext cx="539640" cy="581400"/>
          </a:xfrm>
          <a:prstGeom prst="rect">
            <a:avLst/>
          </a:prstGeom>
          <a:blipFill rotWithShape="0">
            <a:blip r:embed="rId5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941640" y="1962720"/>
            <a:ext cx="540000" cy="581400"/>
          </a:xfrm>
          <a:prstGeom prst="rect">
            <a:avLst/>
          </a:prstGeom>
          <a:blipFill rotWithShape="0">
            <a:blip r:embed="rId6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481640" y="1962720"/>
            <a:ext cx="539640" cy="581400"/>
          </a:xfrm>
          <a:prstGeom prst="rect">
            <a:avLst/>
          </a:prstGeom>
          <a:blipFill rotWithShape="0">
            <a:blip r:embed="rId7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41280" y="2862720"/>
            <a:ext cx="540000" cy="581400"/>
          </a:xfrm>
          <a:prstGeom prst="rect">
            <a:avLst/>
          </a:prstGeom>
          <a:blipFill rotWithShape="0">
            <a:blip r:embed="rId8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781280" y="2862720"/>
            <a:ext cx="539640" cy="581400"/>
          </a:xfrm>
          <a:prstGeom prst="rect">
            <a:avLst/>
          </a:prstGeom>
          <a:blipFill rotWithShape="0">
            <a:blip r:embed="rId9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320920" y="2862720"/>
            <a:ext cx="539640" cy="581400"/>
          </a:xfrm>
          <a:prstGeom prst="rect">
            <a:avLst/>
          </a:prstGeom>
          <a:blipFill rotWithShape="0">
            <a:blip r:embed="rId10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862360" y="2862720"/>
            <a:ext cx="539640" cy="581400"/>
          </a:xfrm>
          <a:prstGeom prst="rect">
            <a:avLst/>
          </a:prstGeom>
          <a:blipFill rotWithShape="0">
            <a:blip r:embed="rId11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02000" y="2862720"/>
            <a:ext cx="539640" cy="581400"/>
          </a:xfrm>
          <a:prstGeom prst="rect">
            <a:avLst/>
          </a:prstGeom>
          <a:blipFill rotWithShape="0">
            <a:blip r:embed="rId12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372360" y="3792960"/>
            <a:ext cx="539640" cy="581400"/>
          </a:xfrm>
          <a:prstGeom prst="rect">
            <a:avLst/>
          </a:prstGeom>
          <a:blipFill rotWithShape="0">
            <a:blip r:embed="rId13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12000" y="3792960"/>
            <a:ext cx="539640" cy="581400"/>
          </a:xfrm>
          <a:prstGeom prst="rect">
            <a:avLst/>
          </a:prstGeom>
          <a:blipFill rotWithShape="0">
            <a:blip r:embed="rId14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451640" y="3792960"/>
            <a:ext cx="540000" cy="581400"/>
          </a:xfrm>
          <a:prstGeom prst="rect">
            <a:avLst/>
          </a:prstGeom>
          <a:blipFill rotWithShape="0">
            <a:blip r:embed="rId15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72360" y="2892960"/>
            <a:ext cx="539640" cy="581400"/>
          </a:xfrm>
          <a:prstGeom prst="rect">
            <a:avLst/>
          </a:prstGeom>
          <a:blipFill rotWithShape="0">
            <a:blip r:embed="rId16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912000" y="2892960"/>
            <a:ext cx="539640" cy="581400"/>
          </a:xfrm>
          <a:prstGeom prst="rect">
            <a:avLst/>
          </a:prstGeom>
          <a:blipFill rotWithShape="0">
            <a:blip r:embed="rId17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51640" y="2892960"/>
            <a:ext cx="540000" cy="581400"/>
          </a:xfrm>
          <a:prstGeom prst="rect">
            <a:avLst/>
          </a:prstGeom>
          <a:blipFill rotWithShape="0">
            <a:blip r:embed="rId18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372360" y="4692960"/>
            <a:ext cx="539640" cy="581400"/>
          </a:xfrm>
          <a:prstGeom prst="rect">
            <a:avLst/>
          </a:prstGeom>
          <a:blipFill rotWithShape="0">
            <a:blip r:embed="rId19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912000" y="4692960"/>
            <a:ext cx="539640" cy="581400"/>
          </a:xfrm>
          <a:prstGeom prst="rect">
            <a:avLst/>
          </a:prstGeom>
          <a:blipFill rotWithShape="0">
            <a:blip r:embed="rId20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451640" y="4692960"/>
            <a:ext cx="540000" cy="581400"/>
          </a:xfrm>
          <a:prstGeom prst="rect">
            <a:avLst/>
          </a:prstGeom>
          <a:blipFill rotWithShape="0">
            <a:blip r:embed="rId21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372360" y="1992600"/>
            <a:ext cx="539640" cy="581400"/>
          </a:xfrm>
          <a:prstGeom prst="rect">
            <a:avLst/>
          </a:prstGeom>
          <a:blipFill rotWithShape="0">
            <a:blip r:embed="rId22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912000" y="1992600"/>
            <a:ext cx="539640" cy="581400"/>
          </a:xfrm>
          <a:prstGeom prst="rect">
            <a:avLst/>
          </a:prstGeom>
          <a:blipFill rotWithShape="0">
            <a:blip r:embed="rId23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51640" y="1992600"/>
            <a:ext cx="540000" cy="581400"/>
          </a:xfrm>
          <a:prstGeom prst="rect">
            <a:avLst/>
          </a:prstGeom>
          <a:blipFill rotWithShape="0">
            <a:blip r:embed="rId24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372360" y="5593320"/>
            <a:ext cx="539640" cy="581400"/>
          </a:xfrm>
          <a:prstGeom prst="rect">
            <a:avLst/>
          </a:prstGeom>
          <a:blipFill rotWithShape="0">
            <a:blip r:embed="rId25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912000" y="5593320"/>
            <a:ext cx="539640" cy="581400"/>
          </a:xfrm>
          <a:prstGeom prst="rect">
            <a:avLst/>
          </a:prstGeom>
          <a:blipFill rotWithShape="0">
            <a:blip r:embed="rId26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451640" y="5593320"/>
            <a:ext cx="540000" cy="581400"/>
          </a:xfrm>
          <a:prstGeom prst="rect">
            <a:avLst/>
          </a:prstGeom>
          <a:blipFill rotWithShape="0">
            <a:blip r:embed="rId27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41280" y="3762720"/>
            <a:ext cx="540000" cy="581400"/>
          </a:xfrm>
          <a:prstGeom prst="rect">
            <a:avLst/>
          </a:prstGeom>
          <a:blipFill rotWithShape="0">
            <a:blip r:embed="rId28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81280" y="3762720"/>
            <a:ext cx="539640" cy="581400"/>
          </a:xfrm>
          <a:prstGeom prst="rect">
            <a:avLst/>
          </a:prstGeom>
          <a:blipFill rotWithShape="0">
            <a:blip r:embed="rId29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320920" y="3762720"/>
            <a:ext cx="539640" cy="581400"/>
          </a:xfrm>
          <a:prstGeom prst="rect">
            <a:avLst/>
          </a:prstGeom>
          <a:blipFill rotWithShape="0">
            <a:blip r:embed="rId30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762720"/>
            <a:ext cx="539640" cy="581400"/>
          </a:xfrm>
          <a:prstGeom prst="rect">
            <a:avLst/>
          </a:prstGeom>
          <a:blipFill rotWithShape="0">
            <a:blip r:embed="rId31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02000" y="3762720"/>
            <a:ext cx="539640" cy="581400"/>
          </a:xfrm>
          <a:prstGeom prst="rect">
            <a:avLst/>
          </a:prstGeom>
          <a:blipFill rotWithShape="0">
            <a:blip r:embed="rId32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41280" y="4663080"/>
            <a:ext cx="540000" cy="581400"/>
          </a:xfrm>
          <a:prstGeom prst="rect">
            <a:avLst/>
          </a:prstGeom>
          <a:blipFill rotWithShape="0">
            <a:blip r:embed="rId33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81280" y="4663080"/>
            <a:ext cx="539640" cy="581400"/>
          </a:xfrm>
          <a:prstGeom prst="rect">
            <a:avLst/>
          </a:prstGeom>
          <a:blipFill rotWithShape="0">
            <a:blip r:embed="rId34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320920" y="4663080"/>
            <a:ext cx="539640" cy="581400"/>
          </a:xfrm>
          <a:prstGeom prst="rect">
            <a:avLst/>
          </a:prstGeom>
          <a:blipFill rotWithShape="0">
            <a:blip r:embed="rId35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62360" y="4663080"/>
            <a:ext cx="539640" cy="581400"/>
          </a:xfrm>
          <a:prstGeom prst="rect">
            <a:avLst/>
          </a:prstGeom>
          <a:blipFill rotWithShape="0">
            <a:blip r:embed="rId36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41280" y="5563080"/>
            <a:ext cx="540000" cy="581400"/>
          </a:xfrm>
          <a:prstGeom prst="rect">
            <a:avLst/>
          </a:prstGeom>
          <a:blipFill rotWithShape="0">
            <a:blip r:embed="rId37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781280" y="5563080"/>
            <a:ext cx="539640" cy="581400"/>
          </a:xfrm>
          <a:prstGeom prst="rect">
            <a:avLst/>
          </a:prstGeom>
          <a:blipFill rotWithShape="0">
            <a:blip r:embed="rId38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320920" y="5563080"/>
            <a:ext cx="539640" cy="581400"/>
          </a:xfrm>
          <a:prstGeom prst="rect">
            <a:avLst/>
          </a:prstGeom>
          <a:blipFill rotWithShape="0">
            <a:blip r:embed="rId39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862360" y="5563080"/>
            <a:ext cx="539640" cy="581400"/>
          </a:xfrm>
          <a:prstGeom prst="rect">
            <a:avLst/>
          </a:prstGeom>
          <a:blipFill rotWithShape="0">
            <a:blip r:embed="rId40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581280" y="4149720"/>
            <a:ext cx="2519640" cy="2519280"/>
            <a:chOff x="3581280" y="4149720"/>
            <a:chExt cx="2519640" cy="2519280"/>
          </a:xfrm>
        </p:grpSpPr>
        <p:pic>
          <p:nvPicPr>
            <p:cNvPr id="589" name="" descr=""/>
            <p:cNvPicPr/>
            <p:nvPr/>
          </p:nvPicPr>
          <p:blipFill>
            <a:blip r:embed="rId41"/>
            <a:stretch/>
          </p:blipFill>
          <p:spPr>
            <a:xfrm>
              <a:off x="3581280" y="4149720"/>
              <a:ext cx="2519640" cy="2519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0" name=""/>
            <p:cNvGrpSpPr/>
            <p:nvPr/>
          </p:nvGrpSpPr>
          <p:grpSpPr>
            <a:xfrm>
              <a:off x="4069080" y="4449600"/>
              <a:ext cx="1471680" cy="749880"/>
              <a:chOff x="4069080" y="4449600"/>
              <a:chExt cx="1471680" cy="749880"/>
            </a:xfrm>
          </p:grpSpPr>
          <p:sp>
            <p:nvSpPr>
              <p:cNvPr id="591" name=""/>
              <p:cNvSpPr txBox="1"/>
              <p:nvPr/>
            </p:nvSpPr>
            <p:spPr>
              <a:xfrm rot="181800">
                <a:off x="4769640" y="4456440"/>
                <a:ext cx="276480" cy="316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Rounded MT Bold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  <a:ea typeface="Arial Rounded MT Bold"/>
                </a:endParaRPr>
              </a:p>
            </p:txBody>
          </p:sp>
          <p:sp>
            <p:nvSpPr>
              <p:cNvPr id="592" name=""/>
              <p:cNvSpPr txBox="1"/>
              <p:nvPr/>
            </p:nvSpPr>
            <p:spPr>
              <a:xfrm rot="181800">
                <a:off x="4077000" y="4875840"/>
                <a:ext cx="276840" cy="316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Rounded MT Bold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  <a:ea typeface="Arial Rounded MT Bold"/>
                </a:endParaRPr>
              </a:p>
            </p:txBody>
          </p:sp>
          <p:sp>
            <p:nvSpPr>
              <p:cNvPr id="593" name=""/>
              <p:cNvSpPr txBox="1"/>
              <p:nvPr/>
            </p:nvSpPr>
            <p:spPr>
              <a:xfrm rot="181800">
                <a:off x="5256000" y="4718160"/>
                <a:ext cx="276480" cy="316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 Rounded MT Bold"/>
                  </a:rPr>
                  <a:t>?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  <a:ea typeface="Arial Rounded MT Bold"/>
                </a:endParaRPr>
              </a:p>
            </p:txBody>
          </p:sp>
        </p:grpSp>
      </p:grpSp>
      <p:sp>
        <p:nvSpPr>
          <p:cNvPr id="594" name=""/>
          <p:cNvSpPr/>
          <p:nvPr/>
        </p:nvSpPr>
        <p:spPr>
          <a:xfrm>
            <a:off x="8263080" y="6219720"/>
            <a:ext cx="630000" cy="451080"/>
          </a:xfrm>
          <a:custGeom>
            <a:avLst/>
            <a:gdLst>
              <a:gd name="textAreaLeft" fmla="*/ 29160 w 630000"/>
              <a:gd name="textAreaRight" fmla="*/ 600840 w 63000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30161" h="21600">
                <a:moveTo>
                  <a:pt x="0" y="0"/>
                </a:moveTo>
                <a:lnTo>
                  <a:pt x="30161" y="0"/>
                </a:lnTo>
                <a:lnTo>
                  <a:pt x="30161" y="21600"/>
                </a:lnTo>
                <a:lnTo>
                  <a:pt x="0" y="21600"/>
                </a:lnTo>
                <a:close/>
              </a:path>
              <a:path fill="lightenLess" w="30161" h="21600">
                <a:moveTo>
                  <a:pt x="0" y="0"/>
                </a:moveTo>
                <a:lnTo>
                  <a:pt x="30161" y="0"/>
                </a:lnTo>
                <a:lnTo>
                  <a:pt x="28761" y="1400"/>
                </a:lnTo>
                <a:lnTo>
                  <a:pt x="1400" y="1400"/>
                </a:lnTo>
                <a:close/>
              </a:path>
              <a:path fill="darken" w="30161" h="21600">
                <a:moveTo>
                  <a:pt x="30161" y="0"/>
                </a:moveTo>
                <a:lnTo>
                  <a:pt x="30161" y="21600"/>
                </a:lnTo>
                <a:lnTo>
                  <a:pt x="28761" y="20200"/>
                </a:lnTo>
                <a:lnTo>
                  <a:pt x="28761" y="1400"/>
                </a:lnTo>
                <a:close/>
              </a:path>
              <a:path fill="darkenLess" w="30161" h="21600">
                <a:moveTo>
                  <a:pt x="30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61" y="20200"/>
                </a:lnTo>
                <a:close/>
              </a:path>
              <a:path fill="lighten" w="30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61" h="21600">
                <a:moveTo>
                  <a:pt x="8074" y="7493"/>
                </a:moveTo>
                <a:lnTo>
                  <a:pt x="11581" y="7493"/>
                </a:lnTo>
                <a:lnTo>
                  <a:pt x="11581" y="12828"/>
                </a:lnTo>
                <a:cubicBezTo>
                  <a:pt x="11581" y="13751"/>
                  <a:pt x="12382" y="14482"/>
                  <a:pt x="13418" y="14482"/>
                </a:cubicBezTo>
                <a:lnTo>
                  <a:pt x="15080" y="14482"/>
                </a:lnTo>
                <a:cubicBezTo>
                  <a:pt x="16116" y="14482"/>
                  <a:pt x="16917" y="13751"/>
                  <a:pt x="16917" y="12828"/>
                </a:cubicBezTo>
                <a:lnTo>
                  <a:pt x="16917" y="7493"/>
                </a:lnTo>
                <a:lnTo>
                  <a:pt x="15080" y="7493"/>
                </a:lnTo>
                <a:lnTo>
                  <a:pt x="18588" y="3985"/>
                </a:lnTo>
                <a:lnTo>
                  <a:pt x="22261" y="7493"/>
                </a:lnTo>
                <a:lnTo>
                  <a:pt x="20424" y="7493"/>
                </a:lnTo>
                <a:lnTo>
                  <a:pt x="20424" y="12828"/>
                </a:lnTo>
                <a:cubicBezTo>
                  <a:pt x="20424" y="15596"/>
                  <a:pt x="17848" y="18155"/>
                  <a:pt x="15080" y="18155"/>
                </a:cubicBezTo>
                <a:lnTo>
                  <a:pt x="13418" y="18155"/>
                </a:lnTo>
                <a:cubicBezTo>
                  <a:pt x="10650" y="18155"/>
                  <a:pt x="8074" y="15596"/>
                  <a:pt x="8074" y="12828"/>
                </a:cubicBezTo>
                <a:close/>
              </a:path>
            </a:pathLst>
          </a:custGeom>
          <a:solidFill>
            <a:srgbClr val="e6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993080" y="1992600"/>
            <a:ext cx="539640" cy="581400"/>
          </a:xfrm>
          <a:prstGeom prst="rect">
            <a:avLst/>
          </a:prstGeom>
          <a:blipFill rotWithShape="0">
            <a:blip r:embed="rId42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3" dur="indefinite" restart="never" nodeType="tmRoot">
          <p:childTnLst>
            <p:seq>
              <p:cTn id="1444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1445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4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7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1458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500"/>
                            </p:stCondLst>
                            <p:childTnLst>
                              <p:par>
                                <p:cTn id="146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0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1471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3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1484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8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500"/>
                            </p:stCondLst>
                            <p:childTnLst>
                              <p:par>
                                <p:cTn id="149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6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497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0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500"/>
                            </p:stCondLst>
                            <p:childTnLst>
                              <p:par>
                                <p:cTn id="150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9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510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1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500"/>
                            </p:stCondLst>
                            <p:childTnLst>
                              <p:par>
                                <p:cTn id="152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2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1523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2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5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1536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3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8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549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5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1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1562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6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500"/>
                            </p:stCondLst>
                            <p:childTnLst>
                              <p:par>
                                <p:cTn id="157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4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1575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7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1588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593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9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5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606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0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1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8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619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3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624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2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500"/>
                            </p:stCondLst>
                            <p:childTnLst>
                              <p:par>
                                <p:cTn id="163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6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637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4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500"/>
                            </p:stCondLst>
                            <p:childTnLst>
                              <p:par>
                                <p:cTn id="164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9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650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5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1663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5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676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7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500"/>
                            </p:stCondLst>
                            <p:childTnLst>
                              <p:par>
                                <p:cTn id="168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8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689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694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9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500"/>
                            </p:stCondLst>
                            <p:childTnLst>
                              <p:par>
                                <p:cTn id="170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6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707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1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9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720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4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725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2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7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738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4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500"/>
                            </p:stCondLst>
                            <p:childTnLst>
                              <p:par>
                                <p:cTn id="174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0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751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5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756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5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8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769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7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7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1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782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8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500"/>
                            </p:stCondLst>
                            <p:childTnLst>
                              <p:par>
                                <p:cTn id="179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4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795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9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500"/>
                            </p:stCondLst>
                            <p:childTnLst>
                              <p:par>
                                <p:cTn id="180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7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808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1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0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821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500"/>
                            </p:stCondLst>
                            <p:childTnLst>
                              <p:par>
                                <p:cTn id="183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3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834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84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5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500"/>
                            </p:stCondLst>
                            <p:childTnLst>
                              <p:par>
                                <p:cTn id="185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860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4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865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500"/>
                            </p:stCondLst>
                            <p:childTnLst>
                              <p:par>
                                <p:cTn id="187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7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878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8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0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891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9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500"/>
                            </p:stCondLst>
                            <p:childTnLst>
                              <p:par>
                                <p:cTn id="190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904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8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909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1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e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19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3672000" y="4059360"/>
            <a:ext cx="2160360" cy="1995480"/>
            <a:chOff x="3672000" y="4059360"/>
            <a:chExt cx="2160360" cy="1995480"/>
          </a:xfrm>
        </p:grpSpPr>
        <p:pic>
          <p:nvPicPr>
            <p:cNvPr id="597" name="" descr=""/>
            <p:cNvPicPr/>
            <p:nvPr/>
          </p:nvPicPr>
          <p:blipFill>
            <a:blip r:embed="rId1"/>
            <a:stretch/>
          </p:blipFill>
          <p:spPr>
            <a:xfrm>
              <a:off x="3672000" y="4059360"/>
              <a:ext cx="216036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 txBox="1"/>
            <p:nvPr/>
          </p:nvSpPr>
          <p:spPr>
            <a:xfrm rot="181800">
              <a:off x="4571640" y="4238640"/>
              <a:ext cx="2872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930120" y="3151800"/>
            <a:ext cx="1533960" cy="1022760"/>
            <a:chOff x="3930120" y="3151800"/>
            <a:chExt cx="1533960" cy="1022760"/>
          </a:xfrm>
        </p:grpSpPr>
        <p:sp>
          <p:nvSpPr>
            <p:cNvPr id="600" name=""/>
            <p:cNvSpPr txBox="1"/>
            <p:nvPr/>
          </p:nvSpPr>
          <p:spPr>
            <a:xfrm rot="181800">
              <a:off x="4660560" y="3159000"/>
              <a:ext cx="2872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 rot="181800">
              <a:off x="3941280" y="3733560"/>
              <a:ext cx="2876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  <p:sp>
          <p:nvSpPr>
            <p:cNvPr id="602" name=""/>
            <p:cNvSpPr txBox="1"/>
            <p:nvPr/>
          </p:nvSpPr>
          <p:spPr>
            <a:xfrm rot="181800">
              <a:off x="5165280" y="3517560"/>
              <a:ext cx="2872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Rounded MT Bold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Rounded MT Bold"/>
                <a:ea typeface="Arial Rounded MT Bold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1420920" y="1992600"/>
            <a:ext cx="539640" cy="581400"/>
          </a:xfrm>
          <a:prstGeom prst="rect">
            <a:avLst/>
          </a:prstGeom>
          <a:blipFill rotWithShape="0">
            <a:blip r:embed="rId2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62000" y="1992600"/>
            <a:ext cx="540000" cy="581400"/>
          </a:xfrm>
          <a:prstGeom prst="rect">
            <a:avLst/>
          </a:prstGeom>
          <a:blipFill rotWithShape="0">
            <a:blip r:embed="rId3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502000" y="1992600"/>
            <a:ext cx="539640" cy="581400"/>
          </a:xfrm>
          <a:prstGeom prst="rect">
            <a:avLst/>
          </a:prstGeom>
          <a:blipFill rotWithShape="0">
            <a:blip r:embed="rId4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1640" y="1992600"/>
            <a:ext cx="539640" cy="581400"/>
          </a:xfrm>
          <a:prstGeom prst="rect">
            <a:avLst/>
          </a:prstGeom>
          <a:blipFill rotWithShape="0">
            <a:blip r:embed="rId5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742000" y="1992600"/>
            <a:ext cx="539640" cy="581400"/>
          </a:xfrm>
          <a:prstGeom prst="rect">
            <a:avLst/>
          </a:prstGeom>
          <a:blipFill rotWithShape="0">
            <a:blip r:embed="rId6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281640" y="1992600"/>
            <a:ext cx="540000" cy="581400"/>
          </a:xfrm>
          <a:prstGeom prst="rect">
            <a:avLst/>
          </a:prstGeom>
          <a:blipFill rotWithShape="0">
            <a:blip r:embed="rId7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23080" y="1992600"/>
            <a:ext cx="539640" cy="581400"/>
          </a:xfrm>
          <a:prstGeom prst="rect">
            <a:avLst/>
          </a:prstGeom>
          <a:blipFill rotWithShape="0">
            <a:blip r:embed="rId8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1992600"/>
            <a:ext cx="540000" cy="581400"/>
          </a:xfrm>
          <a:prstGeom prst="rect">
            <a:avLst/>
          </a:prstGeom>
          <a:blipFill rotWithShape="0">
            <a:blip r:embed="rId9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902720" y="1992600"/>
            <a:ext cx="539640" cy="581400"/>
          </a:xfrm>
          <a:prstGeom prst="rect">
            <a:avLst/>
          </a:prstGeom>
          <a:blipFill rotWithShape="0">
            <a:blip r:embed="rId10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0920" y="2802240"/>
            <a:ext cx="2160360" cy="581400"/>
          </a:xfrm>
          <a:prstGeom prst="rect">
            <a:avLst/>
          </a:prstGeom>
          <a:blipFill rotWithShape="0">
            <a:blip r:embed="rId11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б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420920" y="3522960"/>
            <a:ext cx="2160360" cy="581400"/>
          </a:xfrm>
          <a:prstGeom prst="rect">
            <a:avLst/>
          </a:prstGeom>
          <a:blipFill rotWithShape="0">
            <a:blip r:embed="rId12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ра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420920" y="4242240"/>
            <a:ext cx="2160360" cy="581400"/>
          </a:xfrm>
          <a:prstGeom prst="rect">
            <a:avLst/>
          </a:prstGeom>
          <a:blipFill rotWithShape="0">
            <a:blip r:embed="rId13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ра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20920" y="4962960"/>
            <a:ext cx="2160360" cy="581400"/>
          </a:xfrm>
          <a:prstGeom prst="rect">
            <a:avLst/>
          </a:prstGeom>
          <a:blipFill rotWithShape="0">
            <a:blip r:embed="rId14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рат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20920" y="5683680"/>
            <a:ext cx="2160360" cy="581400"/>
          </a:xfrm>
          <a:prstGeom prst="rect">
            <a:avLst/>
          </a:prstGeom>
          <a:blipFill rotWithShape="0">
            <a:blip r:embed="rId15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рат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923080" y="2802240"/>
            <a:ext cx="2340000" cy="581400"/>
          </a:xfrm>
          <a:prstGeom prst="rect">
            <a:avLst/>
          </a:prstGeom>
          <a:blipFill rotWithShape="0">
            <a:blip r:embed="rId16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23080" y="3522960"/>
            <a:ext cx="2340000" cy="581400"/>
          </a:xfrm>
          <a:prstGeom prst="rect">
            <a:avLst/>
          </a:prstGeom>
          <a:blipFill rotWithShape="0">
            <a:blip r:embed="rId17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23080" y="4242240"/>
            <a:ext cx="2340000" cy="581400"/>
          </a:xfrm>
          <a:prstGeom prst="rect">
            <a:avLst/>
          </a:prstGeom>
          <a:blipFill rotWithShape="0">
            <a:blip r:embed="rId18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ро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923080" y="4962960"/>
            <a:ext cx="2340000" cy="581400"/>
          </a:xfrm>
          <a:prstGeom prst="rect">
            <a:avLst/>
          </a:prstGeom>
          <a:blipFill rotWithShape="0">
            <a:blip r:embed="rId19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родиш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923080" y="5683680"/>
            <a:ext cx="2340000" cy="581400"/>
          </a:xfrm>
          <a:prstGeom prst="rect">
            <a:avLst/>
          </a:prstGeom>
          <a:blipFill rotWithShape="0">
            <a:blip r:embed="rId20">
              <a:alphaModFix amt="70000"/>
            </a:blip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2213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род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062000" y="277920"/>
            <a:ext cx="7650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. В выделенных словах кликни кнопкой мыши и выдели парные согласные, которые нужно провери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971640" y="907920"/>
            <a:ext cx="783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В столбиках кликни кнопкой мыши и подчеркни проверочные сло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263080" y="6219720"/>
            <a:ext cx="630000" cy="451080"/>
          </a:xfrm>
          <a:custGeom>
            <a:avLst/>
            <a:gdLst>
              <a:gd name="textAreaLeft" fmla="*/ 29160 w 630000"/>
              <a:gd name="textAreaRight" fmla="*/ 600840 w 63000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30161" h="21600">
                <a:moveTo>
                  <a:pt x="0" y="0"/>
                </a:moveTo>
                <a:lnTo>
                  <a:pt x="30161" y="0"/>
                </a:lnTo>
                <a:lnTo>
                  <a:pt x="30161" y="21600"/>
                </a:lnTo>
                <a:lnTo>
                  <a:pt x="0" y="21600"/>
                </a:lnTo>
                <a:close/>
              </a:path>
              <a:path fill="lightenLess" w="30161" h="21600">
                <a:moveTo>
                  <a:pt x="0" y="0"/>
                </a:moveTo>
                <a:lnTo>
                  <a:pt x="30161" y="0"/>
                </a:lnTo>
                <a:lnTo>
                  <a:pt x="28761" y="1400"/>
                </a:lnTo>
                <a:lnTo>
                  <a:pt x="1400" y="1400"/>
                </a:lnTo>
                <a:close/>
              </a:path>
              <a:path fill="darken" w="30161" h="21600">
                <a:moveTo>
                  <a:pt x="30161" y="0"/>
                </a:moveTo>
                <a:lnTo>
                  <a:pt x="30161" y="21600"/>
                </a:lnTo>
                <a:lnTo>
                  <a:pt x="28761" y="20200"/>
                </a:lnTo>
                <a:lnTo>
                  <a:pt x="28761" y="1400"/>
                </a:lnTo>
                <a:close/>
              </a:path>
              <a:path fill="darkenLess" w="30161" h="21600">
                <a:moveTo>
                  <a:pt x="30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61" y="20200"/>
                </a:lnTo>
                <a:close/>
              </a:path>
              <a:path fill="lighten" w="30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61" h="21600">
                <a:moveTo>
                  <a:pt x="8074" y="7493"/>
                </a:moveTo>
                <a:lnTo>
                  <a:pt x="11581" y="7493"/>
                </a:lnTo>
                <a:lnTo>
                  <a:pt x="11581" y="12828"/>
                </a:lnTo>
                <a:cubicBezTo>
                  <a:pt x="11581" y="13751"/>
                  <a:pt x="12382" y="14482"/>
                  <a:pt x="13418" y="14482"/>
                </a:cubicBezTo>
                <a:lnTo>
                  <a:pt x="15080" y="14482"/>
                </a:lnTo>
                <a:cubicBezTo>
                  <a:pt x="16116" y="14482"/>
                  <a:pt x="16917" y="13751"/>
                  <a:pt x="16917" y="12828"/>
                </a:cubicBezTo>
                <a:lnTo>
                  <a:pt x="16917" y="7493"/>
                </a:lnTo>
                <a:lnTo>
                  <a:pt x="15080" y="7493"/>
                </a:lnTo>
                <a:lnTo>
                  <a:pt x="18588" y="3985"/>
                </a:lnTo>
                <a:lnTo>
                  <a:pt x="22261" y="7493"/>
                </a:lnTo>
                <a:lnTo>
                  <a:pt x="20424" y="7493"/>
                </a:lnTo>
                <a:lnTo>
                  <a:pt x="20424" y="12828"/>
                </a:lnTo>
                <a:cubicBezTo>
                  <a:pt x="20424" y="15596"/>
                  <a:pt x="17848" y="18155"/>
                  <a:pt x="15080" y="18155"/>
                </a:cubicBezTo>
                <a:lnTo>
                  <a:pt x="13418" y="18155"/>
                </a:lnTo>
                <a:cubicBezTo>
                  <a:pt x="10650" y="18155"/>
                  <a:pt x="8074" y="15596"/>
                  <a:pt x="8074" y="12828"/>
                </a:cubicBezTo>
                <a:close/>
              </a:path>
            </a:pathLst>
          </a:custGeom>
          <a:solidFill>
            <a:srgbClr val="e6e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1" dur="indefinite" restart="never" nodeType="tmRoot">
          <p:childTnLst>
            <p:seq>
              <p:cTn id="192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923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2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1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942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0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961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6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9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980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4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1985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3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2004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0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2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2023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2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9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1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2042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4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0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2061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2066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06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4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2085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9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2090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4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2095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9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2100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0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8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2119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3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2124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2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2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2143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7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2148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2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2153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pluck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5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a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23" presetSubtype="16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7:19:38Z</dcterms:created>
  <dc:creator>Andrew</dc:creator>
  <dc:description/>
  <dc:language>en-US</dc:language>
  <cp:lastModifiedBy>vvv</cp:lastModifiedBy>
  <dcterms:modified xsi:type="dcterms:W3CDTF">2008-06-16T10:38:30Z</dcterms:modified>
  <cp:revision>16</cp:revision>
  <dc:subject/>
  <dc:title>Упражнения  в правописании парных звонких и глухих согласных на конце слова</dc:title>
</cp:coreProperties>
</file>