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gif" ContentType="image/gif"/>
  <Override PartName="/ppt/media/pluck.wav" ContentType="audio/x-wav"/>
  <Override PartName="/ppt/media/chimes.wav" ContentType="audio/x-wav"/>
  <Override PartName="/ppt/media/image13.gif" ContentType="image/gif"/>
  <Override PartName="/ppt/media/image18.jpeg" ContentType="image/jpeg"/>
  <Override PartName="/ppt/media/image17.gif" ContentType="image/gif"/>
  <Override PartName="/ppt/media/image16.wmf" ContentType="image/x-wmf"/>
  <Override PartName="/ppt/media/image15.gif" ContentType="image/gif"/>
  <Override PartName="/ppt/media/image14.gif" ContentType="image/gif"/>
  <Override PartName="/ppt/media/image11.png" ContentType="image/png"/>
  <Override PartName="/ppt/media/image1.jpeg" ContentType="image/jpeg"/>
  <Override PartName="/ppt/media/glasses.wav" ContentType="audio/x-wav"/>
  <Override PartName="/ppt/media/image3.jpeg" ContentType="image/jpeg"/>
  <Override PartName="/ppt/media/image12.gif" ContentType="image/gif"/>
  <Override PartName="/ppt/media/image4.jpeg" ContentType="image/jpeg"/>
  <Override PartName="/ppt/media/image2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9F2-E2FA-4AB3-B2A0-5A4E14B8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C98-1FE0-4C22-A496-EDAC668A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8D1-314B-4F2C-BB35-15B18839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EE9-2E4A-463D-A8CF-DAF2A118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253B-8181-48DE-9E9A-CB1E97E4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F7FE-94DB-4F47-9941-BA6E672B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C12C-0140-4D83-813D-0BE76A88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701F-FFC7-4B51-B18A-FF33776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BF29-9D2E-4FA6-8C50-2785F6E6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0ADB-3631-4572-9CB8-005FBD03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9D9E-A606-4ADB-BB1A-90F1E977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A8A-5C69-462A-AAAD-588C8818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8007-042D-492B-8857-51CFB4C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C418-AF0E-4013-9EC1-60FEC39E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3842-1CFA-4AD0-A637-E2A6CD5C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D821-2813-4D4C-8FF1-668B4C74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AA2C-3520-4C63-8BE0-3B8A82F8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098A-1B93-4FD4-B26C-05112A8B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9124-B539-43A7-9AF2-B8581F9E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992B-C67F-4F67-B1A8-23B6AB7E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CD91-9A59-4DFD-A0E3-88C0E84D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3039-D577-436B-B00D-213E1807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E06-B078-46AC-8BB8-C2D21EBB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8B65-E50F-4F49-A44E-764F356E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F5D1-42F7-449E-B8D9-C165C7AB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27A5-E683-40A6-B924-A964A960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10FC-8FCE-443D-A8A9-266E935C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AEA1-00CC-423B-92E6-A81822DE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7980-06D2-4B7A-B2E6-252C2773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3A50-4809-4B26-8F30-22E8E405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E578-D492-4422-8316-B4C02148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C9F7-28E8-4AA1-993A-37D0DDB3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2557-622D-4703-B517-1E02D2C7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6AC-DE61-402B-BBEC-0A8BE90B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253E-675A-4177-B0A4-8B82AFCF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D1C0-2E6B-43A2-9CB4-56A6DAC4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1152-84B1-4638-BBBA-F97755E2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23F4-8AC1-4216-A7BD-A9FF9F2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C50B7-2AF0-416A-A9A8-16EBF52A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6B781-4B3D-4377-87E8-2244BE76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E004-B317-4D84-A585-C54B5CB4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54A83-66BC-456D-9451-0F3C8090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9477-13CD-407E-97D6-C00541BB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6F143-A951-4C9B-ADF5-32BC1EFD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CB5-E423-4145-A83E-D5BF3C15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A637-05C3-4F23-B20C-B5FF0149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4E8E3-3D76-4919-B87C-EC5F88C0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3524-9E14-4FE0-8060-50E8A632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FB58-A8A0-4BFE-ADBB-2B8DBE9E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7DF3-0EAA-4080-B126-2F9CAE77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EA552-4468-4EF4-87F5-3AB6C384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BA376-4F41-4DF6-888F-4170F14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899D2-463F-4E1D-8D75-88D0535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CF50B-82DB-4176-BE2E-B3B04835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B0E64-B35C-4D50-A4A1-1EE6275F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6B7-C8E4-444B-B5EE-6FEF210D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3F311-9D1E-42DE-A257-2D1D687C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4197C-F896-418A-BF06-01A281A3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74D3-9582-40DD-B186-CCF51D91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30FFD-D56A-4686-8CC1-81DC12B0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DBB02-4313-4E25-B76A-A10B558A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61EC2-235F-4E40-AB7C-965BF975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C257B-3928-459B-9A3B-9DE00C87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812D9-4FA0-495A-88E2-96909B0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9BBA4-4AF5-4845-8721-F6FA30C2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7C68E-FDEF-4734-8169-39138DCE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315-31EB-4710-B975-0B27D2E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C44D-E5CD-4501-AD55-97F1A005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ACD6A-7593-4A5D-9DEB-D44FB33F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DD63-7F56-45A1-B38E-CA624006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779-77BB-4EF9-8565-72B1806F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A7A784-FE34-48B4-85D0-24F204DE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DCCD41-ADF7-4DBA-A266-BAF72E79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C03F57-2690-4EE4-A1F4-3D51369A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1D7646-2069-4568-B2B7-0DC4BF5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A111FE-2C32-48DC-895B-F4EEE981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9A5-C1EB-4DB2-A5D3-41638363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CBE92D-6328-49A3-85D5-943407F6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EE5638-10A8-4497-8310-6B3C4D3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5C41D8-AE5C-4231-AAFF-C2167ACF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CD390C-F437-4F11-A1E4-0392EE92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AF07B0-D344-4CF5-B1B0-8C5F1AF0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B46F3-DEDD-4207-BBB1-B94EF25D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EDC78A-1846-4526-9921-E1D618F1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DB4F-6D1A-45A3-AD82-8E249174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975B-559D-47CF-ABC5-91EBCE7E6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6B1D-0A3D-41B4-9131-BC89995B3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A399-9385-4ED6-9125-71D78C5C7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E665-B48F-49BD-BEB4-324B750CD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0B2F-BA46-4CFE-9ABF-2B298E50B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ftr" idx="19"/>
          </p:nvPr>
        </p:nvSpPr>
        <p:spPr>
          <a:xfrm>
            <a:off x="2410920" y="624852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Сообщество "ИКТ в начальной школе". 200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body"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PlaceHolder 1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7A7B-BA9D-4F84-8B93-238014D86ED9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pluck.wav"/><Relationship Id="rId3" Type="http://schemas.openxmlformats.org/officeDocument/2006/relationships/audio" Target="../media/pluck.wav"/><Relationship Id="rId4" Type="http://schemas.openxmlformats.org/officeDocument/2006/relationships/audio" Target="../media/pluck.wav"/><Relationship Id="rId5" Type="http://schemas.openxmlformats.org/officeDocument/2006/relationships/audio" Target="../media/pluck.wav"/><Relationship Id="rId6" Type="http://schemas.openxmlformats.org/officeDocument/2006/relationships/audio" Target="../media/pluck.wav"/><Relationship Id="rId7" Type="http://schemas.openxmlformats.org/officeDocument/2006/relationships/audio" Target="../media/pluck.wav"/><Relationship Id="rId8" Type="http://schemas.openxmlformats.org/officeDocument/2006/relationships/audio" Target="../media/pluck.wav"/><Relationship Id="rId9" Type="http://schemas.openxmlformats.org/officeDocument/2006/relationships/audio" Target="../media/pluck.wav"/><Relationship Id="rId10" Type="http://schemas.openxmlformats.org/officeDocument/2006/relationships/audio" Target="../media/pluck.wav"/><Relationship Id="rId11" Type="http://schemas.openxmlformats.org/officeDocument/2006/relationships/audio" Target="../media/pluck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pluck.wav"/><Relationship Id="rId18" Type="http://schemas.openxmlformats.org/officeDocument/2006/relationships/audio" Target="../media/pluck.wav"/><Relationship Id="rId19" Type="http://schemas.openxmlformats.org/officeDocument/2006/relationships/audio" Target="../media/pluck.wav"/><Relationship Id="rId20" Type="http://schemas.openxmlformats.org/officeDocument/2006/relationships/audio" Target="../media/pluck.wav"/><Relationship Id="rId21" Type="http://schemas.openxmlformats.org/officeDocument/2006/relationships/audio" Target="../media/pluck.wav"/><Relationship Id="rId2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audio" Target="../media/chimes.wav"/><Relationship Id="rId10" Type="http://schemas.openxmlformats.org/officeDocument/2006/relationships/audio" Target="../media/glasses.wav"/><Relationship Id="rId11" Type="http://schemas.openxmlformats.org/officeDocument/2006/relationships/audio" Target="../media/glasses.wav"/><Relationship Id="rId12" Type="http://schemas.openxmlformats.org/officeDocument/2006/relationships/audio" Target="../media/chimes.wav"/><Relationship Id="rId13" Type="http://schemas.openxmlformats.org/officeDocument/2006/relationships/audio" Target="../media/glasses.wav"/><Relationship Id="rId14" Type="http://schemas.openxmlformats.org/officeDocument/2006/relationships/audio" Target="../media/chimes.wav"/><Relationship Id="rId15" Type="http://schemas.openxmlformats.org/officeDocument/2006/relationships/audio" Target="../media/glasses.wav"/><Relationship Id="rId16" Type="http://schemas.openxmlformats.org/officeDocument/2006/relationships/audio" Target="../media/chimes.wav"/><Relationship Id="rId17" Type="http://schemas.openxmlformats.org/officeDocument/2006/relationships/audio" Target="../media/glasses.wav"/><Relationship Id="rId18" Type="http://schemas.openxmlformats.org/officeDocument/2006/relationships/audio" Target="../media/chimes.wav"/><Relationship Id="rId19" Type="http://schemas.openxmlformats.org/officeDocument/2006/relationships/audio" Target="../media/glass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glasses.wav"/><Relationship Id="rId23" Type="http://schemas.openxmlformats.org/officeDocument/2006/relationships/audio" Target="../media/glasses.wav"/><Relationship Id="rId24" Type="http://schemas.openxmlformats.org/officeDocument/2006/relationships/audio" Target="../media/chimes.wav"/><Relationship Id="rId25" Type="http://schemas.openxmlformats.org/officeDocument/2006/relationships/audio" Target="../media/glasses.wav"/><Relationship Id="rId26" Type="http://schemas.openxmlformats.org/officeDocument/2006/relationships/audio" Target="../media/chimes.wav"/><Relationship Id="rId27" Type="http://schemas.openxmlformats.org/officeDocument/2006/relationships/audio" Target="../media/glasses.wav"/><Relationship Id="rId28" Type="http://schemas.openxmlformats.org/officeDocument/2006/relationships/audio" Target="../media/chimes.wav"/><Relationship Id="rId29" Type="http://schemas.openxmlformats.org/officeDocument/2006/relationships/audio" Target="../media/glasses.wav"/><Relationship Id="rId30" Type="http://schemas.openxmlformats.org/officeDocument/2006/relationships/audio" Target="../media/chimes.wav"/><Relationship Id="rId31" Type="http://schemas.openxmlformats.org/officeDocument/2006/relationships/audio" Target="../media/glasses.wav"/><Relationship Id="rId32" Type="http://schemas.openxmlformats.org/officeDocument/2006/relationships/audio" Target="../media/chimes.wav"/><Relationship Id="rId33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pluck.wav"/><Relationship Id="rId3" Type="http://schemas.openxmlformats.org/officeDocument/2006/relationships/audio" Target="../media/pluck.wav"/><Relationship Id="rId4" Type="http://schemas.openxmlformats.org/officeDocument/2006/relationships/audio" Target="../media/pluck.wav"/><Relationship Id="rId5" Type="http://schemas.openxmlformats.org/officeDocument/2006/relationships/audio" Target="../media/chimes.wav"/><Relationship Id="rId6" Type="http://schemas.openxmlformats.org/officeDocument/2006/relationships/audio" Target="../media/pluck.wav"/><Relationship Id="rId7" Type="http://schemas.openxmlformats.org/officeDocument/2006/relationships/audio" Target="../media/pluck.wav"/><Relationship Id="rId8" Type="http://schemas.openxmlformats.org/officeDocument/2006/relationships/audio" Target="../media/pluck.wav"/><Relationship Id="rId9" Type="http://schemas.openxmlformats.org/officeDocument/2006/relationships/audio" Target="../media/pluck.wav"/><Relationship Id="rId10" Type="http://schemas.openxmlformats.org/officeDocument/2006/relationships/audio" Target="../media/chimes.wav"/><Relationship Id="rId11" Type="http://schemas.openxmlformats.org/officeDocument/2006/relationships/audio" Target="../media/pluck.wav"/><Relationship Id="rId12" Type="http://schemas.openxmlformats.org/officeDocument/2006/relationships/audio" Target="../media/pluck.wav"/><Relationship Id="rId13" Type="http://schemas.openxmlformats.org/officeDocument/2006/relationships/audio" Target="../media/pluck.wav"/><Relationship Id="rId14" Type="http://schemas.openxmlformats.org/officeDocument/2006/relationships/audio" Target="../media/pluck.wav"/><Relationship Id="rId15" Type="http://schemas.openxmlformats.org/officeDocument/2006/relationships/audio" Target="../media/pluck.wav"/><Relationship Id="rId16" Type="http://schemas.openxmlformats.org/officeDocument/2006/relationships/audio" Target="../media/pluck.wav"/><Relationship Id="rId17" Type="http://schemas.openxmlformats.org/officeDocument/2006/relationships/audio" Target="../media/pluck.wav"/><Relationship Id="rId18" Type="http://schemas.openxmlformats.org/officeDocument/2006/relationships/audio" Target="../media/pluck.wav"/><Relationship Id="rId19" Type="http://schemas.openxmlformats.org/officeDocument/2006/relationships/audio" Target="../media/pluck.wav"/><Relationship Id="rId20" Type="http://schemas.openxmlformats.org/officeDocument/2006/relationships/audio" Target="../media/pluck.wav"/><Relationship Id="rId21" Type="http://schemas.openxmlformats.org/officeDocument/2006/relationships/audio" Target="../media/pluck.wav"/><Relationship Id="rId22" Type="http://schemas.openxmlformats.org/officeDocument/2006/relationships/audio" Target="../media/pluck.wav"/><Relationship Id="rId23" Type="http://schemas.openxmlformats.org/officeDocument/2006/relationships/audio" Target="../media/pluck.wav"/><Relationship Id="rId24" Type="http://schemas.openxmlformats.org/officeDocument/2006/relationships/audio" Target="../media/chimes.wav"/><Relationship Id="rId25" Type="http://schemas.openxmlformats.org/officeDocument/2006/relationships/audio" Target="../media/pluck.wav"/><Relationship Id="rId26" Type="http://schemas.openxmlformats.org/officeDocument/2006/relationships/audio" Target="../media/pluck.wav"/><Relationship Id="rId27" Type="http://schemas.openxmlformats.org/officeDocument/2006/relationships/audio" Target="../media/pluck.wav"/><Relationship Id="rId28" Type="http://schemas.openxmlformats.org/officeDocument/2006/relationships/audio" Target="../media/pluck.wav"/><Relationship Id="rId29" Type="http://schemas.openxmlformats.org/officeDocument/2006/relationships/audio" Target="../media/pluck.wav"/><Relationship Id="rId30" Type="http://schemas.openxmlformats.org/officeDocument/2006/relationships/audio" Target="../media/pluck.wav"/><Relationship Id="rId31" Type="http://schemas.openxmlformats.org/officeDocument/2006/relationships/audio" Target="../media/pluck.wav"/><Relationship Id="rId32" Type="http://schemas.openxmlformats.org/officeDocument/2006/relationships/audio" Target="../media/pluck.wav"/><Relationship Id="rId33" Type="http://schemas.openxmlformats.org/officeDocument/2006/relationships/audio" Target="../media/pluck.wav"/><Relationship Id="rId34" Type="http://schemas.openxmlformats.org/officeDocument/2006/relationships/audio" Target="../media/pluck.wav"/><Relationship Id="rId35" Type="http://schemas.openxmlformats.org/officeDocument/2006/relationships/audio" Target="../media/pluck.wav"/><Relationship Id="rId36" Type="http://schemas.openxmlformats.org/officeDocument/2006/relationships/audio" Target="../media/pluck.wav"/><Relationship Id="rId37" Type="http://schemas.openxmlformats.org/officeDocument/2006/relationships/audio" Target="../media/pluck.wav"/><Relationship Id="rId38" Type="http://schemas.openxmlformats.org/officeDocument/2006/relationships/audio" Target="../media/chimes.wav"/><Relationship Id="rId39" Type="http://schemas.openxmlformats.org/officeDocument/2006/relationships/audio" Target="../media/pluck.wav"/><Relationship Id="rId40" Type="http://schemas.openxmlformats.org/officeDocument/2006/relationships/audio" Target="../media/pluck.wav"/><Relationship Id="rId41" Type="http://schemas.openxmlformats.org/officeDocument/2006/relationships/audio" Target="../media/pluck.wav"/><Relationship Id="rId42" Type="http://schemas.openxmlformats.org/officeDocument/2006/relationships/audio" Target="../media/pluck.wav"/><Relationship Id="rId43" Type="http://schemas.openxmlformats.org/officeDocument/2006/relationships/audio" Target="../media/chimes.wav"/><Relationship Id="rId44" Type="http://schemas.openxmlformats.org/officeDocument/2006/relationships/audio" Target="../media/pluck.wav"/><Relationship Id="rId45" Type="http://schemas.openxmlformats.org/officeDocument/2006/relationships/audio" Target="../media/pluck.wav"/><Relationship Id="rId46" Type="http://schemas.openxmlformats.org/officeDocument/2006/relationships/audio" Target="../media/pluck.wav"/><Relationship Id="rId47" Type="http://schemas.openxmlformats.org/officeDocument/2006/relationships/audio" Target="../media/pluck.wav"/><Relationship Id="rId48" Type="http://schemas.openxmlformats.org/officeDocument/2006/relationships/audio" Target="../media/pluck.wav"/><Relationship Id="rId49" Type="http://schemas.openxmlformats.org/officeDocument/2006/relationships/audio" Target="../media/pluck.wav"/><Relationship Id="rId50" Type="http://schemas.openxmlformats.org/officeDocument/2006/relationships/audio" Target="../media/pluck.wav"/><Relationship Id="rId51" Type="http://schemas.openxmlformats.org/officeDocument/2006/relationships/audio" Target="../media/pluck.wav"/><Relationship Id="rId52" Type="http://schemas.openxmlformats.org/officeDocument/2006/relationships/audio" Target="../media/pluck.wav"/><Relationship Id="rId53" Type="http://schemas.openxmlformats.org/officeDocument/2006/relationships/audio" Target="../media/pluck.wav"/><Relationship Id="rId54" Type="http://schemas.openxmlformats.org/officeDocument/2006/relationships/audio" Target="../media/chimes.wav"/><Relationship Id="rId55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usr/lib/libreoffice/share/gallery/sounds/apert.wav" TargetMode="External"/><Relationship Id="rId10" Type="http://schemas.openxmlformats.org/officeDocument/2006/relationships/hyperlink" Target="file:///tmp/home/.config/libreoffice/4/user/gallery/arrow.wav" TargetMode="External"/><Relationship Id="rId11" Type="http://schemas.openxmlformats.org/officeDocument/2006/relationships/hyperlink" Target="file:///usr/lib/libreoffice/share/gallery/sounds/apert.wav" TargetMode="External"/><Relationship Id="rId1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pluck.wav"/><Relationship Id="rId4" Type="http://schemas.openxmlformats.org/officeDocument/2006/relationships/audio" Target="../media/pluck.wav"/><Relationship Id="rId5" Type="http://schemas.openxmlformats.org/officeDocument/2006/relationships/audio" Target="../media/pluck.wav"/><Relationship Id="rId6" Type="http://schemas.openxmlformats.org/officeDocument/2006/relationships/audio" Target="../media/pluck.wav"/><Relationship Id="rId7" Type="http://schemas.openxmlformats.org/officeDocument/2006/relationships/audio" Target="../media/pluck.wav"/><Relationship Id="rId8" Type="http://schemas.openxmlformats.org/officeDocument/2006/relationships/audio" Target="../media/pluck.wav"/><Relationship Id="rId9" Type="http://schemas.openxmlformats.org/officeDocument/2006/relationships/audio" Target="../media/pluck.wav"/><Relationship Id="rId10" Type="http://schemas.openxmlformats.org/officeDocument/2006/relationships/audio" Target="../media/pluck.wav"/><Relationship Id="rId11" Type="http://schemas.openxmlformats.org/officeDocument/2006/relationships/audio" Target="../media/pluck.wav"/><Relationship Id="rId12" Type="http://schemas.openxmlformats.org/officeDocument/2006/relationships/audio" Target="../media/pluck.wav"/><Relationship Id="rId13" Type="http://schemas.openxmlformats.org/officeDocument/2006/relationships/audio" Target="../media/pluck.wav"/><Relationship Id="rId14" Type="http://schemas.openxmlformats.org/officeDocument/2006/relationships/audio" Target="../media/chimes.wav"/><Relationship Id="rId15" Type="http://schemas.openxmlformats.org/officeDocument/2006/relationships/audio" Target="../media/pluck.wav"/><Relationship Id="rId16" Type="http://schemas.openxmlformats.org/officeDocument/2006/relationships/audio" Target="../media/pluck.wav"/><Relationship Id="rId17" Type="http://schemas.openxmlformats.org/officeDocument/2006/relationships/audio" Target="../media/pluck.wav"/><Relationship Id="rId18" Type="http://schemas.openxmlformats.org/officeDocument/2006/relationships/audio" Target="../media/pluck.wav"/><Relationship Id="rId19" Type="http://schemas.openxmlformats.org/officeDocument/2006/relationships/audio" Target="../media/pluck.wav"/><Relationship Id="rId20" Type="http://schemas.openxmlformats.org/officeDocument/2006/relationships/audio" Target="../media/pluck.wav"/><Relationship Id="rId21" Type="http://schemas.openxmlformats.org/officeDocument/2006/relationships/audio" Target="../media/pluck.wav"/><Relationship Id="rId22" Type="http://schemas.openxmlformats.org/officeDocument/2006/relationships/audio" Target="../media/pluck.wav"/><Relationship Id="rId23" Type="http://schemas.openxmlformats.org/officeDocument/2006/relationships/audio" Target="../media/pluck.wav"/><Relationship Id="rId24" Type="http://schemas.openxmlformats.org/officeDocument/2006/relationships/audio" Target="../media/pluck.wav"/><Relationship Id="rId25" Type="http://schemas.openxmlformats.org/officeDocument/2006/relationships/audio" Target="../media/pluck.wav"/><Relationship Id="rId26" Type="http://schemas.openxmlformats.org/officeDocument/2006/relationships/audio" Target="../media/pluck.wav"/><Relationship Id="rId27" Type="http://schemas.openxmlformats.org/officeDocument/2006/relationships/audio" Target="../media/pluck.wav"/><Relationship Id="rId28" Type="http://schemas.openxmlformats.org/officeDocument/2006/relationships/audio" Target="../media/pluck.wav"/><Relationship Id="rId29" Type="http://schemas.openxmlformats.org/officeDocument/2006/relationships/audio" Target="../media/pluck.wav"/><Relationship Id="rId30" Type="http://schemas.openxmlformats.org/officeDocument/2006/relationships/audio" Target="../media/pluck.wav"/><Relationship Id="rId31" Type="http://schemas.openxmlformats.org/officeDocument/2006/relationships/audio" Target="../media/chimes.wav"/><Relationship Id="rId32" Type="http://schemas.openxmlformats.org/officeDocument/2006/relationships/audio" Target="../media/pluck.wav"/><Relationship Id="rId33" Type="http://schemas.openxmlformats.org/officeDocument/2006/relationships/audio" Target="../media/pluck.wav"/><Relationship Id="rId34" Type="http://schemas.openxmlformats.org/officeDocument/2006/relationships/audio" Target="../media/pluck.wav"/><Relationship Id="rId35" Type="http://schemas.openxmlformats.org/officeDocument/2006/relationships/audio" Target="../media/pluck.wav"/><Relationship Id="rId36" Type="http://schemas.openxmlformats.org/officeDocument/2006/relationships/audio" Target="../media/pluck.wav"/><Relationship Id="rId37" Type="http://schemas.openxmlformats.org/officeDocument/2006/relationships/audio" Target="../media/chimes.wav"/><Relationship Id="rId38" Type="http://schemas.openxmlformats.org/officeDocument/2006/relationships/audio" Target="../media/pluck.wav"/><Relationship Id="rId39" Type="http://schemas.openxmlformats.org/officeDocument/2006/relationships/audio" Target="../media/pluck.wav"/><Relationship Id="rId40" Type="http://schemas.openxmlformats.org/officeDocument/2006/relationships/audio" Target="../media/pluck.wav"/><Relationship Id="rId41" Type="http://schemas.openxmlformats.org/officeDocument/2006/relationships/audio" Target="../media/pluck.wav"/><Relationship Id="rId42" Type="http://schemas.openxmlformats.org/officeDocument/2006/relationships/audio" Target="../media/pluck.wav"/><Relationship Id="rId43" Type="http://schemas.openxmlformats.org/officeDocument/2006/relationships/audio" Target="../media/pluck.wav"/><Relationship Id="rId44" Type="http://schemas.openxmlformats.org/officeDocument/2006/relationships/audio" Target="../media/pluck.wav"/><Relationship Id="rId45" Type="http://schemas.openxmlformats.org/officeDocument/2006/relationships/audio" Target="../media/pluck.wav"/><Relationship Id="rId46" Type="http://schemas.openxmlformats.org/officeDocument/2006/relationships/audio" Target="../media/pluck.wav"/><Relationship Id="rId47" Type="http://schemas.openxmlformats.org/officeDocument/2006/relationships/audio" Target="../media/chimes.wav"/><Relationship Id="rId48" Type="http://schemas.openxmlformats.org/officeDocument/2006/relationships/audio" Target="../media/pluck.wav"/><Relationship Id="rId49" Type="http://schemas.openxmlformats.org/officeDocument/2006/relationships/audio" Target="../media/pluck.wav"/><Relationship Id="rId50" Type="http://schemas.openxmlformats.org/officeDocument/2006/relationships/audio" Target="../media/pluck.wav"/><Relationship Id="rId51" Type="http://schemas.openxmlformats.org/officeDocument/2006/relationships/audio" Target="../media/chimes.wav"/><Relationship Id="rId52" Type="http://schemas.openxmlformats.org/officeDocument/2006/relationships/audio" Target="../media/chimes.wav"/><Relationship Id="rId53" Type="http://schemas.openxmlformats.org/officeDocument/2006/relationships/audio" Target="../media/pluck.wav"/><Relationship Id="rId54" Type="http://schemas.openxmlformats.org/officeDocument/2006/relationships/audio" Target="../media/pluck.wav"/><Relationship Id="rId55" Type="http://schemas.openxmlformats.org/officeDocument/2006/relationships/audio" Target="../media/pluck.wav"/><Relationship Id="rId56" Type="http://schemas.openxmlformats.org/officeDocument/2006/relationships/audio" Target="../media/pluck.wav"/><Relationship Id="rId57" Type="http://schemas.openxmlformats.org/officeDocument/2006/relationships/audio" Target="../media/pluck.wav"/><Relationship Id="rId58" Type="http://schemas.openxmlformats.org/officeDocument/2006/relationships/audio" Target="../media/chimes.wav"/><Relationship Id="rId59" Type="http://schemas.openxmlformats.org/officeDocument/2006/relationships/audio" Target="../media/pluck.wav"/><Relationship Id="rId60" Type="http://schemas.openxmlformats.org/officeDocument/2006/relationships/audio" Target="../media/pluck.wav"/><Relationship Id="rId61" Type="http://schemas.openxmlformats.org/officeDocument/2006/relationships/audio" Target="../media/pluck.wav"/><Relationship Id="rId62" Type="http://schemas.openxmlformats.org/officeDocument/2006/relationships/audio" Target="../media/pluck.wav"/><Relationship Id="rId63" Type="http://schemas.openxmlformats.org/officeDocument/2006/relationships/audio" Target="../media/pluck.wav"/><Relationship Id="rId64" Type="http://schemas.openxmlformats.org/officeDocument/2006/relationships/audio" Target="../media/pluck.wav"/><Relationship Id="rId65" Type="http://schemas.openxmlformats.org/officeDocument/2006/relationships/audio" Target="../media/pluck.wav"/><Relationship Id="rId66" Type="http://schemas.openxmlformats.org/officeDocument/2006/relationships/audio" Target="../media/pluck.wav"/><Relationship Id="rId67" Type="http://schemas.openxmlformats.org/officeDocument/2006/relationships/audio" Target="../media/pluck.wav"/><Relationship Id="rId68" Type="http://schemas.openxmlformats.org/officeDocument/2006/relationships/audio" Target="../media/chimes.wav"/><Relationship Id="rId69" Type="http://schemas.openxmlformats.org/officeDocument/2006/relationships/audio" Target="../media/pluck.wav"/><Relationship Id="rId70" Type="http://schemas.openxmlformats.org/officeDocument/2006/relationships/audio" Target="../media/pluck.wav"/><Relationship Id="rId71" Type="http://schemas.openxmlformats.org/officeDocument/2006/relationships/audio" Target="../media/pluck.wav"/><Relationship Id="rId72" Type="http://schemas.openxmlformats.org/officeDocument/2006/relationships/audio" Target="../media/pluck.wav"/><Relationship Id="rId73" Type="http://schemas.openxmlformats.org/officeDocument/2006/relationships/audio" Target="../media/pluck.wav"/><Relationship Id="rId74" Type="http://schemas.openxmlformats.org/officeDocument/2006/relationships/audio" Target="../media/chimes.wav"/><Relationship Id="rId75" Type="http://schemas.openxmlformats.org/officeDocument/2006/relationships/audio" Target="../media/pluck.wav"/><Relationship Id="rId76" Type="http://schemas.openxmlformats.org/officeDocument/2006/relationships/audio" Target="../media/pluck.wav"/><Relationship Id="rId77" Type="http://schemas.openxmlformats.org/officeDocument/2006/relationships/audio" Target="../media/pluck.wav"/><Relationship Id="rId78" Type="http://schemas.openxmlformats.org/officeDocument/2006/relationships/audio" Target="../media/pluck.wav"/><Relationship Id="rId79" Type="http://schemas.openxmlformats.org/officeDocument/2006/relationships/audio" Target="../media/pluck.wav"/><Relationship Id="rId80" Type="http://schemas.openxmlformats.org/officeDocument/2006/relationships/audio" Target="../media/pluck.wav"/><Relationship Id="rId81" Type="http://schemas.openxmlformats.org/officeDocument/2006/relationships/audio" Target="../media/pluck.wav"/><Relationship Id="rId82" Type="http://schemas.openxmlformats.org/officeDocument/2006/relationships/audio" Target="../media/pluck.wav"/><Relationship Id="rId83" Type="http://schemas.openxmlformats.org/officeDocument/2006/relationships/audio" Target="../media/pluck.wav"/><Relationship Id="rId84" Type="http://schemas.openxmlformats.org/officeDocument/2006/relationships/audio" Target="../media/pluck.wav"/><Relationship Id="rId85" Type="http://schemas.openxmlformats.org/officeDocument/2006/relationships/audio" Target="../media/pluck.wav"/><Relationship Id="rId86" Type="http://schemas.openxmlformats.org/officeDocument/2006/relationships/audio" Target="../media/chimes.wav"/><Relationship Id="rId87" Type="http://schemas.openxmlformats.org/officeDocument/2006/relationships/audio" Target="../media/pluck.wav"/><Relationship Id="rId88" Type="http://schemas.openxmlformats.org/officeDocument/2006/relationships/audio" Target="../media/chimes.wav"/><Relationship Id="rId89" Type="http://schemas.openxmlformats.org/officeDocument/2006/relationships/audio" Target="../media/pluck.wav"/><Relationship Id="rId90" Type="http://schemas.openxmlformats.org/officeDocument/2006/relationships/audio" Target="../media/pluck.wav"/><Relationship Id="rId91" Type="http://schemas.openxmlformats.org/officeDocument/2006/relationships/audio" Target="../media/pluck.wav"/><Relationship Id="rId9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lasses.wav"/><Relationship Id="rId3" Type="http://schemas.openxmlformats.org/officeDocument/2006/relationships/audio" Target="../media/chimes.wav"/><Relationship Id="rId4" Type="http://schemas.openxmlformats.org/officeDocument/2006/relationships/audio" Target="../media/glasses.wav"/><Relationship Id="rId5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pluck.wav"/><Relationship Id="rId8" Type="http://schemas.openxmlformats.org/officeDocument/2006/relationships/audio" Target="../media/pluck.wav"/><Relationship Id="rId9" Type="http://schemas.openxmlformats.org/officeDocument/2006/relationships/audio" Target="../media/pluck.wav"/><Relationship Id="rId10" Type="http://schemas.openxmlformats.org/officeDocument/2006/relationships/audio" Target="../media/pluck.wav"/><Relationship Id="rId11" Type="http://schemas.openxmlformats.org/officeDocument/2006/relationships/audio" Target="../media/pluck.wav"/><Relationship Id="rId12" Type="http://schemas.openxmlformats.org/officeDocument/2006/relationships/audio" Target="../media/pluck.wav"/><Relationship Id="rId1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glasses.wav"/><Relationship Id="rId4" Type="http://schemas.openxmlformats.org/officeDocument/2006/relationships/audio" Target="../media/glasses.wav"/><Relationship Id="rId5" Type="http://schemas.openxmlformats.org/officeDocument/2006/relationships/audio" Target="../media/glasses.wav"/><Relationship Id="rId6" Type="http://schemas.openxmlformats.org/officeDocument/2006/relationships/audio" Target="../media/chimes.wav"/><Relationship Id="rId7" Type="http://schemas.openxmlformats.org/officeDocument/2006/relationships/audio" Target="../media/glasses.wav"/><Relationship Id="rId8" Type="http://schemas.openxmlformats.org/officeDocument/2006/relationships/audio" Target="../media/glass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es.wav"/><Relationship Id="rId12" Type="http://schemas.openxmlformats.org/officeDocument/2006/relationships/audio" Target="../media/chimes.wav"/><Relationship Id="rId13" Type="http://schemas.openxmlformats.org/officeDocument/2006/relationships/audio" Target="../media/glasses.wav"/><Relationship Id="rId14" Type="http://schemas.openxmlformats.org/officeDocument/2006/relationships/audio" Target="../media/glasses.wav"/><Relationship Id="rId15" Type="http://schemas.openxmlformats.org/officeDocument/2006/relationships/audio" Target="../media/glasses.wav"/><Relationship Id="rId16" Type="http://schemas.openxmlformats.org/officeDocument/2006/relationships/audio" Target="../media/glasses.wav"/><Relationship Id="rId17" Type="http://schemas.openxmlformats.org/officeDocument/2006/relationships/audio" Target="../media/glasses.wav"/><Relationship Id="rId18" Type="http://schemas.openxmlformats.org/officeDocument/2006/relationships/audio" Target="../media/glasses.wav"/><Relationship Id="rId19" Type="http://schemas.openxmlformats.org/officeDocument/2006/relationships/audio" Target="../media/glasse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0.jpeg"/><Relationship Id="rId23" Type="http://schemas.openxmlformats.org/officeDocument/2006/relationships/image" Target="../media/image10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0.jpeg"/><Relationship Id="rId28" Type="http://schemas.openxmlformats.org/officeDocument/2006/relationships/image" Target="../media/image10.jpeg"/><Relationship Id="rId29" Type="http://schemas.openxmlformats.org/officeDocument/2006/relationships/image" Target="../media/image10.jpeg"/><Relationship Id="rId30" Type="http://schemas.openxmlformats.org/officeDocument/2006/relationships/image" Target="../media/image10.jpeg"/><Relationship Id="rId31" Type="http://schemas.openxmlformats.org/officeDocument/2006/relationships/image" Target="../media/image10.jpeg"/><Relationship Id="rId32" Type="http://schemas.openxmlformats.org/officeDocument/2006/relationships/image" Target="../media/image10.jpeg"/><Relationship Id="rId33" Type="http://schemas.openxmlformats.org/officeDocument/2006/relationships/image" Target="../media/image10.jpeg"/><Relationship Id="rId34" Type="http://schemas.openxmlformats.org/officeDocument/2006/relationships/image" Target="../media/image10.jpeg"/><Relationship Id="rId35" Type="http://schemas.openxmlformats.org/officeDocument/2006/relationships/image" Target="../media/image10.jpeg"/><Relationship Id="rId36" Type="http://schemas.openxmlformats.org/officeDocument/2006/relationships/image" Target="../media/image10.jpeg"/><Relationship Id="rId37" Type="http://schemas.openxmlformats.org/officeDocument/2006/relationships/image" Target="../media/image10.jpeg"/><Relationship Id="rId38" Type="http://schemas.openxmlformats.org/officeDocument/2006/relationships/image" Target="../media/image10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11.png"/><Relationship Id="rId42" Type="http://schemas.openxmlformats.org/officeDocument/2006/relationships/image" Target="../media/image10.jpeg"/><Relationship Id="rId43" Type="http://schemas.openxmlformats.org/officeDocument/2006/relationships/audio" Target="../media/pluck.wav"/><Relationship Id="rId44" Type="http://schemas.openxmlformats.org/officeDocument/2006/relationships/audio" Target="../media/pluck.wav"/><Relationship Id="rId45" Type="http://schemas.openxmlformats.org/officeDocument/2006/relationships/audio" Target="../media/pluck.wav"/><Relationship Id="rId46" Type="http://schemas.openxmlformats.org/officeDocument/2006/relationships/audio" Target="../media/pluck.wav"/><Relationship Id="rId47" Type="http://schemas.openxmlformats.org/officeDocument/2006/relationships/audio" Target="../media/pluck.wav"/><Relationship Id="rId48" Type="http://schemas.openxmlformats.org/officeDocument/2006/relationships/audio" Target="../media/pluck.wav"/><Relationship Id="rId49" Type="http://schemas.openxmlformats.org/officeDocument/2006/relationships/audio" Target="../media/pluck.wav"/><Relationship Id="rId50" Type="http://schemas.openxmlformats.org/officeDocument/2006/relationships/audio" Target="../media/pluck.wav"/><Relationship Id="rId51" Type="http://schemas.openxmlformats.org/officeDocument/2006/relationships/audio" Target="../media/pluck.wav"/><Relationship Id="rId52" Type="http://schemas.openxmlformats.org/officeDocument/2006/relationships/audio" Target="../media/pluck.wav"/><Relationship Id="rId53" Type="http://schemas.openxmlformats.org/officeDocument/2006/relationships/audio" Target="../media/pluck.wav"/><Relationship Id="rId54" Type="http://schemas.openxmlformats.org/officeDocument/2006/relationships/audio" Target="../media/chimes.wav"/><Relationship Id="rId55" Type="http://schemas.openxmlformats.org/officeDocument/2006/relationships/audio" Target="../media/pluck.wav"/><Relationship Id="rId56" Type="http://schemas.openxmlformats.org/officeDocument/2006/relationships/audio" Target="../media/pluck.wav"/><Relationship Id="rId57" Type="http://schemas.openxmlformats.org/officeDocument/2006/relationships/audio" Target="../media/chimes.wav"/><Relationship Id="rId58" Type="http://schemas.openxmlformats.org/officeDocument/2006/relationships/audio" Target="../media/pluck.wav"/><Relationship Id="rId59" Type="http://schemas.openxmlformats.org/officeDocument/2006/relationships/audio" Target="../media/pluck.wav"/><Relationship Id="rId60" Type="http://schemas.openxmlformats.org/officeDocument/2006/relationships/audio" Target="../media/pluck.wav"/><Relationship Id="rId61" Type="http://schemas.openxmlformats.org/officeDocument/2006/relationships/audio" Target="../media/pluck.wav"/><Relationship Id="rId62" Type="http://schemas.openxmlformats.org/officeDocument/2006/relationships/audio" Target="../media/pluck.wav"/><Relationship Id="rId63" Type="http://schemas.openxmlformats.org/officeDocument/2006/relationships/audio" Target="../media/chimes.wav"/><Relationship Id="rId64" Type="http://schemas.openxmlformats.org/officeDocument/2006/relationships/audio" Target="../media/pluck.wav"/><Relationship Id="rId65" Type="http://schemas.openxmlformats.org/officeDocument/2006/relationships/audio" Target="../media/pluck.wav"/><Relationship Id="rId66" Type="http://schemas.openxmlformats.org/officeDocument/2006/relationships/audio" Target="../media/chimes.wav"/><Relationship Id="rId67" Type="http://schemas.openxmlformats.org/officeDocument/2006/relationships/audio" Target="../media/pluck.wav"/><Relationship Id="rId68" Type="http://schemas.openxmlformats.org/officeDocument/2006/relationships/audio" Target="../media/pluck.wav"/><Relationship Id="rId69" Type="http://schemas.openxmlformats.org/officeDocument/2006/relationships/audio" Target="../media/chimes.wav"/><Relationship Id="rId70" Type="http://schemas.openxmlformats.org/officeDocument/2006/relationships/audio" Target="../media/pluck.wav"/><Relationship Id="rId71" Type="http://schemas.openxmlformats.org/officeDocument/2006/relationships/audio" Target="../media/pluck.wav"/><Relationship Id="rId72" Type="http://schemas.openxmlformats.org/officeDocument/2006/relationships/audio" Target="../media/pluck.wav"/><Relationship Id="rId73" Type="http://schemas.openxmlformats.org/officeDocument/2006/relationships/audio" Target="../media/pluck.wav"/><Relationship Id="rId74" Type="http://schemas.openxmlformats.org/officeDocument/2006/relationships/audio" Target="../media/pluck.wav"/><Relationship Id="rId75" Type="http://schemas.openxmlformats.org/officeDocument/2006/relationships/audio" Target="../media/pluck.wav"/><Relationship Id="rId76" Type="http://schemas.openxmlformats.org/officeDocument/2006/relationships/audio" Target="../media/pluck.wav"/><Relationship Id="rId77" Type="http://schemas.openxmlformats.org/officeDocument/2006/relationships/audio" Target="../media/pluck.wav"/><Relationship Id="rId78" Type="http://schemas.openxmlformats.org/officeDocument/2006/relationships/audio" Target="../media/chimes.wav"/><Relationship Id="rId79" Type="http://schemas.openxmlformats.org/officeDocument/2006/relationships/audio" Target="../media/pluck.wav"/><Relationship Id="rId80" Type="http://schemas.openxmlformats.org/officeDocument/2006/relationships/audio" Target="../media/pluck.wav"/><Relationship Id="rId81" Type="http://schemas.openxmlformats.org/officeDocument/2006/relationships/audio" Target="../media/pluck.wav"/><Relationship Id="rId82" Type="http://schemas.openxmlformats.org/officeDocument/2006/relationships/audio" Target="../media/chimes.wav"/><Relationship Id="rId83" Type="http://schemas.openxmlformats.org/officeDocument/2006/relationships/audio" Target="../media/pluck.wav"/><Relationship Id="rId8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audio" Target="../media/pluck.wav"/><Relationship Id="rId22" Type="http://schemas.openxmlformats.org/officeDocument/2006/relationships/audio" Target="../media/pluck.wav"/><Relationship Id="rId23" Type="http://schemas.openxmlformats.org/officeDocument/2006/relationships/audio" Target="../media/pluck.wav"/><Relationship Id="rId24" Type="http://schemas.openxmlformats.org/officeDocument/2006/relationships/audio" Target="../media/chimes.wav"/><Relationship Id="rId25" Type="http://schemas.openxmlformats.org/officeDocument/2006/relationships/audio" Target="../media/pluck.wav"/><Relationship Id="rId26" Type="http://schemas.openxmlformats.org/officeDocument/2006/relationships/audio" Target="../media/pluck.wav"/><Relationship Id="rId27" Type="http://schemas.openxmlformats.org/officeDocument/2006/relationships/audio" Target="../media/pluck.wav"/><Relationship Id="rId28" Type="http://schemas.openxmlformats.org/officeDocument/2006/relationships/audio" Target="../media/pluck.wav"/><Relationship Id="rId29" Type="http://schemas.openxmlformats.org/officeDocument/2006/relationships/audio" Target="../media/chimes.wav"/><Relationship Id="rId30" Type="http://schemas.openxmlformats.org/officeDocument/2006/relationships/audio" Target="../media/pluck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pluck.wav"/><Relationship Id="rId35" Type="http://schemas.openxmlformats.org/officeDocument/2006/relationships/audio" Target="../media/chimes.wav"/><Relationship Id="rId36" Type="http://schemas.openxmlformats.org/officeDocument/2006/relationships/audio" Target="../media/pluck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pluck.wav"/><Relationship Id="rId4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92000" y="1538280"/>
            <a:ext cx="77565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Упражнения </a:t>
            </a:r>
            <a:br>
              <a:rPr sz="4200"/>
            </a:b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в правописании парных звонких и глухих согласных на конце сло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32000" y="468900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2 клас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63080" y="6039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4eb"/>
            </a:gs>
            <a:gs pos="100000">
              <a:srgbClr val="eee5e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. Выбери проверочное слово и кликни кнопкой мыши по  выбранному слову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97164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32000" y="2619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…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72000" y="261936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232000" y="342900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651640" y="261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62720" y="2619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71640" y="342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900000" y="4149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71640" y="486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32000" y="4149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14164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у…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97164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871640" y="2529000"/>
            <a:ext cx="1800360" cy="3744720"/>
            <a:chOff x="1871640" y="2529000"/>
            <a:chExt cx="1800360" cy="3744720"/>
          </a:xfrm>
        </p:grpSpPr>
        <p:sp>
          <p:nvSpPr>
            <p:cNvPr id="641" name=""/>
            <p:cNvSpPr/>
            <p:nvPr/>
          </p:nvSpPr>
          <p:spPr>
            <a:xfrm>
              <a:off x="1871640" y="296064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72000" y="2529000"/>
              <a:ext cx="0" cy="37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71640" y="375264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71640" y="447336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871640" y="519408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71640" y="584172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2141640" y="5589720"/>
            <a:ext cx="13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672000" y="342900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д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62720" y="342900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093080" y="3429000"/>
            <a:ext cx="17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д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451640" y="414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672000" y="414972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292720" y="4149720"/>
            <a:ext cx="17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к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672000" y="486900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472000" y="486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уб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1640" y="48690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у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84720" y="558972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67200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кав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72000" y="55897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к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92920" y="558972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зрук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951280" y="558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71640" y="261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7002360" y="1808280"/>
            <a:ext cx="1800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ума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812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681280" y="414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51280" y="486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050920" y="6219720"/>
            <a:ext cx="3219480" cy="487440"/>
            <a:chOff x="2050920" y="6219720"/>
            <a:chExt cx="3219480" cy="487440"/>
          </a:xfrm>
        </p:grpSpPr>
        <p:sp>
          <p:nvSpPr>
            <p:cNvPr id="668" name=""/>
            <p:cNvSpPr/>
            <p:nvPr/>
          </p:nvSpPr>
          <p:spPr>
            <a:xfrm>
              <a:off x="2771640" y="6219720"/>
              <a:ext cx="1727280" cy="216000"/>
            </a:xfrm>
            <a:custGeom>
              <a:avLst/>
              <a:gdLst>
                <a:gd name="textAreaLeft" fmla="*/ 302040 w 1727280"/>
                <a:gd name="textAreaRight" fmla="*/ 1252440 w 172728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2050920" y="6362640"/>
              <a:ext cx="3219480" cy="34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825600"/>
                      </a:gs>
                    </a:gsLst>
                    <a:lin ang="13500000"/>
                  </a:gradFill>
                  <a:latin typeface="Times New Roman"/>
                </a:rPr>
                <a:t>Выбери проверочное слово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825600"/>
                    </a:gs>
                  </a:gsLst>
                  <a:lin ang="13500000"/>
                </a:gradFill>
                <a:latin typeface="Times New Roman"/>
                <a:ea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900000" y="1719360"/>
            <a:ext cx="5688000" cy="520560"/>
            <a:chOff x="900000" y="1719360"/>
            <a:chExt cx="5688000" cy="520560"/>
          </a:xfrm>
        </p:grpSpPr>
        <p:sp>
          <p:nvSpPr>
            <p:cNvPr id="671" name=""/>
            <p:cNvSpPr/>
            <p:nvPr/>
          </p:nvSpPr>
          <p:spPr>
            <a:xfrm>
              <a:off x="900000" y="1719360"/>
              <a:ext cx="5688000" cy="52056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бразец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торо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жи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ь – сторо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ж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7280" y="222372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41280" y="2619360"/>
            <a:ext cx="1459080" cy="539640"/>
            <a:chOff x="341280" y="2619360"/>
            <a:chExt cx="1459080" cy="539640"/>
          </a:xfrm>
        </p:grpSpPr>
        <p:sp>
          <p:nvSpPr>
            <p:cNvPr id="674" name=""/>
            <p:cNvSpPr/>
            <p:nvPr/>
          </p:nvSpPr>
          <p:spPr>
            <a:xfrm>
              <a:off x="341280" y="2619360"/>
              <a:ext cx="14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з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2000" y="315900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50920" y="3429000"/>
            <a:ext cx="1711080" cy="539640"/>
            <a:chOff x="250920" y="3429000"/>
            <a:chExt cx="1711080" cy="539640"/>
          </a:xfrm>
        </p:grpSpPr>
        <p:sp>
          <p:nvSpPr>
            <p:cNvPr id="677" name=""/>
            <p:cNvSpPr/>
            <p:nvPr/>
          </p:nvSpPr>
          <p:spPr>
            <a:xfrm>
              <a:off x="250920" y="3429000"/>
              <a:ext cx="17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е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ду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71640" y="396864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50920" y="4149720"/>
            <a:ext cx="1711080" cy="539640"/>
            <a:chOff x="250920" y="4149720"/>
            <a:chExt cx="1711080" cy="539640"/>
          </a:xfrm>
        </p:grpSpPr>
        <p:sp>
          <p:nvSpPr>
            <p:cNvPr id="680" name=""/>
            <p:cNvSpPr/>
            <p:nvPr/>
          </p:nvSpPr>
          <p:spPr>
            <a:xfrm>
              <a:off x="250920" y="4149720"/>
              <a:ext cx="17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о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к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71640" y="468936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341280" y="4869000"/>
            <a:ext cx="1638360" cy="539640"/>
            <a:chOff x="341280" y="4869000"/>
            <a:chExt cx="1638360" cy="539640"/>
          </a:xfrm>
        </p:grpSpPr>
        <p:sp>
          <p:nvSpPr>
            <p:cNvPr id="683" name=""/>
            <p:cNvSpPr/>
            <p:nvPr/>
          </p:nvSpPr>
          <p:spPr>
            <a:xfrm>
              <a:off x="341280" y="4869000"/>
              <a:ext cx="163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олу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б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20920" y="540864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31640" y="5589720"/>
            <a:ext cx="1440000" cy="539640"/>
            <a:chOff x="431640" y="5589720"/>
            <a:chExt cx="1440000" cy="539640"/>
          </a:xfrm>
        </p:grpSpPr>
        <p:sp>
          <p:nvSpPr>
            <p:cNvPr id="686" name=""/>
            <p:cNvSpPr/>
            <p:nvPr/>
          </p:nvSpPr>
          <p:spPr>
            <a:xfrm>
              <a:off x="431640" y="558972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ука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11280" y="6129360"/>
              <a:ext cx="1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8263080" y="6219720"/>
            <a:ext cx="630000" cy="451080"/>
          </a:xfrm>
          <a:custGeom>
            <a:avLst/>
            <a:gdLst>
              <a:gd name="textAreaLeft" fmla="*/ 29160 w 630000"/>
              <a:gd name="textAreaRight" fmla="*/ 600840 w 630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61" h="21600">
                <a:moveTo>
                  <a:pt x="0" y="0"/>
                </a:moveTo>
                <a:lnTo>
                  <a:pt x="30161" y="0"/>
                </a:lnTo>
                <a:lnTo>
                  <a:pt x="30161" y="21600"/>
                </a:lnTo>
                <a:lnTo>
                  <a:pt x="0" y="21600"/>
                </a:lnTo>
                <a:close/>
              </a:path>
              <a:path fill="lightenLess" w="30161" h="21600">
                <a:moveTo>
                  <a:pt x="0" y="0"/>
                </a:moveTo>
                <a:lnTo>
                  <a:pt x="30161" y="0"/>
                </a:lnTo>
                <a:lnTo>
                  <a:pt x="28761" y="1400"/>
                </a:lnTo>
                <a:lnTo>
                  <a:pt x="1400" y="1400"/>
                </a:lnTo>
                <a:close/>
              </a:path>
              <a:path fill="darken" w="30161" h="21600">
                <a:moveTo>
                  <a:pt x="30161" y="0"/>
                </a:moveTo>
                <a:lnTo>
                  <a:pt x="30161" y="21600"/>
                </a:lnTo>
                <a:lnTo>
                  <a:pt x="28761" y="20200"/>
                </a:lnTo>
                <a:lnTo>
                  <a:pt x="28761" y="1400"/>
                </a:lnTo>
                <a:close/>
              </a:path>
              <a:path fill="darkenLess" w="30161" h="21600">
                <a:moveTo>
                  <a:pt x="30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1" y="20200"/>
                </a:lnTo>
                <a:close/>
              </a:path>
              <a:path fill="lighten" w="30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61" h="21600">
                <a:moveTo>
                  <a:pt x="8074" y="7493"/>
                </a:moveTo>
                <a:lnTo>
                  <a:pt x="11581" y="7493"/>
                </a:lnTo>
                <a:lnTo>
                  <a:pt x="11581" y="12828"/>
                </a:lnTo>
                <a:cubicBezTo>
                  <a:pt x="11581" y="13751"/>
                  <a:pt x="12382" y="14482"/>
                  <a:pt x="13418" y="14482"/>
                </a:cubicBezTo>
                <a:lnTo>
                  <a:pt x="15080" y="14482"/>
                </a:lnTo>
                <a:cubicBezTo>
                  <a:pt x="16116" y="14482"/>
                  <a:pt x="16917" y="13751"/>
                  <a:pt x="16917" y="12828"/>
                </a:cubicBezTo>
                <a:lnTo>
                  <a:pt x="16917" y="7493"/>
                </a:lnTo>
                <a:lnTo>
                  <a:pt x="15080" y="7493"/>
                </a:lnTo>
                <a:lnTo>
                  <a:pt x="18588" y="3985"/>
                </a:lnTo>
                <a:lnTo>
                  <a:pt x="22261" y="7493"/>
                </a:lnTo>
                <a:lnTo>
                  <a:pt x="20424" y="7493"/>
                </a:lnTo>
                <a:lnTo>
                  <a:pt x="20424" y="12828"/>
                </a:lnTo>
                <a:cubicBezTo>
                  <a:pt x="20424" y="15596"/>
                  <a:pt x="17848" y="18155"/>
                  <a:pt x="15080" y="18155"/>
                </a:cubicBezTo>
                <a:lnTo>
                  <a:pt x="13418" y="18155"/>
                </a:lnTo>
                <a:cubicBezTo>
                  <a:pt x="10650" y="18155"/>
                  <a:pt x="8074" y="15596"/>
                  <a:pt x="8074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 flipH="1">
            <a:off x="6372000" y="1898640"/>
            <a:ext cx="53964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fill="hold">
                      <p:stCondLst>
                        <p:cond delay="0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500"/>
                            </p:stCondLst>
                            <p:childTnLst>
                              <p:par>
                                <p:cTn id="2195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6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0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1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5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206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20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1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6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2231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24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7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2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25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272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3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8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283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8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298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9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4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8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2309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1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500"/>
                            </p:stCondLst>
                            <p:childTnLst>
                              <p:par>
                                <p:cTn id="2324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5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0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3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fill="hold">
                            <p:stCondLst>
                              <p:cond delay="500"/>
                            </p:stCondLst>
                            <p:childTnLst>
                              <p:par>
                                <p:cTn id="2350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6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2361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500"/>
                            </p:stCondLst>
                            <p:childTnLst>
                              <p:par>
                                <p:cTn id="237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7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2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2387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9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500"/>
                            </p:stCondLst>
                            <p:childTnLst>
                              <p:par>
                                <p:cTn id="2402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3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8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2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413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500"/>
                            </p:stCondLst>
                            <p:childTnLst>
                              <p:par>
                                <p:cTn id="2428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9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3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8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2439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451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2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2463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6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4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2475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6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2487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9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0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7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8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9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0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2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1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253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3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6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2547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5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5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92360" y="153828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42360" y="153828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92360" y="11779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2000" y="189000"/>
            <a:ext cx="898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 Кликни кнопкой мыши и вставь пропущенную парную согласную на конце сл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062000" y="135900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62000" y="225900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2000" y="306864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к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62000" y="396864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рко…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62000" y="495936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062000" y="585936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12000" y="126828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я…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012000" y="306864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ё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12000" y="396864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012000" y="495936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92360" y="243828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82720" y="225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873080" y="1359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73080" y="306864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62000" y="3968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73080" y="495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63440" y="5859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732720" y="126828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824880" y="3068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913800" y="396864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003800" y="4959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12000" y="585936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ы…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732720" y="585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92360" y="2978280"/>
            <a:ext cx="809640" cy="35856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92360" y="3338640"/>
            <a:ext cx="811080" cy="35856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542360" y="20779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542360" y="243828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92360" y="576900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92360" y="612936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92360" y="4780080"/>
            <a:ext cx="811080" cy="35856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92360" y="513864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2000" y="225900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913800" y="22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 rot="5400000">
            <a:off x="531720" y="1258560"/>
            <a:ext cx="190440" cy="5716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2592360" y="20779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 rot="5400000">
            <a:off x="531720" y="3058920"/>
            <a:ext cx="190440" cy="5716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2592360" y="38797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592360" y="423864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 rot="5400000">
            <a:off x="531720" y="4947840"/>
            <a:ext cx="190440" cy="5716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 rot="5400000">
            <a:off x="5488920" y="1253160"/>
            <a:ext cx="179280" cy="5716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7542360" y="11779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 rot="5400000">
            <a:off x="5483160" y="3058920"/>
            <a:ext cx="190440" cy="5716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7542360" y="2978280"/>
            <a:ext cx="811080" cy="35856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542360" y="3338640"/>
            <a:ext cx="809640" cy="35856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542360" y="38797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542360" y="423864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542360" y="4780080"/>
            <a:ext cx="811080" cy="35856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542360" y="513864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42360" y="576900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42360" y="612936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6"/>
          <a:stretch/>
        </p:blipFill>
        <p:spPr>
          <a:xfrm rot="5400000">
            <a:off x="5483160" y="4947840"/>
            <a:ext cx="190440" cy="571680"/>
          </a:xfrm>
          <a:prstGeom prst="rect">
            <a:avLst/>
          </a:prstGeom>
          <a:ln w="0">
            <a:noFill/>
          </a:ln>
        </p:spPr>
      </p:pic>
      <p:pic>
        <p:nvPicPr>
          <p:cNvPr id="747" name="302" descr=""/>
          <p:cNvPicPr/>
          <p:nvPr/>
        </p:nvPicPr>
        <p:blipFill>
          <a:blip r:embed="rId7"/>
          <a:stretch/>
        </p:blipFill>
        <p:spPr>
          <a:xfrm>
            <a:off x="3941640" y="4959360"/>
            <a:ext cx="1047960" cy="1457280"/>
          </a:xfrm>
          <a:prstGeom prst="rect">
            <a:avLst/>
          </a:prstGeom>
          <a:ln w="0">
            <a:noFill/>
          </a:ln>
        </p:spPr>
      </p:pic>
      <p:pic>
        <p:nvPicPr>
          <p:cNvPr id="748" name="302" descr=""/>
          <p:cNvPicPr/>
          <p:nvPr/>
        </p:nvPicPr>
        <p:blipFill>
          <a:blip r:embed="rId8"/>
          <a:stretch/>
        </p:blipFill>
        <p:spPr>
          <a:xfrm flipH="1">
            <a:off x="4032360" y="4959360"/>
            <a:ext cx="1047600" cy="145728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 txBox="1"/>
          <p:nvPr/>
        </p:nvSpPr>
        <p:spPr>
          <a:xfrm>
            <a:off x="3762360" y="3068640"/>
            <a:ext cx="153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ума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13640" y="6407280"/>
            <a:ext cx="630360" cy="45072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30202" h="21600">
                <a:moveTo>
                  <a:pt x="0" y="0"/>
                </a:moveTo>
                <a:lnTo>
                  <a:pt x="30202" y="0"/>
                </a:lnTo>
                <a:lnTo>
                  <a:pt x="30202" y="21600"/>
                </a:lnTo>
                <a:lnTo>
                  <a:pt x="0" y="21600"/>
                </a:lnTo>
                <a:close/>
              </a:path>
              <a:path fill="lightenLess" w="30202" h="21600">
                <a:moveTo>
                  <a:pt x="0" y="0"/>
                </a:moveTo>
                <a:lnTo>
                  <a:pt x="30202" y="0"/>
                </a:lnTo>
                <a:lnTo>
                  <a:pt x="28802" y="1400"/>
                </a:lnTo>
                <a:lnTo>
                  <a:pt x="1400" y="1400"/>
                </a:lnTo>
                <a:close/>
              </a:path>
              <a:path fill="darken" w="30202" h="21600">
                <a:moveTo>
                  <a:pt x="30202" y="0"/>
                </a:moveTo>
                <a:lnTo>
                  <a:pt x="30202" y="21600"/>
                </a:lnTo>
                <a:lnTo>
                  <a:pt x="28802" y="20200"/>
                </a:lnTo>
                <a:lnTo>
                  <a:pt x="28802" y="1400"/>
                </a:lnTo>
                <a:close/>
              </a:path>
              <a:path fill="darkenLess" w="30202" h="21600">
                <a:moveTo>
                  <a:pt x="30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2" y="20200"/>
                </a:lnTo>
                <a:close/>
              </a:path>
              <a:path fill="lighten" w="30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2" h="21600">
                <a:moveTo>
                  <a:pt x="8095" y="7493"/>
                </a:moveTo>
                <a:lnTo>
                  <a:pt x="11602" y="7493"/>
                </a:lnTo>
                <a:lnTo>
                  <a:pt x="11602" y="12828"/>
                </a:lnTo>
                <a:cubicBezTo>
                  <a:pt x="11602" y="13751"/>
                  <a:pt x="12403" y="14482"/>
                  <a:pt x="13439" y="14482"/>
                </a:cubicBezTo>
                <a:lnTo>
                  <a:pt x="15101" y="14482"/>
                </a:lnTo>
                <a:cubicBezTo>
                  <a:pt x="16137" y="14482"/>
                  <a:pt x="16938" y="13751"/>
                  <a:pt x="16938" y="12828"/>
                </a:cubicBezTo>
                <a:lnTo>
                  <a:pt x="16938" y="7493"/>
                </a:lnTo>
                <a:lnTo>
                  <a:pt x="15101" y="7493"/>
                </a:lnTo>
                <a:lnTo>
                  <a:pt x="18609" y="3985"/>
                </a:lnTo>
                <a:lnTo>
                  <a:pt x="22282" y="7493"/>
                </a:lnTo>
                <a:lnTo>
                  <a:pt x="20445" y="7493"/>
                </a:lnTo>
                <a:lnTo>
                  <a:pt x="20445" y="12828"/>
                </a:lnTo>
                <a:cubicBezTo>
                  <a:pt x="20445" y="15596"/>
                  <a:pt x="17869" y="18155"/>
                  <a:pt x="15101" y="18155"/>
                </a:cubicBezTo>
                <a:lnTo>
                  <a:pt x="13439" y="18155"/>
                </a:lnTo>
                <a:cubicBezTo>
                  <a:pt x="10671" y="18155"/>
                  <a:pt x="8095" y="15596"/>
                  <a:pt x="8095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3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574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8" dur="250" autoRev="1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-0.00156 0.14351 E">
                                      <p:cBhvr>
                                        <p:cTn id="2583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2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2593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4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8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2609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1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00"/>
                            </p:stCondLst>
                            <p:childTnLst>
                              <p:par>
                                <p:cTn id="261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0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2625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2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9" dur="250" autoRev="1" fill="hold"/>
                                        <p:tgtEl>
                                          <p:spTgt spid="7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7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2648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500"/>
                            </p:stCondLst>
                            <p:childTnLst>
                              <p:par>
                                <p:cTn id="2658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9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0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3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2664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6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8" dur="250" autoRev="1" fill="hold"/>
                                        <p:tgtEl>
                                          <p:spTgt spid="7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-0.00156 0.14352 E">
                                      <p:cBhvr>
                                        <p:cTn id="2673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4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2685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8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fill="hold">
                            <p:stCondLst>
                              <p:cond delay="500"/>
                            </p:stCondLst>
                            <p:childTnLst>
                              <p:par>
                                <p:cTn id="2695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6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0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2701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5" dur="250" autoRev="1" fill="hold"/>
                                        <p:tgtEl>
                                          <p:spTgt spid="7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5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2726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2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5" fill="hold">
                            <p:stCondLst>
                              <p:cond delay="500"/>
                            </p:stCondLst>
                            <p:childTnLst>
                              <p:par>
                                <p:cTn id="273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7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1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2742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4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6" dur="250" autoRev="1" fill="hold"/>
                                        <p:tgtEl>
                                          <p:spTgt spid="7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-0.00156 0.13056 E">
                                      <p:cBhvr>
                                        <p:cTn id="2751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2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2763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6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73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4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8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2779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8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3" dur="250" autoRev="1" fill="hold"/>
                                        <p:tgtEl>
                                          <p:spTgt spid="7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1" dur="10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0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3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1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2812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81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6" dur="250" autoRev="1" fill="hold"/>
                                        <p:tgtEl>
                                          <p:spTgt spid="7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-0.00174 0.14444 E">
                                      <p:cBhvr>
                                        <p:cTn id="2821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2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2833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fill="hold">
                            <p:stCondLst>
                              <p:cond delay="500"/>
                            </p:stCondLst>
                            <p:childTnLst>
                              <p:par>
                                <p:cTn id="2843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4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8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2849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fill="hold">
                            <p:stCondLst>
                              <p:cond delay="500"/>
                            </p:stCondLst>
                            <p:childTnLst>
                              <p:par>
                                <p:cTn id="285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0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4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2865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86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9" dur="250" autoRev="1" fill="hold"/>
                                        <p:tgtEl>
                                          <p:spTgt spid="7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9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2890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9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0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1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5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2906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0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0" dur="250" autoRev="1" fill="hold"/>
                                        <p:tgtEl>
                                          <p:spTgt spid="7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-0.00174 0.13033 E">
                                      <p:cBhvr>
                                        <p:cTn id="2915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6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2927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3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6" fill="hold">
                            <p:stCondLst>
                              <p:cond delay="500"/>
                            </p:stCondLst>
                            <p:childTnLst>
                              <p:par>
                                <p:cTn id="2937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8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2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2943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4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7" dur="250" autoRev="1" fill="hold"/>
                                        <p:tgtEl>
                                          <p:spTgt spid="7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7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2968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7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500"/>
                            </p:stCondLst>
                            <p:childTnLst>
                              <p:par>
                                <p:cTn id="2978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9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3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2984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8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8" dur="250" autoRev="1" fill="hold"/>
                                        <p:tgtEl>
                                          <p:spTgt spid="7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-0.00174 0.13056 E">
                                      <p:cBhvr>
                                        <p:cTn id="2993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4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3005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0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4" fill="hold">
                            <p:stCondLst>
                              <p:cond delay="500"/>
                            </p:stCondLst>
                            <p:childTnLst>
                              <p:par>
                                <p:cTn id="3015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6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0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3021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3022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2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5" dur="250" autoRev="1" fill="hold"/>
                                        <p:tgtEl>
                                          <p:spTgt spid="7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82308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272360" y="5680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0400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37380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0360" y="56768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72000" y="5680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08720" y="4707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75640" y="4707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443640" y="4707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1200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6272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1200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46272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56272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27236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92308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7200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226360" y="2008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77564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2636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40360" y="2008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40728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75280" y="2008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54364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1164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771640" y="5680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20920" y="5680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20920" y="5680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0364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77020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3856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87020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42092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37236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1200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95128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1928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5092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60164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77164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32236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2092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87164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70200" y="5680080"/>
            <a:ext cx="45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02000" y="1989000"/>
            <a:ext cx="36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0920" y="2039760"/>
            <a:ext cx="45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01640" y="1989000"/>
            <a:ext cx="45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601640" y="2116080"/>
            <a:ext cx="449280" cy="32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050920" y="2114640"/>
            <a:ext cx="451080" cy="323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2000" y="2116080"/>
            <a:ext cx="360360" cy="32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42236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871640" y="29782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32236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71640" y="297828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20920" y="29782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60164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050920" y="387972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50200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51280" y="3879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420920" y="47800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70200" y="47800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320920" y="47800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70200" y="47800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22092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2092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7020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32092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77020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220920" y="576900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075280" y="2097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26000" y="2097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975280" y="209700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426360" y="2097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875640" y="2097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26360" y="2097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775640" y="2097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226360" y="209700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72000" y="297828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92308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372360" y="29782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2308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72360" y="29782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723080" y="29782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60920" y="387972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01200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461280" y="387972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91200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361280" y="3879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58000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012000" y="4780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4364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75640" y="4780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30872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72000" y="576900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92308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37236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2308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7236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22720" y="2978280"/>
            <a:ext cx="45072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862360" y="16286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2092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723080" y="243828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220920" y="5769000"/>
            <a:ext cx="45108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361280" y="3879720"/>
            <a:ext cx="450720" cy="358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723080" y="2978280"/>
            <a:ext cx="44928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362720" y="333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862360" y="2114640"/>
            <a:ext cx="387360" cy="32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62360" y="2077920"/>
            <a:ext cx="44928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220920" y="2438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723080" y="576900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723080" y="5769000"/>
            <a:ext cx="451080" cy="358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72308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4121280" y="3699000"/>
            <a:ext cx="846000" cy="119844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8263080" y="6219720"/>
            <a:ext cx="630000" cy="451080"/>
          </a:xfrm>
          <a:custGeom>
            <a:avLst/>
            <a:gdLst>
              <a:gd name="textAreaLeft" fmla="*/ 29160 w 630000"/>
              <a:gd name="textAreaRight" fmla="*/ 600840 w 630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61" h="21600">
                <a:moveTo>
                  <a:pt x="0" y="0"/>
                </a:moveTo>
                <a:lnTo>
                  <a:pt x="30161" y="0"/>
                </a:lnTo>
                <a:lnTo>
                  <a:pt x="30161" y="21600"/>
                </a:lnTo>
                <a:lnTo>
                  <a:pt x="0" y="21600"/>
                </a:lnTo>
                <a:close/>
              </a:path>
              <a:path fill="lightenLess" w="30161" h="21600">
                <a:moveTo>
                  <a:pt x="0" y="0"/>
                </a:moveTo>
                <a:lnTo>
                  <a:pt x="30161" y="0"/>
                </a:lnTo>
                <a:lnTo>
                  <a:pt x="28761" y="1400"/>
                </a:lnTo>
                <a:lnTo>
                  <a:pt x="1400" y="1400"/>
                </a:lnTo>
                <a:close/>
              </a:path>
              <a:path fill="darken" w="30161" h="21600">
                <a:moveTo>
                  <a:pt x="30161" y="0"/>
                </a:moveTo>
                <a:lnTo>
                  <a:pt x="30161" y="21600"/>
                </a:lnTo>
                <a:lnTo>
                  <a:pt x="28761" y="20200"/>
                </a:lnTo>
                <a:lnTo>
                  <a:pt x="28761" y="1400"/>
                </a:lnTo>
                <a:close/>
              </a:path>
              <a:path fill="darkenLess" w="30161" h="21600">
                <a:moveTo>
                  <a:pt x="30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1" y="20200"/>
                </a:lnTo>
                <a:close/>
              </a:path>
              <a:path fill="lighten" w="30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61" h="21600">
                <a:moveTo>
                  <a:pt x="8074" y="7493"/>
                </a:moveTo>
                <a:lnTo>
                  <a:pt x="11581" y="7493"/>
                </a:lnTo>
                <a:lnTo>
                  <a:pt x="11581" y="12828"/>
                </a:lnTo>
                <a:cubicBezTo>
                  <a:pt x="11581" y="13751"/>
                  <a:pt x="12382" y="14482"/>
                  <a:pt x="13418" y="14482"/>
                </a:cubicBezTo>
                <a:lnTo>
                  <a:pt x="15080" y="14482"/>
                </a:lnTo>
                <a:cubicBezTo>
                  <a:pt x="16116" y="14482"/>
                  <a:pt x="16917" y="13751"/>
                  <a:pt x="16917" y="12828"/>
                </a:cubicBezTo>
                <a:lnTo>
                  <a:pt x="16917" y="7493"/>
                </a:lnTo>
                <a:lnTo>
                  <a:pt x="15080" y="7493"/>
                </a:lnTo>
                <a:lnTo>
                  <a:pt x="18588" y="3985"/>
                </a:lnTo>
                <a:lnTo>
                  <a:pt x="22261" y="7493"/>
                </a:lnTo>
                <a:lnTo>
                  <a:pt x="20424" y="7493"/>
                </a:lnTo>
                <a:lnTo>
                  <a:pt x="20424" y="12828"/>
                </a:lnTo>
                <a:cubicBezTo>
                  <a:pt x="20424" y="15596"/>
                  <a:pt x="17848" y="18155"/>
                  <a:pt x="15080" y="18155"/>
                </a:cubicBezTo>
                <a:lnTo>
                  <a:pt x="13418" y="18155"/>
                </a:lnTo>
                <a:cubicBezTo>
                  <a:pt x="10650" y="18155"/>
                  <a:pt x="8074" y="15596"/>
                  <a:pt x="8074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241280" y="368280"/>
            <a:ext cx="7561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. Найди ошибки в написании парной согласн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Кликни кнопкой мыши и исправь ошибки в написани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арных звонких и глухих согласных на конце сло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2" dur="indefinite" restart="never" nodeType="tmRoot">
          <p:childTnLst>
            <p:seq>
              <p:cTn id="3033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3034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3035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3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0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3041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4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7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3048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5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4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3055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58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9" dur="250" autoRev="1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2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5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6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3067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7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3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3074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7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0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3081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8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7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3088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3089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9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309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9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9" dur="250" autoRev="1" fill="hold"/>
                                        <p:tgtEl>
                                          <p:spTgt spid="8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2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5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6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3107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10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3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3114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1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0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3121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7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3128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31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4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135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3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1" restart="whenNotActive" nodeType="interactiveSeq" fill="hold">
                <p:stCondLst>
                  <p:cond evt="onClick">
                    <p:tgtEl>
                      <p:spTgt spid="811"/>
                    </p:tgtEl>
                  </p:cond>
                </p:stCondLst>
                <p:childTnLst>
                  <p:par>
                    <p:cTn id="3142" fill="hold">
                      <p:stCondLst>
                        <p:cond evt="onClick">
                          <p:tgtEl>
                            <p:spTgt spid="811"/>
                          </p:tgtEl>
                        </p:cond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45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6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8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3149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52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5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3156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59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3163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66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9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3170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7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6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3177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8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3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3184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8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0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3191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4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7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3198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0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2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5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9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3210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1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6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3217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20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3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3224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2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0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3231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3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7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3238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4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3245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3246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1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3252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55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8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3259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62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326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3267" fill="hold">
                            <p:stCondLst>
                              <p:cond delay="0"/>
                            </p:stCondLst>
                            <p:childTnLst>
                              <p:par>
                                <p:cTn id="32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69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2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3273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7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9" restart="whenNotActive" nodeType="interactiveSeq" fill="hold">
                <p:stCondLst>
                  <p:cond evt="onClick">
                    <p:tgtEl>
                      <p:spTgt spid="830"/>
                    </p:tgtEl>
                  </p:cond>
                </p:stCondLst>
                <p:childTnLst>
                  <p:par>
                    <p:cTn id="3280" fill="hold">
                      <p:stCondLst>
                        <p:cond evt="onClick">
                          <p:tgtEl>
                            <p:spTgt spid="830"/>
                          </p:tgtEl>
                        </p:cond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83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6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3287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3" restart="whenNotActive" nodeType="interactiveSeq" fill="hold">
                <p:stCondLst>
                  <p:cond evt="onClick">
                    <p:tgtEl>
                      <p:spTgt spid="832"/>
                    </p:tgtEl>
                  </p:cond>
                </p:stCondLst>
                <p:childTnLst>
                  <p:par>
                    <p:cTn id="3294" fill="hold">
                      <p:stCondLst>
                        <p:cond evt="onClick">
                          <p:tgtEl>
                            <p:spTgt spid="832"/>
                          </p:tgtEl>
                        </p:cond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7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0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3301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0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5" dur="250" autoRev="1" fill="hold"/>
                                        <p:tgtEl>
                                          <p:spTgt spid="8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2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3313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1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9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3320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23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6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3327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30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3334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0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3341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4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5" dur="250" autoRev="1" fill="hold"/>
                                        <p:tgtEl>
                                          <p:spTgt spid="8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8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2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3353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56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9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3360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6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6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3367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7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3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3374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7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0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3381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8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7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3388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1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4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3395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8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1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3402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05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8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3409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3410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12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5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3416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1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2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3423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42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7" dur="250" autoRev="1" fill="hold"/>
                                        <p:tgtEl>
                                          <p:spTgt spid="8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0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3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48243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1308240" y="762120"/>
          <a:ext cx="6616440" cy="57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762120"/>
                    <a:ext cx="6616440" cy="5740200"/>
                  </a:xfrm>
                  <a:prstGeom prst="rect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9" name=""/>
          <p:cNvSpPr/>
          <p:nvPr/>
        </p:nvSpPr>
        <p:spPr>
          <a:xfrm>
            <a:off x="8244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dd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3"/>
          <a:stretch/>
        </p:blipFill>
        <p:spPr>
          <a:xfrm>
            <a:off x="7772400" y="5157720"/>
            <a:ext cx="137160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4" dur="indefinite" restart="never" nodeType="tmRoot">
          <p:childTnLst>
            <p:seq>
              <p:cTn id="3435" dur="indefinite" nodeType="mainSeq">
                <p:childTnLst>
                  <p:par>
                    <p:cTn id="3436" fill="hold">
                      <p:stCondLst>
                        <p:cond delay="0"/>
                      </p:stCondLst>
                      <p:childTnLst>
                        <p:par>
                          <p:cTn id="3437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39640" y="6021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скачали эту презентацию на сайте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9640" y="2492280"/>
            <a:ext cx="835344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Жакулина Ири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6d5"/>
            </a:gs>
            <a:gs pos="100000">
              <a:srgbClr val="dbdac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02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яснительная записк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692280"/>
            <a:ext cx="842472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нажер содержит 9 упражнений для фронтальной  и индивидуальной работы по отработке навыка правописания парных звонких и глухих согласных на конце сл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ыполнении заданий нужно не перебирать варианты ответов, а обдумывать каждый ответ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   завершает показ слай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жатие кнопки         на каждом слайде – возврат на слайд-ме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 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1 – по букве, обознающей звонкий согласный зву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2 – по выбранному слов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3, 4 – по слову с парной согласной на конце сло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5 – по парной согласной на конце сло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6 – слове по парной согласной, в столбике слов по выбранному слов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7 – по проверочному слову среди группы сл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8 – по выбранной букв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9 – по букве, которая является ошибкой в написании парной согласной на конце сло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10 – по выделенной ячейке, затем в поле со списком          на    , потом по коду правильного ответа (после выполнения теста Фай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→ Выход →     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упражнениях № 1-9 неверный ответ высвечивается красным цв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4360" y="2492280"/>
            <a:ext cx="270000" cy="270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df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4400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500720" y="2205000"/>
            <a:ext cx="271440" cy="271440"/>
          </a:xfrm>
          <a:custGeom>
            <a:avLst/>
            <a:gdLst>
              <a:gd name="textAreaLeft" fmla="*/ 17280 w 271440"/>
              <a:gd name="textAreaRight" fmla="*/ 254160 w 271440"/>
              <a:gd name="textAreaTop" fmla="*/ 17280 h 271440"/>
              <a:gd name="textAreaBottom" fmla="*/ 25416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df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885080" y="5661000"/>
            <a:ext cx="270000" cy="270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df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7740720" y="544500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6d5"/>
            </a:gs>
            <a:gs pos="100000">
              <a:srgbClr val="dbdac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пражнени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539640" y="69228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03280" y="1341360"/>
            <a:ext cx="63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ставка слова подходящего по смыс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539640" y="126828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03280" y="76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черкивание букв, обозначающих парные звонкие   согласные зву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3" action="ppaction://hlinksldjump"/>
          </p:cNvPr>
          <p:cNvSpPr/>
          <p:nvPr/>
        </p:nvSpPr>
        <p:spPr>
          <a:xfrm>
            <a:off x="539640" y="1844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4" action="ppaction://hlinksldjump"/>
          </p:cNvPr>
          <p:cNvSpPr/>
          <p:nvPr/>
        </p:nvSpPr>
        <p:spPr>
          <a:xfrm>
            <a:off x="539640" y="2421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5" action="ppaction://hlinksldjump"/>
          </p:cNvPr>
          <p:cNvSpPr/>
          <p:nvPr/>
        </p:nvSpPr>
        <p:spPr>
          <a:xfrm>
            <a:off x="539640" y="299736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6" action="ppaction://hlinksldjump"/>
          </p:cNvPr>
          <p:cNvSpPr/>
          <p:nvPr/>
        </p:nvSpPr>
        <p:spPr>
          <a:xfrm>
            <a:off x="539640" y="3573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7" action="ppaction://hlinksldjump"/>
          </p:cNvPr>
          <p:cNvSpPr/>
          <p:nvPr/>
        </p:nvSpPr>
        <p:spPr>
          <a:xfrm>
            <a:off x="539640" y="414972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8" action="ppaction://hlinksldjump"/>
          </p:cNvPr>
          <p:cNvSpPr/>
          <p:nvPr/>
        </p:nvSpPr>
        <p:spPr>
          <a:xfrm>
            <a:off x="539640" y="472428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9"/>
          </p:cNvPr>
          <p:cNvSpPr/>
          <p:nvPr/>
        </p:nvSpPr>
        <p:spPr>
          <a:xfrm>
            <a:off x="539640" y="5300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91628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ыписывание слов, требующих проверки при написан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03280" y="2421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чёркивание слов с парными звонкими и глухими согласными на конце слов, которые нужно проверя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20920" y="314172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чёркивание орфограммы–парная согласная на конце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20920" y="3573360"/>
            <a:ext cx="77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черкивание орфограммы и нахождение проверочного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4292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бор проверочного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420920" y="479736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ставка пропущенной парной согласной на конце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03280" y="5300640"/>
            <a:ext cx="69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нахождение ошибок в написании парной согласной на конц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endshow"/>
            <a:hlinkClick r:id="rId10"/>
          </p:cNvPr>
          <p:cNvSpPr/>
          <p:nvPr/>
        </p:nvSpPr>
        <p:spPr>
          <a:xfrm>
            <a:off x="8442360" y="612936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e5e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11"/>
          </p:cNvPr>
          <p:cNvSpPr/>
          <p:nvPr/>
        </p:nvSpPr>
        <p:spPr>
          <a:xfrm>
            <a:off x="539640" y="5877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6021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тест «Проверь себ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71640" y="277920"/>
            <a:ext cx="7651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.Кликни левой кнопкой мыши и подчеркни в стихотворении буквы, которые обозначают парный звонкий согласный зву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0" y="1808280"/>
            <a:ext cx="36036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2092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1128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9236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4164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8128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128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2092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9236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4164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1164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6236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3236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0236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47200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4200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6272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9272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3272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0236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7236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4236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1200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8200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62000" y="2708280"/>
            <a:ext cx="36036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7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41640" y="27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41128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8128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5128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0200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7200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4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1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8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75128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0236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7200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4200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12000" y="27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9236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62000" y="3608280"/>
            <a:ext cx="36036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062000" y="4508640"/>
            <a:ext cx="36036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2092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41640" y="3608280"/>
            <a:ext cx="36036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200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7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4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9236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4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8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5128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272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92720" y="3608280"/>
            <a:ext cx="271440" cy="4492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4200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1200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8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5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82308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9308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6272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3272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209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6200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3200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6812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512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209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7184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432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0132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829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529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2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9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56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1200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6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3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0236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5164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230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9930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32720" y="450864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630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732720" y="5319720"/>
            <a:ext cx="197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А. Пу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172360" y="6039000"/>
            <a:ext cx="630360" cy="45072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30202" h="21600">
                <a:moveTo>
                  <a:pt x="0" y="0"/>
                </a:moveTo>
                <a:lnTo>
                  <a:pt x="30202" y="0"/>
                </a:lnTo>
                <a:lnTo>
                  <a:pt x="30202" y="21600"/>
                </a:lnTo>
                <a:lnTo>
                  <a:pt x="0" y="21600"/>
                </a:lnTo>
                <a:close/>
              </a:path>
              <a:path fill="lightenLess" w="30202" h="21600">
                <a:moveTo>
                  <a:pt x="0" y="0"/>
                </a:moveTo>
                <a:lnTo>
                  <a:pt x="30202" y="0"/>
                </a:lnTo>
                <a:lnTo>
                  <a:pt x="28802" y="1400"/>
                </a:lnTo>
                <a:lnTo>
                  <a:pt x="1400" y="1400"/>
                </a:lnTo>
                <a:close/>
              </a:path>
              <a:path fill="darken" w="30202" h="21600">
                <a:moveTo>
                  <a:pt x="30202" y="0"/>
                </a:moveTo>
                <a:lnTo>
                  <a:pt x="30202" y="21600"/>
                </a:lnTo>
                <a:lnTo>
                  <a:pt x="28802" y="20200"/>
                </a:lnTo>
                <a:lnTo>
                  <a:pt x="28802" y="1400"/>
                </a:lnTo>
                <a:close/>
              </a:path>
              <a:path fill="darkenLess" w="30202" h="21600">
                <a:moveTo>
                  <a:pt x="30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2" y="20200"/>
                </a:lnTo>
                <a:close/>
              </a:path>
              <a:path fill="lighten" w="30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2" h="21600">
                <a:moveTo>
                  <a:pt x="8095" y="7493"/>
                </a:moveTo>
                <a:lnTo>
                  <a:pt x="11602" y="7493"/>
                </a:lnTo>
                <a:lnTo>
                  <a:pt x="11602" y="12828"/>
                </a:lnTo>
                <a:cubicBezTo>
                  <a:pt x="11602" y="13751"/>
                  <a:pt x="12403" y="14482"/>
                  <a:pt x="13439" y="14482"/>
                </a:cubicBezTo>
                <a:lnTo>
                  <a:pt x="15101" y="14482"/>
                </a:lnTo>
                <a:cubicBezTo>
                  <a:pt x="16137" y="14482"/>
                  <a:pt x="16938" y="13751"/>
                  <a:pt x="16938" y="12828"/>
                </a:cubicBezTo>
                <a:lnTo>
                  <a:pt x="16938" y="7493"/>
                </a:lnTo>
                <a:lnTo>
                  <a:pt x="15101" y="7493"/>
                </a:lnTo>
                <a:lnTo>
                  <a:pt x="18609" y="3985"/>
                </a:lnTo>
                <a:lnTo>
                  <a:pt x="22282" y="7493"/>
                </a:lnTo>
                <a:lnTo>
                  <a:pt x="20445" y="7493"/>
                </a:lnTo>
                <a:lnTo>
                  <a:pt x="20445" y="12828"/>
                </a:lnTo>
                <a:cubicBezTo>
                  <a:pt x="20445" y="15596"/>
                  <a:pt x="17869" y="18155"/>
                  <a:pt x="15101" y="18155"/>
                </a:cubicBezTo>
                <a:lnTo>
                  <a:pt x="13439" y="18155"/>
                </a:lnTo>
                <a:cubicBezTo>
                  <a:pt x="10671" y="18155"/>
                  <a:pt x="8095" y="15596"/>
                  <a:pt x="8095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150920" y="5229360"/>
            <a:ext cx="900000" cy="1276200"/>
          </a:xfrm>
          <a:prstGeom prst="rect">
            <a:avLst/>
          </a:prstGeom>
          <a:ln w="0">
            <a:noFill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4" name=""/>
          <p:cNvSpPr txBox="1"/>
          <p:nvPr/>
        </p:nvSpPr>
        <p:spPr>
          <a:xfrm>
            <a:off x="3311640" y="540864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81640" y="2708280"/>
            <a:ext cx="18108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02000" y="6039000"/>
            <a:ext cx="41418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00"/>
                </a:solidFill>
                <a:latin typeface="Arial"/>
              </a:rPr>
              <a:t>Подчеркни в стихотворе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8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1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912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1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9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0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047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1280" y="367920"/>
            <a:ext cx="71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Допиши предложения, выбрав подходящее по смыслу слово и кликнув по нему кнопкой мыш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50920" y="1808280"/>
            <a:ext cx="5491440" cy="990360"/>
          </a:xfrm>
          <a:prstGeom prst="horizontalScroll">
            <a:avLst>
              <a:gd name="adj" fmla="val 12500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реке плывёт 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50920" y="4149720"/>
            <a:ext cx="5581800" cy="990720"/>
          </a:xfrm>
          <a:prstGeom prst="horizontalScroll">
            <a:avLst>
              <a:gd name="adj" fmla="val 12500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ов корень, таков и 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71640" y="3068640"/>
            <a:ext cx="1530360" cy="647640"/>
          </a:xfrm>
          <a:prstGeom prst="roundRect">
            <a:avLst>
              <a:gd name="adj" fmla="val 16667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81640" y="3068640"/>
            <a:ext cx="1530360" cy="647640"/>
          </a:xfrm>
          <a:prstGeom prst="roundRect">
            <a:avLst>
              <a:gd name="adj" fmla="val 16667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71640" y="5408640"/>
            <a:ext cx="1528920" cy="647640"/>
          </a:xfrm>
          <a:prstGeom prst="roundRect">
            <a:avLst>
              <a:gd name="adj" fmla="val 16667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81640" y="5408640"/>
            <a:ext cx="1441440" cy="647640"/>
          </a:xfrm>
          <a:prstGeom prst="roundRect">
            <a:avLst>
              <a:gd name="adj" fmla="val 16667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502000" y="315900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111640" y="5499000"/>
            <a:ext cx="221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42000" y="1989000"/>
            <a:ext cx="11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923080" y="4329000"/>
            <a:ext cx="171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172360" y="6039000"/>
            <a:ext cx="630360" cy="45072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30202" h="21600">
                <a:moveTo>
                  <a:pt x="0" y="0"/>
                </a:moveTo>
                <a:lnTo>
                  <a:pt x="30202" y="0"/>
                </a:lnTo>
                <a:lnTo>
                  <a:pt x="30202" y="21600"/>
                </a:lnTo>
                <a:lnTo>
                  <a:pt x="0" y="21600"/>
                </a:lnTo>
                <a:close/>
              </a:path>
              <a:path fill="lightenLess" w="30202" h="21600">
                <a:moveTo>
                  <a:pt x="0" y="0"/>
                </a:moveTo>
                <a:lnTo>
                  <a:pt x="30202" y="0"/>
                </a:lnTo>
                <a:lnTo>
                  <a:pt x="28802" y="1400"/>
                </a:lnTo>
                <a:lnTo>
                  <a:pt x="1400" y="1400"/>
                </a:lnTo>
                <a:close/>
              </a:path>
              <a:path fill="darken" w="30202" h="21600">
                <a:moveTo>
                  <a:pt x="30202" y="0"/>
                </a:moveTo>
                <a:lnTo>
                  <a:pt x="30202" y="21600"/>
                </a:lnTo>
                <a:lnTo>
                  <a:pt x="28802" y="20200"/>
                </a:lnTo>
                <a:lnTo>
                  <a:pt x="28802" y="1400"/>
                </a:lnTo>
                <a:close/>
              </a:path>
              <a:path fill="darkenLess" w="30202" h="21600">
                <a:moveTo>
                  <a:pt x="30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2" y="20200"/>
                </a:lnTo>
                <a:close/>
              </a:path>
              <a:path fill="lighten" w="30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2" h="21600">
                <a:moveTo>
                  <a:pt x="8095" y="7493"/>
                </a:moveTo>
                <a:lnTo>
                  <a:pt x="11602" y="7493"/>
                </a:lnTo>
                <a:lnTo>
                  <a:pt x="11602" y="12828"/>
                </a:lnTo>
                <a:cubicBezTo>
                  <a:pt x="11602" y="13751"/>
                  <a:pt x="12403" y="14482"/>
                  <a:pt x="13439" y="14482"/>
                </a:cubicBezTo>
                <a:lnTo>
                  <a:pt x="15101" y="14482"/>
                </a:lnTo>
                <a:cubicBezTo>
                  <a:pt x="16137" y="14482"/>
                  <a:pt x="16938" y="13751"/>
                  <a:pt x="16938" y="12828"/>
                </a:cubicBezTo>
                <a:lnTo>
                  <a:pt x="16938" y="7493"/>
                </a:lnTo>
                <a:lnTo>
                  <a:pt x="15101" y="7493"/>
                </a:lnTo>
                <a:lnTo>
                  <a:pt x="18609" y="3985"/>
                </a:lnTo>
                <a:lnTo>
                  <a:pt x="22282" y="7493"/>
                </a:lnTo>
                <a:lnTo>
                  <a:pt x="20445" y="7493"/>
                </a:lnTo>
                <a:lnTo>
                  <a:pt x="20445" y="12828"/>
                </a:lnTo>
                <a:cubicBezTo>
                  <a:pt x="20445" y="15596"/>
                  <a:pt x="17869" y="18155"/>
                  <a:pt x="15101" y="18155"/>
                </a:cubicBezTo>
                <a:lnTo>
                  <a:pt x="13439" y="18155"/>
                </a:lnTo>
                <a:cubicBezTo>
                  <a:pt x="10671" y="18155"/>
                  <a:pt x="8095" y="15596"/>
                  <a:pt x="8095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128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3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511280" y="549360"/>
            <a:ext cx="59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Кликни кнопкой мыши и выпиши только те слова, которые нужно провер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11280" y="3159000"/>
            <a:ext cx="1079640" cy="54000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149720"/>
            <a:ext cx="1081080" cy="5414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т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62720" y="2259000"/>
            <a:ext cx="10792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гри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20920" y="2259000"/>
            <a:ext cx="10792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шка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02000" y="414972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е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32720" y="225900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а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20920" y="4149720"/>
            <a:ext cx="10792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утю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02000" y="225900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32720" y="414972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три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41280" y="540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41640" y="5408640"/>
            <a:ext cx="10810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02360" y="5408640"/>
            <a:ext cx="98892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гри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681280" y="5408640"/>
            <a:ext cx="10810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шка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5408640"/>
            <a:ext cx="10792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е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32720" y="540864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три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172360" y="6039000"/>
            <a:ext cx="630360" cy="45072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30202" h="21600">
                <a:moveTo>
                  <a:pt x="0" y="0"/>
                </a:moveTo>
                <a:lnTo>
                  <a:pt x="30202" y="0"/>
                </a:lnTo>
                <a:lnTo>
                  <a:pt x="30202" y="21600"/>
                </a:lnTo>
                <a:lnTo>
                  <a:pt x="0" y="21600"/>
                </a:lnTo>
                <a:close/>
              </a:path>
              <a:path fill="lightenLess" w="30202" h="21600">
                <a:moveTo>
                  <a:pt x="0" y="0"/>
                </a:moveTo>
                <a:lnTo>
                  <a:pt x="30202" y="0"/>
                </a:lnTo>
                <a:lnTo>
                  <a:pt x="28802" y="1400"/>
                </a:lnTo>
                <a:lnTo>
                  <a:pt x="1400" y="1400"/>
                </a:lnTo>
                <a:close/>
              </a:path>
              <a:path fill="darken" w="30202" h="21600">
                <a:moveTo>
                  <a:pt x="30202" y="0"/>
                </a:moveTo>
                <a:lnTo>
                  <a:pt x="30202" y="21600"/>
                </a:lnTo>
                <a:lnTo>
                  <a:pt x="28802" y="20200"/>
                </a:lnTo>
                <a:lnTo>
                  <a:pt x="28802" y="1400"/>
                </a:lnTo>
                <a:close/>
              </a:path>
              <a:path fill="darkenLess" w="30202" h="21600">
                <a:moveTo>
                  <a:pt x="30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2" y="20200"/>
                </a:lnTo>
                <a:close/>
              </a:path>
              <a:path fill="lighten" w="30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2" h="21600">
                <a:moveTo>
                  <a:pt x="8095" y="7493"/>
                </a:moveTo>
                <a:lnTo>
                  <a:pt x="11602" y="7493"/>
                </a:lnTo>
                <a:lnTo>
                  <a:pt x="11602" y="12828"/>
                </a:lnTo>
                <a:cubicBezTo>
                  <a:pt x="11602" y="13751"/>
                  <a:pt x="12403" y="14482"/>
                  <a:pt x="13439" y="14482"/>
                </a:cubicBezTo>
                <a:lnTo>
                  <a:pt x="15101" y="14482"/>
                </a:lnTo>
                <a:cubicBezTo>
                  <a:pt x="16137" y="14482"/>
                  <a:pt x="16938" y="13751"/>
                  <a:pt x="16938" y="12828"/>
                </a:cubicBezTo>
                <a:lnTo>
                  <a:pt x="16938" y="7493"/>
                </a:lnTo>
                <a:lnTo>
                  <a:pt x="15101" y="7493"/>
                </a:lnTo>
                <a:lnTo>
                  <a:pt x="18609" y="3985"/>
                </a:lnTo>
                <a:lnTo>
                  <a:pt x="22282" y="7493"/>
                </a:lnTo>
                <a:lnTo>
                  <a:pt x="20445" y="7493"/>
                </a:lnTo>
                <a:lnTo>
                  <a:pt x="20445" y="12828"/>
                </a:lnTo>
                <a:cubicBezTo>
                  <a:pt x="20445" y="15596"/>
                  <a:pt x="17869" y="18155"/>
                  <a:pt x="15101" y="18155"/>
                </a:cubicBezTo>
                <a:lnTo>
                  <a:pt x="13439" y="18155"/>
                </a:lnTo>
                <a:cubicBezTo>
                  <a:pt x="10671" y="18155"/>
                  <a:pt x="8095" y="15596"/>
                  <a:pt x="8095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51640" y="3159000"/>
            <a:ext cx="1079640" cy="54000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ьв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81640" y="3159000"/>
            <a:ext cx="1079280" cy="54000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ма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7632720" y="728640"/>
            <a:ext cx="114300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6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177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5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86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195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9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1219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0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4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255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5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6823080" y="1898640"/>
            <a:ext cx="2616120" cy="4349880"/>
            <a:chOff x="6823080" y="1898640"/>
            <a:chExt cx="2616120" cy="4349880"/>
          </a:xfrm>
        </p:grpSpPr>
        <p:sp>
          <p:nvSpPr>
            <p:cNvPr id="520" name=""/>
            <p:cNvSpPr/>
            <p:nvPr/>
          </p:nvSpPr>
          <p:spPr>
            <a:xfrm>
              <a:off x="7272360" y="1898640"/>
              <a:ext cx="1847880" cy="604800"/>
            </a:xfrm>
            <a:prstGeom prst="cloudCallout">
              <a:avLst>
                <a:gd name="adj1" fmla="val -20101"/>
                <a:gd name="adj2" fmla="val 72833"/>
              </a:avLst>
            </a:prstGeom>
            <a:solidFill>
              <a:srgbClr val="e1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Подумай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6823080" y="2619360"/>
              <a:ext cx="2616120" cy="362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"/>
          <p:cNvSpPr/>
          <p:nvPr/>
        </p:nvSpPr>
        <p:spPr>
          <a:xfrm>
            <a:off x="1601640" y="998640"/>
            <a:ext cx="5940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4.В тексте кликни кнопкой мыши и подчеркни слова со звонкими и глухими согласными на конце слова, которые нужно проверять при их написан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513640" y="6219720"/>
            <a:ext cx="630360" cy="45108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78" h="21600">
                <a:moveTo>
                  <a:pt x="0" y="0"/>
                </a:moveTo>
                <a:lnTo>
                  <a:pt x="30178" y="0"/>
                </a:lnTo>
                <a:lnTo>
                  <a:pt x="30178" y="21600"/>
                </a:lnTo>
                <a:lnTo>
                  <a:pt x="0" y="21600"/>
                </a:lnTo>
                <a:close/>
              </a:path>
              <a:path fill="lightenLess" w="30178" h="21600">
                <a:moveTo>
                  <a:pt x="0" y="0"/>
                </a:moveTo>
                <a:lnTo>
                  <a:pt x="30178" y="0"/>
                </a:lnTo>
                <a:lnTo>
                  <a:pt x="28778" y="1400"/>
                </a:lnTo>
                <a:lnTo>
                  <a:pt x="1400" y="1400"/>
                </a:lnTo>
                <a:close/>
              </a:path>
              <a:path fill="darken" w="30178" h="21600">
                <a:moveTo>
                  <a:pt x="30178" y="0"/>
                </a:moveTo>
                <a:lnTo>
                  <a:pt x="30178" y="21600"/>
                </a:lnTo>
                <a:lnTo>
                  <a:pt x="28778" y="20200"/>
                </a:lnTo>
                <a:lnTo>
                  <a:pt x="28778" y="1400"/>
                </a:lnTo>
                <a:close/>
              </a:path>
              <a:path fill="darkenLess" w="30178" h="21600">
                <a:moveTo>
                  <a:pt x="30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78" y="20200"/>
                </a:lnTo>
                <a:close/>
              </a:path>
              <a:path fill="lighten" w="30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78" h="21600">
                <a:moveTo>
                  <a:pt x="8083" y="7493"/>
                </a:moveTo>
                <a:lnTo>
                  <a:pt x="11590" y="7493"/>
                </a:lnTo>
                <a:lnTo>
                  <a:pt x="11590" y="12828"/>
                </a:lnTo>
                <a:cubicBezTo>
                  <a:pt x="11590" y="13751"/>
                  <a:pt x="12391" y="14482"/>
                  <a:pt x="13427" y="14482"/>
                </a:cubicBezTo>
                <a:lnTo>
                  <a:pt x="15089" y="14482"/>
                </a:lnTo>
                <a:cubicBezTo>
                  <a:pt x="16125" y="14482"/>
                  <a:pt x="16925" y="13751"/>
                  <a:pt x="16925" y="12828"/>
                </a:cubicBezTo>
                <a:lnTo>
                  <a:pt x="16925" y="7493"/>
                </a:lnTo>
                <a:lnTo>
                  <a:pt x="15089" y="7493"/>
                </a:lnTo>
                <a:lnTo>
                  <a:pt x="18597" y="3985"/>
                </a:lnTo>
                <a:lnTo>
                  <a:pt x="22270" y="7493"/>
                </a:lnTo>
                <a:lnTo>
                  <a:pt x="20433" y="7493"/>
                </a:lnTo>
                <a:lnTo>
                  <a:pt x="20433" y="12828"/>
                </a:lnTo>
                <a:cubicBezTo>
                  <a:pt x="20433" y="15596"/>
                  <a:pt x="17857" y="18155"/>
                  <a:pt x="15089" y="18155"/>
                </a:cubicBezTo>
                <a:lnTo>
                  <a:pt x="13427" y="18155"/>
                </a:lnTo>
                <a:cubicBezTo>
                  <a:pt x="10659" y="18155"/>
                  <a:pt x="8083" y="15596"/>
                  <a:pt x="8083" y="12828"/>
                </a:cubicBezTo>
                <a:close/>
              </a:path>
            </a:pathLst>
          </a:custGeom>
          <a:solidFill>
            <a:srgbClr val="d2e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2360" y="2619360"/>
            <a:ext cx="270000" cy="358920"/>
          </a:xfrm>
          <a:custGeom>
            <a:avLst/>
            <a:gdLst>
              <a:gd name="textAreaLeft" fmla="*/ 12960 w 270000"/>
              <a:gd name="textAreaRight" fmla="*/ 257040 w 270000"/>
              <a:gd name="textAreaTop" fmla="*/ 12960 h 358920"/>
              <a:gd name="textAreaBottom" fmla="*/ 345960 h 358920"/>
            </a:gdLst>
            <a:ahLst/>
            <a:rect l="textAreaLeft" t="textAreaTop" r="textAreaRight" b="textAreaBottom"/>
            <a:pathLst>
              <a:path w="21600" h="28704">
                <a:moveTo>
                  <a:pt x="3600" y="0"/>
                </a:moveTo>
                <a:arcTo wR="3600" hR="3600" stAng="16200000" swAng="-5400000"/>
                <a:lnTo>
                  <a:pt x="0" y="25104"/>
                </a:lnTo>
                <a:arcTo wR="3600" hR="3600" stAng="10800000" swAng="-5400000"/>
                <a:lnTo>
                  <a:pt x="18000" y="287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132000" y="261936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51280" y="2619360"/>
            <a:ext cx="90360" cy="358920"/>
          </a:xfrm>
          <a:custGeom>
            <a:avLst/>
            <a:gdLst>
              <a:gd name="textAreaLeft" fmla="*/ 4320 w 90360"/>
              <a:gd name="textAreaRight" fmla="*/ 86040 w 90360"/>
              <a:gd name="textAreaTop" fmla="*/ 4320 h 358920"/>
              <a:gd name="textAreaBottom" fmla="*/ 354600 h 358920"/>
            </a:gdLst>
            <a:ahLst/>
            <a:rect l="textAreaLeft" t="textAreaTop" r="textAreaRight" b="textAreaBottom"/>
            <a:pathLst>
              <a:path w="21600" h="85543">
                <a:moveTo>
                  <a:pt x="3600" y="0"/>
                </a:moveTo>
                <a:arcTo wR="3600" hR="3600" stAng="16200000" swAng="-5400000"/>
                <a:lnTo>
                  <a:pt x="0" y="81943"/>
                </a:lnTo>
                <a:arcTo wR="3600" hR="3600" stAng="10800000" swAng="-5400000"/>
                <a:lnTo>
                  <a:pt x="18000" y="85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11640" y="2619360"/>
            <a:ext cx="271440" cy="358920"/>
          </a:xfrm>
          <a:custGeom>
            <a:avLst/>
            <a:gdLst>
              <a:gd name="textAreaLeft" fmla="*/ 12960 w 271440"/>
              <a:gd name="textAreaRight" fmla="*/ 258480 w 271440"/>
              <a:gd name="textAreaTop" fmla="*/ 12960 h 358920"/>
              <a:gd name="textAreaBottom" fmla="*/ 345960 h 358920"/>
            </a:gdLst>
            <a:ahLst/>
            <a:rect l="textAreaLeft" t="textAreaTop" r="textAreaRight" b="textAreaBottom"/>
            <a:pathLst>
              <a:path w="21600" h="28552">
                <a:moveTo>
                  <a:pt x="3600" y="0"/>
                </a:moveTo>
                <a:arcTo wR="3600" hR="3600" stAng="16200000" swAng="-5400000"/>
                <a:lnTo>
                  <a:pt x="0" y="24952"/>
                </a:lnTo>
                <a:arcTo wR="3600" hR="3600" stAng="10800000" swAng="-5400000"/>
                <a:lnTo>
                  <a:pt x="18000" y="28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62360" y="2619360"/>
            <a:ext cx="90036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42000" y="2619360"/>
            <a:ext cx="10810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ып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12000" y="2619360"/>
            <a:ext cx="63036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542360" y="2619360"/>
            <a:ext cx="90360" cy="358920"/>
          </a:xfrm>
          <a:custGeom>
            <a:avLst/>
            <a:gdLst>
              <a:gd name="textAreaLeft" fmla="*/ 4320 w 90360"/>
              <a:gd name="textAreaRight" fmla="*/ 86040 w 90360"/>
              <a:gd name="textAreaTop" fmla="*/ 4320 h 358920"/>
              <a:gd name="textAreaBottom" fmla="*/ 354600 h 358920"/>
            </a:gdLst>
            <a:ahLst/>
            <a:rect l="textAreaLeft" t="textAreaTop" r="textAreaRight" b="textAreaBottom"/>
            <a:pathLst>
              <a:path w="21600" h="85543">
                <a:moveTo>
                  <a:pt x="3600" y="0"/>
                </a:moveTo>
                <a:arcTo wR="3600" hR="3600" stAng="16200000" swAng="-5400000"/>
                <a:lnTo>
                  <a:pt x="0" y="81943"/>
                </a:lnTo>
                <a:arcTo wR="3600" hR="3600" stAng="10800000" swAng="-5400000"/>
                <a:lnTo>
                  <a:pt x="18000" y="85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92360" y="315900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1280" y="3159000"/>
            <a:ext cx="16210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ан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72000" y="3159000"/>
            <a:ext cx="54000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12000" y="3159000"/>
            <a:ext cx="90360" cy="358920"/>
          </a:xfrm>
          <a:custGeom>
            <a:avLst/>
            <a:gdLst>
              <a:gd name="textAreaLeft" fmla="*/ 4320 w 90360"/>
              <a:gd name="textAreaRight" fmla="*/ 86040 w 90360"/>
              <a:gd name="textAreaTop" fmla="*/ 4320 h 358920"/>
              <a:gd name="textAreaBottom" fmla="*/ 354600 h 358920"/>
            </a:gdLst>
            <a:ahLst/>
            <a:rect l="textAreaLeft" t="textAreaTop" r="textAreaRight" b="textAreaBottom"/>
            <a:pathLst>
              <a:path w="21600" h="85543">
                <a:moveTo>
                  <a:pt x="3600" y="0"/>
                </a:moveTo>
                <a:arcTo wR="3600" hR="3600" stAng="16200000" swAng="-5400000"/>
                <a:lnTo>
                  <a:pt x="0" y="81943"/>
                </a:lnTo>
                <a:arcTo wR="3600" hR="3600" stAng="10800000" swAng="-5400000"/>
                <a:lnTo>
                  <a:pt x="18000" y="85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92360" y="3789360"/>
            <a:ext cx="98892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3789360"/>
            <a:ext cx="13510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тро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72000" y="3789360"/>
            <a:ext cx="72072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92360" y="4419720"/>
            <a:ext cx="45072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11640" y="4419720"/>
            <a:ext cx="126036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луб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932360" y="4419720"/>
            <a:ext cx="71928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51640" y="4419720"/>
            <a:ext cx="90360" cy="358560"/>
          </a:xfrm>
          <a:custGeom>
            <a:avLst/>
            <a:gdLst>
              <a:gd name="textAreaLeft" fmla="*/ 4320 w 90360"/>
              <a:gd name="textAreaRight" fmla="*/ 86040 w 90360"/>
              <a:gd name="textAreaTop" fmla="*/ 4320 h 358560"/>
              <a:gd name="textAreaBottom" fmla="*/ 354240 h 358560"/>
            </a:gdLst>
            <a:ahLst/>
            <a:rect l="textAreaLeft" t="textAreaTop" r="textAreaRight" b="textAreaBottom"/>
            <a:pathLst>
              <a:path w="21600" h="85457">
                <a:moveTo>
                  <a:pt x="3600" y="0"/>
                </a:moveTo>
                <a:arcTo wR="3600" hR="3600" stAng="16200000" swAng="-5400000"/>
                <a:lnTo>
                  <a:pt x="0" y="81857"/>
                </a:lnTo>
                <a:arcTo wR="3600" hR="3600" stAng="10800000" swAng="-5400000"/>
                <a:lnTo>
                  <a:pt x="18000" y="854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32360" y="5049720"/>
            <a:ext cx="2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11640" y="5049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Шу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11640" y="504972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агду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92720" y="5049720"/>
            <a:ext cx="2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7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9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280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8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92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3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304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343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4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55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9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60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372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7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1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432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241280" y="1962720"/>
            <a:ext cx="540000" cy="581400"/>
          </a:xfrm>
          <a:prstGeom prst="rect">
            <a:avLst/>
          </a:prstGeom>
          <a:blipFill rotWithShape="0">
            <a:blip r:embed="rId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41280" y="368280"/>
            <a:ext cx="711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Кликни кнопкой мыши и подчеркни парные согласные, которые при написании нужно провер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81280" y="1962720"/>
            <a:ext cx="539640" cy="58140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20920" y="1962720"/>
            <a:ext cx="539640" cy="581400"/>
          </a:xfrm>
          <a:prstGeom prst="rect">
            <a:avLst/>
          </a:prstGeom>
          <a:blipFill rotWithShape="0">
            <a:blip r:embed="rId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62360" y="1962720"/>
            <a:ext cx="539640" cy="581400"/>
          </a:xfrm>
          <a:prstGeom prst="rect">
            <a:avLst/>
          </a:prstGeom>
          <a:blipFill rotWithShape="0">
            <a:blip r:embed="rId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02000" y="1962720"/>
            <a:ext cx="539640" cy="581400"/>
          </a:xfrm>
          <a:prstGeom prst="rect">
            <a:avLst/>
          </a:prstGeom>
          <a:blipFill rotWithShape="0">
            <a:blip r:embed="rId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41640" y="1962720"/>
            <a:ext cx="540000" cy="581400"/>
          </a:xfrm>
          <a:prstGeom prst="rect">
            <a:avLst/>
          </a:prstGeom>
          <a:blipFill rotWithShape="0">
            <a:blip r:embed="rId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481640" y="1962720"/>
            <a:ext cx="539640" cy="581400"/>
          </a:xfrm>
          <a:prstGeom prst="rect">
            <a:avLst/>
          </a:prstGeom>
          <a:blipFill rotWithShape="0">
            <a:blip r:embed="rId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41280" y="2862720"/>
            <a:ext cx="540000" cy="581400"/>
          </a:xfrm>
          <a:prstGeom prst="rect">
            <a:avLst/>
          </a:prstGeom>
          <a:blipFill rotWithShape="0">
            <a:blip r:embed="rId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81280" y="2862720"/>
            <a:ext cx="539640" cy="581400"/>
          </a:xfrm>
          <a:prstGeom prst="rect">
            <a:avLst/>
          </a:prstGeom>
          <a:blipFill rotWithShape="0">
            <a:blip r:embed="rId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320920" y="2862720"/>
            <a:ext cx="539640" cy="581400"/>
          </a:xfrm>
          <a:prstGeom prst="rect">
            <a:avLst/>
          </a:prstGeom>
          <a:blipFill rotWithShape="0">
            <a:blip r:embed="rId1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862360" y="2862720"/>
            <a:ext cx="539640" cy="581400"/>
          </a:xfrm>
          <a:prstGeom prst="rect">
            <a:avLst/>
          </a:prstGeom>
          <a:blipFill rotWithShape="0">
            <a:blip r:embed="rId1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02000" y="2862720"/>
            <a:ext cx="539640" cy="581400"/>
          </a:xfrm>
          <a:prstGeom prst="rect">
            <a:avLst/>
          </a:prstGeom>
          <a:blipFill rotWithShape="0">
            <a:blip r:embed="rId1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72360" y="3792960"/>
            <a:ext cx="539640" cy="581400"/>
          </a:xfrm>
          <a:prstGeom prst="rect">
            <a:avLst/>
          </a:prstGeom>
          <a:blipFill rotWithShape="0">
            <a:blip r:embed="rId1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12000" y="3792960"/>
            <a:ext cx="539640" cy="581400"/>
          </a:xfrm>
          <a:prstGeom prst="rect">
            <a:avLst/>
          </a:prstGeom>
          <a:blipFill rotWithShape="0">
            <a:blip r:embed="rId1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451640" y="3792960"/>
            <a:ext cx="540000" cy="581400"/>
          </a:xfrm>
          <a:prstGeom prst="rect">
            <a:avLst/>
          </a:prstGeom>
          <a:blipFill rotWithShape="0">
            <a:blip r:embed="rId1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2360" y="2892960"/>
            <a:ext cx="539640" cy="581400"/>
          </a:xfrm>
          <a:prstGeom prst="rect">
            <a:avLst/>
          </a:prstGeom>
          <a:blipFill rotWithShape="0">
            <a:blip r:embed="rId1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12000" y="2892960"/>
            <a:ext cx="539640" cy="581400"/>
          </a:xfrm>
          <a:prstGeom prst="rect">
            <a:avLst/>
          </a:prstGeom>
          <a:blipFill rotWithShape="0">
            <a:blip r:embed="rId1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51640" y="2892960"/>
            <a:ext cx="540000" cy="581400"/>
          </a:xfrm>
          <a:prstGeom prst="rect">
            <a:avLst/>
          </a:prstGeom>
          <a:blipFill rotWithShape="0">
            <a:blip r:embed="rId1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372360" y="4692960"/>
            <a:ext cx="539640" cy="581400"/>
          </a:xfrm>
          <a:prstGeom prst="rect">
            <a:avLst/>
          </a:prstGeom>
          <a:blipFill rotWithShape="0">
            <a:blip r:embed="rId1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912000" y="4692960"/>
            <a:ext cx="539640" cy="581400"/>
          </a:xfrm>
          <a:prstGeom prst="rect">
            <a:avLst/>
          </a:prstGeom>
          <a:blipFill rotWithShape="0">
            <a:blip r:embed="rId2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451640" y="4692960"/>
            <a:ext cx="540000" cy="581400"/>
          </a:xfrm>
          <a:prstGeom prst="rect">
            <a:avLst/>
          </a:prstGeom>
          <a:blipFill rotWithShape="0">
            <a:blip r:embed="rId2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72360" y="1992600"/>
            <a:ext cx="539640" cy="581400"/>
          </a:xfrm>
          <a:prstGeom prst="rect">
            <a:avLst/>
          </a:prstGeom>
          <a:blipFill rotWithShape="0">
            <a:blip r:embed="rId2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912000" y="1992600"/>
            <a:ext cx="539640" cy="581400"/>
          </a:xfrm>
          <a:prstGeom prst="rect">
            <a:avLst/>
          </a:prstGeom>
          <a:blipFill rotWithShape="0">
            <a:blip r:embed="rId2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51640" y="1992600"/>
            <a:ext cx="540000" cy="581400"/>
          </a:xfrm>
          <a:prstGeom prst="rect">
            <a:avLst/>
          </a:prstGeom>
          <a:blipFill rotWithShape="0">
            <a:blip r:embed="rId2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72360" y="5593320"/>
            <a:ext cx="539640" cy="581400"/>
          </a:xfrm>
          <a:prstGeom prst="rect">
            <a:avLst/>
          </a:prstGeom>
          <a:blipFill rotWithShape="0">
            <a:blip r:embed="rId2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912000" y="5593320"/>
            <a:ext cx="539640" cy="581400"/>
          </a:xfrm>
          <a:prstGeom prst="rect">
            <a:avLst/>
          </a:prstGeom>
          <a:blipFill rotWithShape="0">
            <a:blip r:embed="rId2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451640" y="5593320"/>
            <a:ext cx="540000" cy="581400"/>
          </a:xfrm>
          <a:prstGeom prst="rect">
            <a:avLst/>
          </a:prstGeom>
          <a:blipFill rotWithShape="0">
            <a:blip r:embed="rId2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41280" y="3762720"/>
            <a:ext cx="540000" cy="581400"/>
          </a:xfrm>
          <a:prstGeom prst="rect">
            <a:avLst/>
          </a:prstGeom>
          <a:blipFill rotWithShape="0">
            <a:blip r:embed="rId2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81280" y="3762720"/>
            <a:ext cx="539640" cy="581400"/>
          </a:xfrm>
          <a:prstGeom prst="rect">
            <a:avLst/>
          </a:prstGeom>
          <a:blipFill rotWithShape="0">
            <a:blip r:embed="rId2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20920" y="3762720"/>
            <a:ext cx="539640" cy="581400"/>
          </a:xfrm>
          <a:prstGeom prst="rect">
            <a:avLst/>
          </a:prstGeom>
          <a:blipFill rotWithShape="0">
            <a:blip r:embed="rId3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762720"/>
            <a:ext cx="539640" cy="581400"/>
          </a:xfrm>
          <a:prstGeom prst="rect">
            <a:avLst/>
          </a:prstGeom>
          <a:blipFill rotWithShape="0">
            <a:blip r:embed="rId3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02000" y="3762720"/>
            <a:ext cx="539640" cy="581400"/>
          </a:xfrm>
          <a:prstGeom prst="rect">
            <a:avLst/>
          </a:prstGeom>
          <a:blipFill rotWithShape="0">
            <a:blip r:embed="rId3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41280" y="4663080"/>
            <a:ext cx="540000" cy="581400"/>
          </a:xfrm>
          <a:prstGeom prst="rect">
            <a:avLst/>
          </a:prstGeom>
          <a:blipFill rotWithShape="0">
            <a:blip r:embed="rId3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81280" y="4663080"/>
            <a:ext cx="539640" cy="581400"/>
          </a:xfrm>
          <a:prstGeom prst="rect">
            <a:avLst/>
          </a:prstGeom>
          <a:blipFill rotWithShape="0">
            <a:blip r:embed="rId3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20920" y="4663080"/>
            <a:ext cx="539640" cy="581400"/>
          </a:xfrm>
          <a:prstGeom prst="rect">
            <a:avLst/>
          </a:prstGeom>
          <a:blipFill rotWithShape="0">
            <a:blip r:embed="rId3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62360" y="4663080"/>
            <a:ext cx="539640" cy="581400"/>
          </a:xfrm>
          <a:prstGeom prst="rect">
            <a:avLst/>
          </a:prstGeom>
          <a:blipFill rotWithShape="0">
            <a:blip r:embed="rId3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41280" y="5563080"/>
            <a:ext cx="540000" cy="581400"/>
          </a:xfrm>
          <a:prstGeom prst="rect">
            <a:avLst/>
          </a:prstGeom>
          <a:blipFill rotWithShape="0">
            <a:blip r:embed="rId3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781280" y="5563080"/>
            <a:ext cx="539640" cy="581400"/>
          </a:xfrm>
          <a:prstGeom prst="rect">
            <a:avLst/>
          </a:prstGeom>
          <a:blipFill rotWithShape="0">
            <a:blip r:embed="rId3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320920" y="5563080"/>
            <a:ext cx="539640" cy="581400"/>
          </a:xfrm>
          <a:prstGeom prst="rect">
            <a:avLst/>
          </a:prstGeom>
          <a:blipFill rotWithShape="0">
            <a:blip r:embed="rId3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862360" y="5563080"/>
            <a:ext cx="539640" cy="581400"/>
          </a:xfrm>
          <a:prstGeom prst="rect">
            <a:avLst/>
          </a:prstGeom>
          <a:blipFill rotWithShape="0">
            <a:blip r:embed="rId4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581280" y="4149720"/>
            <a:ext cx="2519640" cy="2519280"/>
            <a:chOff x="3581280" y="4149720"/>
            <a:chExt cx="2519640" cy="2519280"/>
          </a:xfrm>
        </p:grpSpPr>
        <p:pic>
          <p:nvPicPr>
            <p:cNvPr id="589" name="" descr=""/>
            <p:cNvPicPr/>
            <p:nvPr/>
          </p:nvPicPr>
          <p:blipFill>
            <a:blip r:embed="rId41"/>
            <a:stretch/>
          </p:blipFill>
          <p:spPr>
            <a:xfrm>
              <a:off x="3581280" y="4149720"/>
              <a:ext cx="2519640" cy="2519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"/>
            <p:cNvGrpSpPr/>
            <p:nvPr/>
          </p:nvGrpSpPr>
          <p:grpSpPr>
            <a:xfrm>
              <a:off x="4069080" y="4449600"/>
              <a:ext cx="1471680" cy="749880"/>
              <a:chOff x="4069080" y="4449600"/>
              <a:chExt cx="1471680" cy="749880"/>
            </a:xfrm>
          </p:grpSpPr>
          <p:sp>
            <p:nvSpPr>
              <p:cNvPr id="591" name=""/>
              <p:cNvSpPr txBox="1"/>
              <p:nvPr/>
            </p:nvSpPr>
            <p:spPr>
              <a:xfrm rot="181800">
                <a:off x="4769640" y="4456440"/>
                <a:ext cx="276480" cy="31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 rot="181800">
                <a:off x="4077000" y="4875840"/>
                <a:ext cx="276840" cy="31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 rot="181800">
                <a:off x="5256000" y="4718160"/>
                <a:ext cx="276480" cy="31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</p:grpSp>
      </p:grpSp>
      <p:sp>
        <p:nvSpPr>
          <p:cNvPr id="594" name=""/>
          <p:cNvSpPr/>
          <p:nvPr/>
        </p:nvSpPr>
        <p:spPr>
          <a:xfrm>
            <a:off x="8263080" y="6219720"/>
            <a:ext cx="630000" cy="451080"/>
          </a:xfrm>
          <a:custGeom>
            <a:avLst/>
            <a:gdLst>
              <a:gd name="textAreaLeft" fmla="*/ 29160 w 630000"/>
              <a:gd name="textAreaRight" fmla="*/ 600840 w 630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61" h="21600">
                <a:moveTo>
                  <a:pt x="0" y="0"/>
                </a:moveTo>
                <a:lnTo>
                  <a:pt x="30161" y="0"/>
                </a:lnTo>
                <a:lnTo>
                  <a:pt x="30161" y="21600"/>
                </a:lnTo>
                <a:lnTo>
                  <a:pt x="0" y="21600"/>
                </a:lnTo>
                <a:close/>
              </a:path>
              <a:path fill="lightenLess" w="30161" h="21600">
                <a:moveTo>
                  <a:pt x="0" y="0"/>
                </a:moveTo>
                <a:lnTo>
                  <a:pt x="30161" y="0"/>
                </a:lnTo>
                <a:lnTo>
                  <a:pt x="28761" y="1400"/>
                </a:lnTo>
                <a:lnTo>
                  <a:pt x="1400" y="1400"/>
                </a:lnTo>
                <a:close/>
              </a:path>
              <a:path fill="darken" w="30161" h="21600">
                <a:moveTo>
                  <a:pt x="30161" y="0"/>
                </a:moveTo>
                <a:lnTo>
                  <a:pt x="30161" y="21600"/>
                </a:lnTo>
                <a:lnTo>
                  <a:pt x="28761" y="20200"/>
                </a:lnTo>
                <a:lnTo>
                  <a:pt x="28761" y="1400"/>
                </a:lnTo>
                <a:close/>
              </a:path>
              <a:path fill="darkenLess" w="30161" h="21600">
                <a:moveTo>
                  <a:pt x="30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1" y="20200"/>
                </a:lnTo>
                <a:close/>
              </a:path>
              <a:path fill="lighten" w="30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61" h="21600">
                <a:moveTo>
                  <a:pt x="8074" y="7493"/>
                </a:moveTo>
                <a:lnTo>
                  <a:pt x="11581" y="7493"/>
                </a:lnTo>
                <a:lnTo>
                  <a:pt x="11581" y="12828"/>
                </a:lnTo>
                <a:cubicBezTo>
                  <a:pt x="11581" y="13751"/>
                  <a:pt x="12382" y="14482"/>
                  <a:pt x="13418" y="14482"/>
                </a:cubicBezTo>
                <a:lnTo>
                  <a:pt x="15080" y="14482"/>
                </a:lnTo>
                <a:cubicBezTo>
                  <a:pt x="16116" y="14482"/>
                  <a:pt x="16917" y="13751"/>
                  <a:pt x="16917" y="12828"/>
                </a:cubicBezTo>
                <a:lnTo>
                  <a:pt x="16917" y="7493"/>
                </a:lnTo>
                <a:lnTo>
                  <a:pt x="15080" y="7493"/>
                </a:lnTo>
                <a:lnTo>
                  <a:pt x="18588" y="3985"/>
                </a:lnTo>
                <a:lnTo>
                  <a:pt x="22261" y="7493"/>
                </a:lnTo>
                <a:lnTo>
                  <a:pt x="20424" y="7493"/>
                </a:lnTo>
                <a:lnTo>
                  <a:pt x="20424" y="12828"/>
                </a:lnTo>
                <a:cubicBezTo>
                  <a:pt x="20424" y="15596"/>
                  <a:pt x="17848" y="18155"/>
                  <a:pt x="15080" y="18155"/>
                </a:cubicBezTo>
                <a:lnTo>
                  <a:pt x="13418" y="18155"/>
                </a:lnTo>
                <a:cubicBezTo>
                  <a:pt x="10650" y="18155"/>
                  <a:pt x="8074" y="15596"/>
                  <a:pt x="8074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93080" y="1992600"/>
            <a:ext cx="539640" cy="581400"/>
          </a:xfrm>
          <a:prstGeom prst="rect">
            <a:avLst/>
          </a:prstGeom>
          <a:blipFill rotWithShape="0">
            <a:blip r:embed="rId4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3" dur="indefinite" restart="never" nodeType="tmRoot">
          <p:childTnLst>
            <p:seq>
              <p:cTn id="1444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445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484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500"/>
                            </p:stCondLst>
                            <p:childTnLst>
                              <p:par>
                                <p:cTn id="150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9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510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536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8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54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1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1562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"/>
                            </p:stCondLst>
                            <p:childTnLst>
                              <p:par>
                                <p:cTn id="15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4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575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7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9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5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606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61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3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624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2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500"/>
                            </p:stCondLst>
                            <p:childTnLst>
                              <p:par>
                                <p:cTn id="163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6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637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500"/>
                            </p:stCondLst>
                            <p:childTnLst>
                              <p:par>
                                <p:cTn id="164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650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5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663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500"/>
                            </p:stCondLst>
                            <p:childTnLst>
                              <p:par>
                                <p:cTn id="168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689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69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70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9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720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4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725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7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738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51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756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5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7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1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782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795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500"/>
                            </p:stCondLst>
                            <p:childTnLst>
                              <p:par>
                                <p:cTn id="180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808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0"/>
                            </p:stCondLst>
                            <p:childTnLst>
                              <p:par>
                                <p:cTn id="183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3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834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84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5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500"/>
                            </p:stCondLst>
                            <p:childTnLst>
                              <p:par>
                                <p:cTn id="185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86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500"/>
                            </p:stCondLst>
                            <p:childTnLst>
                              <p:par>
                                <p:cTn id="187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878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8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0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891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"/>
                            </p:stCondLst>
                            <p:childTnLst>
                              <p:par>
                                <p:cTn id="190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904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909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1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1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672000" y="4059360"/>
            <a:ext cx="2160360" cy="1995480"/>
            <a:chOff x="3672000" y="4059360"/>
            <a:chExt cx="2160360" cy="1995480"/>
          </a:xfrm>
        </p:grpSpPr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3672000" y="4059360"/>
              <a:ext cx="216036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 txBox="1"/>
            <p:nvPr/>
          </p:nvSpPr>
          <p:spPr>
            <a:xfrm rot="181800">
              <a:off x="4571640" y="423864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930120" y="3151800"/>
            <a:ext cx="1533960" cy="1022760"/>
            <a:chOff x="3930120" y="3151800"/>
            <a:chExt cx="1533960" cy="1022760"/>
          </a:xfrm>
        </p:grpSpPr>
        <p:sp>
          <p:nvSpPr>
            <p:cNvPr id="600" name=""/>
            <p:cNvSpPr txBox="1"/>
            <p:nvPr/>
          </p:nvSpPr>
          <p:spPr>
            <a:xfrm rot="181800">
              <a:off x="4660560" y="315900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 rot="181800">
              <a:off x="3941280" y="3733560"/>
              <a:ext cx="28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 rot="181800">
              <a:off x="5165280" y="351756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1420920" y="1992600"/>
            <a:ext cx="539640" cy="58140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62000" y="1992600"/>
            <a:ext cx="540000" cy="581400"/>
          </a:xfrm>
          <a:prstGeom prst="rect">
            <a:avLst/>
          </a:prstGeom>
          <a:blipFill rotWithShape="0">
            <a:blip r:embed="rId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02000" y="1992600"/>
            <a:ext cx="539640" cy="581400"/>
          </a:xfrm>
          <a:prstGeom prst="rect">
            <a:avLst/>
          </a:prstGeom>
          <a:blipFill rotWithShape="0">
            <a:blip r:embed="rId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1640" y="1992600"/>
            <a:ext cx="539640" cy="581400"/>
          </a:xfrm>
          <a:prstGeom prst="rect">
            <a:avLst/>
          </a:prstGeom>
          <a:blipFill rotWithShape="0">
            <a:blip r:embed="rId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42000" y="1992600"/>
            <a:ext cx="539640" cy="581400"/>
          </a:xfrm>
          <a:prstGeom prst="rect">
            <a:avLst/>
          </a:prstGeom>
          <a:blipFill rotWithShape="0">
            <a:blip r:embed="rId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281640" y="1992600"/>
            <a:ext cx="540000" cy="581400"/>
          </a:xfrm>
          <a:prstGeom prst="rect">
            <a:avLst/>
          </a:prstGeom>
          <a:blipFill rotWithShape="0">
            <a:blip r:embed="rId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23080" y="1992600"/>
            <a:ext cx="539640" cy="581400"/>
          </a:xfrm>
          <a:prstGeom prst="rect">
            <a:avLst/>
          </a:prstGeom>
          <a:blipFill rotWithShape="0">
            <a:blip r:embed="rId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1992600"/>
            <a:ext cx="540000" cy="581400"/>
          </a:xfrm>
          <a:prstGeom prst="rect">
            <a:avLst/>
          </a:prstGeom>
          <a:blipFill rotWithShape="0">
            <a:blip r:embed="rId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902720" y="1992600"/>
            <a:ext cx="539640" cy="581400"/>
          </a:xfrm>
          <a:prstGeom prst="rect">
            <a:avLst/>
          </a:prstGeom>
          <a:blipFill rotWithShape="0">
            <a:blip r:embed="rId1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0920" y="2802240"/>
            <a:ext cx="2160360" cy="581400"/>
          </a:xfrm>
          <a:prstGeom prst="rect">
            <a:avLst/>
          </a:prstGeom>
          <a:blipFill rotWithShape="0">
            <a:blip r:embed="rId1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20920" y="3522960"/>
            <a:ext cx="2160360" cy="581400"/>
          </a:xfrm>
          <a:prstGeom prst="rect">
            <a:avLst/>
          </a:prstGeom>
          <a:blipFill rotWithShape="0">
            <a:blip r:embed="rId1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ра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20920" y="4242240"/>
            <a:ext cx="2160360" cy="581400"/>
          </a:xfrm>
          <a:prstGeom prst="rect">
            <a:avLst/>
          </a:prstGeom>
          <a:blipFill rotWithShape="0">
            <a:blip r:embed="rId1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р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20920" y="4962960"/>
            <a:ext cx="2160360" cy="581400"/>
          </a:xfrm>
          <a:prstGeom prst="rect">
            <a:avLst/>
          </a:prstGeom>
          <a:blipFill rotWithShape="0">
            <a:blip r:embed="rId1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ра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20920" y="5683680"/>
            <a:ext cx="2160360" cy="581400"/>
          </a:xfrm>
          <a:prstGeom prst="rect">
            <a:avLst/>
          </a:prstGeom>
          <a:blipFill rotWithShape="0">
            <a:blip r:embed="rId1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ра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23080" y="2802240"/>
            <a:ext cx="2340000" cy="581400"/>
          </a:xfrm>
          <a:prstGeom prst="rect">
            <a:avLst/>
          </a:prstGeom>
          <a:blipFill rotWithShape="0">
            <a:blip r:embed="rId1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23080" y="3522960"/>
            <a:ext cx="2340000" cy="581400"/>
          </a:xfrm>
          <a:prstGeom prst="rect">
            <a:avLst/>
          </a:prstGeom>
          <a:blipFill rotWithShape="0">
            <a:blip r:embed="rId1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23080" y="4242240"/>
            <a:ext cx="2340000" cy="581400"/>
          </a:xfrm>
          <a:prstGeom prst="rect">
            <a:avLst/>
          </a:prstGeom>
          <a:blipFill rotWithShape="0">
            <a:blip r:embed="rId1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923080" y="4962960"/>
            <a:ext cx="2340000" cy="581400"/>
          </a:xfrm>
          <a:prstGeom prst="rect">
            <a:avLst/>
          </a:prstGeom>
          <a:blipFill rotWithShape="0">
            <a:blip r:embed="rId1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иш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923080" y="5683680"/>
            <a:ext cx="2340000" cy="581400"/>
          </a:xfrm>
          <a:prstGeom prst="rect">
            <a:avLst/>
          </a:prstGeom>
          <a:blipFill rotWithShape="0">
            <a:blip r:embed="rId2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62000" y="277920"/>
            <a:ext cx="7650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. В выделенных словах кликни кнопкой мыши и выдели парные согласные, которые нужно провери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71640" y="907920"/>
            <a:ext cx="783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 столбиках кликни кнопкой мыши и подчеркни проверочные сло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263080" y="6219720"/>
            <a:ext cx="630000" cy="451080"/>
          </a:xfrm>
          <a:custGeom>
            <a:avLst/>
            <a:gdLst>
              <a:gd name="textAreaLeft" fmla="*/ 29160 w 630000"/>
              <a:gd name="textAreaRight" fmla="*/ 600840 w 630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61" h="21600">
                <a:moveTo>
                  <a:pt x="0" y="0"/>
                </a:moveTo>
                <a:lnTo>
                  <a:pt x="30161" y="0"/>
                </a:lnTo>
                <a:lnTo>
                  <a:pt x="30161" y="21600"/>
                </a:lnTo>
                <a:lnTo>
                  <a:pt x="0" y="21600"/>
                </a:lnTo>
                <a:close/>
              </a:path>
              <a:path fill="lightenLess" w="30161" h="21600">
                <a:moveTo>
                  <a:pt x="0" y="0"/>
                </a:moveTo>
                <a:lnTo>
                  <a:pt x="30161" y="0"/>
                </a:lnTo>
                <a:lnTo>
                  <a:pt x="28761" y="1400"/>
                </a:lnTo>
                <a:lnTo>
                  <a:pt x="1400" y="1400"/>
                </a:lnTo>
                <a:close/>
              </a:path>
              <a:path fill="darken" w="30161" h="21600">
                <a:moveTo>
                  <a:pt x="30161" y="0"/>
                </a:moveTo>
                <a:lnTo>
                  <a:pt x="30161" y="21600"/>
                </a:lnTo>
                <a:lnTo>
                  <a:pt x="28761" y="20200"/>
                </a:lnTo>
                <a:lnTo>
                  <a:pt x="28761" y="1400"/>
                </a:lnTo>
                <a:close/>
              </a:path>
              <a:path fill="darkenLess" w="30161" h="21600">
                <a:moveTo>
                  <a:pt x="30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1" y="20200"/>
                </a:lnTo>
                <a:close/>
              </a:path>
              <a:path fill="lighten" w="30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61" h="21600">
                <a:moveTo>
                  <a:pt x="8074" y="7493"/>
                </a:moveTo>
                <a:lnTo>
                  <a:pt x="11581" y="7493"/>
                </a:lnTo>
                <a:lnTo>
                  <a:pt x="11581" y="12828"/>
                </a:lnTo>
                <a:cubicBezTo>
                  <a:pt x="11581" y="13751"/>
                  <a:pt x="12382" y="14482"/>
                  <a:pt x="13418" y="14482"/>
                </a:cubicBezTo>
                <a:lnTo>
                  <a:pt x="15080" y="14482"/>
                </a:lnTo>
                <a:cubicBezTo>
                  <a:pt x="16116" y="14482"/>
                  <a:pt x="16917" y="13751"/>
                  <a:pt x="16917" y="12828"/>
                </a:cubicBezTo>
                <a:lnTo>
                  <a:pt x="16917" y="7493"/>
                </a:lnTo>
                <a:lnTo>
                  <a:pt x="15080" y="7493"/>
                </a:lnTo>
                <a:lnTo>
                  <a:pt x="18588" y="3985"/>
                </a:lnTo>
                <a:lnTo>
                  <a:pt x="22261" y="7493"/>
                </a:lnTo>
                <a:lnTo>
                  <a:pt x="20424" y="7493"/>
                </a:lnTo>
                <a:lnTo>
                  <a:pt x="20424" y="12828"/>
                </a:lnTo>
                <a:cubicBezTo>
                  <a:pt x="20424" y="15596"/>
                  <a:pt x="17848" y="18155"/>
                  <a:pt x="15080" y="18155"/>
                </a:cubicBezTo>
                <a:lnTo>
                  <a:pt x="13418" y="18155"/>
                </a:lnTo>
                <a:cubicBezTo>
                  <a:pt x="10650" y="18155"/>
                  <a:pt x="8074" y="15596"/>
                  <a:pt x="8074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1" dur="indefinite" restart="never" nodeType="tmRoot">
          <p:childTnLst>
            <p:seq>
              <p:cTn id="192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92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2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942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961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6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9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980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3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2004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0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023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2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204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4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2061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4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2085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0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8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2119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3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2124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2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2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2143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7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2148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2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2153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5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7:19:38Z</dcterms:created>
  <dc:creator>Andrew</dc:creator>
  <dc:description/>
  <dc:language>en-US</dc:language>
  <cp:lastModifiedBy>vvv</cp:lastModifiedBy>
  <dcterms:modified xsi:type="dcterms:W3CDTF">2008-06-16T10:38:30Z</dcterms:modified>
  <cp:revision>16</cp:revision>
  <dc:subject/>
  <dc:title>Упражнения  в правописании парных звонких и глухих согласных на конце слова</dc:title>
</cp:coreProperties>
</file>