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B7A-B832-4117-B504-548784EA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BB7-B6DF-4047-8BC9-EAB18AD4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488-57B5-4860-8B71-758EFF1C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CCA-7586-4E34-B963-05D24ABC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D132-4648-487B-ABC2-C4E1E245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CEC4-BEAF-4904-A619-3247EAB0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9477-CCC5-4F0D-95DC-255D63B5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CD19-AC2A-491A-8EED-DE7C647E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EAE4-E3FA-408A-B9DD-BBC9EDF1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1515-527D-4ACD-8F90-B6AFA9B9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4FB5-621F-46E3-89D4-92438270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913-71C3-4BD8-8341-D73CFC26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BE44-3379-4550-AC70-CF4B47D5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1834-F292-4C4C-8F7F-846082DB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5807-CF12-4D1A-ADB7-90236B5E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7C3A-6B92-48EB-AD95-4C55A4A2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0237-7670-4668-A76E-2FF3313E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0AC-F1E2-4143-85CB-E3A2B1EF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45D-9000-4D0E-B466-A0DA454A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732-80E6-477B-A62C-846E9FC0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5CD-60D5-4A8B-98C1-2EB31975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9B8-A32C-40A3-A031-C02B885A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99D-93BB-4465-B5D8-EC8EB3BF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222-3F2B-48FE-8CF9-0D23599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5142-2DDA-49F7-9EDB-1AEC010B3E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35BE-6E93-4061-AFD0-4F844A1CC16F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Внутренние воды.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полнение реки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езонные атмосферные осадки – 60%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рунтовые (подземные воды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 Black"/>
              </a:rPr>
              <a:t>Скорость течения Волги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здание </a:t>
            </a:r>
            <a:r>
              <a:rPr b="0" lang="ru-RU" sz="3200" spc="-1" strike="noStrike" u="sng">
                <a:solidFill>
                  <a:srgbClr val="d60093"/>
                </a:solidFill>
                <a:uFillTx/>
                <a:latin typeface="Verdana"/>
              </a:rPr>
              <a:t>Волгоградского и Саратовског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одохранилищ привело к уменьшению скорости течения реки, к заболачиванию отдельных территор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Verdana"/>
              </a:rPr>
              <a:t>Скорость течения</a:t>
            </a:r>
            <a:br>
              <a:rPr sz="5400"/>
            </a:br>
            <a:r>
              <a:rPr b="0" lang="ru-RU" sz="5400" spc="-1" strike="noStrike">
                <a:solidFill>
                  <a:srgbClr val="006666"/>
                </a:solidFill>
                <a:latin typeface="Verdana"/>
              </a:rPr>
              <a:t> (до 0,1 м/сек)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IMG_0715"/>
          <p:cNvPicPr/>
          <p:nvPr/>
        </p:nvPicPr>
        <p:blipFill>
          <a:blip r:embed="rId1"/>
          <a:stretch/>
        </p:blipFill>
        <p:spPr>
          <a:xfrm>
            <a:off x="5003640" y="2924280"/>
            <a:ext cx="3456000" cy="3457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Волны"/>
          <p:cNvPicPr/>
          <p:nvPr/>
        </p:nvPicPr>
        <p:blipFill>
          <a:blip r:embed="rId2"/>
          <a:stretch/>
        </p:blipFill>
        <p:spPr>
          <a:xfrm>
            <a:off x="539640" y="2924280"/>
            <a:ext cx="4319640" cy="345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Arial Black"/>
              </a:rPr>
              <a:t>Ледостав наступает в начале декабр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47788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ему обычно равна толщина льда н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547640" y="3573360"/>
            <a:ext cx="5616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о л г е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еречислите субъекты РФ, которые омывает река Волга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4" descr="план"/>
          <p:cNvPicPr/>
          <p:nvPr/>
        </p:nvPicPr>
        <p:blipFill>
          <a:blip r:embed="rId1"/>
          <a:stretch/>
        </p:blipFill>
        <p:spPr>
          <a:xfrm>
            <a:off x="1908000" y="1628640"/>
            <a:ext cx="5256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 чем связано ухудшение состояния вод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4" descr="IMG_0738"/>
          <p:cNvPicPr/>
          <p:nvPr/>
        </p:nvPicPr>
        <p:blipFill>
          <a:blip r:embed="rId1"/>
          <a:stretch/>
        </p:blipFill>
        <p:spPr>
          <a:xfrm>
            <a:off x="826920" y="1773360"/>
            <a:ext cx="6913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Отрицательные последствия 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Подъём грунтовых вод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Гибель приволжских лесов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Уменьшение осетровых рыб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Нефтяные загрязнения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ход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чистные сооружен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одернизировать очистные сооружен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Экологическое законодательств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9900"/>
                </a:solidFill>
                <a:uFillTx/>
                <a:latin typeface="Arial Black"/>
              </a:rPr>
              <a:t>Волга – наше общее достояние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Великая российская рек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Picture 4" descr="Изображение 054"/>
          <p:cNvPicPr/>
          <p:nvPr/>
        </p:nvPicPr>
        <p:blipFill>
          <a:blip r:embed="rId1"/>
          <a:stretch/>
        </p:blipFill>
        <p:spPr>
          <a:xfrm>
            <a:off x="755640" y="2276640"/>
            <a:ext cx="770400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 Black"/>
              </a:rPr>
              <a:t>Перечислите внутренние воды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ньше она имела название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Verdana"/>
              </a:rPr>
              <a:t>«Ра»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- «Щедрая», «Итиль»,  «Река Рек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1763640" y="33336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о л г а .</a:t>
            </a:r>
            <a:endParaRPr b="0" i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Picture 7" descr="IMGA0632"/>
          <p:cNvPicPr/>
          <p:nvPr/>
        </p:nvPicPr>
        <p:blipFill>
          <a:blip r:embed="rId1"/>
          <a:stretch/>
        </p:blipFill>
        <p:spPr>
          <a:xfrm>
            <a:off x="539640" y="2781360"/>
            <a:ext cx="8128080" cy="37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амо название «Волга» в переводе с финского означает «светлая», «священная»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4" descr="IMG_0688"/>
          <p:cNvPicPr/>
          <p:nvPr/>
        </p:nvPicPr>
        <p:blipFill>
          <a:blip r:embed="rId1"/>
          <a:stretch/>
        </p:blipFill>
        <p:spPr>
          <a:xfrm>
            <a:off x="826920" y="2349360"/>
            <a:ext cx="7632720" cy="40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Скатываясь с древнего Валдая,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Через Нижний, прямо на Увек,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Всё спешит, спешит, в себя вбирая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 пути семь тысяч разных рек.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 Н. Палькин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620440"/>
            <a:ext cx="8229600" cy="34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475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Опишите особенности реки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Исток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Устье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Направление течения реки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338200"/>
            <a:ext cx="8229600" cy="37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omic Sans MS"/>
              </a:rPr>
              <a:t>Длина = 3530 км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omic Sans MS"/>
              </a:rPr>
              <a:t>Ширина от 3 до 20 км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omic Sans MS"/>
              </a:rPr>
              <a:t>Глубина = 37 м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755640" y="333360"/>
            <a:ext cx="7777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г а  - р а в н и н н а я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 е к а 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ПМад"/>
          <p:cNvPicPr/>
          <p:nvPr/>
        </p:nvPicPr>
        <p:blipFill>
          <a:blip r:embed="rId1"/>
          <a:stretch/>
        </p:blipFill>
        <p:spPr>
          <a:xfrm>
            <a:off x="6012000" y="2781360"/>
            <a:ext cx="2808000" cy="345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475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Какое питание у реки Волги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116000" y="1700280"/>
            <a:ext cx="7272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шанный ти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тан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4:26:28Z</dcterms:created>
  <dc:creator>FoM</dc:creator>
  <dc:description/>
  <dc:language>en-US</dc:language>
  <cp:lastModifiedBy>ULTRA</cp:lastModifiedBy>
  <dcterms:modified xsi:type="dcterms:W3CDTF">2007-02-13T08:25:59Z</dcterms:modified>
  <cp:revision>5</cp:revision>
  <dc:subject/>
  <dc:title>Внутренние воды.</dc:title>
</cp:coreProperties>
</file>