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5ADF-FCA7-43FA-81E9-496EF5E32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F4E5-9A7B-4081-B84C-9E679428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39A7-A586-4999-8681-120D8FF0E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96B7-CE12-4C03-901E-D4C49E346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81D3-A944-4DC5-B676-0793557D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6074-EDC4-4B96-820C-BD03CF9C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AC23-C260-4BB0-9162-10255B41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C970-1AE1-4849-AD3C-85C43191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1EBF-01F8-453B-9D50-9AA6BAD8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017E-9FF3-4D4B-AD76-1ED6C94E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F10B-312A-45A3-A896-DFC2F997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51BD-EF26-4025-B30B-9421FFA8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4E52-6411-4518-B75B-CD6431B272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The Famous American Writ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Выполн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Королева И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5580000" y="136440"/>
            <a:ext cx="32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211640" y="1052640"/>
            <a:ext cx="388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1" descr="сканирование0021"/>
          <p:cNvPicPr/>
          <p:nvPr/>
        </p:nvPicPr>
        <p:blipFill>
          <a:blip r:embed="rId1"/>
          <a:stretch/>
        </p:blipFill>
        <p:spPr>
          <a:xfrm>
            <a:off x="47520" y="1557360"/>
            <a:ext cx="4506840" cy="3527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357120"/>
            <a:ext cx="850752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Arial"/>
              </a:rPr>
              <a:t>Henry Wadsworth Longfellow</a:t>
            </a:r>
            <a:br>
              <a:rPr sz="4800"/>
            </a:b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(1807-188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0560" y="2492280"/>
            <a:ext cx="3529080" cy="41767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11640" y="2420640"/>
            <a:ext cx="42480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0027"/>
          <p:cNvPicPr/>
          <p:nvPr/>
        </p:nvPicPr>
        <p:blipFill>
          <a:blip r:embed="rId2"/>
          <a:stretch/>
        </p:blipFill>
        <p:spPr>
          <a:xfrm>
            <a:off x="324000" y="2565360"/>
            <a:ext cx="3313080" cy="41054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0"/>
          <p:cNvSpPr/>
          <p:nvPr/>
        </p:nvSpPr>
        <p:spPr>
          <a:xfrm>
            <a:off x="4211640" y="2421000"/>
            <a:ext cx="4572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The famous American poet was born in Port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He was among the first American poets to use native themes and Indian legends in his cre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His famous works are “Voices of the Night”, “The Song of Hiawatha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77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3" dur="770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5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7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James Fenimore Cooper</a:t>
            </a:r>
            <a:br>
              <a:rPr sz="4800"/>
            </a:b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(1789-185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сканирование0034"/>
          <p:cNvPicPr/>
          <p:nvPr/>
        </p:nvPicPr>
        <p:blipFill>
          <a:blip r:embed="rId2"/>
          <a:stretch/>
        </p:blipFill>
        <p:spPr>
          <a:xfrm>
            <a:off x="4932360" y="1628640"/>
            <a:ext cx="3743280" cy="45370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8"/>
          <p:cNvSpPr/>
          <p:nvPr/>
        </p:nvSpPr>
        <p:spPr>
          <a:xfrm>
            <a:off x="250920" y="1557360"/>
            <a:ext cx="460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0"/>
          <p:cNvSpPr/>
          <p:nvPr/>
        </p:nvSpPr>
        <p:spPr>
          <a:xfrm>
            <a:off x="0" y="198900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The first American novelist was born in New Jers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He wrote about American Indians and pioneers in the forest and sailors on the high s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His stories were translated into foreign languages as soon as they were publish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His famous works are ”The Last of Mohicans”, “The Pioneers”, “The Pilot”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77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770" fill="hold"/>
                                        <p:tgtEl>
                                          <p:spTgt spid="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3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Arial"/>
              </a:rPr>
              <a:t>Theodore Dreiser</a:t>
            </a:r>
            <a:br>
              <a:rPr sz="5400"/>
            </a:b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(1871-194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сканирование0040"/>
          <p:cNvPicPr/>
          <p:nvPr/>
        </p:nvPicPr>
        <p:blipFill>
          <a:blip r:embed="rId1"/>
          <a:stretch/>
        </p:blipFill>
        <p:spPr>
          <a:xfrm>
            <a:off x="5292720" y="1844640"/>
            <a:ext cx="3492360" cy="460872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0"/>
          <p:cNvSpPr/>
          <p:nvPr/>
        </p:nvSpPr>
        <p:spPr>
          <a:xfrm>
            <a:off x="250920" y="1700280"/>
            <a:ext cx="4572000" cy="53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A famous American novelist was born in Indi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His formal education was manager, but he finished a year at the University of Indiana before he went to New York city to become a journalist in 18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His famous novels deal with every day 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His famous works are ”Sister Carrie”, “An American Tragedy”, 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Jennie Gerhardt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1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3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617868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90033"/>
                </a:solidFill>
                <a:latin typeface="Arial"/>
              </a:rPr>
              <a:t>Mark Twain</a:t>
            </a:r>
            <a:br>
              <a:rPr sz="7200"/>
            </a:b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(1835-191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-360" y="2060640"/>
            <a:ext cx="867564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сканирование0033"/>
          <p:cNvPicPr/>
          <p:nvPr/>
        </p:nvPicPr>
        <p:blipFill>
          <a:blip r:embed="rId1"/>
          <a:stretch/>
        </p:blipFill>
        <p:spPr>
          <a:xfrm>
            <a:off x="6300720" y="0"/>
            <a:ext cx="2230560" cy="1989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0"/>
          <p:cNvSpPr/>
          <p:nvPr/>
        </p:nvSpPr>
        <p:spPr>
          <a:xfrm>
            <a:off x="324000" y="2060640"/>
            <a:ext cx="842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Mark Twain is a pen name of Samuel Clemens. He was born in Missouri in the United St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He went to work at the age of 12.He worked as a printer for the town news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In1876 he wrote “The Adventures of Tom Sawyer”. His book was such a success that in 1884 he wrote “The Adventures of Huckleberry Finn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There are many other books written by Mark Twain. But these two novels brought him world f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90033"/>
                </a:solidFill>
                <a:latin typeface="Arial"/>
              </a:rPr>
              <a:t>O</a:t>
            </a:r>
            <a:r>
              <a:rPr b="1" lang="en-US" sz="7200" spc="-1" strike="noStrike" baseline="30000">
                <a:solidFill>
                  <a:srgbClr val="990033"/>
                </a:solidFill>
                <a:latin typeface="Arial"/>
              </a:rPr>
              <a:t>,</a:t>
            </a:r>
            <a:r>
              <a:rPr b="1" lang="en-US" sz="7200" spc="-1" strike="noStrike">
                <a:solidFill>
                  <a:srgbClr val="990033"/>
                </a:solidFill>
                <a:latin typeface="Arial"/>
              </a:rPr>
              <a:t> Henry</a:t>
            </a:r>
            <a:br>
              <a:rPr sz="7200"/>
            </a:b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(1862-191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0028"/>
          <p:cNvPicPr/>
          <p:nvPr/>
        </p:nvPicPr>
        <p:blipFill>
          <a:blip r:embed="rId1"/>
          <a:stretch/>
        </p:blipFill>
        <p:spPr>
          <a:xfrm>
            <a:off x="5830920" y="2133720"/>
            <a:ext cx="3313080" cy="43923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0"/>
          <p:cNvSpPr/>
          <p:nvPr/>
        </p:nvSpPr>
        <p:spPr>
          <a:xfrm>
            <a:off x="0" y="1735200"/>
            <a:ext cx="5580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990033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 Henry is one of the best known  short-story writers of the last centu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His real name was William Sydney Por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He was born in North Carol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He tried several professions before starting his career as a journa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He was the author of about three hundred short s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The best of them were published in the books “Cabbages and Kings”, “The Four Million”, “Roads of Destiny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77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8" dur="770" fill="hold"/>
                                        <p:tgtEl>
                                          <p:spTgt spid="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0" dur="77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2" dur="77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90033"/>
                </a:solidFill>
                <a:latin typeface="Arial"/>
              </a:rPr>
              <a:t>Jack London</a:t>
            </a:r>
            <a:br>
              <a:rPr sz="7200"/>
            </a:b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(1876-191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773000"/>
            <a:ext cx="4824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148000" y="1672920"/>
            <a:ext cx="3467160" cy="4924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сканирование0030"/>
          <p:cNvPicPr/>
          <p:nvPr/>
        </p:nvPicPr>
        <p:blipFill>
          <a:blip r:embed="rId2"/>
          <a:stretch/>
        </p:blipFill>
        <p:spPr>
          <a:xfrm>
            <a:off x="5219640" y="1628640"/>
            <a:ext cx="3672000" cy="49690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0"/>
          <p:cNvSpPr/>
          <p:nvPr/>
        </p:nvSpPr>
        <p:spPr>
          <a:xfrm>
            <a:off x="250920" y="1654200"/>
            <a:ext cx="4608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The novelist and short-story writer was one of the most popular authors in the world. He became popular in many countries for his romantic tales of adventure mixed with elemental struggles for surviv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In his writing career of 17 years, London wrote 50 boo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His famous works are “Martin Eden”, “Sea Wolf”, “Love of life” and 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77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6" dur="770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8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0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33"/>
                </a:solidFill>
                <a:latin typeface="Arial"/>
              </a:rPr>
              <a:t>Ernest Hemingway</a:t>
            </a:r>
            <a:br>
              <a:rPr sz="6000"/>
            </a:b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(1899-196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сканирование0032"/>
          <p:cNvPicPr/>
          <p:nvPr/>
        </p:nvPicPr>
        <p:blipFill>
          <a:blip r:embed="rId1"/>
          <a:stretch/>
        </p:blipFill>
        <p:spPr>
          <a:xfrm>
            <a:off x="4716360" y="1700280"/>
            <a:ext cx="3821040" cy="44654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0"/>
          <p:cNvSpPr/>
          <p:nvPr/>
        </p:nvSpPr>
        <p:spPr>
          <a:xfrm>
            <a:off x="0" y="162864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Hemingway was born in Oak Park, Illino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He wrote 6 novels and more than 50 short s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His style of writing is stri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His sentences are short, his words-simp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His famous works are “The Old Man and the Sea”, “The Sun Also Rises”, “For Whom the Bell Toll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77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0" dur="770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2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4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Ray Douglas Bradbury</a:t>
            </a:r>
            <a:br>
              <a:rPr sz="48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(b. 192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сканирование0031"/>
          <p:cNvPicPr/>
          <p:nvPr/>
        </p:nvPicPr>
        <p:blipFill>
          <a:blip r:embed="rId1"/>
          <a:stretch/>
        </p:blipFill>
        <p:spPr>
          <a:xfrm>
            <a:off x="468360" y="1557360"/>
            <a:ext cx="3743280" cy="45356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0"/>
          <p:cNvSpPr/>
          <p:nvPr/>
        </p:nvSpPr>
        <p:spPr>
          <a:xfrm>
            <a:off x="4572000" y="1700280"/>
            <a:ext cx="424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4284720" y="1557360"/>
            <a:ext cx="457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He was born in Illino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He is an American author of many science-fiction short stories and five nove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Some of his stories are important because they discuss the danger of runaway technolo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His famous works are “Fahrenheit 451 degree”, “The Wonderful Ice Cream Suit”, “The Martian Chronicle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77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770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0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2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0033"/>
                </a:solidFill>
                <a:latin typeface="Arial"/>
              </a:rPr>
              <a:t>Poetr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</a:rPr>
              <a:t>The sounds and syllables of language are combined in rhythmic way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0015"/>
          <p:cNvPicPr/>
          <p:nvPr/>
        </p:nvPicPr>
        <p:blipFill>
          <a:blip r:embed="rId2"/>
          <a:stretch/>
        </p:blipFill>
        <p:spPr>
          <a:xfrm>
            <a:off x="468360" y="1773360"/>
            <a:ext cx="3816360" cy="4535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768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768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768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768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90033"/>
                </a:solidFill>
                <a:latin typeface="Arial"/>
              </a:rPr>
              <a:t>A nove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74296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33"/>
                </a:solidFill>
                <a:latin typeface="Arial"/>
              </a:rPr>
              <a:t>A novel is a long prose fiction story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768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768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768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768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90033"/>
                </a:solidFill>
                <a:latin typeface="Arial"/>
              </a:rPr>
              <a:t>A Historical Nove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A novel where  the   characters take part in real events from the pas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768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768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" dur="768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768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90033"/>
                </a:solidFill>
                <a:latin typeface="Arial"/>
              </a:rPr>
              <a:t>A </a:t>
            </a:r>
            <a:r>
              <a:rPr b="1" lang="en-US" sz="6600" spc="-1" strike="noStrike">
                <a:solidFill>
                  <a:srgbClr val="990033"/>
                </a:solidFill>
                <a:latin typeface="Arial"/>
              </a:rPr>
              <a:t>Humorous</a:t>
            </a:r>
            <a:r>
              <a:rPr b="1" lang="en-US" sz="7200" spc="-1" strike="noStrike">
                <a:solidFill>
                  <a:srgbClr val="990033"/>
                </a:solidFill>
                <a:latin typeface="Arial"/>
              </a:rPr>
              <a:t> Stor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3920" y="2356920"/>
            <a:ext cx="792972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A story describing funny events and character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768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768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" dur="768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" dur="768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8800" spc="-1" strike="noStrike">
                <a:solidFill>
                  <a:srgbClr val="990033"/>
                </a:solidFill>
                <a:latin typeface="Arial"/>
              </a:rPr>
              <a:t>A Short</a:t>
            </a:r>
            <a:r>
              <a:rPr b="1" lang="en-US" sz="7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8800" spc="-1" strike="noStrike">
                <a:solidFill>
                  <a:srgbClr val="990033"/>
                </a:solidFill>
                <a:latin typeface="Arial"/>
              </a:rPr>
              <a:t>Stor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0040" y="1999800"/>
            <a:ext cx="785808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A short work of prose fiction, that tells a new original story in contrast to retelling a traditional o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68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68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68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68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33"/>
                </a:solidFill>
                <a:latin typeface="Arial"/>
              </a:rPr>
              <a:t>An Adventure Stor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831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Story where the characters take part in a series of events which are unusual, exciting and sometimes dangero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7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70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8000" spc="-1" strike="noStrike">
                <a:solidFill>
                  <a:srgbClr val="990033"/>
                </a:solidFill>
                <a:latin typeface="Arial"/>
              </a:rPr>
              <a:t>Science-ficti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2143080"/>
            <a:ext cx="757224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A story or a novel about events that take place in the future or on another plane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768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768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7" dur="768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9" dur="768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90033"/>
                </a:solidFill>
                <a:latin typeface="Arial"/>
              </a:rPr>
              <a:t>Robert Frost</a:t>
            </a:r>
            <a:br>
              <a:rPr sz="7200"/>
            </a:b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(1874-196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2060280"/>
            <a:ext cx="4464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716000" y="2133360"/>
            <a:ext cx="4038840" cy="4392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сканирование0029"/>
          <p:cNvPicPr/>
          <p:nvPr/>
        </p:nvPicPr>
        <p:blipFill>
          <a:blip r:embed="rId2"/>
          <a:stretch/>
        </p:blipFill>
        <p:spPr>
          <a:xfrm>
            <a:off x="4788000" y="2276640"/>
            <a:ext cx="3743280" cy="43210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7"/>
          <p:cNvSpPr/>
          <p:nvPr/>
        </p:nvSpPr>
        <p:spPr>
          <a:xfrm>
            <a:off x="179280" y="2205000"/>
            <a:ext cx="430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0"/>
          <p:cNvSpPr/>
          <p:nvPr/>
        </p:nvSpPr>
        <p:spPr>
          <a:xfrm>
            <a:off x="179280" y="2060640"/>
            <a:ext cx="4518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The famous American poet was born in San Francisco, but spent a lot of time in New Eng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New England greatly influenced his poe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He won Pulitzer Prize in 1924, 1931, 1937, 194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His famous works are ”A Further Range”, “A Witness Tree”, “In the Clearing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8T11:45:03Z</dcterms:created>
  <dc:creator>Миша</dc:creator>
  <dc:description/>
  <dc:language>en-US</dc:language>
  <cp:lastModifiedBy>Black.User</cp:lastModifiedBy>
  <dcterms:modified xsi:type="dcterms:W3CDTF">2013-02-13T19:04:29Z</dcterms:modified>
  <cp:revision>30</cp:revision>
  <dc:subject/>
  <dc:title>Creation of the Famous American Writers</dc:title>
</cp:coreProperties>
</file>