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964-B722-4D54-8DFD-020134CD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78B-3EAC-42BE-8385-864F50CB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A31-DAAE-4F9A-9271-7DBE22DF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932-5AC2-4DDE-B048-3FDCA1AF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954-A9BF-4FA5-8A91-9A7A38D6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FFC-60D6-4C69-BF55-7F678458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0F6-2534-444F-8E72-12E29C30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82F-42F4-4F5B-A4B6-8DCB136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4D4-256F-43C5-9763-3FED2CC4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2ED-1B9E-4E3C-B477-E112AE3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515-2F04-4129-9833-C74D49F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DEF-A2B3-44E7-983B-AB6CE6F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B96-3FA7-4115-B857-06239A43B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The Famous American Wri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ролева И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580000" y="1364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105264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сканирование0021"/>
          <p:cNvPicPr/>
          <p:nvPr/>
        </p:nvPicPr>
        <p:blipFill>
          <a:blip r:embed="rId1"/>
          <a:stretch/>
        </p:blipFill>
        <p:spPr>
          <a:xfrm>
            <a:off x="47520" y="1557360"/>
            <a:ext cx="450684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357120"/>
            <a:ext cx="85075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Henry Wadsworth Longfellow</a:t>
            </a:r>
            <a:br>
              <a:rPr sz="48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07-188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560" y="2492280"/>
            <a:ext cx="3529080" cy="4176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640" y="242064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027"/>
          <p:cNvPicPr/>
          <p:nvPr/>
        </p:nvPicPr>
        <p:blipFill>
          <a:blip r:embed="rId2"/>
          <a:stretch/>
        </p:blipFill>
        <p:spPr>
          <a:xfrm>
            <a:off x="324000" y="2565360"/>
            <a:ext cx="3313080" cy="4105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0"/>
          <p:cNvSpPr/>
          <p:nvPr/>
        </p:nvSpPr>
        <p:spPr>
          <a:xfrm>
            <a:off x="4211640" y="242100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amous American poet was born in Por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e was among the first American poets to use native themes and Indian legends in his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is famous works are “Voices of the Night”, “The Song of Hiawath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James Fenimore Cooper</a:t>
            </a:r>
            <a:br>
              <a:rPr sz="48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789-185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сканирование0034"/>
          <p:cNvPicPr/>
          <p:nvPr/>
        </p:nvPicPr>
        <p:blipFill>
          <a:blip r:embed="rId2"/>
          <a:stretch/>
        </p:blipFill>
        <p:spPr>
          <a:xfrm>
            <a:off x="4932360" y="1628640"/>
            <a:ext cx="3743280" cy="453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250920" y="155736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0"/>
          <p:cNvSpPr/>
          <p:nvPr/>
        </p:nvSpPr>
        <p:spPr>
          <a:xfrm>
            <a:off x="0" y="1989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first American novelist was born in New Jers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rote about American Indians and pioneers in the forest and sailors on the high 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tories were translated into foreign languages as soon as they were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The Last of Mohicans”, “The Pioneers”, “The Pilot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Theodore Dreiser</a:t>
            </a:r>
            <a:br>
              <a:rPr sz="54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1-19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сканирование0040"/>
          <p:cNvPicPr/>
          <p:nvPr/>
        </p:nvPicPr>
        <p:blipFill>
          <a:blip r:embed="rId1"/>
          <a:stretch/>
        </p:blipFill>
        <p:spPr>
          <a:xfrm>
            <a:off x="5292720" y="1844640"/>
            <a:ext cx="3492360" cy="4608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0"/>
          <p:cNvSpPr/>
          <p:nvPr/>
        </p:nvSpPr>
        <p:spPr>
          <a:xfrm>
            <a:off x="250920" y="1700280"/>
            <a:ext cx="457200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 famous American novelist was born in Ind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ormal education was manager, but he finished a year at the University of Indiana before he went to New York city to become a journalist in 18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novels deal with every da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Sister Carrie”, “An American Tragedy”, 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nnie Gerhardt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178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Mark Twain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35-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675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сканирование0033"/>
          <p:cNvPicPr/>
          <p:nvPr/>
        </p:nvPicPr>
        <p:blipFill>
          <a:blip r:embed="rId1"/>
          <a:stretch/>
        </p:blipFill>
        <p:spPr>
          <a:xfrm>
            <a:off x="6300720" y="0"/>
            <a:ext cx="2230560" cy="1989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0"/>
          <p:cNvSpPr/>
          <p:nvPr/>
        </p:nvSpPr>
        <p:spPr>
          <a:xfrm>
            <a:off x="324000" y="2060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k Twain is a pen name of Samuel Clemens. He was born in Missouri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e went to work at the age of 12.He worked as a printer for the town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1876 he wrote “The Adventures of Tom Sawyer”. His book was such a success that in 1884 he wrote “The Adventures of Huckleberry Fin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ere are many other books written by Mark Twain. But these two novels brought him world f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en-US" sz="7200" spc="-1" strike="noStrike" baseline="30000">
                <a:solidFill>
                  <a:srgbClr val="990033"/>
                </a:solidFill>
                <a:latin typeface="Arial"/>
              </a:rPr>
              <a:t>,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Henry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62-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8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4392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0"/>
          <p:cNvSpPr/>
          <p:nvPr/>
        </p:nvSpPr>
        <p:spPr>
          <a:xfrm>
            <a:off x="0" y="1735200"/>
            <a:ext cx="558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0033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Henry is one of the best known  short-story writers of the last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real name was William Sydney Po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born in North Caro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tried several professions before starting his career as a journa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the author of about three hundred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best of them were published in the books “Cabbages and Kings”, “The Four Million”, “Roads of Destin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Jack London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6-19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8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000" y="1672920"/>
            <a:ext cx="3467160" cy="49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сканирование0030"/>
          <p:cNvPicPr/>
          <p:nvPr/>
        </p:nvPicPr>
        <p:blipFill>
          <a:blip r:embed="rId2"/>
          <a:stretch/>
        </p:blipFill>
        <p:spPr>
          <a:xfrm>
            <a:off x="5219640" y="1628640"/>
            <a:ext cx="3672000" cy="4969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0"/>
          <p:cNvSpPr/>
          <p:nvPr/>
        </p:nvSpPr>
        <p:spPr>
          <a:xfrm>
            <a:off x="250920" y="1654200"/>
            <a:ext cx="460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novelist and short-story writer was one of the most popular authors in the world. He became popular in many countries for his romantic tales of adventure mixed with elemental struggle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 his writing career of 17 years, London wrote 5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Martin Eden”, “Sea Wolf”, “Love of life”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Ernest Hemingway</a:t>
            </a:r>
            <a:br>
              <a:rPr sz="6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99-196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сканирование0032"/>
          <p:cNvPicPr/>
          <p:nvPr/>
        </p:nvPicPr>
        <p:blipFill>
          <a:blip r:embed="rId1"/>
          <a:stretch/>
        </p:blipFill>
        <p:spPr>
          <a:xfrm>
            <a:off x="4716360" y="1700280"/>
            <a:ext cx="3821040" cy="4465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0"/>
          <p:cNvSpPr/>
          <p:nvPr/>
        </p:nvSpPr>
        <p:spPr>
          <a:xfrm>
            <a:off x="0" y="1628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mingway was born in Oak Park, Illin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rote 6 novels and more than 50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tyle of writing is stri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entences are short, his words-sim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The Old Man and the Sea”, “The Sun Also Rises”, “For Whom the Bell Toll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Ray Douglas Bradbury</a:t>
            </a:r>
            <a:br>
              <a:rPr sz="48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b. 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канирование0031"/>
          <p:cNvPicPr/>
          <p:nvPr/>
        </p:nvPicPr>
        <p:blipFill>
          <a:blip r:embed="rId1"/>
          <a:stretch/>
        </p:blipFill>
        <p:spPr>
          <a:xfrm>
            <a:off x="468360" y="1557360"/>
            <a:ext cx="3743280" cy="4535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0"/>
          <p:cNvSpPr/>
          <p:nvPr/>
        </p:nvSpPr>
        <p:spPr>
          <a:xfrm>
            <a:off x="4572000" y="170028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284720" y="1557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born in Illin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is an American author of many science-fiction short stories and five no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of his stories are important because they discuss the danger of runaway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Fahrenheit 451 degree”, “The Wonderful Ice Cream Suit”, “The Martian Chronicl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he sounds and syllables of language are combined in rhythmic w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015"/>
          <p:cNvPicPr/>
          <p:nvPr/>
        </p:nvPicPr>
        <p:blipFill>
          <a:blip r:embed="rId2"/>
          <a:stretch/>
        </p:blipFill>
        <p:spPr>
          <a:xfrm>
            <a:off x="468360" y="1773360"/>
            <a:ext cx="3816360" cy="45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33"/>
                </a:solidFill>
                <a:latin typeface="Arial"/>
              </a:rPr>
              <a:t>A no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7429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A novel is a long prose fiction stor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A Historical No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 novel where  the   characters take part in real events from the p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A </a:t>
            </a: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Humorous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2356920"/>
            <a:ext cx="79297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A story describing funny events and charac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A Short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Sto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999800"/>
            <a:ext cx="7858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 short work of prose fiction, that tells a new original story in contrast to retelling a traditional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An Adventur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tory where the characters take part in a series of events which are unusual, exciting and sometimes danger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Science-fi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143080"/>
            <a:ext cx="75722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 story or a novel about events that take place in the future or on another pla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Robert Frost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4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16000" y="2133360"/>
            <a:ext cx="4038840" cy="43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сканирование0029"/>
          <p:cNvPicPr/>
          <p:nvPr/>
        </p:nvPicPr>
        <p:blipFill>
          <a:blip r:embed="rId2"/>
          <a:stretch/>
        </p:blipFill>
        <p:spPr>
          <a:xfrm>
            <a:off x="4788000" y="2276640"/>
            <a:ext cx="374328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179280" y="2205000"/>
            <a:ext cx="430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179280" y="2060640"/>
            <a:ext cx="451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famous American poet was born in San Francisco, but spent a lot of time in New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ew England greatly influenced his po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on Pulitzer Prize in 1924, 1931, 1937, 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A Further Range”, “A Witness Tree”, “In the Clea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1:45:03Z</dcterms:created>
  <dc:creator>Миша</dc:creator>
  <dc:description/>
  <dc:language>en-US</dc:language>
  <cp:lastModifiedBy>Black.User</cp:lastModifiedBy>
  <dcterms:modified xsi:type="dcterms:W3CDTF">2013-02-13T19:04:29Z</dcterms:modified>
  <cp:revision>30</cp:revision>
  <dc:subject/>
  <dc:title>Creation of the Famous American Writers</dc:title>
</cp:coreProperties>
</file>