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D76-4878-4F21-9938-966C4FB1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B13-A3AB-44F6-AA77-3633461D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3E3-E579-47DB-AA5D-C8A28217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812-72F5-4EAA-BA08-04F3768A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CA65-6476-4497-8181-0D1DDF77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1FE1-E8F3-499D-828C-EAF699E2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04D6-6DAD-45AD-83E9-A3FAFEDB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7C45-BC86-4B44-8DF0-607EC2AA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10E-4250-40F1-BC16-3261C53D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4262-A212-4395-A957-DBB1F76B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243-1292-4BCA-A278-DAEFCF62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AE6-C4B6-4DB6-BC39-81ACBAC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CB86-EE2A-440F-9AE1-D154413E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A0A-81ED-47AE-A22D-F2D39D7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DCD2-DE82-4321-BAD3-F163BDE0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5E32-4D06-4F15-B21D-C4BE48E9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1A4F-B5F8-4637-B71C-4F9A54E4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91A6-9603-46AD-B0EB-D59B3AD6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E7E8-77D0-4E61-B855-B70B11AC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5FBD-82F6-4E0E-BA71-B369653D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6309C-8F58-4F3D-BB2D-51D0335B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5D91-1AE1-44D1-A20E-30776D73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C96-EBE3-4BB6-9FFD-9B35A3FE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349D-832A-43BD-BFF2-88364E69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FA26-153E-4C92-8595-09C9161B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A236-DC64-4FC5-A130-287AACF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A38C-BDE4-4FB3-9D99-5B880A0A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0248D-F863-4398-B968-6C05E3F1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0AEF8-2254-4B1F-B48C-2E94B49E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1DE7-BAF0-40AD-B7CB-20D38F34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97FA-B9B0-45F8-9DF9-418544F4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93BC-A9BC-4C68-89A2-BB2173A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1DB2-D94D-4F60-9D34-E04DE1D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9F9-9AC7-4B23-AA79-C3A93D08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6FD2D-3DBF-4EDF-991D-8F9DA0E0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EA9E-16F7-4FC8-B06A-61933A7B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BF868-43B5-4B65-89B5-E1150EC6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195A-4A1E-4529-A018-C64BA9BA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8C4D-812C-4CFB-9BB4-8342E2C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98D8-7783-4395-9F8E-E38E4540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651C-6B08-4D58-8AEC-25FDD686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8742-17FE-4B06-8F0B-4FA6BFAE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DDFC-CCE8-40A4-9A75-39808B7A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22BB1-680A-40B5-B937-6B272679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076-49EF-445D-99CE-A89C4944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C868-E0F6-4E30-BE1D-B9918F0D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2E860-AD2B-4634-8A6B-32670D85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524C9-EA94-4DCC-B76C-3CFB1581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CCD54-AC1C-4620-A1CE-5181FC03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997FE-FD76-44DD-8DB5-09EA2C76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5391-E8E1-4D51-9431-0113850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9AEC-29B0-47EF-8527-9AD6AF7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772F3-EEA2-4CC4-908C-3A4DCA4D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1218E-856B-49E9-9414-6F0E8F5C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65EBA-1C35-4500-8036-6DCEAB0E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E66-6D39-4AE5-A841-B296F3AD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216ED-5FBD-42C7-BCFE-86D1F87C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B6E-1BC8-4A6F-AD37-B6F9535F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E7A-2C95-4F9C-B6BC-66351E68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4A9-C611-42F1-9331-6E73E04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0F81-7BE0-4E81-A49A-A702F5CAF0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C26C-4A31-4073-8BC0-B69BC18CB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58F-2DBC-4FC9-BA28-EF1A81406CE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8DD-CEB0-47F7-89CD-67EE72A833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23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224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3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242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246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50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54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223B-E2BA-4ACB-8B96-CB0B08582E3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931400" y="-214200"/>
            <a:ext cx="49827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16040" y="4500720"/>
            <a:ext cx="791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на движе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7" descr="images"/>
          <p:cNvPicPr/>
          <p:nvPr/>
        </p:nvPicPr>
        <p:blipFill>
          <a:blip r:embed="rId1"/>
          <a:stretch/>
        </p:blipFill>
        <p:spPr>
          <a:xfrm>
            <a:off x="4786200" y="3071880"/>
            <a:ext cx="1729080" cy="1727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images"/>
          <p:cNvPicPr/>
          <p:nvPr/>
        </p:nvPicPr>
        <p:blipFill>
          <a:blip r:embed="rId2"/>
          <a:stretch/>
        </p:blipFill>
        <p:spPr>
          <a:xfrm>
            <a:off x="1143000" y="150012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images"/>
          <p:cNvPicPr/>
          <p:nvPr/>
        </p:nvPicPr>
        <p:blipFill>
          <a:blip r:embed="rId3"/>
          <a:stretch/>
        </p:blipFill>
        <p:spPr>
          <a:xfrm>
            <a:off x="3929040" y="1571760"/>
            <a:ext cx="1584360" cy="1295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CAH6EVP8"/>
          <p:cNvPicPr/>
          <p:nvPr/>
        </p:nvPicPr>
        <p:blipFill>
          <a:blip r:embed="rId4"/>
          <a:stretch/>
        </p:blipFill>
        <p:spPr>
          <a:xfrm>
            <a:off x="6215040" y="1500120"/>
            <a:ext cx="1873440" cy="1440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CAUJWR6P"/>
          <p:cNvPicPr/>
          <p:nvPr/>
        </p:nvPicPr>
        <p:blipFill>
          <a:blip r:embed="rId5"/>
          <a:stretch/>
        </p:blipFill>
        <p:spPr>
          <a:xfrm>
            <a:off x="2286000" y="3143160"/>
            <a:ext cx="1655640" cy="17287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0"/>
          <p:cNvSpPr/>
          <p:nvPr/>
        </p:nvSpPr>
        <p:spPr>
          <a:xfrm>
            <a:off x="5552640" y="5934240"/>
            <a:ext cx="34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 47 г. Пер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глова Татья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CAO5YBC1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CAOL2VE3"/>
          <p:cNvPicPr/>
          <p:nvPr/>
        </p:nvPicPr>
        <p:blipFill>
          <a:blip r:embed="rId2"/>
          <a:stretch/>
        </p:blipFill>
        <p:spPr>
          <a:xfrm>
            <a:off x="179280" y="260280"/>
            <a:ext cx="2303640" cy="28814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24"/>
          <p:cNvSpPr/>
          <p:nvPr/>
        </p:nvSpPr>
        <p:spPr>
          <a:xfrm>
            <a:off x="3060720" y="112536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5"/>
          <p:cNvSpPr/>
          <p:nvPr/>
        </p:nvSpPr>
        <p:spPr>
          <a:xfrm>
            <a:off x="3132000" y="1484280"/>
            <a:ext cx="30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 = V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3494880" y="40464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1617840" y="3284640"/>
            <a:ext cx="56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65 * 3 = 195 (км)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8"/>
          <p:cNvSpPr/>
          <p:nvPr/>
        </p:nvSpPr>
        <p:spPr>
          <a:xfrm>
            <a:off x="1617840" y="3933720"/>
            <a:ext cx="57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53 * 3 = 159 (км)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9"/>
          <p:cNvSpPr/>
          <p:nvPr/>
        </p:nvSpPr>
        <p:spPr>
          <a:xfrm>
            <a:off x="1544400" y="4508640"/>
            <a:ext cx="739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195 + 159 = 354 (км) – расстоя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орое прошли оба по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612720" y="692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 flipH="1">
            <a:off x="755640" y="278136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541080" y="4724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910880" y="1052640"/>
            <a:ext cx="24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838520" y="31417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1696680" y="5084640"/>
            <a:ext cx="30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1118520" y="177336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, 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,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1621080" y="378936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, мин, 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1837800" y="573408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м, м, дм, 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4861440" y="836640"/>
            <a:ext cx="393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V = S : 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4934520" y="2708280"/>
            <a:ext cx="393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 = S : 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934160" y="4724280"/>
            <a:ext cx="399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S = V * 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68360" y="1341360"/>
          <a:ext cx="8229600" cy="5002200"/>
        </p:xfrm>
        <a:graphic>
          <a:graphicData uri="http://schemas.openxmlformats.org/drawingml/2006/table">
            <a:tbl>
              <a:tblPr/>
              <a:tblGrid>
                <a:gridCol w="1942920"/>
                <a:gridCol w="2089440"/>
                <a:gridCol w="1655640"/>
                <a:gridCol w="2541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бъек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кор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рем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расстоя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лг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 км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ск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ч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0 км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тре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ем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 км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ерепа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ли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смиче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рабл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6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Text Box 87"/>
          <p:cNvSpPr/>
          <p:nvPr/>
        </p:nvSpPr>
        <p:spPr>
          <a:xfrm>
            <a:off x="7238160" y="1844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8"/>
          <p:cNvSpPr/>
          <p:nvPr/>
        </p:nvSpPr>
        <p:spPr>
          <a:xfrm>
            <a:off x="3205800" y="2421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9"/>
          <p:cNvSpPr/>
          <p:nvPr/>
        </p:nvSpPr>
        <p:spPr>
          <a:xfrm>
            <a:off x="515052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1"/>
          <p:cNvSpPr/>
          <p:nvPr/>
        </p:nvSpPr>
        <p:spPr>
          <a:xfrm>
            <a:off x="320580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2"/>
          <p:cNvSpPr/>
          <p:nvPr/>
        </p:nvSpPr>
        <p:spPr>
          <a:xfrm>
            <a:off x="716652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3"/>
          <p:cNvSpPr/>
          <p:nvPr/>
        </p:nvSpPr>
        <p:spPr>
          <a:xfrm>
            <a:off x="3278880" y="450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4"/>
          <p:cNvSpPr/>
          <p:nvPr/>
        </p:nvSpPr>
        <p:spPr>
          <a:xfrm>
            <a:off x="3278880" y="5013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5"/>
          <p:cNvSpPr/>
          <p:nvPr/>
        </p:nvSpPr>
        <p:spPr>
          <a:xfrm>
            <a:off x="3350160" y="5589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6"/>
          <p:cNvSpPr/>
          <p:nvPr/>
        </p:nvSpPr>
        <p:spPr>
          <a:xfrm>
            <a:off x="6879240" y="1916280"/>
            <a:ext cx="13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5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7"/>
          <p:cNvSpPr/>
          <p:nvPr/>
        </p:nvSpPr>
        <p:spPr>
          <a:xfrm>
            <a:off x="2845440" y="242100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к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0"/>
          <p:cNvSpPr/>
          <p:nvPr/>
        </p:nvSpPr>
        <p:spPr>
          <a:xfrm>
            <a:off x="5005440" y="299736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1"/>
          <p:cNvSpPr/>
          <p:nvPr/>
        </p:nvSpPr>
        <p:spPr>
          <a:xfrm>
            <a:off x="2629440" y="3429000"/>
            <a:ext cx="16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00 к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2"/>
          <p:cNvSpPr/>
          <p:nvPr/>
        </p:nvSpPr>
        <p:spPr>
          <a:xfrm>
            <a:off x="6806160" y="4005360"/>
            <a:ext cx="13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72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3"/>
          <p:cNvSpPr/>
          <p:nvPr/>
        </p:nvSpPr>
        <p:spPr>
          <a:xfrm>
            <a:off x="2774520" y="450864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 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4"/>
          <p:cNvSpPr/>
          <p:nvPr/>
        </p:nvSpPr>
        <p:spPr>
          <a:xfrm>
            <a:off x="2918160" y="501336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5 к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2918160" y="558972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7 к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4"/>
          <p:cNvSpPr/>
          <p:nvPr/>
        </p:nvSpPr>
        <p:spPr>
          <a:xfrm>
            <a:off x="1044000" y="62064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2053080" y="333360"/>
            <a:ext cx="8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3350160" y="90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3853080" y="40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4142520" y="1268280"/>
            <a:ext cx="12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м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4790520" y="620640"/>
            <a:ext cx="83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5869440" y="260280"/>
            <a:ext cx="8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5943240" y="1197000"/>
            <a:ext cx="9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7095240" y="6206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8102880" y="83664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594360" y="1305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5"/>
          <p:cNvSpPr/>
          <p:nvPr/>
        </p:nvSpPr>
        <p:spPr>
          <a:xfrm>
            <a:off x="2125440" y="119700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3112920" y="1665360"/>
            <a:ext cx="3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1458360" y="1809720"/>
            <a:ext cx="11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6714720" y="1809720"/>
            <a:ext cx="16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4554000" y="2025720"/>
            <a:ext cx="8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д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450000" y="238428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1"/>
          <p:cNvSpPr/>
          <p:nvPr/>
        </p:nvSpPr>
        <p:spPr>
          <a:xfrm>
            <a:off x="2702520" y="2421000"/>
            <a:ext cx="12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м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5778000" y="2384280"/>
            <a:ext cx="83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2702160" y="26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644544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529452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6"/>
          <p:cNvSpPr/>
          <p:nvPr/>
        </p:nvSpPr>
        <p:spPr>
          <a:xfrm>
            <a:off x="7453440" y="47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906120" y="3068640"/>
            <a:ext cx="77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ыпиши единицы измерения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8"/>
          <p:cNvSpPr/>
          <p:nvPr/>
        </p:nvSpPr>
        <p:spPr>
          <a:xfrm>
            <a:off x="5040" y="3789360"/>
            <a:ext cx="369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1) рас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9"/>
          <p:cNvSpPr/>
          <p:nvPr/>
        </p:nvSpPr>
        <p:spPr>
          <a:xfrm>
            <a:off x="3960" y="4724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2)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0"/>
          <p:cNvSpPr/>
          <p:nvPr/>
        </p:nvSpPr>
        <p:spPr>
          <a:xfrm>
            <a:off x="3240" y="5661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3) скор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960"/>
                            </p:stCondLst>
                            <p:childTnLst>
                              <p:par>
                                <p:cTn id="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80"/>
                            </p:stCondLst>
                            <p:childTnLst>
                              <p:par>
                                <p:cTn id="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880"/>
                            </p:stCondLst>
                            <p:childTnLst>
                              <p:par>
                                <p:cTn id="6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85 0.06151 C -0.0382 0.23052 -0.08906 0.39977 -0.10938 0.46729 E">
                                      <p:cBhvr>
                                        <p:cTn id="61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05688 C -0.03194 0.24786 -0.08871 0.43907 -0.11146 0.5156 E">
                                      <p:cBhvr>
                                        <p:cTn id="616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0.04208 C 0.25764 0.17549 0.48073 0.30959 0.57014 0.36323 E">
                                      <p:cBhvr>
                                        <p:cTn id="618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2 0.06335 C -0.01111 0.30404 -0.03264 0.54474 -0.04114 0.64115 E">
                                      <p:cBhvr>
                                        <p:cTn id="622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04 0.06428 C -0.05539 0.25434 -0.13664 0.44463 -0.16927 0.5207 E">
                                      <p:cBhvr>
                                        <p:cTn id="624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95 0.02983 C 0.24462 0.19376 0.41129 0.35769 0.47795 0.42312 E">
                                      <p:cBhvr>
                                        <p:cTn id="626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52 0.037 C 0.32917 0.16301 0.62882 0.28902 0.74861 0.33942 E">
                                      <p:cBhvr>
                                        <p:cTn id="628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6428 C -0.04896 0.30451 -0.06858 0.54497 -0.07639 0.64115 E">
                                      <p:cBhvr>
                                        <p:cTn id="632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5942 C -0.05296 0.26451 -0.1474 0.46983 -0.18507 0.55191 E">
                                      <p:cBhvr>
                                        <p:cTn id="634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74 0.03168 C 0.25399 0.20948 0.43125 0.38751 0.50208 0.45873 E">
                                      <p:cBhvr>
                                        <p:cTn id="636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303480" y="404640"/>
            <a:ext cx="88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ыбери правильное утвер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546840" y="1557360"/>
            <a:ext cx="780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корость – расстояние меж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вумя точка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256320" y="3500280"/>
            <a:ext cx="863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корость – это расстояни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ойденное за единицу врем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690120" y="5373720"/>
            <a:ext cx="77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корость – это быстрая ез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2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59"/>
                            </p:stCondLst>
                            <p:childTnLst>
                              <p:par>
                                <p:cTn id="6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2520" y="260280"/>
            <a:ext cx="9030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Соедини части одного и того же пра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39640" y="1052640"/>
            <a:ext cx="3241800" cy="129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тобы най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корость,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468360" y="2924280"/>
            <a:ext cx="3382920" cy="129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тобы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ремя,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324000" y="4724280"/>
            <a:ext cx="3598560" cy="12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тобы найти ра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ояние,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6"/>
          <p:cNvSpPr/>
          <p:nvPr/>
        </p:nvSpPr>
        <p:spPr>
          <a:xfrm>
            <a:off x="4859280" y="4581360"/>
            <a:ext cx="3816360" cy="14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сстояние раз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елить на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4716360" y="907920"/>
            <a:ext cx="4032360" cy="144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сстояние раз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елить на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4716360" y="2708280"/>
            <a:ext cx="403236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корость умн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5"/>
          <p:cNvSpPr/>
          <p:nvPr/>
        </p:nvSpPr>
        <p:spPr>
          <a:xfrm>
            <a:off x="3780000" y="1700280"/>
            <a:ext cx="1079280" cy="381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6"/>
          <p:cNvSpPr/>
          <p:nvPr/>
        </p:nvSpPr>
        <p:spPr>
          <a:xfrm flipV="1">
            <a:off x="3851280" y="1557000"/>
            <a:ext cx="865080" cy="21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"/>
          <p:cNvSpPr/>
          <p:nvPr/>
        </p:nvSpPr>
        <p:spPr>
          <a:xfrm flipV="1">
            <a:off x="3924360" y="3429000"/>
            <a:ext cx="79200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2520" y="333360"/>
            <a:ext cx="9030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Соедини части одного и того же пра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1187280" y="1844640"/>
            <a:ext cx="1729080" cy="115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S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1116000" y="3573360"/>
            <a:ext cx="1800360" cy="127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t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1116000" y="5300640"/>
            <a:ext cx="1800360" cy="113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V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5435640" y="5229360"/>
            <a:ext cx="237636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S :</a:t>
            </a: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5364000" y="1773360"/>
            <a:ext cx="2303640" cy="119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S :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6"/>
          <p:cNvSpPr/>
          <p:nvPr/>
        </p:nvSpPr>
        <p:spPr>
          <a:xfrm>
            <a:off x="5364000" y="3500280"/>
            <a:ext cx="237672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V *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8"/>
          <p:cNvSpPr/>
          <p:nvPr/>
        </p:nvSpPr>
        <p:spPr>
          <a:xfrm>
            <a:off x="2916360" y="2349360"/>
            <a:ext cx="2447640" cy="194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9"/>
          <p:cNvSpPr/>
          <p:nvPr/>
        </p:nvSpPr>
        <p:spPr>
          <a:xfrm>
            <a:off x="2916360" y="4149720"/>
            <a:ext cx="2519280" cy="180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0"/>
          <p:cNvSpPr/>
          <p:nvPr/>
        </p:nvSpPr>
        <p:spPr>
          <a:xfrm flipV="1">
            <a:off x="2916360" y="2205000"/>
            <a:ext cx="2447640" cy="36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1"/>
          <p:cNvSpPr/>
          <p:nvPr/>
        </p:nvSpPr>
        <p:spPr>
          <a:xfrm>
            <a:off x="2629080" y="907920"/>
            <a:ext cx="30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Arial"/>
              </a:rPr>
              <a:t>запом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7"/>
          <p:cNvSpPr/>
          <p:nvPr/>
        </p:nvSpPr>
        <p:spPr>
          <a:xfrm>
            <a:off x="644364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5292720" y="549360"/>
            <a:ext cx="324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"/>
          <p:cNvSpPr/>
          <p:nvPr/>
        </p:nvSpPr>
        <p:spPr>
          <a:xfrm>
            <a:off x="5292720" y="1773360"/>
            <a:ext cx="324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1"/>
          <p:cNvSpPr/>
          <p:nvPr/>
        </p:nvSpPr>
        <p:spPr>
          <a:xfrm>
            <a:off x="5292720" y="3068640"/>
            <a:ext cx="324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5292720" y="4292640"/>
            <a:ext cx="324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3"/>
          <p:cNvSpPr/>
          <p:nvPr/>
        </p:nvSpPr>
        <p:spPr>
          <a:xfrm>
            <a:off x="5364000" y="5589720"/>
            <a:ext cx="3240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5651640" y="119700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5580000" y="242100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5651640" y="371628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2"/>
          <p:cNvSpPr/>
          <p:nvPr/>
        </p:nvSpPr>
        <p:spPr>
          <a:xfrm>
            <a:off x="5651640" y="494172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5796000" y="623736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 flipV="1">
            <a:off x="7164360" y="83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 flipV="1">
            <a:off x="6516720" y="83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7"/>
          <p:cNvSpPr/>
          <p:nvPr/>
        </p:nvSpPr>
        <p:spPr>
          <a:xfrm>
            <a:off x="7164360" y="83664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8"/>
          <p:cNvSpPr/>
          <p:nvPr/>
        </p:nvSpPr>
        <p:spPr>
          <a:xfrm flipH="1">
            <a:off x="6084720" y="83664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0"/>
          <p:cNvSpPr/>
          <p:nvPr/>
        </p:nvSpPr>
        <p:spPr>
          <a:xfrm flipV="1">
            <a:off x="5580000" y="2060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1"/>
          <p:cNvSpPr/>
          <p:nvPr/>
        </p:nvSpPr>
        <p:spPr>
          <a:xfrm flipV="1">
            <a:off x="8028000" y="2060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2"/>
          <p:cNvSpPr/>
          <p:nvPr/>
        </p:nvSpPr>
        <p:spPr>
          <a:xfrm>
            <a:off x="5580000" y="206064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3"/>
          <p:cNvSpPr/>
          <p:nvPr/>
        </p:nvSpPr>
        <p:spPr>
          <a:xfrm flipH="1">
            <a:off x="7596000" y="206064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4"/>
          <p:cNvSpPr/>
          <p:nvPr/>
        </p:nvSpPr>
        <p:spPr>
          <a:xfrm flipV="1">
            <a:off x="6804000" y="3357720"/>
            <a:ext cx="0" cy="35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5"/>
          <p:cNvSpPr/>
          <p:nvPr/>
        </p:nvSpPr>
        <p:spPr>
          <a:xfrm>
            <a:off x="6804000" y="335772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6"/>
          <p:cNvSpPr/>
          <p:nvPr/>
        </p:nvSpPr>
        <p:spPr>
          <a:xfrm flipH="1">
            <a:off x="6443280" y="335772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7"/>
          <p:cNvSpPr/>
          <p:nvPr/>
        </p:nvSpPr>
        <p:spPr>
          <a:xfrm flipV="1">
            <a:off x="5651640" y="443700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651640" y="44370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9"/>
          <p:cNvSpPr/>
          <p:nvPr/>
        </p:nvSpPr>
        <p:spPr>
          <a:xfrm>
            <a:off x="5651640" y="4653000"/>
            <a:ext cx="64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1"/>
          <p:cNvSpPr/>
          <p:nvPr/>
        </p:nvSpPr>
        <p:spPr>
          <a:xfrm flipV="1">
            <a:off x="5796000" y="580536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2"/>
          <p:cNvSpPr/>
          <p:nvPr/>
        </p:nvSpPr>
        <p:spPr>
          <a:xfrm flipV="1">
            <a:off x="6877080" y="580536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3"/>
          <p:cNvSpPr/>
          <p:nvPr/>
        </p:nvSpPr>
        <p:spPr>
          <a:xfrm>
            <a:off x="5796000" y="5805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4"/>
          <p:cNvSpPr/>
          <p:nvPr/>
        </p:nvSpPr>
        <p:spPr>
          <a:xfrm>
            <a:off x="6877080" y="5805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55"/>
          <p:cNvSpPr/>
          <p:nvPr/>
        </p:nvSpPr>
        <p:spPr>
          <a:xfrm>
            <a:off x="324000" y="189000"/>
            <a:ext cx="4464000" cy="1295280"/>
          </a:xfrm>
          <a:prstGeom prst="ellipse">
            <a:avLst/>
          </a:prstGeom>
          <a:solidFill>
            <a:srgbClr val="86f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вух гаражей одновре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стречу друг другу выех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57"/>
          <p:cNvSpPr/>
          <p:nvPr/>
        </p:nvSpPr>
        <p:spPr>
          <a:xfrm>
            <a:off x="324000" y="1557360"/>
            <a:ext cx="4465440" cy="1150920"/>
          </a:xfrm>
          <a:prstGeom prst="ellipse">
            <a:avLst/>
          </a:prstGeom>
          <a:solidFill>
            <a:srgbClr val="fcbc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гаража одновре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дном на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ехали две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9"/>
          <p:cNvSpPr/>
          <p:nvPr/>
        </p:nvSpPr>
        <p:spPr>
          <a:xfrm>
            <a:off x="179280" y="5589720"/>
            <a:ext cx="4608720" cy="11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гаража одновре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тивоположных направл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ехали две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61"/>
          <p:cNvSpPr/>
          <p:nvPr/>
        </p:nvSpPr>
        <p:spPr>
          <a:xfrm>
            <a:off x="179280" y="4221000"/>
            <a:ext cx="4753080" cy="1224000"/>
          </a:xfrm>
          <a:prstGeom prst="ellipse">
            <a:avLst/>
          </a:prstGeom>
          <a:solidFill>
            <a:srgbClr val="f9c3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вух гаражей одновре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тивоположных направл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ехали две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179280" y="2781360"/>
            <a:ext cx="4608720" cy="1297080"/>
          </a:xfrm>
          <a:prstGeom prst="ellipse">
            <a:avLst/>
          </a:prstGeom>
          <a:solidFill>
            <a:srgbClr val="d9f0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вух гаражей одноврем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дном направл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ехали две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5"/>
          <p:cNvSpPr/>
          <p:nvPr/>
        </p:nvSpPr>
        <p:spPr>
          <a:xfrm>
            <a:off x="4716360" y="981000"/>
            <a:ext cx="5763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6"/>
          <p:cNvSpPr/>
          <p:nvPr/>
        </p:nvSpPr>
        <p:spPr>
          <a:xfrm>
            <a:off x="4716360" y="2276640"/>
            <a:ext cx="576360" cy="25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>
            <a:off x="4643280" y="3645000"/>
            <a:ext cx="7207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9"/>
          <p:cNvSpPr/>
          <p:nvPr/>
        </p:nvSpPr>
        <p:spPr>
          <a:xfrm flipV="1">
            <a:off x="4500720" y="1052640"/>
            <a:ext cx="79200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70"/>
          <p:cNvSpPr/>
          <p:nvPr/>
        </p:nvSpPr>
        <p:spPr>
          <a:xfrm flipV="1">
            <a:off x="4427640" y="3429000"/>
            <a:ext cx="86508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AO5YBC1"/>
          <p:cNvPicPr/>
          <p:nvPr/>
        </p:nvPicPr>
        <p:blipFill>
          <a:blip r:embed="rId1"/>
          <a:stretch/>
        </p:blipFill>
        <p:spPr>
          <a:xfrm>
            <a:off x="826920" y="3500280"/>
            <a:ext cx="2953080" cy="1640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images"/>
          <p:cNvPicPr/>
          <p:nvPr/>
        </p:nvPicPr>
        <p:blipFill>
          <a:blip r:embed="rId2"/>
          <a:stretch/>
        </p:blipFill>
        <p:spPr>
          <a:xfrm>
            <a:off x="5219640" y="3429000"/>
            <a:ext cx="2737080" cy="16556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6"/>
          <p:cNvSpPr/>
          <p:nvPr/>
        </p:nvSpPr>
        <p:spPr>
          <a:xfrm>
            <a:off x="360360" y="33336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асстояние в 240 км поезд может пройти за 4 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 самолёт пролететь за 16 мин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59560" y="1413000"/>
            <a:ext cx="85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колько километров проходит поезд за 1 час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982440" y="206064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колько километров может пролет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амолёт за 1 минуту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478520" y="299736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0 к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654520" y="2924280"/>
            <a:ext cx="19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5 к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2409480" y="5300640"/>
            <a:ext cx="652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о расстояние, пройд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 единицу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467280" y="530064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4141440" y="501336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395280" y="83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7885080" y="191628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539640" y="5877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612720" y="692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 flipH="1">
            <a:off x="755640" y="278136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541080" y="4724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910880" y="1052640"/>
            <a:ext cx="24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838520" y="31417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1696680" y="5084640"/>
            <a:ext cx="30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1118520" y="177336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, 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,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621080" y="378936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, мин, 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1837800" y="573408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м, м, дм, 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245520" y="0"/>
            <a:ext cx="855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оря идёт от дома до школы 10 м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Лена – 15 мин. У кого скорость больше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 Бори или у Лен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CA5UY2OT"/>
          <p:cNvPicPr/>
          <p:nvPr/>
        </p:nvPicPr>
        <p:blipFill>
          <a:blip r:embed="rId1"/>
          <a:stretch/>
        </p:blipFill>
        <p:spPr>
          <a:xfrm>
            <a:off x="5651640" y="1557360"/>
            <a:ext cx="1800000" cy="1717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A87O3S5"/>
          <p:cNvPicPr/>
          <p:nvPr/>
        </p:nvPicPr>
        <p:blipFill>
          <a:blip r:embed="rId2"/>
          <a:stretch/>
        </p:blipFill>
        <p:spPr>
          <a:xfrm>
            <a:off x="1476360" y="1557360"/>
            <a:ext cx="2303640" cy="1741320"/>
          </a:xfrm>
          <a:prstGeom prst="rect">
            <a:avLst/>
          </a:prstGeom>
          <a:ln w="0">
            <a:noFill/>
          </a:ln>
        </p:spPr>
      </p:pic>
      <p:sp>
        <p:nvSpPr>
          <p:cNvPr id="377" name="Oval 7"/>
          <p:cNvSpPr/>
          <p:nvPr/>
        </p:nvSpPr>
        <p:spPr>
          <a:xfrm>
            <a:off x="179280" y="3573360"/>
            <a:ext cx="4140360" cy="2662200"/>
          </a:xfrm>
          <a:prstGeom prst="ellipse">
            <a:avLst/>
          </a:prstGeom>
          <a:solidFill>
            <a:srgbClr val="fcbc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умаю, Боря идёт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ей скоро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 он тр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дорогу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9"/>
          <p:cNvSpPr/>
          <p:nvPr/>
        </p:nvSpPr>
        <p:spPr>
          <a:xfrm>
            <a:off x="4500720" y="3284640"/>
            <a:ext cx="4392360" cy="3573360"/>
          </a:xfrm>
          <a:prstGeom prst="ellipse">
            <a:avLst/>
          </a:prstGeom>
          <a:solidFill>
            <a:srgbClr val="eae8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умаю, мы не мо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ить на этот вопро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 не знаем, к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тояние про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я за 10 м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а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а за 15 мин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410560" y="3213000"/>
            <a:ext cx="37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ополни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2265840" y="3645000"/>
            <a:ext cx="431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оря проходит 1 к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Лена – 15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3780720" y="206064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469080" y="206064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1408680" y="4724280"/>
            <a:ext cx="61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ря   1000 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 = 100 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1335960" y="5229360"/>
            <a:ext cx="61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на   1500 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5 мин = 100 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2987640" y="5589720"/>
            <a:ext cx="102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2987640" y="5589720"/>
            <a:ext cx="299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V = S :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12720" y="692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 flipH="1">
            <a:off x="755640" y="278136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41080" y="4724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1910880" y="1052640"/>
            <a:ext cx="24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38520" y="31417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1696680" y="5084640"/>
            <a:ext cx="30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1118520" y="177336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, 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,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1621080" y="378936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, мин, 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1837800" y="573408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м, м, дм, 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4861440" y="836640"/>
            <a:ext cx="393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V = S : 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CAUJWR6P"/>
          <p:cNvPicPr/>
          <p:nvPr/>
        </p:nvPicPr>
        <p:blipFill>
          <a:blip r:embed="rId1"/>
          <a:stretch/>
        </p:blipFill>
        <p:spPr>
          <a:xfrm>
            <a:off x="684360" y="1268280"/>
            <a:ext cx="2232000" cy="2952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3850920" y="333360"/>
            <a:ext cx="480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 какое врем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лосипедист прое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сстояние 36 к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сли он ед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 скоростью 12 км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4067280" y="407664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8"/>
          <p:cNvSpPr/>
          <p:nvPr/>
        </p:nvSpPr>
        <p:spPr>
          <a:xfrm rot="16200000">
            <a:off x="5683320" y="2460600"/>
            <a:ext cx="657360" cy="3889440"/>
          </a:xfrm>
          <a:custGeom>
            <a:avLst/>
            <a:gdLst>
              <a:gd name="textAreaLeft" fmla="*/ 420120 w 657360"/>
              <a:gd name="textAreaRight" fmla="*/ 657720 w 65736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437800" y="465300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 flipV="1">
            <a:off x="4067280" y="37159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4067280" y="3716280"/>
            <a:ext cx="129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3853440" y="321300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5581800" y="3645000"/>
            <a:ext cx="10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-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609840" y="4724280"/>
            <a:ext cx="41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6 к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2 к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 = 3 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3060720" y="53006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3132000" y="5373720"/>
            <a:ext cx="299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 = S : 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12720" y="692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 flipH="1">
            <a:off x="755640" y="278136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541080" y="4724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910880" y="1052640"/>
            <a:ext cx="24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838520" y="31417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696680" y="5084640"/>
            <a:ext cx="30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1118520" y="177336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, 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,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1621080" y="378936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, мин, 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1837800" y="573408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м, м, дм, 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4861440" y="836640"/>
            <a:ext cx="393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V = S : 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4934520" y="2708280"/>
            <a:ext cx="393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 = S : 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CAO5YBC1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AOL2VE3"/>
          <p:cNvPicPr/>
          <p:nvPr/>
        </p:nvPicPr>
        <p:blipFill>
          <a:blip r:embed="rId2"/>
          <a:stretch/>
        </p:blipFill>
        <p:spPr>
          <a:xfrm>
            <a:off x="179280" y="260280"/>
            <a:ext cx="2303640" cy="28814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2561040" y="260280"/>
            <a:ext cx="499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з двух городов од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ременно навстре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руг другу вышли д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езда и встрети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ерез 3 часа.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дного поезда 65 к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корость другого – 53 к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4069080" y="378936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907920" y="32846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кое расстояние прошёл первый поезд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909720" y="378936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кое расстояние прошёл второй поезд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194840" y="4292640"/>
            <a:ext cx="70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кое расстояние прошли оба поезда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"/>
          <p:cNvSpPr/>
          <p:nvPr/>
        </p:nvSpPr>
        <p:spPr>
          <a:xfrm>
            <a:off x="1979640" y="5805360"/>
            <a:ext cx="49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3"/>
          <p:cNvSpPr/>
          <p:nvPr/>
        </p:nvSpPr>
        <p:spPr>
          <a:xfrm>
            <a:off x="4643280" y="522936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4"/>
          <p:cNvSpPr/>
          <p:nvPr/>
        </p:nvSpPr>
        <p:spPr>
          <a:xfrm rot="5400000">
            <a:off x="4642920" y="5229000"/>
            <a:ext cx="287280" cy="28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 flipV="1">
            <a:off x="1979640" y="5444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1979640" y="5445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7"/>
          <p:cNvSpPr/>
          <p:nvPr/>
        </p:nvSpPr>
        <p:spPr>
          <a:xfrm flipV="1">
            <a:off x="6948360" y="5444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8"/>
          <p:cNvSpPr/>
          <p:nvPr/>
        </p:nvSpPr>
        <p:spPr>
          <a:xfrm flipH="1">
            <a:off x="5795640" y="544500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9"/>
          <p:cNvSpPr/>
          <p:nvPr/>
        </p:nvSpPr>
        <p:spPr>
          <a:xfrm>
            <a:off x="2700360" y="5734080"/>
            <a:ext cx="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0"/>
          <p:cNvSpPr/>
          <p:nvPr/>
        </p:nvSpPr>
        <p:spPr>
          <a:xfrm>
            <a:off x="3492360" y="5734080"/>
            <a:ext cx="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1"/>
          <p:cNvSpPr/>
          <p:nvPr/>
        </p:nvSpPr>
        <p:spPr>
          <a:xfrm>
            <a:off x="5364000" y="5734080"/>
            <a:ext cx="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2"/>
          <p:cNvSpPr/>
          <p:nvPr/>
        </p:nvSpPr>
        <p:spPr>
          <a:xfrm>
            <a:off x="6156360" y="5734080"/>
            <a:ext cx="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3"/>
          <p:cNvSpPr/>
          <p:nvPr/>
        </p:nvSpPr>
        <p:spPr>
          <a:xfrm>
            <a:off x="1549800" y="486900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4"/>
          <p:cNvSpPr/>
          <p:nvPr/>
        </p:nvSpPr>
        <p:spPr>
          <a:xfrm>
            <a:off x="5653800" y="486900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3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5"/>
          <p:cNvSpPr/>
          <p:nvPr/>
        </p:nvSpPr>
        <p:spPr>
          <a:xfrm rot="16200000">
            <a:off x="4319640" y="3537000"/>
            <a:ext cx="288720" cy="4968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5400" y="10813"/>
                  <a:pt x="0" y="10813"/>
                </a:cubicBezTo>
                <a:cubicBezTo>
                  <a:pt x="54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3997800" y="609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7"/>
          <p:cNvSpPr/>
          <p:nvPr/>
        </p:nvSpPr>
        <p:spPr>
          <a:xfrm>
            <a:off x="3061080" y="112536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8"/>
          <p:cNvSpPr/>
          <p:nvPr/>
        </p:nvSpPr>
        <p:spPr>
          <a:xfrm>
            <a:off x="3132000" y="1197000"/>
            <a:ext cx="30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 = V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36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72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7:13:51Z</dcterms:created>
  <dc:creator>ANDREY</dc:creator>
  <dc:description/>
  <dc:language>en-US</dc:language>
  <cp:lastModifiedBy>ANDREY</cp:lastModifiedBy>
  <dcterms:modified xsi:type="dcterms:W3CDTF">2013-02-12T19:23:54Z</dcterms:modified>
  <cp:revision>16</cp:revision>
  <dc:subject/>
  <dc:title>Задачи на движение</dc:title>
</cp:coreProperties>
</file>