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932-3018-4C74-B1E9-1E36B390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188-CD1B-4C7F-A561-A4FB464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30F-3845-4C00-AAC7-2744906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65D-5437-43DD-9439-7DCB06FD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7C7-3385-4B73-A335-FC5D7504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786D-60C7-4545-BBA3-F428A4E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86A8-49E8-4A8E-87CC-0C4381A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9755-6D9E-4B23-9C14-18376EF7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F3C6-852D-44D7-B38E-C195E3B4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4BDE-74F2-4A08-9A83-A40CD59C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DECC-1C5F-43D8-A0F2-B063B09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BB2-5905-4A3E-90EF-1947F74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F3B-9926-4C22-9013-9376472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717-0116-4EC1-BEE3-6AC6BE60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36A-3B39-4E46-BD32-D83C142B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6B10-3E8A-4CF8-A3C3-A7FE929A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49EC-9C06-4DFD-A189-E28CB5A1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D50-2D3D-4BC9-9E09-A98BDE68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6F6-F336-4981-BBB2-D2B6FF2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605-C759-4D01-B4A7-8A7416B4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8DC-0DD5-4858-8547-8AEAC78C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075-7BA8-4FD2-9F97-4AD6AB4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872-E4C4-46B3-B058-7C9908F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895-ED5C-48F9-AAA6-EEBC33B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F50-0666-459B-B0ED-DDDEAF3AC3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DD4-A272-4B08-A920-DD96E7C66D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резентация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Зве</a:t>
            </a:r>
            <a:r>
              <a:rPr b="1" lang="tt-RU" sz="1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ный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ча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amous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ght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Mosc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36600" y="34290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Arial"/>
              </a:rPr>
              <a:t>МБОУ</a:t>
            </a:r>
            <a:r>
              <a:rPr b="1" lang="tt-RU" sz="1800" spc="-1" strike="noStrike">
                <a:solidFill>
                  <a:srgbClr val="feec94"/>
                </a:solidFill>
                <a:latin typeface="Arial"/>
              </a:rPr>
              <a:t> СОШ №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eec94"/>
                </a:solidFill>
                <a:latin typeface="Arial"/>
              </a:rPr>
              <a:t>Тараева Р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Е.В.Дзюнина «Игровые уроки и внеклассные мероприятия на английском языке», Москва, «ВАКО»,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Башмаков А.И., Башмаков И.А. Разработка компьютерных учебников и обучающих систем. - М.: Информационно-издательский дом "Филинъ", 2003. ‑ 616 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обобщение изученного материала  по теме “Достопримечательности Москвы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азвитие аудитивных , грамматических и лексических навык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азвитие интереса учащихся к изучению английского языка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1 ту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362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 Basil’s Cat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pensky Cat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asskaya T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tyakov Gall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shkin Museum of Fine 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1800360" cy="155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1667160" cy="1425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1700280" cy="157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020000" y="1197000"/>
            <a:ext cx="1482480" cy="221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79280" y="1176480"/>
            <a:ext cx="2305080" cy="16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2 тур    </a:t>
            </a:r>
            <a:br>
              <a:rPr sz="40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oose the right answer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pital of Russia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St Petersburg    b) Ye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inbur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Mosc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The capital of Russia in 1900 w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St Petersburg    b) Ye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inburg    c) Mosc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st famous  Moscow theatr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the Bolshoi Theatr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) the Mali Theatre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the Grand Op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42720" cy="144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under of the Tretyakov Gallery w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Pavel Tretyakov     b) Savva Morozov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Yuri Dolgoruki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Tretyakov Gallery you can s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t of books    b) the treasures of the tsars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beautiful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Armory Chamber you can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t of stones     b) the treasures of the tsars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 beautiful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512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3 тур</a:t>
            </a:r>
            <a:br>
              <a:rPr sz="4000"/>
            </a:br>
            <a:r>
              <a:rPr b="0" i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sert the articles where necessary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 were i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…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co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a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…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 of sight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you know abou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…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tyakov Galler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  (…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cow metro looks like a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There are many fantastic buildings in (…) capital of our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(…) Kremlin is in (…) Red Squ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What is the (…) most famous Moscow theat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I have never been to (…) Red Squ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(…) clock which we can see today was installed in (…) middle of (…) 19-th cen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 тур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ad the sentenc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587840" cy="29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250920" y="1773360"/>
          <a:ext cx="8569080" cy="1224000"/>
        </p:xfrm>
        <a:graphic>
          <a:graphicData uri="http://schemas.openxmlformats.org/drawingml/2006/table">
            <a:tbl>
              <a:tblPr/>
              <a:tblGrid>
                <a:gridCol w="576000"/>
                <a:gridCol w="505080"/>
                <a:gridCol w="647640"/>
                <a:gridCol w="431640"/>
                <a:gridCol w="576360"/>
                <a:gridCol w="576360"/>
                <a:gridCol w="431640"/>
                <a:gridCol w="576360"/>
                <a:gridCol w="647640"/>
                <a:gridCol w="576360"/>
                <a:gridCol w="647640"/>
                <a:gridCol w="649440"/>
                <a:gridCol w="503280"/>
                <a:gridCol w="576000"/>
                <a:gridCol w="647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5</a:t>
            </a: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 тур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Hospitable</a:t>
            </a: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700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ur game is o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16360" y="1986120"/>
            <a:ext cx="324000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8:13Z</dcterms:created>
  <dc:creator>User</dc:creator>
  <dc:description/>
  <dc:language>en-US</dc:language>
  <cp:lastModifiedBy>Customer</cp:lastModifiedBy>
  <dcterms:modified xsi:type="dcterms:W3CDTF">2013-02-12T12:39:15Z</dcterms:modified>
  <cp:revision>13</cp:revision>
  <dc:subject/>
  <dc:title>Звездный час  A famous sight  of Moscow  Выполнил: учитель английского языка Каратунской средней общеобразовательной школы с углубленным изучением отдельных предметов Апстовского муниципального района РТ: Печкова Р.Х. </dc:title>
</cp:coreProperties>
</file>