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7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.jpeg" ContentType="image/jpeg"/>
  <Override PartName="/ppt/media/image10.png" ContentType="image/png"/>
  <Override PartName="/ppt/media/image29.png" ContentType="image/png"/>
  <Override PartName="/ppt/media/chimes.wav" ContentType="audio/x-wav"/>
  <Override PartName="/ppt/media/image16.jpeg" ContentType="image/jpeg"/>
  <Override PartName="/ppt/media/image2.png" ContentType="image/png"/>
  <Override PartName="/ppt/media/image25.png" ContentType="image/png"/>
  <Override PartName="/ppt/media/image13.png" ContentType="image/png"/>
  <Override PartName="/ppt/media/image14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B8A-5A83-486D-9216-63E3141C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6043-FA5E-4A3A-BB9F-ED2D4E2E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C8E-A126-4906-90E4-EF9B9C95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78C-9098-4AEC-9583-C0D2D91F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5C6E-66FA-4309-BFA4-8F34B9EB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3021-8547-4EAF-B90D-3A10D609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1587-795B-40A0-83C4-8C00F34A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F48A-C23D-44BB-92CA-C408BF11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2E58-BFA1-4DAA-8243-C7FBE34B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F101-3484-4511-8806-FE275F49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CDFF-7231-49F6-9CF4-4D894E95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3BA-B35F-4B0A-BCCA-3DA1854E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1561-B440-41CE-BC08-CC632EAA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36D9-BBCA-4EC1-9EB9-66E714C9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F11D-31ED-464F-A207-33693C05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EF3F-944C-41FB-AF78-AE825662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E4DD-8D5B-4FEF-BB05-39663E9F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CE7A7-1066-4D0B-87BA-C6749366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EAB00-C72D-4D6B-AC51-EB863D47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10751-B80E-47FC-8A34-58269FFA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3F803-EE1F-4984-9F6E-B60BFA15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CB6EE-E657-4467-900F-148188B9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664-6577-4D32-96FC-05EE514B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BDEE4-349C-47A5-BB57-4FB24CAA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1512E-8F6F-4EF9-94F6-E4C43145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4C01-B8E3-496C-90F2-C94DFD47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F5CFE-CDE2-4B6A-8F7E-15BDD52B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6193-EA10-43C0-BFC9-773630F0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AFD21-D328-477C-A6D5-81A35B76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5C8F9-6217-47A7-9D7D-BA283104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9D7F4-7D99-4B5B-84A4-617C0921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9E161-FA2B-41C1-9785-FFC2029E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0BBFF-5CB8-4719-9BE2-06E77C50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75D-5A1F-4D99-A92F-F21C452E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74416-6E9F-4279-A879-E2430A8E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68485-5827-4662-ABE4-E1E52B0B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B9620-28B2-4791-B2DC-CB6C6EA3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1A1F6-B99B-46A4-859E-9F1E2B43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23669-0994-4B05-85D0-1B826203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B0FDC-AB9B-4E07-A9A5-FBE8F92D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0CDF-D671-4094-BBA9-87FDD8EE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C7237-8B95-42A8-8EBA-48A2F25F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C4693-6A2C-41F2-B0CF-E9C91FD4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6CC39-57B6-4B99-BBB4-EC88AC20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7CF-6189-49D6-8308-A06A947F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4F7AF-F5D4-40A8-93DF-BBD52AA8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3AB38-DA45-45FF-ADD3-A223E5D3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2E310-B952-4540-B0DE-7402D8F1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FFED0-BADE-4165-87A9-12681417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624FC-AF77-446A-B9F5-427A41D7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563F0-1AC1-463E-B1DB-4FA5E087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7F01B-BC97-40DC-A93E-925D734A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30B9E-DD98-4A63-86E2-F3B2181A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06870-D6F4-477C-90CA-E70490A5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E5196-19F0-409F-861F-FEB0E6AE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A127-4F45-4509-8B27-364737DC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8E594-0898-43FB-8F51-EBF03A0D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4AE25-93B1-4F7B-9DD1-94873F8B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A51DD-9500-46A1-9D00-CBEA25C5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DE5F6-0DA8-40F7-8FDD-E4CE4026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05309-1D25-4A68-B11D-291D3282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738B0-9DBA-4D69-AA9B-0E63E8E5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2E567-907F-4AEA-9A2E-32C8DCFC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7E247-E9EA-4EF3-84C2-79E1F0B8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F6E78-4789-4E1E-9F2F-68A348BA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4F0CA-9EBB-4B40-9AC1-AAA68235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EEF-516E-4C69-8F95-0BFED999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4AB36-F802-48FC-B6EB-8FC5B6A8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E2904-4629-44F4-A45F-E6FD976B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57B57-DA09-4E58-A025-AB0C010A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3A724-C855-4101-A451-00FCDE7B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32551-D51B-47A9-9A6E-CBA76755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68A19-84C6-4B5E-B0F0-EB35BC68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9E6BB-B11D-4C98-A6D2-1C0730A5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10908-4796-4365-A36E-9262E49A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EECF6-8E31-47B0-8195-56CF98E0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C68E3-1E32-4A47-A976-C37209E3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518-4B8A-48FA-803F-8CF8A7CF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F91F4-CE1F-493A-8D3D-A3073FBA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61967-3F79-404B-8D28-8FC13AF3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13797-CCF6-4641-AFAD-F25A4547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FE2D7-9D81-4C4B-97DB-324383BF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BDE65-2DFC-4F40-93A7-C3BD7858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2905A-2F94-4FCF-A95C-25BA26D4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25B8E-CF03-49EF-BD54-F3BDE721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F9EE3-FB67-44D7-8546-2F1A8409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EE93E-721D-4507-85F1-4A0D6434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93273-87C7-4B24-BE0B-0E7C07E5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EAE-5D44-40EF-99C4-1AEA7180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54412-09D7-4BD3-9ADA-8BD58A1E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50FBD-1DC2-49EA-B01F-522E190A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F6EBE-53C2-468B-8048-E10EF744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3C70C-062F-43BD-A032-82EF2C1F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F7DE3-C537-45BF-A57E-C5898681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EFDE8-C0D9-4993-B719-E9FB621E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ED481-3AEB-4A40-927E-7A6688E6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E086-7F42-467A-8134-97D2B5D8446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AF08-AC83-42F0-BC1B-65D91974866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1884-A5A5-4535-99BC-394EECE01A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7785-DF02-47C6-A59A-3367F784B7E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1C73-BD10-402E-8F73-21C4C9078CE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E5E8-7A89-4BEB-A7CB-E0833BAA56AB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E8C0-62A3-428D-8C64-26FE6662848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71e5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ac66bb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de6c3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f9b639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cf6da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9169-38C3-4973-8411-5FC760603B1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71720" y="333360"/>
            <a:ext cx="738504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ff0000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2143080" y="2857320"/>
            <a:ext cx="6500880" cy="35002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Автор  проекта :  ученица 9 –Г класс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венян Софья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МБОУ СОШ № 4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г-к Анапа   Краснодарского кра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Учитель технологии 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удакова Н. С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2013 год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48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73080"/>
            <a:ext cx="7437600" cy="19749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8467920" cy="19382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68360" y="220464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личные нож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Шил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ожниц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оска для раскро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аленькие плоскогубц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0" y="2205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еталлическая линей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ластмассовые угольни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инце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е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олото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89000" y="274680"/>
            <a:ext cx="8504280" cy="1792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жа (тонкая и толстая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рто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веч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ревянная рамк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лей «Момент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аска для кож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255600" y="128520"/>
            <a:ext cx="8437680" cy="7128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23640" y="1428480"/>
            <a:ext cx="8605800" cy="5429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готовить рабочий стол – прикрепить рабочую доску, разложить материалы и инструмент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жу заранее рассортировать и сложить в целлофановый пак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ожи должны храниться в чехольчиках, пробойники – в коробочка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ожницы, шило, ручки, линейки, тюбики с клеем удобно ставить в высокую емкость с широким дн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робочки для мелких деталей, выкроек, фурнитуры нужно подписа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еред работой надевать фарту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обходимо иметь под рукой тряпочку, чтобы вытереть руки от клея и протереть сто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блюдайте эти мелочи и – и успех в работе вам гарантирован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499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работе с режущими предмет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ожи, ножницы хранить в чехольчика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ожницы класть сомкнутыми лезвиями от работающег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ередавая ножницы держать их за сомкнутые лезвия, нож – ручкой вперед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и работе со свечкой 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 время работы обязательно проветривать помещен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ыть предельно внимательным, работая с открытым огне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ГОТОВКА ФОНА И РАМ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дготовить деревянную рамку необходимого размер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резать картонную основ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 основу приклеить кусочки кожи, предназначенной для фона картины, таким образом, чтобы все складки и заломы исходили из левого нижнего угл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тянутый кожей картон плотно вставить в рамку и закрепить его маленькими гвоздикам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304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ОЗ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делать из картона трафареты лепестков по выкройкам (я их нарисовала сама, четырех размеров.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 трафаретам выкроить лепестки из кож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работать каждый лепесток над пламенем свечи, помня, что лепесток изгибается в сторону пламен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чинать собирать розу надо с самых мелких лепестков, приклеивая их «Моментом» по часовой стрелке, постепенно переходя на более крупны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разовавшуюся ножку срезать острым ножом (можно под некоторым углом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аким образом сделать необходимое количество роз и бутон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68360" y="149976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ИСТЬ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делать из картона  трафареты листьев по выкройка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 трафаретам вырезать листья из кож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стрым сапожным ножом сделать с лицевой стороны неглубокие надрез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«Раскрыть»  прожилки листьев, сложив лист пополам вдоль каждой прожилки изнанка к изнанке, зажать этот сгиб пинцетом и обработать над пламенем свечи быстрым движением, едва касаясь язычка пламен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работать над пламенем свечи края листьев и весь лист для того чтобы он слегка изогнул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готовить таким образом необходимое количество листье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539640" y="1557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БОРКА ПАНН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положить розы и листья в произвольном порядке и приклеить их клеем «Момент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чистить картину ватным тампоном, смоченном в растворителе, в местах где она, возможно, испачкалась 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крыть  картину акриловой краско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9274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жа – дорогой материал ,ее очень трудно достать. Учитывая, что в своей работе я использовала уже бывшую в употреблении кожу, а рамку  изготовил мой брат, себестоимость панно составила 104 рубл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2 тюбика клея по 18 рублей, акриловые краски- красная и зеленая по 30 рублей, свечка 8рублей 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магазинах города подобные сувениры стоят от 700 рублей и выше, а значит моя проектная работа экономически целесообраз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зданное мною панно производит положительный эмоциональный эффект, выполнено аккуратно, качественно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Если договориться со скорняжной мастерской или с ателье по пошиву кожаных изделий и забирать остатки кроя, то можно организовать свою мастерскую по производству сувениров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ак же можно дать объявление о приеме старых кожаных вещей за умеренную плату, что тоже будет экономически выгодно, так как на изделия такого плана сложилась очень высокая цен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Я считаю, что моя проектная работа заслуживает оценки «5» балл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743360" cy="5300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изводство и обработка кожи - одно из древнейших занятий человека. Археологические находки показали, что еще в каменном веке человек добротно выделывал кожу. Из кожи изготавливали обувь, воинские доспехи, оружие, маски для представлений, посуду и многое другое. Поэтому я выбрала данный вид рукоделия и хочу выполнить декоративное панно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4" descr="Изображение 036"/>
          <p:cNvPicPr/>
          <p:nvPr/>
        </p:nvPicPr>
        <p:blipFill>
          <a:blip r:embed="rId1"/>
          <a:stretch/>
        </p:blipFill>
        <p:spPr>
          <a:xfrm>
            <a:off x="4859280" y="1700280"/>
            <a:ext cx="4091040" cy="4608360"/>
          </a:xfrm>
          <a:prstGeom prst="rect">
            <a:avLst/>
          </a:prstGeom>
          <a:ln w="0">
            <a:noFill/>
          </a:ln>
        </p:spPr>
      </p:pic>
      <p:pic>
        <p:nvPicPr>
          <p:cNvPr id="351" name="Rectangle 5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6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3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d71e5f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1405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orbel"/>
              </a:rPr>
              <a:t>В холодный зимний день эти прекрасные розы напомнят вам о радостях жаркого лета. Не грустите, ведь лето когда-нибудь вернется!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20000">
    <p:newsflash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500040" y="2565000"/>
            <a:ext cx="8072640" cy="3738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i="1" lang="ru-RU" sz="3200" spc="-1" strike="noStrike">
                <a:solidFill>
                  <a:srgbClr val="33cc33"/>
                </a:solidFill>
                <a:latin typeface="Vivaldi"/>
              </a:rPr>
              <a:t>Если ВЫ хотите модно стильно и со вкусом украсить интерьер своей квартиры, если ВЫ хотите удивить близких изысканным подарком, ВАМ необходимо посетить салон сувениров «СОФИЯ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WordArt 4"/>
          <p:cNvSpPr txBox="1"/>
          <p:nvPr/>
        </p:nvSpPr>
        <p:spPr>
          <a:xfrm>
            <a:off x="1763640" y="981000"/>
            <a:ext cx="5905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Vivaldi"/>
              </a:rPr>
              <a:t>САЛОН сувениров «СОФИЯ"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</p:spTree>
  </p:cSld>
  <p:transition spd="slow">
    <p:newsflash/>
    <p:sndAc>
      <p:stSnd>
        <p:snd r:embed="rId3" name="chimes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ектную работу «Розы» я оцениваю как работу  повышенной сложности, так как впервые работала с натуральной кож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Я считаю, что достигла тех целей, которые ставила перед собой вначале работ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-первых, я освоила  основы художественного ремесла работы с кож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-вторых, без особых затрат, изготовила оригинальное панно, которое украсит интерьер гостинной в нашем дом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третьих, получила новые навыки работы на персональном компьютере и научилась создавать  презентации в программе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OWER POINT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роме того, я разработала рекомендации для начинающих работать с кож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285840" y="274680"/>
            <a:ext cx="8407440" cy="9255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арую кожаную одежду  нужно аккуратно распороть по швам, удалить все нитки и клеевую прокладк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омыть лоскутки в теплой воде с детским мылом, а затем прополоскать в воде с уксусом и солью(1 Стакан 9% уксуса и 50 г соли на 1 л воды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Из кожаных сапог сначала надо выпороть «молнию» и подкладку, а затем острым ножом обрезать голенища по нижней части сапога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мшу можно почистить нашатырным спиртом, потом постирать, а после просушки поднять ворс нождачной бумаг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осле мытья нужно протереть лоскутки кожи глицерин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арапины можно подкрасить анилиновым кремом для обуви или нитрокраско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рез кожи  можно подкрасить фломастер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ля декоративной отделки можно подкрасить кожу лаком для ногтей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2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лажную кажу надо распялить на куске картона изнаночной стороной вверх, для удобства прикрепив булавками, которые по мере высыхания надо перекалывать, потому что кожа, высыхая , стягивает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елкие кусочки надо сушить под прессом, проложив их сухими тряпочками. По мере высыхания тряпочки нужно менять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дготовить рабочий стол – прикрепить рабочую доску, разложит материалы и инструмен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жу заранее рассортировать и сложить в целлофановый пак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ожи должны храниться в чехольчиках, пробойники – в коробочк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ожницы, шило, ручки, линейки, тюбики с клеем удобно ставить в высокую емкость с широким дн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оробочки для мелких деталей, выкроек, фурнитуры нужно подписа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обходимо завести коробку для мусо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еред работой надевать фарту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обходимо иметь под рукой тряпочку, чтобы вытереть руки от клея и протереть стол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блюдайте эти мелочи и – и успех в работе вам гарантирован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работе с режущими предмет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ожи, ножницы хранить в чехольчик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ожницы класть сомкнутыми лезвиями от работающег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ередавая ножницы держать их за сомкнутые лезвия, нож – ручкой вперед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работе с электроплитк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еред работой проверить исправность шну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ключать и выключать утюг сухими руками , держась за корпус вил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 окончании работы выключить электроплитк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ри работе со свечкой 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о время работы обязательно проветривать помещени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Быть предельно внимательным, работая с открытым огне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4643280" cy="54450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765e47"/>
              </a:gs>
            </a:gsLst>
            <a:lin ang="5400000"/>
          </a:gradFill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ож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рандаш или  руч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ножницы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амк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леенк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бо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лей «момент» или  ПВ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Picture 7" descr="02"/>
          <p:cNvPicPr/>
          <p:nvPr/>
        </p:nvPicPr>
        <p:blipFill>
          <a:blip r:embed="rId2"/>
          <a:stretch/>
        </p:blipFill>
        <p:spPr>
          <a:xfrm>
            <a:off x="5410080" y="1523880"/>
            <a:ext cx="2295720" cy="1314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mp_sharpie"/>
          <p:cNvPicPr/>
          <p:nvPr/>
        </p:nvPicPr>
        <p:blipFill>
          <a:blip r:embed="rId3"/>
          <a:stretch/>
        </p:blipFill>
        <p:spPr>
          <a:xfrm>
            <a:off x="5334120" y="3048120"/>
            <a:ext cx="2514600" cy="1143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273_1010"/>
          <p:cNvPicPr/>
          <p:nvPr/>
        </p:nvPicPr>
        <p:blipFill>
          <a:blip r:embed="rId4"/>
          <a:stretch/>
        </p:blipFill>
        <p:spPr>
          <a:xfrm>
            <a:off x="5334120" y="4419720"/>
            <a:ext cx="236196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242560" cy="1000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68000" y="155700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490c5"/>
                </a:solidFill>
                <a:latin typeface="Corbel"/>
              </a:rPr>
              <a:t>Научится новой для меня технологии работы с кож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490c5"/>
                </a:solidFill>
                <a:latin typeface="Corbel"/>
              </a:rPr>
              <a:t>Изготовить этой технике изделие, представляющее художественную цен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490c5"/>
                </a:solidFill>
                <a:latin typeface="Corbel"/>
              </a:rPr>
              <a:t>Учиться экономному и разумному ведению домашнего хозяйст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490c5"/>
                </a:solidFill>
                <a:latin typeface="Corbel"/>
              </a:rPr>
              <a:t>Совершенствуя и развивая навыки работы на персональном компьютере, научиться создавать презентации в программе</a:t>
            </a:r>
            <a:r>
              <a:rPr b="0" lang="en-US" sz="3200" spc="-1" strike="noStrike">
                <a:solidFill>
                  <a:srgbClr val="d490c5"/>
                </a:solidFill>
                <a:latin typeface="Corbel"/>
              </a:rPr>
              <a:t> POWER POINT</a:t>
            </a:r>
            <a:r>
              <a:rPr b="0" lang="ru-RU" sz="3200" spc="-1" strike="noStrike">
                <a:solidFill>
                  <a:srgbClr val="d490c5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основание проблемы и потребност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бор модел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бор материалов и инструмент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нструирование, моделирование издел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хнологическая последовательность изготовления издел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ебестоимость издел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ценка качества и сложности проект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щита проект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b83d68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285840" y="146160"/>
            <a:ext cx="8407440" cy="1261800"/>
          </a:xfrm>
          <a:prstGeom prst="rect">
            <a:avLst/>
          </a:prstGeom>
          <a:ln w="0">
            <a:noFill/>
          </a:ln>
        </p:spPr>
      </p:pic>
      <p:sp>
        <p:nvSpPr>
          <p:cNvPr id="363" name="Oval 3"/>
          <p:cNvSpPr/>
          <p:nvPr/>
        </p:nvSpPr>
        <p:spPr>
          <a:xfrm>
            <a:off x="3132000" y="2852640"/>
            <a:ext cx="2880000" cy="18716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ТВОРЧЕСКИЙ ПРОЕК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«РОЗЫ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179280" y="1844640"/>
            <a:ext cx="2089080" cy="504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2484360" y="1844640"/>
            <a:ext cx="1943280" cy="504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4643280" y="1844640"/>
            <a:ext cx="2016360" cy="504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6804000" y="1844640"/>
            <a:ext cx="2089080" cy="504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250920" y="2637000"/>
            <a:ext cx="2017440" cy="504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250920" y="3429000"/>
            <a:ext cx="2017440" cy="504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МОДЕЛ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6804000" y="2637000"/>
            <a:ext cx="2016000" cy="504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МАТЕРИАЛ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6804000" y="3429000"/>
            <a:ext cx="2016000" cy="50472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ОБОРУД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250920" y="4149720"/>
            <a:ext cx="2665440" cy="5745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СЕБЕСТОИМ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300720" y="4149720"/>
            <a:ext cx="2519280" cy="5745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КОНСТРУ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1079640" y="5877000"/>
            <a:ext cx="7308720" cy="64764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ХУДОЖЕСТВЕННО-ЭСТЕТИЧЕСКОЕ ОФОРМ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5"/>
          <p:cNvSpPr/>
          <p:nvPr/>
        </p:nvSpPr>
        <p:spPr>
          <a:xfrm flipH="1" flipV="1">
            <a:off x="2268000" y="2349360"/>
            <a:ext cx="107964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6"/>
          <p:cNvSpPr/>
          <p:nvPr/>
        </p:nvSpPr>
        <p:spPr>
          <a:xfrm flipV="1">
            <a:off x="5796000" y="2349360"/>
            <a:ext cx="100800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7"/>
          <p:cNvSpPr/>
          <p:nvPr/>
        </p:nvSpPr>
        <p:spPr>
          <a:xfrm flipH="1" flipV="1">
            <a:off x="3419640" y="2349000"/>
            <a:ext cx="576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8"/>
          <p:cNvSpPr/>
          <p:nvPr/>
        </p:nvSpPr>
        <p:spPr>
          <a:xfrm flipV="1">
            <a:off x="5148360" y="2349000"/>
            <a:ext cx="576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9"/>
          <p:cNvSpPr/>
          <p:nvPr/>
        </p:nvSpPr>
        <p:spPr>
          <a:xfrm flipV="1">
            <a:off x="5940360" y="3141720"/>
            <a:ext cx="863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20"/>
          <p:cNvSpPr/>
          <p:nvPr/>
        </p:nvSpPr>
        <p:spPr>
          <a:xfrm flipV="1">
            <a:off x="6012000" y="364464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21"/>
          <p:cNvSpPr/>
          <p:nvPr/>
        </p:nvSpPr>
        <p:spPr>
          <a:xfrm flipH="1" flipV="1">
            <a:off x="2268360" y="3141720"/>
            <a:ext cx="935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22"/>
          <p:cNvSpPr/>
          <p:nvPr/>
        </p:nvSpPr>
        <p:spPr>
          <a:xfrm flipH="1" flipV="1">
            <a:off x="2268000" y="3644640"/>
            <a:ext cx="863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231840" y="16444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4"/>
          <p:cNvSpPr/>
          <p:nvPr/>
        </p:nvSpPr>
        <p:spPr>
          <a:xfrm>
            <a:off x="158760" y="19591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5"/>
          <p:cNvSpPr/>
          <p:nvPr/>
        </p:nvSpPr>
        <p:spPr>
          <a:xfrm>
            <a:off x="0" y="1916280"/>
            <a:ext cx="24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ТЕХНОЛОГ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6"/>
          <p:cNvSpPr/>
          <p:nvPr/>
        </p:nvSpPr>
        <p:spPr>
          <a:xfrm>
            <a:off x="2268360" y="1916280"/>
            <a:ext cx="21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ПОТРЕБ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27"/>
          <p:cNvSpPr/>
          <p:nvPr/>
        </p:nvSpPr>
        <p:spPr>
          <a:xfrm>
            <a:off x="4398840" y="191628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МОДЕ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8"/>
          <p:cNvSpPr/>
          <p:nvPr/>
        </p:nvSpPr>
        <p:spPr>
          <a:xfrm>
            <a:off x="6948360" y="19162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ЭКОНОМИЧ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29"/>
          <p:cNvSpPr/>
          <p:nvPr/>
        </p:nvSpPr>
        <p:spPr>
          <a:xfrm>
            <a:off x="-228600" y="2708280"/>
            <a:ext cx="24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МОДА, СТИ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30"/>
          <p:cNvSpPr/>
          <p:nvPr/>
        </p:nvSpPr>
        <p:spPr>
          <a:xfrm flipH="1">
            <a:off x="2916360" y="436572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31"/>
          <p:cNvSpPr/>
          <p:nvPr/>
        </p:nvSpPr>
        <p:spPr>
          <a:xfrm>
            <a:off x="5796000" y="4292640"/>
            <a:ext cx="504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2"/>
          <p:cNvSpPr/>
          <p:nvPr/>
        </p:nvSpPr>
        <p:spPr>
          <a:xfrm>
            <a:off x="250920" y="5013360"/>
            <a:ext cx="3313080" cy="5763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КОНКУРЕНТОСПОСОБ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3"/>
          <p:cNvSpPr/>
          <p:nvPr/>
        </p:nvSpPr>
        <p:spPr>
          <a:xfrm>
            <a:off x="5580000" y="5013360"/>
            <a:ext cx="3386160" cy="576360"/>
          </a:xfrm>
          <a:prstGeom prst="rect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Raavi"/>
              </a:rPr>
              <a:t>БЕЗОПАСНОСТЬ ТРУ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34"/>
          <p:cNvSpPr/>
          <p:nvPr/>
        </p:nvSpPr>
        <p:spPr>
          <a:xfrm>
            <a:off x="4500720" y="4724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35"/>
          <p:cNvSpPr/>
          <p:nvPr/>
        </p:nvSpPr>
        <p:spPr>
          <a:xfrm flipH="1">
            <a:off x="3564000" y="4581360"/>
            <a:ext cx="287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36"/>
          <p:cNvSpPr/>
          <p:nvPr/>
        </p:nvSpPr>
        <p:spPr>
          <a:xfrm>
            <a:off x="5219640" y="458136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уляя по курортному парку в Анапе, я обратила внимание на необыкновенно красивые изделия из кожи, которые продавались в магазине.Большие красивые панно были очень дороги и я не могла себе их позволить, но я решила, что смогу научиться делать что-то подобное сам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89000" y="274680"/>
            <a:ext cx="8504280" cy="1152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95280" y="5589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одель № 1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1" name="Picture 4" descr="Картина3"/>
          <p:cNvPicPr/>
          <p:nvPr/>
        </p:nvPicPr>
        <p:blipFill>
          <a:blip r:embed="rId2"/>
          <a:stretch/>
        </p:blipFill>
        <p:spPr>
          <a:xfrm>
            <a:off x="2857680" y="1600200"/>
            <a:ext cx="3000240" cy="39006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newsflash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420840" y="353880"/>
            <a:ext cx="8242200" cy="11509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95280" y="566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одель № 2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4" name="Picture 5" descr="D:\НА         +++  АРМАВИР++++\=КАРТИНЫ =ИЗ КОЖИ+++\getImage (48).jpg"/>
          <p:cNvPicPr/>
          <p:nvPr/>
        </p:nvPicPr>
        <p:blipFill>
          <a:blip r:embed="rId2"/>
          <a:stretch/>
        </p:blipFill>
        <p:spPr>
          <a:xfrm>
            <a:off x="1571760" y="1600200"/>
            <a:ext cx="5572080" cy="35434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newsflash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6:24:17Z</dcterms:created>
  <dc:creator>Maria</dc:creator>
  <dc:description/>
  <dc:language>en-US</dc:language>
  <cp:lastModifiedBy>Master</cp:lastModifiedBy>
  <dcterms:modified xsi:type="dcterms:W3CDTF">2013-02-10T18:56:39Z</dcterms:modified>
  <cp:revision>32</cp:revision>
  <dc:subject/>
  <dc:title> Чудо - КОЖА</dc:title>
</cp:coreProperties>
</file>