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7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2.png" ContentType="image/png"/>
  <Override PartName="/ppt/media/image25.png" ContentType="image/png"/>
  <Override PartName="/ppt/media/image13.png" ContentType="image/png"/>
  <Override PartName="/ppt/media/image14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8C2-A787-47F9-959C-87B98596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8B8-BF9B-48F2-A070-0775096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BE1-8BDF-45D8-8F10-F7574F12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921-D1FA-405A-AAF9-B2ED0437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AB2E-C061-4351-8339-708D1096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BEA-882B-4F97-A392-29154FD8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ACFD-F5B1-4A58-A466-D8137DB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9238-39D9-4AC3-9CD4-497FBC8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417-30B7-4FAE-B642-B1C7175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1DE-6027-41C0-84E0-BF99C6D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8B3F-C3F8-4859-84FF-C3FA2D7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F31-DCDA-4841-930F-AC5836A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AC7-943A-4F81-BDAE-915A98F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6620-9210-44A8-9470-8AF74CB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147-F84B-433C-9A91-ADE2C67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64D-E869-42FF-8B5A-2BA4BB36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A0DD-3B17-45D9-9A26-F00282F3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F018-09D4-4E9B-9D18-84976405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318A-EA12-4E35-A197-10D634D8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829A-E17D-425B-AAD7-0C56CBFD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EA0E-BFA9-4D0B-9833-2E1C941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36E1-1D70-408C-8723-8BE3D74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096-E305-4C92-8084-75783B0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8BEB-D46A-4768-96B8-72C3131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99BF-77EB-4A5C-946B-D7D74393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4B3E-9C3A-4C94-8B65-59C00CB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82A3-6AC3-4E28-8BB5-A8CD6AA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BC73-BF1D-468D-A7CF-A656C2AF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9380-8F70-4DF6-B701-66178F17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0A73-D6C6-4F2C-88E5-EF2986A1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ACBF-2B16-4A6E-BAAB-9FB698A9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7AC8-BD4C-4AB0-9186-4F5349E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7141-F08C-4272-A28B-EB16A256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A1D-0E10-44D2-B29E-39A42C19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8CCB-31EB-4D52-8CFC-60EE1DB6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D78E-8545-4248-873B-D9DC570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695F-AB79-4AA2-82A3-B3C5CCE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256E-F683-45E4-B9FF-B52728B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1F29-2BBA-453E-AA06-1BD4750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FAD3-77F9-4511-A681-A8EF612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A0B4-E776-4F64-B2A7-EC62FBB8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B17F-ACFF-4F66-820B-0C237464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103E-DFC9-4345-AF6D-897B06AE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8F1FE-BB78-45C5-8ADB-98EAB7DD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52E-9673-4BE5-84EC-AC0FA16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1408-1E3C-4D8E-8741-F424518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0EBF-820A-4F17-A1F4-7D821A5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0B5DB-C248-405D-9174-360336D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BF73-9A86-4B2F-8C5F-0BD250CE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AC0E-49FD-4844-90E0-9E9BF44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7382-1C07-423E-A518-2FA4F25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3EE2-C22F-4DD4-A045-62B75F9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1337-4C27-44E4-BF5B-30A07C8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4172-4CE5-4B91-ABB1-71371BDC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6CA9-3C57-4A2A-BB86-0A51AE3A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96B-5C80-4002-A61B-A247269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BBD86-83C6-4B76-914D-E355AC08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6639-23B4-4BFE-95A6-8AB98ACF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8DA7-1F65-4960-8169-983BDB2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8C2E-53D4-4C28-96E5-4DDB39F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8995D-57EC-4971-853B-75D81113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F5B06-A972-47BC-88FC-73E0CD2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3AC7-49EE-4DAA-BD3B-8E5178C2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3D7C3-7DD7-4B1D-A690-F1C76CD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B868-A16D-4D9F-96C5-922BF2B5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9949-B8C3-49C3-9061-B79C3315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2E2-EFE8-4DCE-96D7-C10C62E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D7A5-6D6F-4034-A9B6-E5E78A21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EE16-5125-449A-B57F-DEAC06C4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2ED2-F498-430B-B2A9-9094896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E2A7-3A40-48A9-9FDE-33BEFC10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BFDD-0805-4F31-82AD-7798CA0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39A2-5AF2-4927-B6EC-F92569B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2C24F-1D0C-4797-B8D3-279D5F6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0CBD3-628F-4673-B25D-DD42D4B7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988E1-80F9-443F-96C5-C8B2FA1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57F5-A7CA-479B-85C8-BBEDDD5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84D-1C58-4432-BB42-5E62753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2477-D702-410A-A5B6-1E4FA330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9387-37B8-4C65-A552-7BB07C4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FE7D-24B6-49B2-8F05-B997C7F9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0781-DB35-432D-B7E6-0EA6C003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7CCB-AD7B-4C26-9F05-6B79E644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48CF-63F8-4676-8A8B-AA99BE14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30BE-7216-4F0E-B58D-3012CBD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3E7C-DE9E-4EF3-8C8F-D2CB6CA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FC702-8E3E-4E7D-B51D-DF67869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9B84F-E0E5-4BBE-8E3A-A5361BB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6F7-BE07-423A-8B83-62CF3D5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071C-6412-43FA-A17A-6792E89C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B47D6-5F26-4C70-ACA1-95C0312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F351-F948-4BFF-8FB2-CF716E5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29F3-CDEF-4868-A3A5-197DE51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496F0-37CA-48C3-9843-8FF59A9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97407-6AFD-496C-9A77-85BB7ED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B4122-DF4A-46AA-B627-F67F70E4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1C3E-C58B-444A-9476-EF51077EE89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272-E01A-4309-A295-831FE173C1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DFD-A13C-4504-8CAB-387C817BF9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0F8-D533-4082-BD0F-628256F0A47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969C-EBA8-4B8A-8367-D4AC15D16BB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A18-7115-423D-85AE-082F2F491E3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730-4190-4371-97CC-A61987565E1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264-CE45-47D7-8B75-34CCD184E86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1720" y="333360"/>
            <a:ext cx="738504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143080" y="2857320"/>
            <a:ext cx="6500880" cy="3500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втор  проекта :  ученица 9 –Г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венян Софья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БОУ СОШ № 4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-к Анапа   Краснодарского кра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Учитель технологии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удакова Н. С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013 год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73080"/>
            <a:ext cx="743760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7920" cy="1938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8360" y="2204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личные нож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и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ска для раскро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ленькие плоскогубц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0" y="2205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таллическая линей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стмассовые угольн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нц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е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лот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89000" y="274680"/>
            <a:ext cx="8504280" cy="1792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жа (тонкая и толстая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т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ч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ревянная рам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ей «Момен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аска для кож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55600" y="128520"/>
            <a:ext cx="8437680" cy="712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23640" y="142848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рабочий стол – прикрепить рабочую доску, разложить материалы и инструмен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жу заранее рассортировать и сложить в целлофановый пак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и должны храниться в чехольчиках, пробойники – в коробоч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ницы, шило, ручки, линейки, тюбики с клеем удобно ставить в высокую емкость с широким дн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обочки для мелких деталей, выкроек, фурнитуры нужно подпис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ед работой надевать фарту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обходимо иметь под рукой тряпочку, чтобы вытереть руки от клея и протереть сто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блюдайте эти мелочи и – и успех в работе вам гарантирова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499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работе с режущими предмет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и, ножницы хранить в чехольчи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ницы класть сомкнутыми лезвиями от работ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едавая ножницы держать их за сомкнутые лезвия, нож – ручкой впере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работе со свечкой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 время работы обязательно проветривать помещ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ть предельно внимательным, работая с открытым огн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КА ФОНА И РАМ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деревянную рамку необходимого разме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резать картонную основ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основу приклеить кусочки кожи, предназначенной для фона картины, таким образом, чтобы все складки и заломы исходили из левого нижнего уг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тянутый кожей картон плотно вставить в рамку и закрепить его маленькими гвозд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ть из картона трафареты лепестков по выкройкам (я их нарисовала сама, четырех размеров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трафаретам выкроить лепестки из кож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ботать каждый лепесток над пламенем свечи, помня, что лепесток изгибается в сторону пла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чинать собирать розу надо с самых мелких лепестков, приклеивая их «Моментом» по часовой стрелке, постепенно переходя на более крупны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вшуюся ножку срезать острым ножом (можно под некоторым углом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им образом сделать необходимое количество роз и бутон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68360" y="149976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СТЬ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ть из картона  трафареты листьев по выкройк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трафаретам вырезать листья из кож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трым сапожным ножом сделать с лицевой стороны неглубокие надре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Раскрыть»  прожилки листьев, сложив лист пополам вдоль каждой прожилки изнанка к изнанке, зажать этот сгиб пинцетом и обработать над пламенем свечи быстрым движением, едва касаясь язычка пла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ботать над пламенем свечи края листьев и весь лист для того чтобы он слегка изогну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готовить таким образом необходимое количество листье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39640" y="1557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БОРКА ПАН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положить розы и листья в произвольном порядке и приклеить их клеем «Момен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истить картину ватным тампоном, смоченном в растворителе, в местах где она, возможно, испачкалась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крыть  картину акриловой краск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9274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жа – дорогой материал ,ее очень трудно достать. Учитывая, что в своей работе я использовала уже бывшую в употреблении кожу, а рамку  изготовил мой брат, себестоимость панно составила 104 руб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2 тюбика клея по 18 рублей, акриловые краски- красная и зеленая по 30 рублей, свечка 8рублей 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магазинах города подобные сувениры стоят от 700 рублей и выше, а значит моя проектная работа экономически целесообраз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нное мною панно производит положительный эмоциональный эффект, выполнено аккуратно, качествен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договориться со скорняжной мастерской или с ателье по пошиву кожаных изделий и забирать остатки кроя, то можно организовать свою мастерскую по производству сувени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 же можно дать объявление о приеме старых кожаных вещей за умеренную плату, что тоже будет экономически выгодно, так как на изделия такого плана сложилась очень высокая ц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считаю, что моя проектная работа заслуживает оценки «5»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743360" cy="5300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изводство и обработка кожи - одно из древнейших занятий человека. Археологические находки показали, что еще в каменном веке человек добротно выделывал кожу. Из кожи изготавливали обувь, воинские доспехи, оружие, маски для представлений, посуду и многое другое. Поэтому я выбрала данный вид рукоделия и хочу выполнить декоративное пан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Изображение 036"/>
          <p:cNvPicPr/>
          <p:nvPr/>
        </p:nvPicPr>
        <p:blipFill>
          <a:blip r:embed="rId1"/>
          <a:stretch/>
        </p:blipFill>
        <p:spPr>
          <a:xfrm>
            <a:off x="4859280" y="1700280"/>
            <a:ext cx="4091040" cy="460836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5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В холодный зимний день эти прекрасные розы напомнят вам о радостях жаркого лета. Не грустите, ведь лето когда-нибудь вернется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newsflash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00040" y="2565000"/>
            <a:ext cx="8072640" cy="3738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3200" spc="-1" strike="noStrike">
                <a:solidFill>
                  <a:srgbClr val="33cc33"/>
                </a:solidFill>
                <a:latin typeface="Vivaldi"/>
              </a:rPr>
              <a:t>Если ВЫ хотите модно стильно и со вкусом украсить интерьер своей квартиры, если ВЫ хотите удивить близких изысканным подарком, ВАМ необходимо посетить салон сувениров «СОФ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WordArt 4"/>
          <p:cNvSpPr txBox="1"/>
          <p:nvPr/>
        </p:nvSpPr>
        <p:spPr>
          <a:xfrm>
            <a:off x="1763640" y="981000"/>
            <a:ext cx="590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Vivaldi"/>
              </a:rPr>
              <a:t>САЛОН сувениров «СОФИЯ"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  <p:transition spd="slow">
    <p:newsflash/>
    <p:sndAc>
      <p:stSnd>
        <p:snd r:embed="rId3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ектную работу «Розы» я оцениваю как работу  повышенной сложности, так как впервые работала с натуральной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считаю, что достигла тех целей, которые ставила перед собой вначале работ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-первых, я освоила  основы художественного ремесла работы с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-вторых, без особых затрат, изготовила оригинальное панно, которое украсит интерьер гостинной в нашем до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третьих, получила новые навыки работы на персональном компьютере и научилась создавать  презентации в программе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WER POINT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роме того, я разработала рекомендации для начинающих работать с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925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рую кожаную одежду  нужно аккуратно распороть по швам, удалить все нитки и клеевую проклад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мыть лоскутки в теплой воде с детским мылом, а затем прополоскать в воде с уксусом и солью(1 Стакан 9% уксуса и 50 г соли на 1 л вод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кожаных сапог сначала надо выпороть «молнию» и подкладку, а затем острым ножом обрезать голенища по нижней части сапог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мшу можно почистить нашатырным спиртом, потом постирать, а после просушки поднять ворс нождачной бумаг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 мытья нужно протереть лоскутки кожи глицерин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апины можно подкрасить анилиновым кремом для обуви или нитрокрас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рез кожи  можно подкрасить фломастер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декоративной отделки можно подкрасить кожу лаком для ног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лажную кажу надо распялить на куске картона изнаночной стороной вверх, для удобства прикрепив булавками, которые по мере высыхания надо перекалывать, потому что кожа, высыхая , стягива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лкие кусочки надо сушить под прессом, проложив их сухими тряпочками. По мере высыхания тряпочки нужно меня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готовить рабочий стол – прикрепить рабочую доску, разложит материалы и инструмен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жу заранее рассортировать и сложить в целлофановый пак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и должны храниться в чехольчиках, пробойники – в коробоч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ницы, шило, ручки, линейки, тюбики с клеем удобно ставить в высокую емкость с широким дн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робочки для мелких деталей, выкроек, фурнитуры нужно подпис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о завести коробку для мусо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 работой надевать фарту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о иметь под рукой тряпочку, чтобы вытереть руки от клея и протереть сто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блюдайте эти мелочи и – и успех в работе вам гарантирова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 режущими предме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и, ножницы хранить в чехольчи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ницы класть сомкнутыми лезвиями от работ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авая ножницы держать их за сомкнутые лезвия, нож – ручкой впере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 электроплитк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 работой проверить исправность шн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ключать и выключать утюг сухими руками , держась за корпус вил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окончании работы выключить электроплит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о свечкой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 время работы обязательно проветривать помещ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ть предельно внимательным, работая с открытым огне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643280" cy="5445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ож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рандаш или  руч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ожницы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мк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леенк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о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лей «момент» или  ПВ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7" descr="02"/>
          <p:cNvPicPr/>
          <p:nvPr/>
        </p:nvPicPr>
        <p:blipFill>
          <a:blip r:embed="rId2"/>
          <a:stretch/>
        </p:blipFill>
        <p:spPr>
          <a:xfrm>
            <a:off x="5410080" y="1523880"/>
            <a:ext cx="229572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mp_sharpie"/>
          <p:cNvPicPr/>
          <p:nvPr/>
        </p:nvPicPr>
        <p:blipFill>
          <a:blip r:embed="rId3"/>
          <a:stretch/>
        </p:blipFill>
        <p:spPr>
          <a:xfrm>
            <a:off x="5334120" y="30481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273_1010"/>
          <p:cNvPicPr/>
          <p:nvPr/>
        </p:nvPicPr>
        <p:blipFill>
          <a:blip r:embed="rId4"/>
          <a:stretch/>
        </p:blipFill>
        <p:spPr>
          <a:xfrm>
            <a:off x="5334120" y="441972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68000" y="1557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Научится новой для меня технологии работы с кож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Изготовить этой технике изделие, представляющее художественную цен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Учиться экономному и разумному ведению домашнего хозяй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Совершенствуя и развивая навыки работы на персональном компьютере, научиться создавать презентации в программе</a:t>
            </a:r>
            <a:r>
              <a:rPr b="0" lang="en-US" sz="3200" spc="-1" strike="noStrike">
                <a:solidFill>
                  <a:srgbClr val="d490c5"/>
                </a:solidFill>
                <a:latin typeface="Corbel"/>
              </a:rPr>
              <a:t> POWER POINT</a:t>
            </a: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снование проблемы и потребнос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 материалов и инструмен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струирование, моделирование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ческая последовательность изготовления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бестоимость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качества и сложности прое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прое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85840" y="146160"/>
            <a:ext cx="8407440" cy="1261800"/>
          </a:xfrm>
          <a:prstGeom prst="rect">
            <a:avLst/>
          </a:prstGeom>
          <a:ln w="0">
            <a:noFill/>
          </a:ln>
        </p:spPr>
      </p:pic>
      <p:sp>
        <p:nvSpPr>
          <p:cNvPr id="363" name="Oval 3"/>
          <p:cNvSpPr/>
          <p:nvPr/>
        </p:nvSpPr>
        <p:spPr>
          <a:xfrm>
            <a:off x="3132000" y="2852640"/>
            <a:ext cx="2880000" cy="18716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ТВОРЧЕСКИ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«РОЗ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79280" y="1844640"/>
            <a:ext cx="20890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484360" y="1844640"/>
            <a:ext cx="19432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643280" y="1844640"/>
            <a:ext cx="201636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6804000" y="1844640"/>
            <a:ext cx="20890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250920" y="2637000"/>
            <a:ext cx="201744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250920" y="3429000"/>
            <a:ext cx="201744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ЕЛ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804000" y="2637000"/>
            <a:ext cx="201600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АТЕРИАЛ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04000" y="3429000"/>
            <a:ext cx="201600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ОБОРУД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250920" y="4149720"/>
            <a:ext cx="2665440" cy="5745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СЕБЕСТОИМ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300720" y="4149720"/>
            <a:ext cx="2519280" cy="5745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1079640" y="5877000"/>
            <a:ext cx="7308720" cy="6476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ХУДОЖЕСТВЕННО-ЭСТЕТИЧЕСКОЕ ОФОРМ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5"/>
          <p:cNvSpPr/>
          <p:nvPr/>
        </p:nvSpPr>
        <p:spPr>
          <a:xfrm flipH="1" flipV="1">
            <a:off x="2268000" y="2349360"/>
            <a:ext cx="1079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6"/>
          <p:cNvSpPr/>
          <p:nvPr/>
        </p:nvSpPr>
        <p:spPr>
          <a:xfrm flipV="1">
            <a:off x="5796000" y="2349360"/>
            <a:ext cx="1008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"/>
          <p:cNvSpPr/>
          <p:nvPr/>
        </p:nvSpPr>
        <p:spPr>
          <a:xfrm flipH="1" flipV="1">
            <a:off x="3419640" y="2349000"/>
            <a:ext cx="576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8"/>
          <p:cNvSpPr/>
          <p:nvPr/>
        </p:nvSpPr>
        <p:spPr>
          <a:xfrm flipV="1">
            <a:off x="5148360" y="2349000"/>
            <a:ext cx="576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9"/>
          <p:cNvSpPr/>
          <p:nvPr/>
        </p:nvSpPr>
        <p:spPr>
          <a:xfrm flipV="1">
            <a:off x="5940360" y="3141720"/>
            <a:ext cx="8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6012000" y="3644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1"/>
          <p:cNvSpPr/>
          <p:nvPr/>
        </p:nvSpPr>
        <p:spPr>
          <a:xfrm flipH="1" flipV="1">
            <a:off x="2268360" y="3141720"/>
            <a:ext cx="93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2"/>
          <p:cNvSpPr/>
          <p:nvPr/>
        </p:nvSpPr>
        <p:spPr>
          <a:xfrm flipH="1" flipV="1">
            <a:off x="2268000" y="364464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31840" y="1644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158760" y="1959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0" y="191628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ТЕХН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2268360" y="191628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ПОТРЕБ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4398840" y="191628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6948360" y="1916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ЭКОНОМИ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9"/>
          <p:cNvSpPr/>
          <p:nvPr/>
        </p:nvSpPr>
        <p:spPr>
          <a:xfrm>
            <a:off x="-228600" y="2708280"/>
            <a:ext cx="24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А, СТИ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0"/>
          <p:cNvSpPr/>
          <p:nvPr/>
        </p:nvSpPr>
        <p:spPr>
          <a:xfrm flipH="1">
            <a:off x="2916360" y="4365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31"/>
          <p:cNvSpPr/>
          <p:nvPr/>
        </p:nvSpPr>
        <p:spPr>
          <a:xfrm>
            <a:off x="5796000" y="429264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250920" y="5013360"/>
            <a:ext cx="3313080" cy="576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КОНКУРЕНТОСПОСОБ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5580000" y="5013360"/>
            <a:ext cx="3386160" cy="576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БЕЗОПАСНОСТЬ ТР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4"/>
          <p:cNvSpPr/>
          <p:nvPr/>
        </p:nvSpPr>
        <p:spPr>
          <a:xfrm>
            <a:off x="450072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564000" y="4581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36"/>
          <p:cNvSpPr/>
          <p:nvPr/>
        </p:nvSpPr>
        <p:spPr>
          <a:xfrm>
            <a:off x="5219640" y="458136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уляя по курортному парку в Анапе, я обратила внимание на необыкновенно красивые изделия из кожи, которые продавались в магазине.Большие красивые панно были очень дороги и я не могла себе их позволить, но я решила, что смогу научиться делать что-то подобное са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9000" y="27468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95280" y="5589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дель № 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4" descr="Картина3"/>
          <p:cNvPicPr/>
          <p:nvPr/>
        </p:nvPicPr>
        <p:blipFill>
          <a:blip r:embed="rId2"/>
          <a:stretch/>
        </p:blipFill>
        <p:spPr>
          <a:xfrm>
            <a:off x="2857680" y="1600200"/>
            <a:ext cx="3000240" cy="3900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дель № 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5" descr="D:\НА         +++  АРМАВИР++++\=КАРТИНЫ =ИЗ КОЖИ+++\getImage (48).jpg"/>
          <p:cNvPicPr/>
          <p:nvPr/>
        </p:nvPicPr>
        <p:blipFill>
          <a:blip r:embed="rId2"/>
          <a:stretch/>
        </p:blipFill>
        <p:spPr>
          <a:xfrm>
            <a:off x="1571760" y="1600200"/>
            <a:ext cx="5572080" cy="3543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6:24:17Z</dcterms:created>
  <dc:creator>Maria</dc:creator>
  <dc:description/>
  <dc:language>en-US</dc:language>
  <cp:lastModifiedBy>Master</cp:lastModifiedBy>
  <dcterms:modified xsi:type="dcterms:W3CDTF">2013-02-10T18:56:39Z</dcterms:modified>
  <cp:revision>32</cp:revision>
  <dc:subject/>
  <dc:title> Чудо - КОЖА</dc:title>
</cp:coreProperties>
</file>