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463D-E3F8-4BDB-B8DF-8632A495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E6B6-BC89-4CF1-B9B3-F9F43EB6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A842-FC2A-4A6C-9978-255DB6D7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1BCB-2ED8-49B0-9998-C5FEFF7A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09AE-ECCA-408C-8695-6AD55D04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67AA-6D90-4C05-90BF-EC0C93FA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4EE8-04B9-4B98-B155-7C226346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9751-A4FC-4DBE-BFC6-694E050B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A5A5-6D26-4F51-928F-C63BBF97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BEF0-333C-4528-959A-74907F35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C0FB-7DF8-45A1-8A40-81FD7C0C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CD36-95B5-4184-AEF0-D2F17165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A671-769D-4554-ABC4-76163FF77A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овля и передача мяча в баскетболе. Ведение мяч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00044943"/>
          <p:cNvPicPr/>
          <p:nvPr/>
        </p:nvPicPr>
        <p:blipFill>
          <a:blip r:embed="rId1"/>
          <a:stretch/>
        </p:blipFill>
        <p:spPr>
          <a:xfrm>
            <a:off x="857160" y="1484280"/>
            <a:ext cx="6929640" cy="5087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вумя руками снизу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1" descr="Копия (4) Scan10005"/>
          <p:cNvPicPr/>
          <p:nvPr/>
        </p:nvPicPr>
        <p:blipFill>
          <a:blip r:embed="rId1"/>
          <a:stretch/>
        </p:blipFill>
        <p:spPr>
          <a:xfrm>
            <a:off x="857160" y="1600200"/>
            <a:ext cx="7500960" cy="4900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428760" y="571680"/>
            <a:ext cx="8215200" cy="5857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001000" cy="5786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357120" y="857160"/>
            <a:ext cx="8072640" cy="5500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Scan10004"/>
          <p:cNvPicPr/>
          <p:nvPr/>
        </p:nvPicPr>
        <p:blipFill>
          <a:blip r:embed="rId1"/>
          <a:stretch/>
        </p:blipFill>
        <p:spPr>
          <a:xfrm>
            <a:off x="1071720" y="1428840"/>
            <a:ext cx="7000560" cy="50403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0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поймать мяч вытяни к нему руки с расставленными пальцами и как только мяч коснется пальцев, согни руки, притягивая мяч к груд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дной снизу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4" descr="Копия Scan10005"/>
          <p:cNvPicPr/>
          <p:nvPr/>
        </p:nvPicPr>
        <p:blipFill>
          <a:blip r:embed="rId1"/>
          <a:stretch/>
        </p:blipFill>
        <p:spPr>
          <a:xfrm>
            <a:off x="785880" y="1143000"/>
            <a:ext cx="7786800" cy="528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 отскоком от пол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Копия (2) Scan10006"/>
          <p:cNvPicPr/>
          <p:nvPr/>
        </p:nvPicPr>
        <p:blipFill>
          <a:blip r:embed="rId1"/>
          <a:stretch/>
        </p:blipFill>
        <p:spPr>
          <a:xfrm>
            <a:off x="642960" y="785880"/>
            <a:ext cx="8072280" cy="5357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едение мя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Тренируясь в ведении помн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кая мяч в пол, используй движение пальцев и кисти и небольшое движение в локте. Не бей по мячу ладон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смотри вниз на мяч- держи голову поднятой, чтобы видеть других игроков, площадку в ц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ерживай мяч сбоку- спереди- справа, когда ведешь правой ру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ги согнуты, а тело наклонено впере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шиб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Ведение правой рукой влево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наобор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ри переводе мяча с руки на руку отсутствует низкий отск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Туловищ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омент перевода не закрывает мя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60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2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Копия (3) Scan10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овля мя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4920" y="1484280"/>
            <a:ext cx="828036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вля- прием с помощью которого игрок может  уверенно овладеть мячом и предпринять с ним  дальнейшие атак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шибки при лов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-руки согнуты в локтях, а не прям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-кисти не открыты для соприкосновения с   мяч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-мяч прижимается к гру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Тренируясь в передачах помни о следующе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дачу выполняй быстро и точно в ц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ай передачу на уровне груди партн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ви и передавай мяч пальц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выпуска мяча пальцы направлены на партнера. Это способствует точности пере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68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68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68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68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едача мяча двумя руками от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ча мяч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, с помощью которого игрок направляет мяч партнеру для продолжения ата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3" descr="1307334501_5.jpg"/>
          <p:cNvPicPr/>
          <p:nvPr/>
        </p:nvPicPr>
        <p:blipFill>
          <a:blip r:embed="rId1"/>
          <a:stretch/>
        </p:blipFill>
        <p:spPr>
          <a:xfrm>
            <a:off x="900000" y="3645000"/>
            <a:ext cx="7632720" cy="2879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Scan10005"/>
          <p:cNvPicPr/>
          <p:nvPr/>
        </p:nvPicPr>
        <p:blipFill>
          <a:blip r:embed="rId1"/>
          <a:stretch/>
        </p:blipFill>
        <p:spPr>
          <a:xfrm>
            <a:off x="928800" y="1792440"/>
            <a:ext cx="7786440" cy="4636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71760" y="5572080"/>
            <a:ext cx="30718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емы техник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едачи мя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428840" y="5500800"/>
            <a:ext cx="62150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вумя руками  от гр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358120" cy="6143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вумя руками сверху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Scan10006"/>
          <p:cNvPicPr/>
          <p:nvPr/>
        </p:nvPicPr>
        <p:blipFill>
          <a:blip r:embed="rId1"/>
          <a:stretch/>
        </p:blipFill>
        <p:spPr>
          <a:xfrm>
            <a:off x="785880" y="1357200"/>
            <a:ext cx="7715160" cy="5072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8358120" cy="5643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дной рукой от плеч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Копия (3) Scan10005"/>
          <p:cNvPicPr/>
          <p:nvPr/>
        </p:nvPicPr>
        <p:blipFill>
          <a:blip r:embed="rId1"/>
          <a:stretch/>
        </p:blipFill>
        <p:spPr>
          <a:xfrm>
            <a:off x="1214280" y="1792440"/>
            <a:ext cx="7143840" cy="4422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9:43:07Z</dcterms:created>
  <dc:creator>ППП</dc:creator>
  <dc:description/>
  <dc:language>en-US</dc:language>
  <cp:lastModifiedBy>админ</cp:lastModifiedBy>
  <dcterms:modified xsi:type="dcterms:W3CDTF">2013-02-14T05:51:19Z</dcterms:modified>
  <cp:revision>30</cp:revision>
  <dc:subject/>
  <dc:title>СОШ № 17</dc:title>
</cp:coreProperties>
</file>