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E5E-C0E9-4743-AA3D-10680030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73E-6659-4AE3-975F-B93FD08E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A93-14BF-45B9-A276-E435F0E7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17A-18F6-4A28-8349-C74AD086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09A8-3B9D-410E-9A69-46DACF42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D66-1CA1-4B04-8D55-EA7A4BF2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9E0-F94C-435D-8193-4D944C78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251-8C6E-4E21-845C-772EC3E4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5A8-85FE-4BCB-9F38-BA746079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465F-4377-4E47-A98B-84EAAD0D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AE8-B58A-4A83-BF8D-08CB36B5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595-3E7A-4CEE-8E71-72D5C5FA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C5DC-FE50-47F8-A990-8486698C5F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ля и передача мяча в баскетболе. Ведение мя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00044943"/>
          <p:cNvPicPr/>
          <p:nvPr/>
        </p:nvPicPr>
        <p:blipFill>
          <a:blip r:embed="rId1"/>
          <a:stretch/>
        </p:blipFill>
        <p:spPr>
          <a:xfrm>
            <a:off x="857160" y="1484280"/>
            <a:ext cx="6929640" cy="508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вумя руками сниз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1" descr="Копия (4) Scan10005"/>
          <p:cNvPicPr/>
          <p:nvPr/>
        </p:nvPicPr>
        <p:blipFill>
          <a:blip r:embed="rId1"/>
          <a:stretch/>
        </p:blipFill>
        <p:spPr>
          <a:xfrm>
            <a:off x="857160" y="1600200"/>
            <a:ext cx="7500960" cy="4900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8215200" cy="585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001000" cy="578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072640" cy="550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can10004"/>
          <p:cNvPicPr/>
          <p:nvPr/>
        </p:nvPicPr>
        <p:blipFill>
          <a:blip r:embed="rId1"/>
          <a:stretch/>
        </p:blipFill>
        <p:spPr>
          <a:xfrm>
            <a:off x="1071720" y="1428840"/>
            <a:ext cx="7000560" cy="5040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0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поймать мяч вытяни к нему руки с расставленными пальцами и как только мяч коснется пальцев, согни руки, притягивая мяч к груд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дной сниз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4" descr="Копия Scan10005"/>
          <p:cNvPicPr/>
          <p:nvPr/>
        </p:nvPicPr>
        <p:blipFill>
          <a:blip r:embed="rId1"/>
          <a:stretch/>
        </p:blipFill>
        <p:spPr>
          <a:xfrm>
            <a:off x="785880" y="1143000"/>
            <a:ext cx="7786800" cy="528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 отскоком от пол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Копия (2) Scan10006"/>
          <p:cNvPicPr/>
          <p:nvPr/>
        </p:nvPicPr>
        <p:blipFill>
          <a:blip r:embed="rId1"/>
          <a:stretch/>
        </p:blipFill>
        <p:spPr>
          <a:xfrm>
            <a:off x="642960" y="785880"/>
            <a:ext cx="8072280" cy="535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едение мя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Тренируясь в ведении помн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кая мяч в пол, используй движение пальцев и кисти и небольшое движение в локте. Не бей по мячу ладо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мотри вниз на мяч- держи голову поднятой, чтобы видеть других игроков, площадку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ерживай мяч сбоку- спереди- справа, когда ведешь прав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и согнуты, а тело наклонено впе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шиб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едение правой рукой влев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об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и переводе мяча с руки на руку отсутствует низкий отск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уловищ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мент перевода не закрывает мя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Копия (3) Scan10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вля мя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1484280"/>
            <a:ext cx="82803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вля- прием с помощью которого игрок может  уверенно овладеть мячом и предпринять с ним  дальнейшие атак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шибки при лов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-руки согнуты в локтях, а не пря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-кисти не открыты для соприкосновения с   мяч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-мяч прижимается к гру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Тренируясь в передачах помни о следующе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чу выполняй быстро и точно в ц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й передачу на уровне груди партн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ви и передавай мяч паль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пуска мяча пальцы направлены на партнера. Это способствует точности пере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дача мяча двумя руками от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мяч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, с помощью которого игрок направляет мяч партнеру для продолжения ата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1307334501_5.jpg"/>
          <p:cNvPicPr/>
          <p:nvPr/>
        </p:nvPicPr>
        <p:blipFill>
          <a:blip r:embed="rId1"/>
          <a:stretch/>
        </p:blipFill>
        <p:spPr>
          <a:xfrm>
            <a:off x="900000" y="3645000"/>
            <a:ext cx="7632720" cy="287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can10005"/>
          <p:cNvPicPr/>
          <p:nvPr/>
        </p:nvPicPr>
        <p:blipFill>
          <a:blip r:embed="rId1"/>
          <a:stretch/>
        </p:blipFill>
        <p:spPr>
          <a:xfrm>
            <a:off x="928800" y="1792440"/>
            <a:ext cx="7786440" cy="4636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71760" y="5572080"/>
            <a:ext cx="3071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емы техник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дачи мя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428840" y="5500800"/>
            <a:ext cx="6215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умя руками  от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358120" cy="61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вумя руками сверх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can10006"/>
          <p:cNvPicPr/>
          <p:nvPr/>
        </p:nvPicPr>
        <p:blipFill>
          <a:blip r:embed="rId1"/>
          <a:stretch/>
        </p:blipFill>
        <p:spPr>
          <a:xfrm>
            <a:off x="785880" y="1357200"/>
            <a:ext cx="7715160" cy="507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358120" cy="564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дной рукой от плеч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Копия (3) Scan10005"/>
          <p:cNvPicPr/>
          <p:nvPr/>
        </p:nvPicPr>
        <p:blipFill>
          <a:blip r:embed="rId1"/>
          <a:stretch/>
        </p:blipFill>
        <p:spPr>
          <a:xfrm>
            <a:off x="1214280" y="1792440"/>
            <a:ext cx="7143840" cy="442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9:43:07Z</dcterms:created>
  <dc:creator>ППП</dc:creator>
  <dc:description/>
  <dc:language>en-US</dc:language>
  <cp:lastModifiedBy>админ</cp:lastModifiedBy>
  <dcterms:modified xsi:type="dcterms:W3CDTF">2013-02-14T05:51:19Z</dcterms:modified>
  <cp:revision>30</cp:revision>
  <dc:subject/>
  <dc:title>СОШ № 17</dc:title>
</cp:coreProperties>
</file>