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AED-6DD4-468D-A5E4-5B51BBB3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E9F-E757-48AB-B272-60DB389B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960-A2B6-4E89-9004-D736F911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2BD-D727-411C-92BE-F417C659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F5A-26D8-4A3C-BFE0-CC5EE3C1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168-59CC-4783-A8E1-08531B5B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B0B-43EE-41EE-A0F8-4B0A8364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695-4919-4705-B8DF-832E2212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767-C37C-4555-9F89-AB90BB5E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48D-E629-4C74-AEB7-C1A10D9B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2C0-493D-4845-8FAC-27531AF6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E26-B2FC-4DFB-87F0-B17A1D96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D2D4-F158-4628-8A7C-FEFB832244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Фольклор –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ое народное 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ые сказки, загадки и посл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ские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Мораль басни И.А. Крылова «Ворона и лиси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Не верь льсте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Не будь жад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е ешь 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Не пой, если не уме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Определи жанр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В доме одна Домна. Думает Домна: «Дай, приберу». Прибрала Домна дом, а у Домны дом вверх дном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рогово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сказ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ак называется нравоучение в бас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В каких произведениях рассказывается о богатыр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каз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ыли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были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асн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ому принадлежат слова из поэмы «Руслан и Людмила» А.С. Пушк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…Пустился в дальнюю доро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гал, шагал и, слава Бо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 бы пророчеству наз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 счастливо сначала ш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 отдаленными г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шли мы роковой подв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разметал его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потаенный меч доста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л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ном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акое произведение часто начинается словами «Жили-были…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В каком произведении всегда есть мора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каз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ы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ас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га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меть фамилию автора сказ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з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З. Сур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С. 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то такое абза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меть лишне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о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Эзоп и И.А. Крылов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снопис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пис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то из авторов писал рассказы о природ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.А. Кры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. Биа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.А. Есен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Героем каких произведений стал Илья Муромец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ли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жанр фольклор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ихотвор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фамилию автора стихотворения «Зимний вечер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ен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ит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ермонт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8377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имя героя литературной сказ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тофей Иван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аревич Нехитер- Немуд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нязь Гвидон Салтан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лена Премудр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акие книги помогут получить справку о писател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лковы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ф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нциклопед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Прочитай отрывок. Укажи название строф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оет уж лист зо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лажную землю в лес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мело топчу я но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шнюю леса кр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Двустиш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ятистиш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Четверостиш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Шестистишие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Присказка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упление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овка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тливое вступление или концовка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льклорный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имя и отчество Турген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Андр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андр Серг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он Павл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кажи жанр произведения Л.Н. Толстого «Два брат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изведение «Крестьянские дети» напис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.Ю. Лермо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Укажи фамилию французского сказочни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.К. Андерс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арль Перр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ратья Гри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акариас Топелиу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ак называется описание картины природы в литерату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йза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лицетвор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голово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предели жанр произве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сыпала Лукер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еребряные пер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рутила, заме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ала улица б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короговор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Прочитай отрывок. Кто автор этого произведе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безьяна села на первой перекладине мачты, сняла шляпу и стала зубами и лапами рвать ее. Она как будто дразнила мальчика, показывала на него и делала ему рож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С. 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предели жанр отрыв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Чародейкою Зимо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колдован лес стоит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И под снежной бахромо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еподвижною, немо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Чудной жизнью он блест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ска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расс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бас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стихотвор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560" y="8377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тметь имя и отчество Чех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ев Никола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тон Павл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лай Алексе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Прочитай произведение. Отметь его жанр и тем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ленькое дело лучше большого бездел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 о др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 об у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адка о тр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 о тр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имя и отчество Некрасо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лай Никола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лай Алексе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тон Павл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фанасий Афанась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предели тему пословиц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Где работают, там густо, а в ленивом доме пуст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друж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Роди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тру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челове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Автор стихотворения «Листопад»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.И. Тют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А.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Н. Май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Автор рассказа «Ванька»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С. 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Пейзаж – это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 о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исание картины приро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ка о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рия о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Героем какого произведения является Ванька Жук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ихотвор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Arial"/>
              </a:rPr>
              <a:t>Отметь фамилию русского поэта и сказочник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ы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й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то автор рассказа «Белолобый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Н. Но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баснописца Древней Гре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А. Кры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з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Е. Изм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басню Эз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рон и Лис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рона и Лис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Филин и чиж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ак, Лебедь и Щ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акая книга поможет проверить написание сло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лковы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ф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нциклопед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фамилию поэ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р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пр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устовс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ыл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Укажи автора басни «Петух и Жемчужное Зер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з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Укажи имя и отчество Кры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Сав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Загадка –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равоучение в бас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е мудрое народное изр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картины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ая форма фолькл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ак называется шутливое начало или конец сказ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ы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загадку-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1) Щучка - одноручка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Носок стальной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Хвостик льняной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2) Чулан невелик, а народом набит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3) Какой мост из воды построен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4) Железный нос в землю врос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Роет, копает, землю разрыхляет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Из какого произведения отрыв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3500" spc="-1" strike="noStrike">
                <a:solidFill>
                  <a:srgbClr val="000000"/>
                </a:solidFill>
                <a:latin typeface="Arial"/>
              </a:rPr>
              <a:t>Милый сын мой Добрынюшка, ты не езди к Пучай-реке. Пучай-река свирепая, сердита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ба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бы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небы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Подумай, что поможет тебе найти нужные произведения в книге-сбор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ложка кн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главление (содерж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нот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то говорит эти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Мы объехали весь св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орговали мы була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истым серебром и зла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теперь нам вышел ср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лежит нам путь дал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имо острова Буя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царство славного Салта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нязь Гвидон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ядька Черномор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три сестр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орабельщик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1-02-13T08:35:20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