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C32-7B90-4EAB-826D-C6883978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CEE-2B29-4F42-9E39-C277F51C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1DC-9BE9-4DC7-9FB5-D73F7AC1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5E5-4BC9-4AEB-8BA7-BD84ACA6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0F3F-9D69-4F49-89D7-933D7A81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12F7-E4D6-42C4-9DFC-F226373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5858-3517-451F-AB48-5488EEEF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27BF-A986-48E4-9499-F151CE0C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E5EC-A3C8-44FA-9903-5C045178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E92-F6FA-4AD9-9934-C9014083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912C-754C-4EFD-92E4-8B3E608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421-77BE-4E6E-AE45-2BA70495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78A-0F26-4FDB-AC92-43813FD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0AB1-81A1-4AF3-8D3C-1A6CA9C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84D7-D247-4D11-9509-8AF8B566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853-E61C-4A19-8C45-4A0F50AB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55CC-4D38-4E86-B9F5-4F5AAB60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15E-9F7D-4ED3-BA5B-A9D9EA9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3BC-2E64-46A4-AA85-61E944EB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C2F-EC4B-46A2-94E4-ABD46E36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694-F8B8-4BC5-BE43-1E963826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9A6-F96F-4B23-90FE-BFC051A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7C8-61FA-4D48-B90B-65EF80D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E05-7028-4C19-AD63-83B4563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3421-3787-42EA-B507-53439281D0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F6C8-9428-44E5-9285-8794FC001E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2808000"/>
            <a:ext cx="6400800" cy="2925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</a:rPr>
              <a:t>ЧИСЛО</a:t>
            </a:r>
            <a:br>
              <a:rPr sz="8800"/>
            </a:br>
            <a:r>
              <a:rPr b="0" lang="el-GR" sz="8800" spc="-1" strike="noStrike">
                <a:solidFill>
                  <a:srgbClr val="ff0000"/>
                </a:solidFill>
                <a:latin typeface="Comic Sans MS"/>
              </a:rPr>
              <a:t>π</a:t>
            </a:r>
            <a:br>
              <a:rPr sz="4000"/>
            </a:b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Бывают дорожные, бывают препинания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3280" y="2276640"/>
            <a:ext cx="172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443640" y="2276640"/>
            <a:ext cx="172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24360" y="2276640"/>
            <a:ext cx="172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348000" y="2565360"/>
            <a:ext cx="21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940360" y="2565360"/>
            <a:ext cx="21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У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684360" y="1844280"/>
            <a:ext cx="863280" cy="136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2923920"/>
            <a:ext cx="863640" cy="136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rcRect l="7883" t="7276" r="5285" b="13008"/>
          <a:stretch/>
        </p:blipFill>
        <p:spPr>
          <a:xfrm>
            <a:off x="3276720" y="270828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4356000" y="3715920"/>
            <a:ext cx="863640" cy="136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364000" y="3933720"/>
            <a:ext cx="2665440" cy="1623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5003640" y="4581360"/>
            <a:ext cx="863640" cy="136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028000" y="537372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50920" y="50846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УЖ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348000" y="2637000"/>
            <a:ext cx="2519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2840" y="770040"/>
            <a:ext cx="254160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Н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76720" y="501336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С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58920" y="0"/>
            <a:ext cx="3384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Это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3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я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знаю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4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и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помню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5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прекрасно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9)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Пи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лишние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6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знаки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5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тут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3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чужды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5),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напрасны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8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5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65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0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15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25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95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85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7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45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35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6000" y="2492280"/>
            <a:ext cx="698508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,1415926535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Окружность - … замкнутая линия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90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33 буква алфавит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8288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1 лицо, ед. число от глагола «знать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Ю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8590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Союз, объединяющий однородные члены предложени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472428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340000" y="1484280"/>
            <a:ext cx="4321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</a:t>
            </a:r>
            <a:endParaRPr b="0" lang="en-US" sz="18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84360" y="155736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36960" y="1989000"/>
            <a:ext cx="43164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52960" y="247824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68600" y="2981160"/>
            <a:ext cx="43200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84600" y="348624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00600" y="398952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84720" y="463860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16360" y="400536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81680" y="344016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197320" y="295920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13320" y="245916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02320" y="1989000"/>
            <a:ext cx="43164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12000" y="155736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56360" y="220500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56360" y="276552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56360" y="342900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56360" y="407664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56360" y="4724280"/>
            <a:ext cx="43164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11280" y="211788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11280" y="270828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411280" y="328464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411280" y="398952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11280" y="465300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132000" y="515772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Ю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Очень красиво одним словом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КРАС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Отношение длины окружности к длине диаметра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59280" y="4869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Третий - ……………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(мн. число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иш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9:23:31Z</dcterms:created>
  <dc:creator>Иванов</dc:creator>
  <dc:description/>
  <dc:language>en-US</dc:language>
  <cp:lastModifiedBy>Пользователь</cp:lastModifiedBy>
  <dcterms:modified xsi:type="dcterms:W3CDTF">2013-02-14T15:12:04Z</dcterms:modified>
  <cp:revision>5</cp:revision>
  <dc:subject/>
  <dc:title>Слайд 1</dc:title>
</cp:coreProperties>
</file>