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BBA-699F-441F-8797-EF5A819B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DD2-FBA2-4777-9125-AFAA9EBE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E17-157B-48EB-A47B-CE9D7A04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A1A-C1ED-42FC-A299-D6960242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1DC4-76A8-44B2-A9D6-AD2F4547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0EF2-BCC4-4DD5-8208-39B8B3F8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27EB-04D6-4388-94B7-638BBE9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25DC-9B05-4162-ADAE-303B143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0008-325C-4CF2-A52A-53F2B79D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28F9-17C0-492C-BD78-97477C5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E21E-72BD-44C0-BF53-8DED1BE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6F2-DE33-416D-9989-7A2D690D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CBFE-BB38-41C0-9AC1-EDCB7FD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1769-0B76-4135-BFA2-0CCECCD3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2A2-C9F1-4DE1-98E0-351455B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30BE-CB40-4E3D-9FAA-F60CA2A7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B212-0C34-4443-9C8B-166FB0B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8DB-DD65-4D79-9D07-C50A554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BAA-8A36-4AB1-A1C6-0B42A0DF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5DD-C9AA-4E81-B1E4-725C4A9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A07-4EB7-4734-A7AE-841741C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C38-B3B0-40F2-BBDC-1337CC10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F9D-A890-4844-A4E7-C9C8E45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32F-4EDF-4C76-B510-0A4FF1F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DE19-6BFC-4ACC-B735-AFD934244F1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3F7-FBC5-4AFF-983F-B7073CB4B6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2808000"/>
            <a:ext cx="6400800" cy="2925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omic Sans MS"/>
              </a:rPr>
              <a:t>ЧИСЛО</a:t>
            </a:r>
            <a:br>
              <a:rPr sz="8800"/>
            </a:br>
            <a:r>
              <a:rPr b="0" lang="el-GR" sz="8800" spc="-1" strike="noStrike">
                <a:solidFill>
                  <a:srgbClr val="ff0000"/>
                </a:solidFill>
                <a:latin typeface="Comic Sans MS"/>
              </a:rPr>
              <a:t>π</a:t>
            </a:r>
            <a:br>
              <a:rPr sz="4000"/>
            </a:b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-360" y="1773360"/>
            <a:ext cx="871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Бывают дорожные, бывают препинания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328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44364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24360" y="2276640"/>
            <a:ext cx="17272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348000" y="2565360"/>
            <a:ext cx="21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940360" y="2565360"/>
            <a:ext cx="216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;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684360" y="1844280"/>
            <a:ext cx="86328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2923920"/>
            <a:ext cx="86364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rcRect l="7883" t="7276" r="5285" b="13008"/>
          <a:stretch/>
        </p:blipFill>
        <p:spPr>
          <a:xfrm>
            <a:off x="3276720" y="270828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V="1">
            <a:off x="4356000" y="3715920"/>
            <a:ext cx="863640" cy="1368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2665440" cy="1623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5003640" y="4581360"/>
            <a:ext cx="863640" cy="136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028000" y="537372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0920" y="508464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УЖД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348000" y="2637000"/>
            <a:ext cx="2519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82840" y="770040"/>
            <a:ext cx="2541600" cy="18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Н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76720" y="501336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СН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58920" y="0"/>
            <a:ext cx="338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Это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я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знаю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4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омню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рекрасно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9)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П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лишние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6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знаки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тут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3)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чужды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5),</a:t>
            </a: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omic Sans MS"/>
              </a:rPr>
              <a:t>напрасны 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(8)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5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650"/>
                            </p:stCondLst>
                            <p:childTnLst>
                              <p:par>
                                <p:cTn id="1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15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25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95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8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70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45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935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16000" y="2492280"/>
            <a:ext cx="6985080" cy="30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,14159265358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кружность - … замкнутая линия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0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33 буква алфави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3640" y="1828800"/>
            <a:ext cx="8057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1 лицо, ед. число от глагола «знать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НА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8590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Союз, объединяющий однородные члены предложени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59280" y="472428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340000" y="1484280"/>
            <a:ext cx="4321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42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0" lang="en-US" sz="1800" spc="1" strike="noStrike">
              <a:ln w="442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84360" y="15573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36960" y="198900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52960" y="24782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68600" y="2981160"/>
            <a:ext cx="43200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684600" y="34862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00600" y="398952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284720" y="46386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716360" y="40053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81680" y="344016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197320" y="295920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13320" y="245916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02320" y="198900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12000" y="155736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56360" y="22050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56360" y="276552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56360" y="342900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56360" y="4076640"/>
            <a:ext cx="4316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56360" y="4724280"/>
            <a:ext cx="431640" cy="3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211788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11280" y="270828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411280" y="328464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11280" y="398952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11280" y="4653000"/>
            <a:ext cx="4320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132000" y="5157720"/>
            <a:ext cx="2737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Ю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Очень красиво одним слов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КРАСН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Отношение длины окружности к длине диаметр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59280" y="4869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Третий - ……………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(мн. число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59280" y="4653000"/>
            <a:ext cx="273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иш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9:23:31Z</dcterms:created>
  <dc:creator>Иванов</dc:creator>
  <dc:description/>
  <dc:language>en-US</dc:language>
  <cp:lastModifiedBy>Пользователь</cp:lastModifiedBy>
  <dcterms:modified xsi:type="dcterms:W3CDTF">2013-02-14T15:12:04Z</dcterms:modified>
  <cp:revision>5</cp:revision>
  <dc:subject/>
  <dc:title>Слайд 1</dc:title>
</cp:coreProperties>
</file>