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4DD-A7E7-4608-998B-304B622A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381-023C-4DFD-B9A3-4C7DA4D8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10F4-724A-4320-8895-CB18C44B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27B-9AE9-464B-92CE-448CEF00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F0E7-9857-4D84-9D4E-AEB47CD8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BA11-2B5C-441B-8532-8BEC9B25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E1CB-4BC5-4C4E-A7E9-E302536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50CE-5362-4E6D-BD1C-9B6451C3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4234-808E-4F72-8DCF-FF8B1361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A84B-A919-4472-828F-11627A79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6033-5350-4B4D-B70A-929291E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922-1FA4-43A4-A50E-1C30985D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36DF-80BB-4D76-B710-4A5D378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686C-F3CB-41DF-AD39-0A14AB0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68BA-7372-4EF8-8C64-BF0057E8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A69E-201E-4FEF-A133-180D27BC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996-C259-4DF7-90BE-3F39CE7C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057-4F54-45C2-9D36-5D28B12D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B8C-79CB-4483-AD4D-C11D0BF3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A71-20B5-4E03-BB60-34442EFE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58E-DA65-4C4F-99C0-0F611E22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EB9-7E6F-4DEB-B370-26C31A14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231-3121-4062-8B80-6109B50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5C8-4BEB-4246-ABF1-70EA847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F713-F9E1-44FA-A7DE-187A8AD8250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916E-2794-49D0-9399-31F3299631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9.xml"/><Relationship Id="rId4" Type="http://schemas.openxmlformats.org/officeDocument/2006/relationships/slide" Target="slide27.xml"/><Relationship Id="rId5" Type="http://schemas.openxmlformats.org/officeDocument/2006/relationships/slide" Target="slide5.xml"/><Relationship Id="rId6" Type="http://schemas.openxmlformats.org/officeDocument/2006/relationships/slide" Target="slide13.xml"/><Relationship Id="rId7" Type="http://schemas.openxmlformats.org/officeDocument/2006/relationships/slide" Target="slide21.xml"/><Relationship Id="rId8" Type="http://schemas.openxmlformats.org/officeDocument/2006/relationships/slide" Target="slide29.xml"/><Relationship Id="rId9" Type="http://schemas.openxmlformats.org/officeDocument/2006/relationships/slide" Target="slide7.xml"/><Relationship Id="rId10" Type="http://schemas.openxmlformats.org/officeDocument/2006/relationships/slide" Target="slide15.xml"/><Relationship Id="rId11" Type="http://schemas.openxmlformats.org/officeDocument/2006/relationships/slide" Target="slide23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18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ickham Script Pro Regular"/>
              </a:rPr>
              <a:t>Deutschland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915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bundeslaender-deutschland"/>
          <p:cNvPicPr/>
          <p:nvPr/>
        </p:nvPicPr>
        <p:blipFill>
          <a:blip r:embed="rId1"/>
          <a:stretch/>
        </p:blipFill>
        <p:spPr>
          <a:xfrm>
            <a:off x="1476360" y="1773360"/>
            <a:ext cx="583236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</a:rPr>
              <a:t>Das ist Oktoberfes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7667640" y="602136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</a:rPr>
              <a:t>Wieviel Einwohner h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</a:rPr>
              <a:t>Deutschl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tencil Std"/>
              </a:rPr>
              <a:t>81.8 Mio Einwoh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8028000" y="630864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8006" y="3837"/>
                </a:moveTo>
                <a:lnTo>
                  <a:pt x="20582" y="6448"/>
                </a:ln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lnTo>
                  <a:pt x="24969" y="10800"/>
                </a:lnTo>
                <a:lnTo>
                  <a:pt x="23315" y="10800"/>
                </a:lnTo>
                <a:lnTo>
                  <a:pt x="23315" y="17989"/>
                </a:lnTo>
                <a:lnTo>
                  <a:pt x="12697" y="17989"/>
                </a:lnTo>
                <a:lnTo>
                  <a:pt x="12697" y="10800"/>
                </a:lnTo>
                <a:lnTo>
                  <a:pt x="11043" y="10800"/>
                </a:lnTo>
                <a:close/>
              </a:path>
              <a:path fill="darkenLess" w="36012" h="21600">
                <a:moveTo>
                  <a:pt x="20582" y="6448"/>
                </a:moveTo>
                <a:lnTo>
                  <a:pt x="20582" y="4707"/>
                </a:lnTo>
                <a:lnTo>
                  <a:pt x="22358" y="4707"/>
                </a:lnTo>
                <a:lnTo>
                  <a:pt x="22358" y="8224"/>
                </a:lnTo>
                <a:close/>
              </a:path>
              <a:path fill="darkenLess" w="36012" h="21600">
                <a:moveTo>
                  <a:pt x="17083" y="14299"/>
                </a:moveTo>
                <a:lnTo>
                  <a:pt x="18929" y="14299"/>
                </a:lnTo>
                <a:lnTo>
                  <a:pt x="18929" y="17989"/>
                </a:lnTo>
                <a:lnTo>
                  <a:pt x="23315" y="17989"/>
                </a:lnTo>
                <a:lnTo>
                  <a:pt x="23315" y="10800"/>
                </a:lnTo>
                <a:lnTo>
                  <a:pt x="12697" y="10800"/>
                </a:lnTo>
                <a:lnTo>
                  <a:pt x="12697" y="17989"/>
                </a:lnTo>
                <a:lnTo>
                  <a:pt x="17083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nap ITC"/>
              </a:rPr>
              <a:t>Was seht ihr auf dem Bild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Snap ITC"/>
            </a:endParaRPr>
          </a:p>
        </p:txBody>
      </p:sp>
      <p:pic>
        <p:nvPicPr>
          <p:cNvPr id="189" name="Picture 4" descr="1"/>
          <p:cNvPicPr/>
          <p:nvPr/>
        </p:nvPicPr>
        <p:blipFill>
          <a:blip r:embed="rId1"/>
          <a:stretch/>
        </p:blipFill>
        <p:spPr>
          <a:xfrm>
            <a:off x="1619280" y="1773360"/>
            <a:ext cx="6013440" cy="4514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nap ITC"/>
              </a:rPr>
              <a:t>Der Alexanderplatz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81200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13527" y="3837"/>
                </a:moveTo>
                <a:lnTo>
                  <a:pt x="16103" y="6448"/>
                </a:lnTo>
                <a:lnTo>
                  <a:pt x="16103" y="4707"/>
                </a:lnTo>
                <a:lnTo>
                  <a:pt x="17879" y="4707"/>
                </a:lnTo>
                <a:lnTo>
                  <a:pt x="17879" y="8224"/>
                </a:lnTo>
                <a:lnTo>
                  <a:pt x="20490" y="10800"/>
                </a:lnTo>
                <a:lnTo>
                  <a:pt x="18836" y="10800"/>
                </a:lnTo>
                <a:lnTo>
                  <a:pt x="18836" y="17989"/>
                </a:lnTo>
                <a:lnTo>
                  <a:pt x="8218" y="17989"/>
                </a:lnTo>
                <a:lnTo>
                  <a:pt x="8218" y="10800"/>
                </a:lnTo>
                <a:lnTo>
                  <a:pt x="6564" y="10800"/>
                </a:lnTo>
                <a:close/>
              </a:path>
              <a:path fill="darkenLess" w="27054" h="21600">
                <a:moveTo>
                  <a:pt x="16103" y="6448"/>
                </a:moveTo>
                <a:lnTo>
                  <a:pt x="16103" y="4707"/>
                </a:lnTo>
                <a:lnTo>
                  <a:pt x="17879" y="4707"/>
                </a:lnTo>
                <a:lnTo>
                  <a:pt x="17879" y="8224"/>
                </a:lnTo>
                <a:close/>
              </a:path>
              <a:path fill="darkenLess" w="27054" h="21600">
                <a:moveTo>
                  <a:pt x="12604" y="14299"/>
                </a:moveTo>
                <a:lnTo>
                  <a:pt x="14450" y="14299"/>
                </a:lnTo>
                <a:lnTo>
                  <a:pt x="14450" y="17989"/>
                </a:lnTo>
                <a:lnTo>
                  <a:pt x="18836" y="17989"/>
                </a:lnTo>
                <a:lnTo>
                  <a:pt x="18836" y="10800"/>
                </a:lnTo>
                <a:lnTo>
                  <a:pt x="8218" y="10800"/>
                </a:lnTo>
                <a:lnTo>
                  <a:pt x="8218" y="17989"/>
                </a:lnTo>
                <a:lnTo>
                  <a:pt x="12604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howcard Gothic"/>
              </a:rPr>
              <a:t>Wie heisst dieser Komponiest der Wiener Klassik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ff"/>
              </a:solidFill>
              <a:latin typeface="Showcard Gothic"/>
            </a:endParaRPr>
          </a:p>
        </p:txBody>
      </p:sp>
      <p:pic>
        <p:nvPicPr>
          <p:cNvPr id="195" name="Picture 4" descr="170px-Beethoven"/>
          <p:cNvPicPr/>
          <p:nvPr/>
        </p:nvPicPr>
        <p:blipFill>
          <a:blip r:embed="rId1"/>
          <a:stretch/>
        </p:blipFill>
        <p:spPr>
          <a:xfrm>
            <a:off x="3348000" y="2133720"/>
            <a:ext cx="2833560" cy="340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Showcard Gothic"/>
              </a:rPr>
              <a:t>Ludwig van Beetho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7812000" y="6165720"/>
            <a:ext cx="432000" cy="35892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94" h="21600">
                <a:moveTo>
                  <a:pt x="0" y="0"/>
                </a:moveTo>
                <a:lnTo>
                  <a:pt x="25994" y="0"/>
                </a:lnTo>
                <a:lnTo>
                  <a:pt x="25994" y="21600"/>
                </a:lnTo>
                <a:lnTo>
                  <a:pt x="0" y="21600"/>
                </a:lnTo>
                <a:close/>
              </a:path>
              <a:path fill="lightenLess" w="25994" h="21600">
                <a:moveTo>
                  <a:pt x="0" y="0"/>
                </a:moveTo>
                <a:lnTo>
                  <a:pt x="25994" y="0"/>
                </a:lnTo>
                <a:lnTo>
                  <a:pt x="24594" y="1400"/>
                </a:lnTo>
                <a:lnTo>
                  <a:pt x="1400" y="1400"/>
                </a:lnTo>
                <a:close/>
              </a:path>
              <a:path fill="darken" w="25994" h="21600">
                <a:moveTo>
                  <a:pt x="25994" y="0"/>
                </a:moveTo>
                <a:lnTo>
                  <a:pt x="25994" y="21600"/>
                </a:lnTo>
                <a:lnTo>
                  <a:pt x="24594" y="20200"/>
                </a:lnTo>
                <a:lnTo>
                  <a:pt x="24594" y="1400"/>
                </a:lnTo>
                <a:close/>
              </a:path>
              <a:path fill="darkenLess" w="25994" h="21600">
                <a:moveTo>
                  <a:pt x="2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4" y="20200"/>
                </a:lnTo>
                <a:close/>
              </a:path>
              <a:path fill="lighten" w="2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4" h="21600">
                <a:moveTo>
                  <a:pt x="12997" y="3837"/>
                </a:moveTo>
                <a:lnTo>
                  <a:pt x="15573" y="6448"/>
                </a:lnTo>
                <a:lnTo>
                  <a:pt x="15573" y="4707"/>
                </a:lnTo>
                <a:lnTo>
                  <a:pt x="17349" y="4707"/>
                </a:lnTo>
                <a:lnTo>
                  <a:pt x="17349" y="8224"/>
                </a:lnTo>
                <a:lnTo>
                  <a:pt x="19960" y="10800"/>
                </a:lnTo>
                <a:lnTo>
                  <a:pt x="18306" y="10800"/>
                </a:lnTo>
                <a:lnTo>
                  <a:pt x="18306" y="17989"/>
                </a:lnTo>
                <a:lnTo>
                  <a:pt x="7688" y="17989"/>
                </a:lnTo>
                <a:lnTo>
                  <a:pt x="7688" y="10800"/>
                </a:lnTo>
                <a:lnTo>
                  <a:pt x="6034" y="10800"/>
                </a:lnTo>
                <a:close/>
              </a:path>
              <a:path fill="darkenLess" w="25994" h="21600">
                <a:moveTo>
                  <a:pt x="15573" y="6448"/>
                </a:moveTo>
                <a:lnTo>
                  <a:pt x="15573" y="4707"/>
                </a:lnTo>
                <a:lnTo>
                  <a:pt x="17349" y="4707"/>
                </a:lnTo>
                <a:lnTo>
                  <a:pt x="17349" y="8224"/>
                </a:lnTo>
                <a:close/>
              </a:path>
              <a:path fill="darkenLess" w="25994" h="21600">
                <a:moveTo>
                  <a:pt x="12074" y="14299"/>
                </a:moveTo>
                <a:lnTo>
                  <a:pt x="13919" y="14299"/>
                </a:lnTo>
                <a:lnTo>
                  <a:pt x="13919" y="17989"/>
                </a:lnTo>
                <a:lnTo>
                  <a:pt x="18306" y="17989"/>
                </a:lnTo>
                <a:lnTo>
                  <a:pt x="18306" y="10800"/>
                </a:lnTo>
                <a:lnTo>
                  <a:pt x="7688" y="10800"/>
                </a:lnTo>
                <a:lnTo>
                  <a:pt x="7688" y="17989"/>
                </a:lnTo>
                <a:lnTo>
                  <a:pt x="12074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 f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  <a:ea typeface="Arial"/>
              </a:rPr>
              <a:t>ür ein Fes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4" descr="Weihnachtsmarkt_Koeln_Rudolfplatz"/>
          <p:cNvPicPr/>
          <p:nvPr/>
        </p:nvPicPr>
        <p:blipFill>
          <a:blip r:embed="rId1"/>
          <a:stretch/>
        </p:blipFill>
        <p:spPr>
          <a:xfrm>
            <a:off x="1187280" y="1628640"/>
            <a:ext cx="3168720" cy="2751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WM_weihnachtsmarkt1_405_rdax_405x304"/>
          <p:cNvPicPr/>
          <p:nvPr/>
        </p:nvPicPr>
        <p:blipFill>
          <a:blip r:embed="rId2"/>
          <a:stretch/>
        </p:blipFill>
        <p:spPr>
          <a:xfrm>
            <a:off x="4932360" y="1628640"/>
            <a:ext cx="3508200" cy="2633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images"/>
          <p:cNvPicPr/>
          <p:nvPr/>
        </p:nvPicPr>
        <p:blipFill>
          <a:blip r:embed="rId3"/>
          <a:stretch/>
        </p:blipFill>
        <p:spPr>
          <a:xfrm>
            <a:off x="3203640" y="4005360"/>
            <a:ext cx="2950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Showcard Gothic"/>
              </a:rPr>
              <a:t>Weihnachten 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7885080" y="6093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nap ITC"/>
              </a:rPr>
              <a:t>Welche Farban hat deutsc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nap ITC"/>
              </a:rPr>
              <a:t>Fahn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197000"/>
          <a:ext cx="8229600" cy="4680000"/>
        </p:xfrm>
        <a:graphic>
          <a:graphicData uri="http://schemas.openxmlformats.org/drawingml/2006/table">
            <a:tbl>
              <a:tblPr/>
              <a:tblGrid>
                <a:gridCol w="2663640"/>
                <a:gridCol w="1440000"/>
                <a:gridCol w="1368360"/>
                <a:gridCol w="1295640"/>
                <a:gridCol w="14619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Allgemein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Baudenkm</a:t>
                      </a:r>
                      <a:r>
                        <a:rPr b="0" lang="en-US" sz="3000" spc="-1" strike="noStrike">
                          <a:solidFill>
                            <a:srgbClr val="008000"/>
                          </a:solidFill>
                          <a:latin typeface="Tahoma"/>
                          <a:ea typeface="Arial"/>
                        </a:rPr>
                        <a:t>äle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Kult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Fe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oper Std Black"/>
              </a:rPr>
              <a:t>Schwarz-rot-gol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5" descr="flagge-deutschland"/>
          <p:cNvPicPr/>
          <p:nvPr/>
        </p:nvPicPr>
        <p:blipFill>
          <a:blip r:embed="rId1"/>
          <a:stretch/>
        </p:blipFill>
        <p:spPr>
          <a:xfrm>
            <a:off x="2340000" y="2133720"/>
            <a:ext cx="5338800" cy="35557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8101080" y="5877000"/>
            <a:ext cx="287280" cy="43164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431640"/>
              <a:gd name="textAreaBottom" fmla="*/ 413280 h 431640"/>
            </a:gdLst>
            <a:ahLst/>
            <a:rect l="textAreaLeft" t="textAreaTop" r="textAreaRight" b="textAreaBottom"/>
            <a:pathLst>
              <a:path w="21600" h="32441">
                <a:moveTo>
                  <a:pt x="0" y="0"/>
                </a:moveTo>
                <a:lnTo>
                  <a:pt x="21600" y="0"/>
                </a:lnTo>
                <a:lnTo>
                  <a:pt x="21600" y="32441"/>
                </a:lnTo>
                <a:lnTo>
                  <a:pt x="0" y="32441"/>
                </a:lnTo>
                <a:close/>
              </a:path>
              <a:path fill="lightenLess" w="21600" h="324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41">
                <a:moveTo>
                  <a:pt x="21600" y="0"/>
                </a:moveTo>
                <a:lnTo>
                  <a:pt x="21600" y="32441"/>
                </a:lnTo>
                <a:lnTo>
                  <a:pt x="20200" y="31041"/>
                </a:lnTo>
                <a:lnTo>
                  <a:pt x="20200" y="1400"/>
                </a:lnTo>
                <a:close/>
              </a:path>
              <a:path fill="darkenLess" w="21600" h="32441">
                <a:moveTo>
                  <a:pt x="21600" y="32441"/>
                </a:moveTo>
                <a:lnTo>
                  <a:pt x="0" y="32441"/>
                </a:lnTo>
                <a:lnTo>
                  <a:pt x="1400" y="31041"/>
                </a:lnTo>
                <a:lnTo>
                  <a:pt x="20200" y="31041"/>
                </a:lnTo>
                <a:close/>
              </a:path>
              <a:path fill="lighten" w="21600" h="32441">
                <a:moveTo>
                  <a:pt x="0" y="324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41"/>
                </a:lnTo>
                <a:close/>
              </a:path>
              <a:path fill="darken" w="21600" h="32441">
                <a:moveTo>
                  <a:pt x="10800" y="9257"/>
                </a:moveTo>
                <a:lnTo>
                  <a:pt x="13376" y="11868"/>
                </a:lnTo>
                <a:lnTo>
                  <a:pt x="13376" y="10128"/>
                </a:lnTo>
                <a:lnTo>
                  <a:pt x="15152" y="10128"/>
                </a:lnTo>
                <a:lnTo>
                  <a:pt x="15152" y="13644"/>
                </a:lnTo>
                <a:lnTo>
                  <a:pt x="17763" y="16220"/>
                </a:lnTo>
                <a:lnTo>
                  <a:pt x="16109" y="16220"/>
                </a:lnTo>
                <a:lnTo>
                  <a:pt x="16109" y="23410"/>
                </a:lnTo>
                <a:lnTo>
                  <a:pt x="5491" y="23410"/>
                </a:lnTo>
                <a:lnTo>
                  <a:pt x="5491" y="16220"/>
                </a:lnTo>
                <a:lnTo>
                  <a:pt x="3837" y="16220"/>
                </a:lnTo>
                <a:close/>
              </a:path>
              <a:path fill="darkenLess" w="21600" h="32441">
                <a:moveTo>
                  <a:pt x="13376" y="11868"/>
                </a:moveTo>
                <a:lnTo>
                  <a:pt x="13376" y="10128"/>
                </a:lnTo>
                <a:lnTo>
                  <a:pt x="15152" y="10128"/>
                </a:lnTo>
                <a:lnTo>
                  <a:pt x="15152" y="13644"/>
                </a:lnTo>
                <a:close/>
              </a:path>
              <a:path fill="darkenLess" w="21600" h="32441">
                <a:moveTo>
                  <a:pt x="9877" y="19719"/>
                </a:moveTo>
                <a:lnTo>
                  <a:pt x="11723" y="19719"/>
                </a:lnTo>
                <a:lnTo>
                  <a:pt x="11723" y="23410"/>
                </a:lnTo>
                <a:lnTo>
                  <a:pt x="16109" y="23410"/>
                </a:lnTo>
                <a:lnTo>
                  <a:pt x="16109" y="16220"/>
                </a:lnTo>
                <a:lnTo>
                  <a:pt x="5491" y="16220"/>
                </a:lnTo>
                <a:lnTo>
                  <a:pt x="5491" y="23410"/>
                </a:lnTo>
                <a:lnTo>
                  <a:pt x="9877" y="2341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4" descr="koelner-dom1"/>
          <p:cNvPicPr/>
          <p:nvPr/>
        </p:nvPicPr>
        <p:blipFill>
          <a:blip r:embed="rId1"/>
          <a:stretch/>
        </p:blipFill>
        <p:spPr>
          <a:xfrm>
            <a:off x="2700360" y="206064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nap ITC"/>
              </a:rPr>
              <a:t>Das ist K</a:t>
            </a:r>
            <a:r>
              <a:rPr b="0" lang="en-US" sz="3200" spc="-1" strike="noStrike">
                <a:solidFill>
                  <a:srgbClr val="0000ff"/>
                </a:solidFill>
                <a:latin typeface="Snap ITC"/>
                <a:ea typeface="Tahoma"/>
              </a:rPr>
              <a:t>ölner Dom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7885080" y="6093000"/>
            <a:ext cx="216000" cy="36036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360360"/>
              <a:gd name="textAreaBottom" fmla="*/ 346680 h 360360"/>
            </a:gdLst>
            <a:ahLst/>
            <a:rect l="textAreaLeft" t="textAreaTop" r="textAreaRight" b="textAreaBottom"/>
            <a:pathLst>
              <a:path w="21600" h="36012">
                <a:moveTo>
                  <a:pt x="0" y="0"/>
                </a:moveTo>
                <a:lnTo>
                  <a:pt x="21600" y="0"/>
                </a:lnTo>
                <a:lnTo>
                  <a:pt x="21600" y="36012"/>
                </a:lnTo>
                <a:lnTo>
                  <a:pt x="0" y="36012"/>
                </a:lnTo>
                <a:close/>
              </a:path>
              <a:path fill="lightenLess" w="21600" h="360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12">
                <a:moveTo>
                  <a:pt x="21600" y="0"/>
                </a:moveTo>
                <a:lnTo>
                  <a:pt x="21600" y="36012"/>
                </a:lnTo>
                <a:lnTo>
                  <a:pt x="20200" y="34612"/>
                </a:lnTo>
                <a:lnTo>
                  <a:pt x="20200" y="1400"/>
                </a:lnTo>
                <a:close/>
              </a:path>
              <a:path fill="darkenLess" w="21600" h="36012">
                <a:moveTo>
                  <a:pt x="21600" y="36012"/>
                </a:moveTo>
                <a:lnTo>
                  <a:pt x="0" y="36012"/>
                </a:lnTo>
                <a:lnTo>
                  <a:pt x="1400" y="34612"/>
                </a:lnTo>
                <a:lnTo>
                  <a:pt x="20200" y="34612"/>
                </a:lnTo>
                <a:close/>
              </a:path>
              <a:path fill="lighten" w="21600" h="36012">
                <a:moveTo>
                  <a:pt x="0" y="3601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12"/>
                </a:lnTo>
                <a:close/>
              </a:path>
              <a:path fill="darken" w="21600" h="36012">
                <a:moveTo>
                  <a:pt x="10800" y="11043"/>
                </a:moveTo>
                <a:lnTo>
                  <a:pt x="13376" y="13654"/>
                </a:lnTo>
                <a:lnTo>
                  <a:pt x="13376" y="11913"/>
                </a:lnTo>
                <a:lnTo>
                  <a:pt x="15152" y="11913"/>
                </a:lnTo>
                <a:lnTo>
                  <a:pt x="15152" y="15430"/>
                </a:lnTo>
                <a:lnTo>
                  <a:pt x="17763" y="18006"/>
                </a:lnTo>
                <a:lnTo>
                  <a:pt x="16109" y="18006"/>
                </a:lnTo>
                <a:lnTo>
                  <a:pt x="16109" y="25195"/>
                </a:lnTo>
                <a:lnTo>
                  <a:pt x="5491" y="25195"/>
                </a:lnTo>
                <a:lnTo>
                  <a:pt x="5491" y="18006"/>
                </a:lnTo>
                <a:lnTo>
                  <a:pt x="3837" y="18006"/>
                </a:lnTo>
                <a:close/>
              </a:path>
              <a:path fill="darkenLess" w="21600" h="36012">
                <a:moveTo>
                  <a:pt x="13376" y="13654"/>
                </a:moveTo>
                <a:lnTo>
                  <a:pt x="13376" y="11913"/>
                </a:lnTo>
                <a:lnTo>
                  <a:pt x="15152" y="11913"/>
                </a:lnTo>
                <a:lnTo>
                  <a:pt x="15152" y="15430"/>
                </a:lnTo>
                <a:close/>
              </a:path>
              <a:path fill="darkenLess" w="21600" h="36012">
                <a:moveTo>
                  <a:pt x="9877" y="21505"/>
                </a:moveTo>
                <a:lnTo>
                  <a:pt x="11723" y="21505"/>
                </a:lnTo>
                <a:lnTo>
                  <a:pt x="11723" y="25195"/>
                </a:lnTo>
                <a:lnTo>
                  <a:pt x="16109" y="25195"/>
                </a:lnTo>
                <a:lnTo>
                  <a:pt x="16109" y="18006"/>
                </a:lnTo>
                <a:lnTo>
                  <a:pt x="5491" y="18006"/>
                </a:lnTo>
                <a:lnTo>
                  <a:pt x="5491" y="25195"/>
                </a:lnTo>
                <a:lnTo>
                  <a:pt x="9877" y="25195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nap ITC"/>
              </a:rPr>
              <a:t>Wer hat “Faust” geschrieb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Showcard Gothic"/>
              </a:rPr>
              <a:t>Johann Wolfgang von Goethe</a:t>
            </a:r>
            <a:br>
              <a:rPr sz="40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4" descr="Johann-Wolfgang-von-Goethe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/>
          <p:cNvSpPr/>
          <p:nvPr/>
        </p:nvSpPr>
        <p:spPr>
          <a:xfrm>
            <a:off x="8101080" y="6308640"/>
            <a:ext cx="287280" cy="2890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9080"/>
              <a:gd name="textAreaBottom" fmla="*/ 27072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00" y="20335"/>
                </a:lnTo>
                <a:lnTo>
                  <a:pt x="20200" y="140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400" y="20335"/>
                </a:lnTo>
                <a:lnTo>
                  <a:pt x="20200" y="2033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35"/>
                </a:lnTo>
                <a:close/>
              </a:path>
              <a:path fill="darken" w="21600" h="21735">
                <a:moveTo>
                  <a:pt x="10800" y="3905"/>
                </a:moveTo>
                <a:lnTo>
                  <a:pt x="13376" y="6516"/>
                </a:ln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lnTo>
                  <a:pt x="17763" y="10868"/>
                </a:lnTo>
                <a:lnTo>
                  <a:pt x="16109" y="10868"/>
                </a:lnTo>
                <a:lnTo>
                  <a:pt x="16109" y="18057"/>
                </a:lnTo>
                <a:lnTo>
                  <a:pt x="5491" y="18057"/>
                </a:lnTo>
                <a:lnTo>
                  <a:pt x="5491" y="10868"/>
                </a:lnTo>
                <a:lnTo>
                  <a:pt x="3837" y="10868"/>
                </a:lnTo>
                <a:close/>
              </a:path>
              <a:path fill="darkenLess" w="21600" h="21735">
                <a:moveTo>
                  <a:pt x="13376" y="6516"/>
                </a:moveTo>
                <a:lnTo>
                  <a:pt x="13376" y="4775"/>
                </a:lnTo>
                <a:lnTo>
                  <a:pt x="15152" y="4775"/>
                </a:lnTo>
                <a:lnTo>
                  <a:pt x="15152" y="8291"/>
                </a:lnTo>
                <a:close/>
              </a:path>
              <a:path fill="darkenLess" w="21600" h="21735">
                <a:moveTo>
                  <a:pt x="9877" y="14366"/>
                </a:moveTo>
                <a:lnTo>
                  <a:pt x="11723" y="14366"/>
                </a:lnTo>
                <a:lnTo>
                  <a:pt x="11723" y="18057"/>
                </a:lnTo>
                <a:lnTo>
                  <a:pt x="16109" y="18057"/>
                </a:lnTo>
                <a:lnTo>
                  <a:pt x="16109" y="10868"/>
                </a:lnTo>
                <a:lnTo>
                  <a:pt x="5491" y="10868"/>
                </a:lnTo>
                <a:lnTo>
                  <a:pt x="5491" y="18057"/>
                </a:lnTo>
                <a:lnTo>
                  <a:pt x="9877" y="18057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 f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  <a:ea typeface="Arial"/>
              </a:rPr>
              <a:t>ür ein Fes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4" descr="ostern"/>
          <p:cNvPicPr/>
          <p:nvPr/>
        </p:nvPicPr>
        <p:blipFill>
          <a:blip r:embed="rId1"/>
          <a:stretch/>
        </p:blipFill>
        <p:spPr>
          <a:xfrm>
            <a:off x="2031840" y="152388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nap ITC"/>
              </a:rPr>
              <a:t>OSTER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8244000" y="595008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16220" y="3837"/>
                </a:moveTo>
                <a:lnTo>
                  <a:pt x="18797" y="6448"/>
                </a:ln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lnTo>
                  <a:pt x="23183" y="10800"/>
                </a:lnTo>
                <a:lnTo>
                  <a:pt x="21530" y="10800"/>
                </a:lnTo>
                <a:lnTo>
                  <a:pt x="21530" y="17989"/>
                </a:lnTo>
                <a:lnTo>
                  <a:pt x="10911" y="17989"/>
                </a:lnTo>
                <a:lnTo>
                  <a:pt x="10911" y="10800"/>
                </a:lnTo>
                <a:lnTo>
                  <a:pt x="9257" y="10800"/>
                </a:lnTo>
                <a:close/>
              </a:path>
              <a:path fill="darkenLess" w="32441" h="21600">
                <a:moveTo>
                  <a:pt x="18797" y="6448"/>
                </a:moveTo>
                <a:lnTo>
                  <a:pt x="18797" y="4707"/>
                </a:lnTo>
                <a:lnTo>
                  <a:pt x="20572" y="4707"/>
                </a:lnTo>
                <a:lnTo>
                  <a:pt x="20572" y="8224"/>
                </a:lnTo>
                <a:close/>
              </a:path>
              <a:path fill="darkenLess" w="32441" h="21600">
                <a:moveTo>
                  <a:pt x="15298" y="14299"/>
                </a:moveTo>
                <a:lnTo>
                  <a:pt x="17143" y="14299"/>
                </a:lnTo>
                <a:lnTo>
                  <a:pt x="17143" y="17989"/>
                </a:lnTo>
                <a:lnTo>
                  <a:pt x="21530" y="17989"/>
                </a:lnTo>
                <a:lnTo>
                  <a:pt x="21530" y="10800"/>
                </a:lnTo>
                <a:lnTo>
                  <a:pt x="10911" y="10800"/>
                </a:lnTo>
                <a:lnTo>
                  <a:pt x="10911" y="17989"/>
                </a:lnTo>
                <a:lnTo>
                  <a:pt x="15298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Snap ITC"/>
              </a:rPr>
              <a:t>Wer ist Bundeskanzler heuzutage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A</a:t>
            </a:r>
            <a:r>
              <a:rPr b="0" lang="ru-RU" sz="4400" spc="-1" strike="noStrike">
                <a:solidFill>
                  <a:srgbClr val="0000ff"/>
                </a:solidFill>
                <a:latin typeface="Broadway"/>
              </a:rPr>
              <a:t>ngela 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M</a:t>
            </a:r>
            <a:r>
              <a:rPr b="0" lang="ru-RU" sz="4400" spc="-1" strike="noStrike">
                <a:solidFill>
                  <a:srgbClr val="0000ff"/>
                </a:solidFill>
                <a:latin typeface="Broadway"/>
              </a:rPr>
              <a:t>erkel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4" descr="angela-merkel_wave"/>
          <p:cNvPicPr/>
          <p:nvPr/>
        </p:nvPicPr>
        <p:blipFill>
          <a:blip r:embed="rId1"/>
          <a:stretch/>
        </p:blipFill>
        <p:spPr>
          <a:xfrm>
            <a:off x="2268360" y="1773360"/>
            <a:ext cx="4824720" cy="361764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"/>
          <p:cNvSpPr/>
          <p:nvPr/>
        </p:nvSpPr>
        <p:spPr>
          <a:xfrm>
            <a:off x="8028000" y="6165720"/>
            <a:ext cx="289080" cy="287640"/>
          </a:xfrm>
          <a:custGeom>
            <a:avLst/>
            <a:gdLst>
              <a:gd name="textAreaLeft" fmla="*/ 18360 w 289080"/>
              <a:gd name="textAreaRight" fmla="*/ 270720 w 2890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Ravie"/>
              </a:rPr>
              <a:t>Wie heisst diese Sehenswürdigkeit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5" descr="zwinger-dresden-8072445-MBQF,templateId=renderScaled,property=Bild,height=349"/>
          <p:cNvPicPr/>
          <p:nvPr/>
        </p:nvPicPr>
        <p:blipFill>
          <a:blip r:embed="rId1"/>
          <a:stretch/>
        </p:blipFill>
        <p:spPr>
          <a:xfrm>
            <a:off x="2484360" y="1916280"/>
            <a:ext cx="4429080" cy="332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68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68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</a:rPr>
              <a:t>Aus wieviel Bundesl</a:t>
            </a:r>
            <a:r>
              <a:rPr b="0" lang="en-US" sz="3200" spc="-1" strike="noStrike">
                <a:solidFill>
                  <a:srgbClr val="0000ff"/>
                </a:solidFill>
                <a:latin typeface="Showcard Gothic"/>
                <a:ea typeface="Tahoma"/>
              </a:rPr>
              <a:t>änder besteh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Showcard Gothic"/>
                <a:ea typeface="Tahoma"/>
              </a:rPr>
              <a:t>Deutschla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Snap ITC"/>
              </a:rPr>
              <a:t>Dresdener Zwinger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7451640" y="609300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ff"/>
              </a:solidFill>
              <a:latin typeface="Broadway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Broadway"/>
              </a:rPr>
              <a:t>We</a:t>
            </a:r>
            <a:r>
              <a:rPr b="0" lang="ru-RU" sz="4800" spc="-1" strike="noStrike">
                <a:solidFill>
                  <a:srgbClr val="0000ff"/>
                </a:solidFill>
                <a:latin typeface="Broadway"/>
              </a:rPr>
              <a:t>r gilt als der bedeutendste deutsche Dramatiker </a:t>
            </a:r>
            <a:r>
              <a:rPr b="0" lang="en-US" sz="4800" spc="-1" strike="noStrike">
                <a:solidFill>
                  <a:srgbClr val="0000ff"/>
                </a:solidFill>
                <a:latin typeface="Broadway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Broadway"/>
              </a:rPr>
              <a:t>Friedrich Schiller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Picture 4" descr="Schiller1"/>
          <p:cNvPicPr/>
          <p:nvPr/>
        </p:nvPicPr>
        <p:blipFill>
          <a:blip r:embed="rId1"/>
          <a:stretch/>
        </p:blipFill>
        <p:spPr>
          <a:xfrm>
            <a:off x="3203640" y="2492280"/>
            <a:ext cx="2743200" cy="317016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5"/>
          <p:cNvSpPr/>
          <p:nvPr/>
        </p:nvSpPr>
        <p:spPr>
          <a:xfrm>
            <a:off x="7596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 f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  <a:ea typeface="Arial"/>
              </a:rPr>
              <a:t>ür ein Fes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salut4"/>
          <p:cNvPicPr/>
          <p:nvPr/>
        </p:nvPicPr>
        <p:blipFill>
          <a:blip r:embed="rId1"/>
          <a:stretch/>
        </p:blipFill>
        <p:spPr>
          <a:xfrm>
            <a:off x="468360" y="1557360"/>
            <a:ext cx="4535280" cy="4754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images-1"/>
          <p:cNvPicPr/>
          <p:nvPr/>
        </p:nvPicPr>
        <p:blipFill>
          <a:blip r:embed="rId2"/>
          <a:stretch/>
        </p:blipFill>
        <p:spPr>
          <a:xfrm>
            <a:off x="5508720" y="1341360"/>
            <a:ext cx="2619360" cy="1752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k-christmas-Other-sexy-drinks-celebration-MUNCH-AND-DRINK-ceca-Love-dvoje-new-year-FOOD-DRINK-New-Years-SylvesterNeujahr-x-mas-happy-new-year-champagne-napitki_large"/>
          <p:cNvPicPr/>
          <p:nvPr/>
        </p:nvPicPr>
        <p:blipFill>
          <a:blip r:embed="rId3"/>
          <a:stretch/>
        </p:blipFill>
        <p:spPr>
          <a:xfrm>
            <a:off x="5580000" y="3429000"/>
            <a:ext cx="284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Snap ITC"/>
              </a:rPr>
              <a:t>Das Neujahr</a:t>
            </a:r>
            <a:r>
              <a:rPr b="0" lang="en-US" sz="4400" spc="-1" strike="noStrike">
                <a:solidFill>
                  <a:srgbClr val="0000ff"/>
                </a:solidFill>
                <a:latin typeface="Snap ITC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759636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Showcard Gothic"/>
              </a:rPr>
              <a:t>Gut gemacht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4211640" y="3500280"/>
            <a:ext cx="1081080" cy="865440"/>
          </a:xfrm>
          <a:prstGeom prst="smileyFace">
            <a:avLst>
              <a:gd name="adj" fmla="val 9282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ichtig, 16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deutschland"/>
          <p:cNvPicPr/>
          <p:nvPr/>
        </p:nvPicPr>
        <p:blipFill>
          <a:blip r:embed="rId1"/>
          <a:stretch/>
        </p:blipFill>
        <p:spPr>
          <a:xfrm>
            <a:off x="2828880" y="1557360"/>
            <a:ext cx="3440160" cy="43070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7667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howcard Gothic"/>
              </a:rPr>
              <a:t>Was ist das f</a:t>
            </a:r>
            <a:r>
              <a:rPr b="0" lang="en-US" sz="4000" spc="-1" strike="noStrike">
                <a:solidFill>
                  <a:srgbClr val="0000ff"/>
                </a:solidFill>
                <a:latin typeface="Showcard Gothic"/>
                <a:ea typeface="Tahoma"/>
              </a:rPr>
              <a:t>ü</a:t>
            </a:r>
            <a:r>
              <a:rPr b="0" lang="en-US" sz="4000" spc="-1" strike="noStrike">
                <a:solidFill>
                  <a:srgbClr val="0000ff"/>
                </a:solidFill>
                <a:latin typeface="Showcard Gothic"/>
              </a:rPr>
              <a:t>r Baudenkmal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4" descr="brandenburger-tor_01"/>
          <p:cNvPicPr/>
          <p:nvPr/>
        </p:nvPicPr>
        <p:blipFill>
          <a:blip r:embed="rId1"/>
          <a:stretch/>
        </p:blipFill>
        <p:spPr>
          <a:xfrm>
            <a:off x="1835280" y="1844640"/>
            <a:ext cx="5543280" cy="359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Showcard Gothic"/>
              </a:rPr>
              <a:t>Genau 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howcard Gothic"/>
              </a:rPr>
              <a:t>D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Snap ITC"/>
              </a:rPr>
              <a:t>Brandenburger To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802800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12986" y="3837"/>
                </a:moveTo>
                <a:lnTo>
                  <a:pt x="15562" y="6448"/>
                </a:lnTo>
                <a:lnTo>
                  <a:pt x="15562" y="4707"/>
                </a:lnTo>
                <a:lnTo>
                  <a:pt x="17338" y="4707"/>
                </a:lnTo>
                <a:lnTo>
                  <a:pt x="17338" y="8224"/>
                </a:lnTo>
                <a:lnTo>
                  <a:pt x="19949" y="10800"/>
                </a:lnTo>
                <a:lnTo>
                  <a:pt x="18295" y="10800"/>
                </a:lnTo>
                <a:lnTo>
                  <a:pt x="18295" y="17989"/>
                </a:lnTo>
                <a:lnTo>
                  <a:pt x="7677" y="17989"/>
                </a:lnTo>
                <a:lnTo>
                  <a:pt x="7677" y="10800"/>
                </a:lnTo>
                <a:lnTo>
                  <a:pt x="6023" y="10800"/>
                </a:lnTo>
                <a:close/>
              </a:path>
              <a:path fill="darkenLess" w="25972" h="21600">
                <a:moveTo>
                  <a:pt x="15562" y="6448"/>
                </a:moveTo>
                <a:lnTo>
                  <a:pt x="15562" y="4707"/>
                </a:lnTo>
                <a:lnTo>
                  <a:pt x="17338" y="4707"/>
                </a:lnTo>
                <a:lnTo>
                  <a:pt x="17338" y="8224"/>
                </a:lnTo>
                <a:close/>
              </a:path>
              <a:path fill="darkenLess" w="25972" h="21600">
                <a:moveTo>
                  <a:pt x="12063" y="14299"/>
                </a:moveTo>
                <a:lnTo>
                  <a:pt x="13909" y="14299"/>
                </a:lnTo>
                <a:lnTo>
                  <a:pt x="13909" y="17989"/>
                </a:lnTo>
                <a:lnTo>
                  <a:pt x="18295" y="17989"/>
                </a:lnTo>
                <a:lnTo>
                  <a:pt x="18295" y="10800"/>
                </a:lnTo>
                <a:lnTo>
                  <a:pt x="7677" y="10800"/>
                </a:lnTo>
                <a:lnTo>
                  <a:pt x="7677" y="17989"/>
                </a:lnTo>
                <a:lnTo>
                  <a:pt x="12063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Showcard Gothic"/>
              </a:rPr>
              <a:t>Wer ist das?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Showcard Gothic"/>
            </a:endParaRPr>
          </a:p>
        </p:txBody>
      </p:sp>
      <p:pic>
        <p:nvPicPr>
          <p:cNvPr id="171" name="Picture 4" descr="231029-9"/>
          <p:cNvPicPr/>
          <p:nvPr/>
        </p:nvPicPr>
        <p:blipFill>
          <a:blip r:embed="rId1"/>
          <a:stretch/>
        </p:blipFill>
        <p:spPr>
          <a:xfrm>
            <a:off x="2916360" y="1557360"/>
            <a:ext cx="303516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dobe Garamond Pro Bold"/>
              </a:rPr>
              <a:t>Ja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Snap ITC"/>
              </a:rPr>
              <a:t>Wolfgang Amadeus Moz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7956720" y="6021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12934" y="3837"/>
                </a:moveTo>
                <a:lnTo>
                  <a:pt x="15510" y="6448"/>
                </a:ln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lnTo>
                  <a:pt x="19897" y="10800"/>
                </a:lnTo>
                <a:lnTo>
                  <a:pt x="18243" y="10800"/>
                </a:lnTo>
                <a:lnTo>
                  <a:pt x="18243" y="17989"/>
                </a:lnTo>
                <a:lnTo>
                  <a:pt x="7625" y="17989"/>
                </a:lnTo>
                <a:lnTo>
                  <a:pt x="7625" y="10800"/>
                </a:lnTo>
                <a:lnTo>
                  <a:pt x="5971" y="10800"/>
                </a:lnTo>
                <a:close/>
              </a:path>
              <a:path fill="darkenLess" w="25868" h="21600">
                <a:moveTo>
                  <a:pt x="15510" y="6448"/>
                </a:moveTo>
                <a:lnTo>
                  <a:pt x="15510" y="4707"/>
                </a:lnTo>
                <a:lnTo>
                  <a:pt x="17286" y="4707"/>
                </a:lnTo>
                <a:lnTo>
                  <a:pt x="17286" y="8224"/>
                </a:lnTo>
                <a:close/>
              </a:path>
              <a:path fill="darkenLess" w="25868" h="21600">
                <a:moveTo>
                  <a:pt x="12012" y="14299"/>
                </a:moveTo>
                <a:lnTo>
                  <a:pt x="13857" y="14299"/>
                </a:lnTo>
                <a:lnTo>
                  <a:pt x="13857" y="17989"/>
                </a:lnTo>
                <a:lnTo>
                  <a:pt x="18243" y="17989"/>
                </a:lnTo>
                <a:lnTo>
                  <a:pt x="18243" y="10800"/>
                </a:lnTo>
                <a:lnTo>
                  <a:pt x="7625" y="10800"/>
                </a:lnTo>
                <a:lnTo>
                  <a:pt x="7625" y="17989"/>
                </a:lnTo>
                <a:lnTo>
                  <a:pt x="12012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roadway"/>
              </a:rPr>
              <a:t>Was ist das f</a:t>
            </a:r>
            <a:r>
              <a:rPr b="0" lang="en-US" sz="4400" spc="-1" strike="noStrike">
                <a:solidFill>
                  <a:srgbClr val="0000ff"/>
                </a:solidFill>
                <a:latin typeface="Broadway"/>
                <a:ea typeface="Arial"/>
              </a:rPr>
              <a:t>ür ein Fes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oktoberfest_8"/>
          <p:cNvPicPr/>
          <p:nvPr/>
        </p:nvPicPr>
        <p:blipFill>
          <a:blip r:embed="rId1"/>
          <a:stretch/>
        </p:blipFill>
        <p:spPr>
          <a:xfrm>
            <a:off x="468360" y="1700280"/>
            <a:ext cx="3672000" cy="43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Oktoberfest1"/>
          <p:cNvPicPr/>
          <p:nvPr/>
        </p:nvPicPr>
        <p:blipFill>
          <a:blip r:embed="rId2"/>
          <a:stretch/>
        </p:blipFill>
        <p:spPr>
          <a:xfrm>
            <a:off x="4427640" y="1700280"/>
            <a:ext cx="4176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56:08Z</dcterms:created>
  <dc:creator>UserXP</dc:creator>
  <dc:description/>
  <dc:language>en-US</dc:language>
  <cp:lastModifiedBy>damir</cp:lastModifiedBy>
  <dcterms:modified xsi:type="dcterms:W3CDTF">2013-02-14T11:58:55Z</dcterms:modified>
  <cp:revision>3</cp:revision>
  <dc:subject/>
  <dc:title>Deutschland</dc:title>
</cp:coreProperties>
</file>