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92D-A978-4CD2-91C5-0F99539C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8FE-DC7A-47C5-85D7-41B2A4F0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7DC-F2EC-4E27-B808-2DFA0ED7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35F-D29A-4F51-AEFF-FE0E0581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8586-0CA1-4F26-9B13-5D9D8B9C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2A47-07FD-46A3-9FFB-4BCB5817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3142-4F75-47E5-84EA-02BD99EA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C763-A2CD-4E81-ACAB-B4911AA9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C6DD-70C2-4E3C-90E8-B99D6ED4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0F58-4A68-4B39-8AD6-2D9B629B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D828-DB79-4E25-9948-2440909C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586-868B-4634-975F-39F80A4E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E847-AFE0-4323-AEDF-D0C5CCF2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D170-1DED-44DE-B238-DA3A5509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D80F-4248-4516-8F34-8CBF545D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4B60-AF4C-4835-8127-5AAA1872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A170-48C4-46E5-92E9-BB02A824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1F6-F9EE-4FD0-8BE5-BE5168FE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955-CE0D-4A72-85DD-B87E7A47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1D6-8543-458F-8A14-80C27780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687-31CE-4187-A03A-9F65EB0A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F474-57BC-4B44-873E-861AEA82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BEF-85DD-4BFD-824D-090A8BC7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E87-0905-4794-8B4C-A0A0AE0C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AA6F-4B66-4CF2-9943-E31ABC7DDF68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102C-28E6-4659-9004-605F9740960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11280" y="765000"/>
            <a:ext cx="6408720" cy="105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стория нашего успех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55640" y="4581360"/>
            <a:ext cx="633744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анда «Пчелиный рай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2627280" y="2276640"/>
            <a:ext cx="30243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Наш успех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2060640"/>
            <a:ext cx="7489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Мы очень рады, что участвовали в этом конкурсе. Пока шел конкурс – наши одноклассники интересовались о конкурсе, некоторые даже помогали нам в поиске материала.</a:t>
            </a: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Это наш первый опыт. Мы учились всему: </a:t>
            </a: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не только работать на компьютере, но и дружить, общаться, находить много интересного вокруг – в своей школе, селе, районе, области.</a:t>
            </a: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859280" y="189000"/>
            <a:ext cx="2521080" cy="186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ше будуще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3120" y="1341360"/>
            <a:ext cx="746100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Мы летом поедем на экскурсию по нашей области,</a:t>
            </a: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ыезжаем на озеро Байкал.</a:t>
            </a: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 этом году не получилось хорошо поработать </a:t>
            </a: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 видеороликами – будем осваивать.</a:t>
            </a: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На будущий год обязательно будем участвовать</a:t>
            </a: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 подобных  конкурсах.</a:t>
            </a: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Желаем организаторам всего наилучшего!!! </a:t>
            </a: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пасибо Вам за предоставленную возможность.</a:t>
            </a: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ожелание всем участника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ы желаем Вам улыбок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 веселья круглый год.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 задачек без ошибок, 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Только радостных хлопот.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е болейте, закаляйтесь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 не ссорьтесь никогда.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реативными старайтесь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Быть всегда, друзья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о новых встреч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1:43:10Z</dcterms:created>
  <dc:creator>Людмила</dc:creator>
  <dc:description/>
  <dc:language>en-US</dc:language>
  <cp:lastModifiedBy>Людмила</cp:lastModifiedBy>
  <dcterms:modified xsi:type="dcterms:W3CDTF">2013-02-13T21:44:34Z</dcterms:modified>
  <cp:revision>1</cp:revision>
  <dc:subject/>
  <dc:title>Слайд 1</dc:title>
</cp:coreProperties>
</file>