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1E4-3359-4FDD-9CFA-8406E929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042-225C-4EEE-95C9-DAF04E9F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890-E1F7-49D6-9EBE-98E81596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C257-0DA3-468C-866C-D184FD8D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6192-7668-4C74-B57C-901EC0C1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2B6D-461F-4158-9138-F52E9304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9ABB-7726-4D79-AE3E-BCBC8435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4545-A32B-47E9-9B80-75B204DD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3D7B-0695-47A8-9098-F79A1681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06DC-46C0-4D56-B548-057879FF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7FA3-53C5-49C0-9399-8A65114F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8B9-9113-4477-8949-73FE789C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5DFD-D903-4460-B63A-BED824C9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0F6B-93F3-4ED3-B2A2-8DB7172C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9DB0-8EB7-4527-804C-237E524A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1461-CF3A-4DAB-B6EC-A2C99BFF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22CB-28AC-40E7-98DC-CEE6BDAE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7C4-4084-48CA-9CFC-16F4901D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37E-3DF4-4969-A0B1-46E831DD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6AE-FA9E-446D-9FF6-8F69D9CD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B96-2AD0-4BFE-9CC9-064EA7EB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63B-5688-4187-A87B-F5F4F3A0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27F-05EB-4F6F-9479-CA890B41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764-475A-4D5C-A0EE-BD4349A2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6853-D588-4777-8078-A0D4FF08B0C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Calibri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Calibri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7CAB-EF6A-428E-8978-F358268C08E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11280" y="765000"/>
            <a:ext cx="6408720" cy="105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стория нашего успех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55640" y="4581360"/>
            <a:ext cx="633744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анда «Пчелиный рай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627280" y="2276640"/>
            <a:ext cx="30243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аш успе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2060640"/>
            <a:ext cx="7489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Мы очень рады, что участвовали в этом конкурсе. Пока шел конкурс – наши одноклассники интересовались о конкурсе, некоторые даже помогали нам в поиске материала.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Это наш первый опыт. Мы учились всему: 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не только работать на компьютере, но и дружить, общаться, находить много интересного вокруг – в своей школе, селе, районе, области.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859280" y="189000"/>
            <a:ext cx="2521080" cy="186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Наше будуще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3120" y="1341360"/>
            <a:ext cx="746100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Мы летом поедем на экскурсию по нашей области,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ыезжаем на озеро Байкал.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 этом году не получилось хорошо поработать 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 видеороликами – будем осваивать.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На будущий год обязательно будем участвовать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в подобных  конкурсах.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Желаем организаторам всего наилучшего!!! 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пасибо Вам за предоставленную возможность.</a:t>
            </a:r>
            <a:endParaRPr b="0" lang="en-US" sz="2400" spc="-1" strike="noStrike">
              <a:solidFill>
                <a:srgbClr val="2f1311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ожелание всем участника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ы желаем Вам улыбок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 веселья круглый год.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 задачек без ошибок, 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олько радостных хлопот.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е болейте, закаляйтесь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 не ссорьтесь никогда.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реативными старайтесь</a:t>
            </a:r>
            <a:br>
              <a:rPr sz="3200"/>
            </a:b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Быть всегда, друзья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о новых встреч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3:10Z</dcterms:created>
  <dc:creator>Людмила</dc:creator>
  <dc:description/>
  <dc:language>en-US</dc:language>
  <cp:lastModifiedBy>Людмила</cp:lastModifiedBy>
  <dcterms:modified xsi:type="dcterms:W3CDTF">2013-02-13T21:44:34Z</dcterms:modified>
  <cp:revision>1</cp:revision>
  <dc:subject/>
  <dc:title>Слайд 1</dc:title>
</cp:coreProperties>
</file>