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7330-F2BB-4F7C-AA75-8AE5DE90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17E-2AD6-47E2-9662-A86D0768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459-E533-4008-91B7-C4F73D16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D09-6912-48C0-85EE-9EFE3F45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8383-11E0-4924-825D-2C351B97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19B7-8346-4AE6-A446-78D19A12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24CE-5B2E-44ED-BA17-81E77AB9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AD3C-7483-41DE-B82C-31BF419C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64AC-F7EC-4EE8-9031-AF3C4189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BB32-8CE1-40B9-BB19-0558C002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2F56-A6BE-4B71-9338-0F67C079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BC1-D180-4546-8DF0-129C91D6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BD59-7B2A-48A7-81A8-55C1AC00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7A4D-C5B7-465C-B39F-2B832047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7558-5B34-4DCE-92E8-AFDF3E7A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6116-3AA7-4382-816F-A0F083C7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E95B-50B7-45E5-94D5-41DBDDEA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50D-084D-4799-8F1C-70C593D7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2C42-A3C1-4385-AB45-0B26F21C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85F-0203-4E2E-9615-F28A1926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5686-0F7E-4226-A12A-03E60702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3B5-D282-4A40-802D-BA986C41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AD0-70D5-4769-A113-D7E52FB0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535-25F5-4E07-917D-7FF734DA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F4D2-1A80-488C-9059-8E2C5261B36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A5FD-6777-4A4F-BDC9-A5ADE4F52429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“</a:t>
            </a:r>
            <a:r>
              <a:rPr b="0" lang="en-US" sz="4800" spc="-1" strike="noStrike">
                <a:solidFill>
                  <a:srgbClr val="ff3300"/>
                </a:solidFill>
                <a:latin typeface="Verdana"/>
              </a:rPr>
              <a:t>Многим в жизни я обязан </a:t>
            </a: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                    </a:t>
            </a:r>
            <a:r>
              <a:rPr b="0" lang="en-US" sz="4800" spc="-1" strike="noStrike">
                <a:solidFill>
                  <a:srgbClr val="ff3300"/>
                </a:solidFill>
                <a:latin typeface="Verdana"/>
              </a:rPr>
              <a:t>книге”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9" name="pic" descr="1000859094"/>
          <p:cNvPicPr/>
          <p:nvPr/>
        </p:nvPicPr>
        <p:blipFill>
          <a:blip r:embed="rId1"/>
          <a:stretch/>
        </p:blipFill>
        <p:spPr>
          <a:xfrm>
            <a:off x="1476360" y="2565360"/>
            <a:ext cx="3691080" cy="3614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5940360" y="1341360"/>
            <a:ext cx="274968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-65736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58920" y="692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Борис Житков много писал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о животных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-263880">
              <a:spcBef>
                <a:spcPts val="6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Известны его рассказы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«Про волка», «Про слона»,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«Про обезьянку», «Беспризорная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кошка», «Мангуста»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, “Мышкин”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-263880">
              <a:spcBef>
                <a:spcPts val="6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Многие из этих рассказов автобио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графические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-263880">
              <a:spcBef>
                <a:spcPts val="6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Во всех историях про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животных, домашних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и диких, чувствуется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любовь и редкое зна-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ние </a:t>
            </a: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мира зверей  и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птиц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8" name="Picture 4" descr="an02550_"/>
          <p:cNvPicPr/>
          <p:nvPr/>
        </p:nvPicPr>
        <p:blipFill>
          <a:blip r:embed="rId1"/>
          <a:stretch/>
        </p:blipFill>
        <p:spPr>
          <a:xfrm>
            <a:off x="6229440" y="836640"/>
            <a:ext cx="2914560" cy="1747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385128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Verdana"/>
              </a:rPr>
              <a:t>«Про обезьянку»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1" name="Picture 4" descr="an02159_"/>
          <p:cNvPicPr/>
          <p:nvPr/>
        </p:nvPicPr>
        <p:blipFill>
          <a:blip r:embed="rId1"/>
          <a:stretch/>
        </p:blipFill>
        <p:spPr>
          <a:xfrm>
            <a:off x="539640" y="404640"/>
            <a:ext cx="1425600" cy="12560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"/>
          <p:cNvSpPr/>
          <p:nvPr/>
        </p:nvSpPr>
        <p:spPr>
          <a:xfrm>
            <a:off x="179280" y="1557360"/>
            <a:ext cx="6769080" cy="47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Как – то раз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мальчик принёс домой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обезьянк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у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Её отдал ему одноклассник.Обезьянка оказалась маленькой. “Мордочка сморщенная, старушечья, а глазки живые, блестящие.”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Её звали Яшка. Яшка очень любил сладости: конфеты, сахар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3" name="Picture 10" descr=""/>
          <p:cNvPicPr/>
          <p:nvPr/>
        </p:nvPicPr>
        <p:blipFill>
          <a:blip r:embed="rId2"/>
          <a:stretch/>
        </p:blipFill>
        <p:spPr>
          <a:xfrm>
            <a:off x="6483240" y="1484280"/>
            <a:ext cx="26607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3640" y="-89208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9784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В первый же день он показал свой характер.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На ночь его пришлось привязывать верёвкой к ножке стола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, потому что он был неуправляемым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 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Уж столько попадало за эту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обезьянку герою рассказа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!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Яшка был такой озорной.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Один раз в тетради напроказил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наставил чернильных клякс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В другой раз испортил при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чёску даме,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которая пришл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в гости.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6516720" y="2682720"/>
            <a:ext cx="246204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Яшка оказался грозой двора: его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боялись и огромный рыжий пёс Каштан,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и злющий кот, живший при конторе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Летом Яшка пропадал во дворе, дом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стало спокойнее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Но вот настала осень, и все в доме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стали требовать отдать Яшку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Первое время без Яшки все очень скучали, хотя и не хотели в этом признаваться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8" name="Picture 4" descr="an02159_"/>
          <p:cNvPicPr/>
          <p:nvPr/>
        </p:nvPicPr>
        <p:blipFill>
          <a:blip r:embed="rId1"/>
          <a:stretch/>
        </p:blipFill>
        <p:spPr>
          <a:xfrm>
            <a:off x="2916360" y="260280"/>
            <a:ext cx="1428480" cy="12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Чем же привлекает меня этот рассказ?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Я думаю, что, конечно, отношением автора к своему герою-Яшке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Житков любит животных и учит этому своих читателей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На шаловливую обезьянку нельзя было долго сердиться. Когда хитрый Яшка хотел что-нибудь вкусное выпросить,то он становился очень ласковым, залезал на плечо и начинал в голове искать. Это означало, что он вас любит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Писатель говорит об этом с ласковым юмором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3640" y="-38772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Описывая Яшку, Житков употребляет слова с уменьшительно-ласкательным значением:”зелёненькое платьице”, “маленький пальчик”, “игрушечная живая ручка”, “как  ребёночек”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Это говорит о беззащитности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Но вместе с тем автор показывает, что Яшка очень смелый, не даст себя в обиду ни людям, ни животным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Он заставил уважать себя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Житков показывает, что обезьянка – не игрушка, а живое существо. Человек несёт ответственность за животное, которое он приносит в дом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3" name="Picture 11" descr="an02159_"/>
          <p:cNvPicPr/>
          <p:nvPr/>
        </p:nvPicPr>
        <p:blipFill>
          <a:blip r:embed="rId1"/>
          <a:stretch/>
        </p:blipFill>
        <p:spPr>
          <a:xfrm>
            <a:off x="1547640" y="0"/>
            <a:ext cx="142560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45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В рассказе также чувствуется редкое знание повадок и привычек обезьянки.Оказывается, это связано с детством писателя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Сестра Житкова В.С.Арнольд, рассказывала, что в семье Житковых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“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у детей всегда были ручные животные… У Бориса были черепахи, ручные домашние мыши, была весёлая обезьянка Яшка и ручной волк”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-4896360" y="3213000"/>
            <a:ext cx="28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Сестра Бориса Житкова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-4680360" y="3429000"/>
            <a:ext cx="28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Сестра Бориса Житкова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8" name="Picture 14" descr="an02159_"/>
          <p:cNvPicPr/>
          <p:nvPr/>
        </p:nvPicPr>
        <p:blipFill>
          <a:blip r:embed="rId1"/>
          <a:stretch/>
        </p:blipFill>
        <p:spPr>
          <a:xfrm>
            <a:off x="1763640" y="189000"/>
            <a:ext cx="142560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Verdana"/>
              </a:rPr>
              <a:t>Почему я выбрала рассказы Житкова?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Verdana"/>
              </a:rPr>
              <a:t>Я очень люблю животных, поэтому мне интересно узнавать о них что-то новое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Verdana"/>
              </a:rPr>
              <a:t>Рассказы Бориса Житкова мне нравятся тем, что автор учит любить зверей и птиц, помнить, что животные, как и люди, могут испытывать различные чувства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Verdana"/>
              </a:rPr>
              <a:t>После прочтения рассказа “Про обезьянку” я стала по-другому смотреть на проказы и капризы своего кота Пушка.Стала понимать его желания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Verdana"/>
              </a:rPr>
              <a:t>Я поняла главное: животных надо любить! И тогда они ответят вам тоже самой искренней привязанностью и дружбой!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Использованная литература: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Б.Житков.”Избранное”-Москва “Просвещение”, 1989 г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В.Глоцер. “О Житкове”-Москва “Просвещение”, 1989г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Б.Житков. “Морские истории”- Москва: Военное издательство,1986г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-3877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Краткое описание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Описание ресурса:                      презентация  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                                                    “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Многим в жизни я обязан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книге”                                            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-возрастная категория(класс):    5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-тема работы:                            “Рассказы Б.Житкова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о животных”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Учитель-руководитель:               Агишева Ирина Львовна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Учитель-консультант:                 Агишева Ирина Львовна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Учащийся:                                  Бренёва Светлана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Район:                                       Новобурасский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Город ( село)                             село Ириновка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Образовательное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учреждение:                             МОУ “СОШ с.Ириновка”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Руководитель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учреждения:                             Баёв Николай Иванович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Почтовый адрес:                        412585 Саратовская область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                                                    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Новобурасский район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                                                    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с.Ириновка, ул.Советская,25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Электронный адрес:     </a:t>
            </a: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             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www/irinovka1@rambler.ru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Борис Степанович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 Житков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4" name="Picture 8" descr="1208781764"/>
          <p:cNvPicPr/>
          <p:nvPr/>
        </p:nvPicPr>
        <p:blipFill>
          <a:blip r:embed="rId1"/>
          <a:stretch/>
        </p:blipFill>
        <p:spPr>
          <a:xfrm>
            <a:off x="2627280" y="1341360"/>
            <a:ext cx="4405320" cy="53276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9"/>
          <p:cNvSpPr/>
          <p:nvPr/>
        </p:nvSpPr>
        <p:spPr>
          <a:xfrm>
            <a:off x="1692360" y="3213000"/>
            <a:ext cx="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45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Борис Житков прожил 56 лет. И жизнь его как бы делится на два этапа: До и после. До 42-х. И после 42 –х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Когда ему шёл сорок второй год, он стал писателем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Больше всего Житков писал о море и моряках, то есть о жизни, которую он хорошо знал и которую любил с самого детства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Ещё студентом Борис Житков совершил кругосветное путешествие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Гибралтар, Каир, Суэцкий канал, Красное море, Мадагаскар, потом Индия, Цейлон, Сингапур, Гонконг, Нагасаки – этот путь он уже никогда забыть не мог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692360" y="3213000"/>
            <a:ext cx="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45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Много видевший и много знавший писатель мог без конца рассказывать истории из жизни, или, как они привычно у него назывались, - “что бывало”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Он был превосходный рассказчик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Правда ли то, что написано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в рассказах?” – часто спра-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шивали читатели  Борис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Житкова. И он отвечал со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всей серьёзностью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  “</a:t>
            </a:r>
            <a:r>
              <a:rPr b="0" lang="en-US" sz="2400" spc="-1" strike="noStrike">
                <a:solidFill>
                  <a:srgbClr val="990099"/>
                </a:solidFill>
                <a:latin typeface="Verdana"/>
              </a:rPr>
              <a:t>Да, правда.”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1" name="i-tmb-0x" descr="i?id=9115241&amp;tov=0"/>
          <p:cNvPicPr/>
          <p:nvPr/>
        </p:nvPicPr>
        <p:blipFill>
          <a:blip r:embed="rId1"/>
          <a:stretch/>
        </p:blipFill>
        <p:spPr>
          <a:xfrm>
            <a:off x="5330880" y="3068640"/>
            <a:ext cx="3813120" cy="33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Кроме рассказов о море Борис Житков писал о детстве, о животных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Житков “как бы говорит своему читателю,- верно замечает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Е.Привалова:- “В жизни нет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безразличных поступков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Всё,что ты делаешь, так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или иначе коснётся друго-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го человека.”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Его книги ставили “вопрос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об ответственности челове-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ка за свои поступки…”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4" name="pic" descr="1000183404"/>
          <p:cNvPicPr/>
          <p:nvPr/>
        </p:nvPicPr>
        <p:blipFill>
          <a:blip r:embed="rId1"/>
          <a:stretch/>
        </p:blipFill>
        <p:spPr>
          <a:xfrm>
            <a:off x="5504040" y="2178000"/>
            <a:ext cx="36399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Рассказы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Verdana"/>
              </a:rPr>
              <a:t> о животных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7" name="Picture 7" descr=""/>
          <p:cNvPicPr/>
          <p:nvPr/>
        </p:nvPicPr>
        <p:blipFill>
          <a:blip r:embed="rId1"/>
          <a:stretch/>
        </p:blipFill>
        <p:spPr>
          <a:xfrm>
            <a:off x="6804000" y="3284640"/>
            <a:ext cx="2095560" cy="3238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2095560" cy="3238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an02159_"/>
          <p:cNvPicPr/>
          <p:nvPr/>
        </p:nvPicPr>
        <p:blipFill>
          <a:blip r:embed="rId3"/>
          <a:stretch/>
        </p:blipFill>
        <p:spPr>
          <a:xfrm>
            <a:off x="1476360" y="4941720"/>
            <a:ext cx="1425600" cy="1256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j0304933"/>
          <p:cNvPicPr/>
          <p:nvPr/>
        </p:nvPicPr>
        <p:blipFill>
          <a:blip r:embed="rId4"/>
          <a:stretch/>
        </p:blipFill>
        <p:spPr>
          <a:xfrm>
            <a:off x="3492360" y="4005360"/>
            <a:ext cx="3098880" cy="2562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" descr=""/>
          <p:cNvPicPr/>
          <p:nvPr/>
        </p:nvPicPr>
        <p:blipFill>
          <a:blip r:embed="rId5"/>
          <a:stretch/>
        </p:blipFill>
        <p:spPr>
          <a:xfrm>
            <a:off x="3924360" y="1628640"/>
            <a:ext cx="4259160" cy="16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-65736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3" name="Picture 4" descr="Иллюстрация к Рассказы о животных, Житков Борис, Издательство Стрекоза, Произведения школьной программы, Библиотека школьника, 5-94563-346-1, 978-5-89537-449-8 (1я ). Интернет-магазин Лабиринт"/>
          <p:cNvPicPr/>
          <p:nvPr/>
        </p:nvPicPr>
        <p:blipFill>
          <a:blip r:embed="rId1"/>
          <a:srcRect l="52445" t="2746" r="3005" b="31544"/>
          <a:stretch/>
        </p:blipFill>
        <p:spPr>
          <a:xfrm>
            <a:off x="1835280" y="1125360"/>
            <a:ext cx="5960880" cy="445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-45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5" name="Picture 4" descr="Иллюстрация к Беспризорная кошка, Житков Борис, Издательство Стрекоза, Произведения школьной программы, Библиотека школьника, 5-94563-078-0, 978-5-89537-469-6 (1я ). Интернет-магазин Лабиринт"/>
          <p:cNvPicPr/>
          <p:nvPr/>
        </p:nvPicPr>
        <p:blipFill>
          <a:blip r:embed="rId1"/>
          <a:srcRect l="52554" t="1874" r="2452" b="565"/>
          <a:stretch/>
        </p:blipFill>
        <p:spPr>
          <a:xfrm>
            <a:off x="2050920" y="1125360"/>
            <a:ext cx="5886720" cy="445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4:32:48Z</dcterms:created>
  <dc:creator>Agisheva I.L</dc:creator>
  <dc:description/>
  <dc:language>en-US</dc:language>
  <cp:lastModifiedBy>Галина Петровна</cp:lastModifiedBy>
  <dcterms:modified xsi:type="dcterms:W3CDTF">2013-02-14T09:58:28Z</dcterms:modified>
  <cp:revision>18</cp:revision>
  <dc:subject/>
  <dc:title>Описание ресурса</dc:title>
</cp:coreProperties>
</file>