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6.png" ContentType="image/png"/>
  <Override PartName="/ppt/media/image25.jpeg" ContentType="image/jpeg"/>
  <Override PartName="/ppt/media/image32.png" ContentType="image/png"/>
  <Override PartName="/ppt/media/image2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4.png" ContentType="image/png"/>
  <Override PartName="/ppt/media/image29.jpeg" ContentType="image/jpeg"/>
  <Override PartName="/ppt/media/image28.png" ContentType="image/png"/>
  <Override PartName="/ppt/media/image5.png" ContentType="image/png"/>
  <Override PartName="/ppt/media/image35.png" ContentType="image/png"/>
  <Override PartName="/ppt/media/image27.jpeg" ContentType="image/jpeg"/>
  <Override PartName="/ppt/media/image41.jpeg" ContentType="image/jpeg"/>
  <Override PartName="/ppt/media/image31.jpeg" ContentType="image/jpeg"/>
  <Override PartName="/ppt/media/image40.jpeg" ContentType="image/jpeg"/>
  <Override PartName="/ppt/media/image42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43.png" ContentType="image/png"/>
  <Override PartName="/ppt/media/image13.png" ContentType="image/png"/>
  <Override PartName="/ppt/media/image33.png" ContentType="image/png"/>
  <Override PartName="/ppt/media/image38.png" ContentType="image/png"/>
  <Override PartName="/ppt/media/image39.jpeg" ContentType="image/jpeg"/>
  <Override PartName="/ppt/media/image8.png" ContentType="image/png"/>
  <Override PartName="/ppt/media/image44.jpeg" ContentType="image/jpeg"/>
  <Override PartName="/ppt/media/image45.png" ContentType="image/png"/>
  <Override PartName="/ppt/media/image46.jpeg" ContentType="image/jpeg"/>
  <Override PartName="/ppt/media/image12.png" ContentType="image/png"/>
  <Override PartName="/ppt/media/image37.png" ContentType="image/png"/>
  <Override PartName="/ppt/media/image7.png" ContentType="image/png"/>
  <Override PartName="/ppt/media/image9.png" ContentType="image/png"/>
  <Override PartName="/ppt/media/image22.jpeg" ContentType="image/jpeg"/>
  <Override PartName="/ppt/media/image10.png" ContentType="image/png"/>
  <Override PartName="/ppt/media/image47.png" ContentType="image/png"/>
  <Override PartName="/ppt/media/image1.jpeg" ContentType="image/jpeg"/>
  <Override PartName="/ppt/media/image48.png" ContentType="image/png"/>
  <Override PartName="/ppt/media/image11.png" ContentType="image/png"/>
  <Override PartName="/ppt/media/image6.png" ContentType="image/png"/>
  <Override PartName="/ppt/media/image34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3AC6-AD56-4FE8-9F0E-ECB7E5513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2281-E051-48FD-B15D-77C3505FA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0D27-35D6-4532-8955-B35D7F536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8B3F-C03E-4DAB-B851-0943B258A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AC838-C13C-4B6C-B51E-9B654490A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23C20-F6CF-4FBD-9124-1DC7A58B6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7C450-5F45-4E2E-9956-2B289F938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E6E41-D45C-4B47-A84D-BE59BF526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12F64-FC02-484B-94DF-BC8FE6431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BCC98-858F-4D56-B34A-B00E81D24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D4446-8445-40C2-A76A-C8DC4473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4962-91FF-43E0-9CD3-7F097328E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44009-36AF-4B7E-ADCB-0EB15299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916F4-54E3-4E98-9A88-CC0DC28F7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354D3-7FB4-47AD-A448-353F5FE62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71334-53B0-434A-842E-F82CCA417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37C01-B8AD-4DAF-B50D-1D3345D98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3CCA2E-83D8-4B82-8FD5-9FBD0A34C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0FC273-E98D-46AB-AC69-12C9A30A8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60F102-148C-4EBE-A9EB-B7187D117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115F69-40D5-47A7-A327-F7D7A5A7C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4FC417-2D27-4A94-8BE5-4EF29585E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1BA4-5BCE-4ACA-8B3A-80F070EFB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8CB7CB-805A-42F3-B1AC-75C1883A4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DAE040-D82B-401C-AB73-06526604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6D1124-F9D6-48D3-9833-F61F3071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99981D-FF96-4269-957C-53D8B51F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E34A3E-4EA5-4088-B86E-6B6C5F7EC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30E965-350E-4E29-B66E-734818041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8F6908-3699-4D89-B503-B21DFC581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A9720-7FA2-4014-B624-38DA69564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1F838-E544-4511-91D5-F15D72066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FA028-194D-432F-AE20-A9E41849C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993B-B7D9-4915-BF5A-C38CBBF75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35413-3A29-47C9-9C67-79E2B28DF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66F1B-6C47-445A-B08E-234094387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C5E28-8577-475A-9BB4-85BACF2DC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CA928-F9AE-4DF4-A2F8-0AD9873B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4C707-6EF4-4143-B6C7-6C34B4D6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FEB26-87F8-4896-9F12-ADB873C4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379DE-CE02-48B9-A08B-5D3B4AB13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65A88-19C2-49B8-B2A2-554937722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B8F45-C824-4AE6-9F1D-455EC9F3A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DED1A-ED33-430A-B27D-1A70A4144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14D5-A6D2-4749-81F6-86E0BC81E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C35E3-24B8-4796-ADBD-97E759E9B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364A57-F17A-4E13-AFAF-342429E0E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C541BE-B2F3-4B7E-B1B3-DA96363C7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013FF-BB40-4859-B2EE-242BB2626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16BA3-DC65-40B5-82D2-FE36BD6B8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D1779-8819-4DB0-B4D1-1F442031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A5992-83F5-487A-AF4F-848A362F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63A45-8ED0-4A32-BD26-C772957B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0A271-A1D5-4A94-B9EC-5FDCAF60F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EFE62-3E40-461F-A789-9818A4A1F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7172-B5EC-4FBD-89E8-49FA5D913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B5B69-E1EB-4AED-B802-78E88D990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788E-9906-45AC-B522-8A0920FE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0537-0FF9-4443-AF98-0FF11ADF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C37C-8B63-4FF4-8B9E-F0F946CF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383C93C-CA68-4D25-9C48-6FBD8E019AAC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Скругленный прямоугольник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Скругленный прямоугольник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Прямоугольник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Прямоугольник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Прямоугольник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Прямоугольник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096D21A-2DA8-4F7D-B486-C082EBE9F198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0F5C045-BB50-440A-8987-F3262018061A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D996A67-0831-4119-9647-91B670FCF862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17E5F4B-9017-4E20-82B3-32622B5B4590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Сравнительная характеристика невербального общения русского и немецкого народов.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2743200" y="4142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50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Булгакова Александр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ученица 9 класса 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ОУ СОШ № 48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Учитель: Бескова С.П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57120" y="-21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Нос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714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аморщивание носа –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ыражает недовольство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еприятное ощущение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отиворечивость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ушевную боль, отвращение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здувание крыльев носа –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збуждение или ярость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96" name="Picture 5" descr=""/>
          <p:cNvPicPr/>
          <p:nvPr/>
        </p:nvPicPr>
        <p:blipFill>
          <a:blip r:embed="rId1"/>
          <a:stretch/>
        </p:blipFill>
        <p:spPr>
          <a:xfrm>
            <a:off x="5292720" y="1916280"/>
            <a:ext cx="3381480" cy="28429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2" descr=""/>
          <p:cNvPicPr/>
          <p:nvPr/>
        </p:nvPicPr>
        <p:blipFill>
          <a:blip r:embed="rId2"/>
          <a:stretch/>
        </p:blipFill>
        <p:spPr>
          <a:xfrm>
            <a:off x="1547640" y="4221000"/>
            <a:ext cx="2254320" cy="15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Жесты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Это движения тела, рук или кистей рук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опровождающие в процесс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оммуникации речь человека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ыражающие отношение человек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епосредственно к собеседнику, к какому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то событию, другому лицу, какому-либо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едмету, а также свидетельствующие о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желаниях и состоянии человек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Практически все  жесты имеют три варианта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жесты включаются в контекст речи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жесты и речь идут параллельно (причем жесты несут не связанную с речью информацию)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автономное использование жестов, когда речь вообще не используется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Сущетвуют три типа жестов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жесты-реалии, которые существуют лишь в общении одной нации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жесты-ареалии, которые совпадают и по форме, и по содержанию в разных культурах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сходящихся в смыслах при совпадающем исполнении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эквивалентные жесты, которые схожи по форме, но различны по содержанию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4456"/>
                </a:solidFill>
                <a:latin typeface="Trebuchet MS"/>
              </a:rPr>
              <a:t>Совпадают в исполнении и смыслах:</a:t>
            </a:r>
            <a:br>
              <a:rPr sz="2800"/>
            </a:b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285840" y="9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a04da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приветствие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(jmdm. die Hand geben, reichen, drücken; jmdm. mit dem Kopf nicken, jmdm. zunicken, jmdn. in die Arme schließen; vor jmdm. den Hut abnehmen);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a04da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прощание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(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приветствие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а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также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den Hut lüften; auf die Wange küssen);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a04da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знакомство (sich verbeugen);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a04da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положительная реакция (jmdm. beifällig nicken, lächeln, jmdm. 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Beifall klatschen, jmdm. freundlich auf die Schulter klopfen);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a04da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отрицательная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реакция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(den Kopf schütteln, die Achseln zucken, den Mund verziehen, die Nase rümpfen; die Stirn runzeln);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a04da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благодарность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(die Hand drücken, den Kopf neigen, sich vor jmdm. verbeugen);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a04da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удивление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(die Augenbrauen hochziehen, große Augen machen, den Kopf schütteln);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a04da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радость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приятная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неожиданность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(sich die Hände reiben; aufspringen; jmdn. mit offenen Armen empfangen);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a04da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утешение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(die Hand streicheln; über das Haar streichen);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a04da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недовольство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гнев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(mit der Hand auf den Tisch schlagen);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07" name="Picture 2" descr=""/>
          <p:cNvPicPr/>
          <p:nvPr/>
        </p:nvPicPr>
        <p:blipFill>
          <a:blip r:embed="rId1"/>
          <a:stretch/>
        </p:blipFill>
        <p:spPr>
          <a:xfrm>
            <a:off x="571680" y="2786040"/>
            <a:ext cx="2260440" cy="16923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3" descr=""/>
          <p:cNvPicPr/>
          <p:nvPr/>
        </p:nvPicPr>
        <p:blipFill>
          <a:blip r:embed="rId2"/>
          <a:stretch/>
        </p:blipFill>
        <p:spPr>
          <a:xfrm>
            <a:off x="357120" y="214200"/>
            <a:ext cx="2982960" cy="20876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4" descr=""/>
          <p:cNvPicPr/>
          <p:nvPr/>
        </p:nvPicPr>
        <p:blipFill>
          <a:blip r:embed="rId3"/>
          <a:stretch/>
        </p:blipFill>
        <p:spPr>
          <a:xfrm>
            <a:off x="6227640" y="1052640"/>
            <a:ext cx="2217960" cy="16556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" descr=""/>
          <p:cNvPicPr/>
          <p:nvPr/>
        </p:nvPicPr>
        <p:blipFill>
          <a:blip r:embed="rId4"/>
          <a:stretch/>
        </p:blipFill>
        <p:spPr>
          <a:xfrm>
            <a:off x="5000760" y="3286080"/>
            <a:ext cx="1458720" cy="21956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"/>
          <p:cNvPicPr/>
          <p:nvPr/>
        </p:nvPicPr>
        <p:blipFill>
          <a:blip r:embed="rId5"/>
          <a:stretch/>
        </p:blipFill>
        <p:spPr>
          <a:xfrm>
            <a:off x="3143160" y="1428840"/>
            <a:ext cx="2656080" cy="20160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8" descr=""/>
          <p:cNvPicPr/>
          <p:nvPr/>
        </p:nvPicPr>
        <p:blipFill>
          <a:blip r:embed="rId6"/>
          <a:stretch/>
        </p:blipFill>
        <p:spPr>
          <a:xfrm>
            <a:off x="1785960" y="4357800"/>
            <a:ext cx="2751120" cy="21952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9" descr=""/>
          <p:cNvPicPr/>
          <p:nvPr/>
        </p:nvPicPr>
        <p:blipFill>
          <a:blip r:embed="rId7"/>
          <a:stretch/>
        </p:blipFill>
        <p:spPr>
          <a:xfrm>
            <a:off x="6500880" y="3500280"/>
            <a:ext cx="1886040" cy="283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4" descr=""/>
          <p:cNvPicPr/>
          <p:nvPr/>
        </p:nvPicPr>
        <p:blipFill>
          <a:blip r:embed="rId1"/>
          <a:stretch/>
        </p:blipFill>
        <p:spPr>
          <a:xfrm>
            <a:off x="7020000" y="1197000"/>
            <a:ext cx="1781280" cy="266364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Жесты, совпадающие по смыслу, но расходящиеся по исполнению: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здушный поцелуй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немецкой традиции целую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ончики пальцев с внутренней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тороны и завершают жест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змахом руки вверх с поднятой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ладонью; в русской традиции жес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завершается отводом ладони вправо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иблизительно до уровня глаз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jmdm. eine Kusshand zuwerfe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17" name="Picture 3" descr=""/>
          <p:cNvPicPr/>
          <p:nvPr/>
        </p:nvPicPr>
        <p:blipFill>
          <a:blip r:embed="rId2"/>
          <a:stretch/>
        </p:blipFill>
        <p:spPr>
          <a:xfrm>
            <a:off x="6948360" y="4437000"/>
            <a:ext cx="95256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11280" y="549000"/>
            <a:ext cx="82296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a04da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иветствии и прощании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jmdm. mit offener Hand winke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a04da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 носителей немецкого языка рука согнута в локте, кисть производит легкие движения из стороны в сторону или то же движение производится вытянутой рукой. У носителей русского языка приподнятая рука движется (помахивает) вперед-назад (под влиянием кино и телевидения и у носителей русского языка при выполнении этого жеста наблюдается направление движения из стороны в сторону)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1"/>
          <a:stretch/>
        </p:blipFill>
        <p:spPr>
          <a:xfrm>
            <a:off x="468360" y="4797360"/>
            <a:ext cx="3325680" cy="18288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3" descr=""/>
          <p:cNvPicPr/>
          <p:nvPr/>
        </p:nvPicPr>
        <p:blipFill>
          <a:blip r:embed="rId2"/>
          <a:stretch/>
        </p:blipFill>
        <p:spPr>
          <a:xfrm>
            <a:off x="7451640" y="4437000"/>
            <a:ext cx="1271520" cy="19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240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ля привлечения внимания на собрани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днимают руку. При этом в немецком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жесте ладонь обращена вперед, в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усском – повернута ребром вперед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24" name="Picture 2" descr=""/>
          <p:cNvPicPr/>
          <p:nvPr/>
        </p:nvPicPr>
        <p:blipFill>
          <a:blip r:embed="rId1"/>
          <a:stretch/>
        </p:blipFill>
        <p:spPr>
          <a:xfrm>
            <a:off x="6929280" y="3286080"/>
            <a:ext cx="1702080" cy="25002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7" descr=""/>
          <p:cNvPicPr/>
          <p:nvPr/>
        </p:nvPicPr>
        <p:blipFill>
          <a:blip r:embed="rId2"/>
          <a:stretch/>
        </p:blipFill>
        <p:spPr>
          <a:xfrm>
            <a:off x="1071720" y="3357720"/>
            <a:ext cx="2387520" cy="154764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"/>
          <p:cNvPicPr/>
          <p:nvPr/>
        </p:nvPicPr>
        <p:blipFill>
          <a:blip r:embed="rId3"/>
          <a:stretch/>
        </p:blipFill>
        <p:spPr>
          <a:xfrm>
            <a:off x="3643200" y="4357800"/>
            <a:ext cx="2799000" cy="18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6836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и счете на пальцах в немецком жест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огнутые пальцы левой руки, начиная с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большого пальца, разгибают пальцам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авой руки, сложенными в щепоть; в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усском жесте пальцы, начиная с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мизинца, сгибают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29" name="Picture 4" descr=""/>
          <p:cNvPicPr/>
          <p:nvPr/>
        </p:nvPicPr>
        <p:blipFill>
          <a:blip r:embed="rId1"/>
          <a:stretch/>
        </p:blipFill>
        <p:spPr>
          <a:xfrm>
            <a:off x="5072040" y="3786120"/>
            <a:ext cx="3554280" cy="26640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" descr=""/>
          <p:cNvPicPr/>
          <p:nvPr/>
        </p:nvPicPr>
        <p:blipFill>
          <a:blip r:embed="rId2"/>
          <a:stretch/>
        </p:blipFill>
        <p:spPr>
          <a:xfrm>
            <a:off x="500040" y="4071960"/>
            <a:ext cx="3718080" cy="204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7168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30840">
              <a:spcBef>
                <a:spcPts val="3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В процессе общения людей от 60 до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53880" indent="-330840">
              <a:spcBef>
                <a:spcPts val="3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80%сообщения доносится за счет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53880" indent="-330840">
              <a:spcBef>
                <a:spcPts val="3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невербальных средств выражения,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53880" indent="-330840">
              <a:spcBef>
                <a:spcPts val="3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и только 20-40% информации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53880" indent="-330840">
              <a:spcBef>
                <a:spcPts val="3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передается с помощью вербальных.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57120" y="285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Жест удивления die Hände über dem Kopf zusammenschlagen „всплеснуть руками“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„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скинув их над головой от удивления, ужаса“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усский жест производится на уровне груди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33" name="Picture 2" descr=""/>
          <p:cNvPicPr/>
          <p:nvPr/>
        </p:nvPicPr>
        <p:blipFill>
          <a:blip r:embed="rId1"/>
          <a:stretch/>
        </p:blipFill>
        <p:spPr>
          <a:xfrm>
            <a:off x="214200" y="285840"/>
            <a:ext cx="2857680" cy="18954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4" descr=""/>
          <p:cNvPicPr/>
          <p:nvPr/>
        </p:nvPicPr>
        <p:blipFill>
          <a:blip r:embed="rId2"/>
          <a:stretch/>
        </p:blipFill>
        <p:spPr>
          <a:xfrm>
            <a:off x="6858000" y="428760"/>
            <a:ext cx="1528920" cy="19447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3" descr=""/>
          <p:cNvPicPr/>
          <p:nvPr/>
        </p:nvPicPr>
        <p:blipFill>
          <a:blip r:embed="rId3"/>
          <a:stretch/>
        </p:blipFill>
        <p:spPr>
          <a:xfrm>
            <a:off x="4357800" y="1214280"/>
            <a:ext cx="142848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"/>
          <p:cNvPicPr/>
          <p:nvPr/>
        </p:nvPicPr>
        <p:blipFill>
          <a:blip r:embed="rId1"/>
          <a:stretch/>
        </p:blipFill>
        <p:spPr>
          <a:xfrm>
            <a:off x="6286680" y="2714760"/>
            <a:ext cx="2662200" cy="39240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3" descr=""/>
          <p:cNvPicPr/>
          <p:nvPr/>
        </p:nvPicPr>
        <p:blipFill>
          <a:blip r:embed="rId2"/>
          <a:stretch/>
        </p:blipFill>
        <p:spPr>
          <a:xfrm>
            <a:off x="214200" y="214200"/>
            <a:ext cx="3267360" cy="218124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Jmdm. mit dem Zeigefinger drohen „грозит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альцем кому-л.“ – рука согнута в локте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ращена ладонью к говорящему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казательный палец вытянут, остальны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омкнуты, кисть производит краткие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трывистые движения слева направо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и исполнении русского жеста ладон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ращена ребром к говорящему, кист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вигается вперед-назад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5056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24456"/>
                </a:solidFill>
                <a:latin typeface="Trebuchet MS"/>
              </a:rPr>
              <a:t>Эквивалентные жесты, которые схожи по форме, но различны по содержанию</a:t>
            </a:r>
            <a:br>
              <a:rPr sz="2200"/>
            </a:br>
            <a:endParaRPr b="0" lang="en-US" sz="25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214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mit Handschlag  в немецкой традици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вязана с ситуациями приветствовать 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ощаться (begrüßen, sich verabschieden)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то же время в русском языке бить /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дарять по рукам имеет значени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«заключить сделку»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2" name="Picture 2" descr=""/>
          <p:cNvPicPr/>
          <p:nvPr/>
        </p:nvPicPr>
        <p:blipFill>
          <a:blip r:embed="rId1"/>
          <a:stretch/>
        </p:blipFill>
        <p:spPr>
          <a:xfrm>
            <a:off x="214200" y="4589640"/>
            <a:ext cx="4124520" cy="22683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3" descr=""/>
          <p:cNvPicPr/>
          <p:nvPr/>
        </p:nvPicPr>
        <p:blipFill>
          <a:blip r:embed="rId2"/>
          <a:stretch/>
        </p:blipFill>
        <p:spPr>
          <a:xfrm>
            <a:off x="6929280" y="4500720"/>
            <a:ext cx="1190880" cy="99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11280" y="2565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то время как mit den Fingern schnalzen в немецкой традиции жест привлечения внимания, напр. официанта в ресторане, а иногда употребляется нетерпеливыми школьниками с целью обратить на себя внимание учителя. В русской традиции значение жеста «щелкать пальцами» - выражение радости, одобрения, а также досады, ошибки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6" name="Picture 2" descr=""/>
          <p:cNvPicPr/>
          <p:nvPr/>
        </p:nvPicPr>
        <p:blipFill>
          <a:blip r:embed="rId1"/>
          <a:stretch/>
        </p:blipFill>
        <p:spPr>
          <a:xfrm>
            <a:off x="142920" y="214200"/>
            <a:ext cx="4044960" cy="222588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3" descr=""/>
          <p:cNvPicPr/>
          <p:nvPr/>
        </p:nvPicPr>
        <p:blipFill>
          <a:blip r:embed="rId2"/>
          <a:stretch/>
        </p:blipFill>
        <p:spPr>
          <a:xfrm>
            <a:off x="6429240" y="285840"/>
            <a:ext cx="1686240" cy="190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79280" y="112536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Den Zeigefinger hebe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«поднять руку с вытянутым вверх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казательным пальцем» -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жест ученика в школе дл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ивлечения внимания учителя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русской традиции это подчеркивани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амого главного в реч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«поднять палец» - подчеркнуть самое главное;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7845480" y="1500120"/>
            <a:ext cx="1298520" cy="452592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5" descr=""/>
          <p:cNvPicPr/>
          <p:nvPr/>
        </p:nvPicPr>
        <p:blipFill>
          <a:blip r:embed="rId2"/>
          <a:stretch/>
        </p:blipFill>
        <p:spPr>
          <a:xfrm>
            <a:off x="5929200" y="1214280"/>
            <a:ext cx="1611360" cy="16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287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4440" indent="-334440">
              <a:lnSpc>
                <a:spcPct val="80000"/>
              </a:lnSpc>
              <a:spcBef>
                <a:spcPts val="700"/>
              </a:spcBef>
              <a:buClr>
                <a:srgbClr val="a04da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Mit den Fingerknöcheln auf die Tischplatte klopfen «стучать костяшками пальцев по столу». Так немецкие студенты традиционно приветствовали профессоров и преподавателей в университетах. В настоящее время реже употребляется в высшей школе, на расширяет сферу своего применения: постучав по столу костяшками пальцев, можно приветствовать компанию за столиком кафе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4440" indent="-334440">
              <a:lnSpc>
                <a:spcPct val="80000"/>
              </a:lnSpc>
              <a:spcBef>
                <a:spcPts val="700"/>
              </a:spcBef>
              <a:buClr>
                <a:srgbClr val="a04da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«постучать рукой по столу» - призыв соблюдать тишину;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4" name="Picture 3" descr=""/>
          <p:cNvPicPr/>
          <p:nvPr/>
        </p:nvPicPr>
        <p:blipFill>
          <a:blip r:embed="rId1"/>
          <a:stretch/>
        </p:blipFill>
        <p:spPr>
          <a:xfrm>
            <a:off x="7858080" y="357120"/>
            <a:ext cx="1058760" cy="129564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5" descr="C:\Users\Администратор\Desktop\i (2).jpg"/>
          <p:cNvPicPr/>
          <p:nvPr/>
        </p:nvPicPr>
        <p:blipFill>
          <a:blip r:embed="rId2"/>
          <a:stretch/>
        </p:blipFill>
        <p:spPr>
          <a:xfrm>
            <a:off x="357120" y="21420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6" descr="C:\Users\Администратор\Desktop\i.jpg"/>
          <p:cNvPicPr/>
          <p:nvPr/>
        </p:nvPicPr>
        <p:blipFill>
          <a:blip r:embed="rId3"/>
          <a:stretch/>
        </p:blipFill>
        <p:spPr>
          <a:xfrm>
            <a:off x="4214880" y="357120"/>
            <a:ext cx="214308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68360" y="27813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Mit den Füßen trampeln «топать ногами» - выражение положительной оценки, приветствия в цирке, варьете (но не на концерте!) и mit den Füßen scharren «шаркать ногами» - выражение отрицательной оценки, возможно в студенческой аудитории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«топать ногами на кого-л.» - выражение угрозы, возмущения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9" name="Picture 4" descr="C:\Users\Администратор\Desktop\i.jpg"/>
          <p:cNvPicPr/>
          <p:nvPr/>
        </p:nvPicPr>
        <p:blipFill>
          <a:blip r:embed="rId1"/>
          <a:stretch/>
        </p:blipFill>
        <p:spPr>
          <a:xfrm>
            <a:off x="5651640" y="836640"/>
            <a:ext cx="1990440" cy="142884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5" descr="C:\Users\Администратор\Desktop\i (1).jpg"/>
          <p:cNvPicPr/>
          <p:nvPr/>
        </p:nvPicPr>
        <p:blipFill>
          <a:blip r:embed="rId2"/>
          <a:stretch/>
        </p:blipFill>
        <p:spPr>
          <a:xfrm>
            <a:off x="1187280" y="981000"/>
            <a:ext cx="285768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9528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Eine anerkennende Geste machen – жест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3324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600" spc="-1" strike="noStrike">
                <a:solidFill>
                  <a:srgbClr val="438086"/>
                </a:solidFill>
                <a:latin typeface="Georgia"/>
              </a:rPr>
              <a:t>выражающий высокое качество,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3324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600" spc="-1" strike="noStrike">
                <a:solidFill>
                  <a:srgbClr val="438086"/>
                </a:solidFill>
                <a:latin typeface="Georgia"/>
              </a:rPr>
              <a:t>положительную оценку.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3324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600" spc="-1" strike="noStrike">
                <a:solidFill>
                  <a:srgbClr val="438086"/>
                </a:solidFill>
                <a:latin typeface="Georgia"/>
              </a:rPr>
              <a:t>Большой и указательный пальцы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3324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600" spc="-1" strike="noStrike">
                <a:solidFill>
                  <a:srgbClr val="438086"/>
                </a:solidFill>
                <a:latin typeface="Georgia"/>
              </a:rPr>
              <a:t>образуют кольцо, остальные пальцы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3324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600" spc="-1" strike="noStrike">
                <a:solidFill>
                  <a:srgbClr val="438086"/>
                </a:solidFill>
                <a:latin typeface="Georgia"/>
              </a:rPr>
              <a:t>отставлены. Рука поднимается до уровня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3324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600" spc="-1" strike="noStrike">
                <a:solidFill>
                  <a:srgbClr val="438086"/>
                </a:solidFill>
                <a:latin typeface="Georgia"/>
              </a:rPr>
              <a:t>глаз, ладонь слегка двигается вперед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3324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600" spc="-1" strike="noStrike">
                <a:solidFill>
                  <a:srgbClr val="438086"/>
                </a:solidFill>
                <a:latin typeface="Georgia"/>
              </a:rPr>
              <a:t>назад, после чего рука опускается.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7500960" y="1357200"/>
            <a:ext cx="1266840" cy="20383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6" descr="C:\Users\Администратор\Desktop\i.jpg"/>
          <p:cNvPicPr/>
          <p:nvPr/>
        </p:nvPicPr>
        <p:blipFill>
          <a:blip r:embed="rId2"/>
          <a:stretch/>
        </p:blipFill>
        <p:spPr>
          <a:xfrm>
            <a:off x="6516720" y="4724280"/>
            <a:ext cx="225756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5712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41280">
              <a:spcBef>
                <a:spcPts val="3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Фамильярный жест sich an die Stirn tippen «постучать пальцем по лбу» показывает собеседнику, что он «не в своем уме» у русских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341280">
              <a:spcBef>
                <a:spcPts val="3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Sich an die Stirn schlagen «ударить себя ладонью по лбу» имеет значение «вспомнить» у немцев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6858000" y="285840"/>
            <a:ext cx="1390680" cy="19047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4" descr="C:\Users\Администратор\Desktop\1349434992_15.jpg"/>
          <p:cNvPicPr/>
          <p:nvPr/>
        </p:nvPicPr>
        <p:blipFill>
          <a:blip r:embed="rId2"/>
          <a:stretch/>
        </p:blipFill>
        <p:spPr>
          <a:xfrm>
            <a:off x="285840" y="214200"/>
            <a:ext cx="1828800" cy="20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95280" y="1844280"/>
            <a:ext cx="8229600" cy="43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Eine verneinende Geste –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жест,означающий отрицание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еприемлемость, - правая рука вытянут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перед на уровне груди, ладон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ращена тыльной стороной к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говорящему, указательный палец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ытянут, остальные сомкнуты, кист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оизводит краткие, отрывисты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вижения слева направо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6500880" y="571680"/>
            <a:ext cx="1923840" cy="190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Совокупность неязыковых средств,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символов и знаков, используемых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для передачи информации и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сообщений в процессе общения,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называют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невербальной коммуникацией.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39528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Жест,означающий положительную реакцию,большой палец поднят вверх, остальные согнуты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русской традиции означает « все здорово», в немецкой – «остановить машину, голосовать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571680" y="3214800"/>
            <a:ext cx="2207880" cy="33112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" descr=""/>
          <p:cNvPicPr/>
          <p:nvPr/>
        </p:nvPicPr>
        <p:blipFill>
          <a:blip r:embed="rId2"/>
          <a:stretch/>
        </p:blipFill>
        <p:spPr>
          <a:xfrm>
            <a:off x="5143680" y="4071960"/>
            <a:ext cx="2970000" cy="19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Вывод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щаясь, мы слушаем не только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ловесную информацию, но и смотрим в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глаза друг другу, воспринимаем тембр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голоса, интонацию, мимику, жесты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лова передают нам логическую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нформацию, а жесты, мимика, голос эту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нформацию дополняют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5998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41280">
              <a:spcBef>
                <a:spcPts val="3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феру невербальной коммуникаци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341280">
              <a:spcBef>
                <a:spcPts val="3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оставляют все неязыковые сигналы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341280">
              <a:spcBef>
                <a:spcPts val="3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сылаемые человеком, имеющие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341280">
              <a:spcBef>
                <a:spcPts val="3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знаковый характер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341280">
              <a:spcBef>
                <a:spcPts val="3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Такими знаками, обладающими как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341280">
              <a:spcBef>
                <a:spcPts val="3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ниверсальными, так и национальным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341280">
              <a:spcBef>
                <a:spcPts val="3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пецифическими чертами, являютс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341280">
              <a:spcBef>
                <a:spcPts val="3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мимика и жесты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341280">
              <a:spcBef>
                <a:spcPts val="3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Выявление сходств и отличий языка,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мимики и жестов немецкого и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русского народов и будет являться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целью данной  работы.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57120" y="214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Мимика-</a:t>
            </a: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 это движения лица,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выражающие эмоции.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К мимике относятся: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3412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Взгляд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3412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Губы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3412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Брови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3412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Нос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4" descr=""/>
          <p:cNvPicPr/>
          <p:nvPr/>
        </p:nvPicPr>
        <p:blipFill>
          <a:blip r:embed="rId1"/>
          <a:stretch/>
        </p:blipFill>
        <p:spPr>
          <a:xfrm>
            <a:off x="7020000" y="0"/>
            <a:ext cx="1881000" cy="20876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2" descr=""/>
          <p:cNvPicPr/>
          <p:nvPr/>
        </p:nvPicPr>
        <p:blipFill>
          <a:blip r:embed="rId2"/>
          <a:stretch/>
        </p:blipFill>
        <p:spPr>
          <a:xfrm>
            <a:off x="5929200" y="4357800"/>
            <a:ext cx="1747800" cy="23400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5" descr=""/>
          <p:cNvPicPr/>
          <p:nvPr/>
        </p:nvPicPr>
        <p:blipFill>
          <a:blip r:embed="rId3"/>
          <a:stretch/>
        </p:blipFill>
        <p:spPr>
          <a:xfrm>
            <a:off x="0" y="4357800"/>
            <a:ext cx="1560600" cy="234000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По своей специфике взгляд может быть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964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a04da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деловой — когда он фиксируется в районе лба собеседника, что предполагает создание серьезной атмосферы делового партнерства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a04da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светский — когда взгляд опускается ниже уровня глаз собеседника (до уровня губ), что способствует, как отмечают исследователи, созданию атмосферы светского, непринужденного общения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a04da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интимный — когда взгляд направлен не прямо в глаза собеседника, а ниже лица — на тело до уровня груди. Специалисты утверждают, что такой взгляд говорит о несколько большей заинтересованности в общении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a04da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взгляд искоса, который говорит, как правило, о подозрительном или критическом отношении к собеседнику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губы :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00040" y="2262240"/>
            <a:ext cx="8229600" cy="45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a04da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лотно сжатые губы и стиснутые зубы- признак решительности и настойчивости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a04da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астянутые губы, сжатые и обнаженные  зубы –вспышка  гнева или злобной ярости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a04da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губы вытянуты вперед -при оценивании, дегустаци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a04da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от открывается максимально -при сильном удивлении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a04da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близывание губ- при предвкушении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a04da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пущенные книзу уголки губ – говорят о безрадостном состоянии, печали, разочаровании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87" name="Picture 3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1314360" cy="9428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4" descr=""/>
          <p:cNvPicPr/>
          <p:nvPr/>
        </p:nvPicPr>
        <p:blipFill>
          <a:blip r:embed="rId2"/>
          <a:stretch/>
        </p:blipFill>
        <p:spPr>
          <a:xfrm>
            <a:off x="2071800" y="1071720"/>
            <a:ext cx="1333440" cy="10000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6" descr=""/>
          <p:cNvPicPr/>
          <p:nvPr/>
        </p:nvPicPr>
        <p:blipFill>
          <a:blip r:embed="rId3"/>
          <a:stretch/>
        </p:blipFill>
        <p:spPr>
          <a:xfrm>
            <a:off x="7429680" y="357120"/>
            <a:ext cx="1247760" cy="98100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2" descr=""/>
          <p:cNvPicPr/>
          <p:nvPr/>
        </p:nvPicPr>
        <p:blipFill>
          <a:blip r:embed="rId4"/>
          <a:stretch/>
        </p:blipFill>
        <p:spPr>
          <a:xfrm>
            <a:off x="5429160" y="1214280"/>
            <a:ext cx="1352520" cy="10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2484720" cy="58816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0040" y="-21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Брови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1428840" y="6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аморщенные брови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ычно выражают напряжение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ритику, неудовольствие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гнев, бешенство и потрясени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Брови в виде выпуклого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лумесяца выражаю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определенных ситуациях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дивление, недоумение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а в других, в сочетании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 улыбкой — радость, удовольстви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30T06:07:12Z</dcterms:created>
  <dc:creator>Яна Олеговна</dc:creator>
  <dc:description/>
  <dc:language>en-US</dc:language>
  <cp:lastModifiedBy>XTreme.ws</cp:lastModifiedBy>
  <dcterms:modified xsi:type="dcterms:W3CDTF">2013-02-13T07:15:36Z</dcterms:modified>
  <cp:revision>30</cp:revision>
  <dc:subject/>
  <dc:title>Жесты</dc:title>
</cp:coreProperties>
</file>