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png" ContentType="image/png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41.jpeg" ContentType="image/jpeg"/>
  <Override PartName="/ppt/media/image31.jpeg" ContentType="image/jpeg"/>
  <Override PartName="/ppt/media/image40.jpeg" ContentType="image/jpeg"/>
  <Override PartName="/ppt/media/image4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13.png" ContentType="image/png"/>
  <Override PartName="/ppt/media/image3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10.png" ContentType="image/png"/>
  <Override PartName="/ppt/media/image47.png" ContentType="image/png"/>
  <Override PartName="/ppt/media/image1.jpeg" ContentType="image/jpeg"/>
  <Override PartName="/ppt/media/image48.png" ContentType="image/png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B48-6FAF-4BE0-8B69-E4AF1931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182-B250-4726-900F-7A556655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334-8359-4DB6-A635-073DA38B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306-E8AB-457A-A72E-BD54CE90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B6CF-77E5-42D4-8C8C-2F6D2EC1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20DB-3479-42FB-BBDD-0CF4EE4F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765-2BAB-4F35-BFC1-E72245A4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1809-EB65-4706-A10D-3A9D34DC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EB73-BFC8-498B-B318-46FF7C8B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DBE-7428-4860-B6CA-15EE8FF3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7D97-7F83-4B07-B912-0ADDDFFF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7D3-89B2-475F-8830-A78B0760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B135-A30D-41F6-A418-13C3D8DC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60F5-A3A5-4187-AC66-EDA53EA3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565E-BB12-4E5D-9E4C-9F7FC2D4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F632-4E2D-4C0D-A065-9A02AB55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864E-E385-433C-8CF0-C1C5D55B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6D2A2-D026-47F3-920C-DAADA170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7E7DB-A88B-42FF-BDEA-15663434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65C05-5040-45A8-8E85-95EC7496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F81E5-998D-4B66-85C1-E949115E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22B3E-9672-4AD0-B978-9E22FE7B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E66-0981-482F-B4D6-21BA6167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45BFA-A96A-4D1D-9E4E-19E4EF46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B77AE-CDA3-41B8-9FF8-CEAF9070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C4A784-3E61-4D7A-82A0-3045FA6A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C1D5B-7973-471E-AE75-0E59A706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C6958-D591-4720-B1F7-37A39066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E69BB-632E-4403-A588-4F7B013D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E9E91-8154-4466-9245-D12BCC55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2206-9502-4B05-BF5C-EA87D0FE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735D-E384-420E-89E5-8F70C19A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2054C-D4BA-4CE2-A800-3CDE756D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7CA-0EE2-49D9-A705-6D2C00EB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2C71C-3053-49BE-B503-8268B46F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C313F-5A9B-4BB8-B487-B6DA7D7F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F72C7-5E4B-49EC-91C7-B41602CB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5E367-2B23-4AE3-BA2C-6AEAF86D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42EA5-76CB-469A-9038-713B368E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9297B-0DC0-4CB1-A492-215E98B4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77F2-4408-436E-B5B8-0E653431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7AA08-46EA-401C-83A1-1F5F2738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4680-CDE3-4212-AA52-38032BCC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D607D-ABAC-4566-9F57-365F7769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E75-C7E3-4E52-9348-4C48507D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9568-FBEB-48A9-82AA-3FF6E869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E4A4A-92CF-48ED-9DDE-1D7398A3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F35B4-C2E0-44F9-9A87-EBFA386D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68B21-107D-4A53-B823-9E3223DD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9671F-4DCC-4473-AA27-D876DFE9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17238-7FA2-4489-9DC7-B016489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281C9-ADA8-4F85-B402-0192ED86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39B96-FABD-40F7-B9DB-FE41A7F8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1AB49-689C-4343-B238-AC86CBB1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45F5C-BF5E-4769-BF8D-70D2A215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641-0658-4CC2-87C9-6297A913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9C62E-307B-48C7-988B-C4125FDA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303-708E-4C35-8C7F-338B84BF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BD1F-C0CE-48C9-B3B5-F87EEDEC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3E9-6610-4612-A5D7-FEAB595D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BDC368-3AFD-4285-BC28-E39E33CE2DE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AACB2C-3C95-4861-B57D-65789F27F30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F17CB9-0434-49BC-8E43-157BC52813E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BCB25D-B5C8-4D6F-82B4-1535FE08905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7C3CBB-FAE3-4ED9-92A1-F087452FE24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Сравнительная характеристика невербального общения русского и немецкого народов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743200" y="4142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улгакова Александр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еница 9 класса 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У СОШ № 4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итель: Бескова С.П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о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морщивание носа 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ражает недовольство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приятное ощущени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тиворечивость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ушевную боль, отвращен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увание крыльев носа 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буждение или ярость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81480" cy="2842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1547640" y="4221000"/>
            <a:ext cx="2254320" cy="15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Жес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движения тела, рук или кистей рук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провождающие в процесс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ммуникации речь человека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ражающие отношение челове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посредственно к собеседнику, к каком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 событию, другому лицу, какому-либ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мету, а также свидетельствующие 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ланиях и состоянии челове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рактически все  жесты имеют три вариант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ы включаются в контекст реч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ы и речь идут параллельно (причем жесты несут не связанную с речью информацию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втономное использование жестов, когда речь вообще не используетс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ущетвуют три типа жестов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ы-реалии, которые существуют лишь в общении одной наци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ы-ареалии, которые совпадают и по форме, и по содержанию в разных культур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ходящихся в смыслах при совпадающем исполнени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квивалентные жесты, которые схожи по форме, но различны по содержан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Совпадают в исполнении и смыслах: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858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ветствие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jmdm. die Hand geben, reichen, drücken; jmdm. mit dem Kopf nicken, jmdm. zunicken, jmdn. in die Arme schließen; vor jmdm. den Hut abnehm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ощание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ветствие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также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den Hut lüften; auf die Wange küss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знакомство (sich verbeug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оложительная реакция (jmdm. beifällig nicken, lächeln, jmdm.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eifall klatschen, jmdm. freundlich auf die Schulter klopf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трицательная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еакция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den Kopf schütteln, die Achseln zucken, den Mund verziehen, die Nase rümpfen; die Stirn runzel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благодарность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die Hand drücken, den Kopf neigen, sich vor jmdm. verbeug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дивление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die Augenbrauen hochziehen, große Augen machen, den Kopf schüttel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дость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ятная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еожиданность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sich die Hände reiben; aufspringen; jmdn. mit offenen Armen empfang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тешение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die Hand streicheln; über das Haar streich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едовольство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гнев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(mit der Hand auf den Tisch schlagen)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571680" y="2786040"/>
            <a:ext cx="2260440" cy="169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2982960" cy="2087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2217960" cy="1655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"/>
          <p:cNvPicPr/>
          <p:nvPr/>
        </p:nvPicPr>
        <p:blipFill>
          <a:blip r:embed="rId4"/>
          <a:stretch/>
        </p:blipFill>
        <p:spPr>
          <a:xfrm>
            <a:off x="5000760" y="3286080"/>
            <a:ext cx="1458720" cy="2195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5"/>
          <a:stretch/>
        </p:blipFill>
        <p:spPr>
          <a:xfrm>
            <a:off x="3143160" y="1428840"/>
            <a:ext cx="2656080" cy="2016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6"/>
          <a:stretch/>
        </p:blipFill>
        <p:spPr>
          <a:xfrm>
            <a:off x="1785960" y="4357800"/>
            <a:ext cx="2751120" cy="2195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7"/>
          <a:stretch/>
        </p:blipFill>
        <p:spPr>
          <a:xfrm>
            <a:off x="6500880" y="3500280"/>
            <a:ext cx="188604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781280" cy="266364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rebuchet MS"/>
              </a:rPr>
              <a:t>Жесты, совпадающие по смыслу, но расходящиеся по исполнению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душный поцелу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немецкой традиции целую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чики пальцев с внутренн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ороны и завершают жест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змахом руки вверх с поднято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ладонью; в русской традиции жес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вершается отводом ладони вправ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близительно до уровня глаз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jmdm. eine Kusshand zuwer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6948360" y="4437000"/>
            <a:ext cx="9525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11280" y="54900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ветствии и прощании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jmdm. mit offener Hand wink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 носителей немецкого языка рука согнута в локте, кисть производит легкие движения из стороны в сторону или то же движение производится вытянутой рукой. У носителей русского языка приподнятая рука движется (помахивает) вперед-назад (под влиянием кино и телевидения и у носителей русского языка при выполнении этого жеста наблюдается направление движения из стороны в сторону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3325680" cy="1828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7451640" y="4437000"/>
            <a:ext cx="1271520" cy="19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ля привлечения внимания на собран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нимают руку. При этом в немецк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е ладонь обращена вперед, 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усском – повернута ребром вперед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6929280" y="3286080"/>
            <a:ext cx="1702080" cy="2500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1071720" y="3357720"/>
            <a:ext cx="2387520" cy="1547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3"/>
          <a:stretch/>
        </p:blipFill>
        <p:spPr>
          <a:xfrm>
            <a:off x="3643200" y="4357800"/>
            <a:ext cx="27990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 счете на пальцах в немецком жес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гнутые пальцы левой руки, начиная 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ольшого пальца, разгибают пальца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авой руки, сложенными в щепоть; 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усском жесте пальцы, начиная 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изинца, сгибают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5072040" y="3786120"/>
            <a:ext cx="3554280" cy="2664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500040" y="4071960"/>
            <a:ext cx="371808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68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3084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 процессе общения людей от 60 до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53880" indent="-33084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80%сообщения доносится за счет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53880" indent="-33084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евербальных средств выражения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53880" indent="-33084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 только 20-40% информац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53880" indent="-33084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ередается с помощью вербальных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57120" y="285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 удивления die Hände über dem Kopf zusammenschlagen „всплеснуть руками“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скинув их над головой от удивления, ужаса“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усский жест производится на уровне груд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6858000" y="428760"/>
            <a:ext cx="1528920" cy="1944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3"/>
          <a:stretch/>
        </p:blipFill>
        <p:spPr>
          <a:xfrm>
            <a:off x="4357800" y="1214280"/>
            <a:ext cx="14284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6286680" y="2714760"/>
            <a:ext cx="2662200" cy="3924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3267360" cy="2181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Jmdm. mit dem Zeigefinger drohen „грози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альцем кому-л.“ – рука согнута в локт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щена ладонью к говорящему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казательный палец вытянут, остальн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мкнуты, кисть производит кратки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рывистые движения слева напра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 исполнении русского жеста ладон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щена ребром к говорящему, ки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вигается вперед-назад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24456"/>
                </a:solidFill>
                <a:latin typeface="Trebuchet MS"/>
              </a:rPr>
              <a:t>Эквивалентные жесты, которые схожи по форме, но различны по содержанию</a:t>
            </a:r>
            <a:br>
              <a:rPr sz="2200"/>
            </a:b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14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mit Handschlag  в немецкой тради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вязана с ситуациями приветствовать 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щаться (begrüßen, sich verabschieden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то же время в русском языке бить 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арять по рукам имеет знач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заключить сделку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14200" y="4589640"/>
            <a:ext cx="4124520" cy="2268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9088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11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то время как mit den Fingern schnalzen в немецкой традиции жест привлечения внимания, напр. официанта в ресторане, а иногда употребляется нетерпеливыми школьниками с целью обратить на себя внимание учителя. В русской традиции значение жеста «щелкать пальцами» - выражение радости, одобрения, а также досады, ошибк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044960" cy="22258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429240" y="285840"/>
            <a:ext cx="16862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7928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Den Zeigefinger heb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поднять руку с вытянутым ввер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казательным пальцем» -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 ученика в школе дл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влечения внимания учител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усской традиции это подчеркива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го главного в реч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поднять палец» - подчеркнуть самое главное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7845480" y="1500120"/>
            <a:ext cx="1298520" cy="4525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5929200" y="1214280"/>
            <a:ext cx="1611360" cy="16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8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7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Mit den Fingerknöcheln auf die Tischplatte klopfen «стучать костяшками пальцев по столу». Так немецкие студенты традиционно приветствовали профессоров и преподавателей в университетах. В настоящее время реже употребляется в высшей школе, на расширяет сферу своего применения: постучав по столу костяшками пальцев, можно приветствовать компанию за столиком каф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4440" indent="-334440">
              <a:lnSpc>
                <a:spcPct val="80000"/>
              </a:lnSpc>
              <a:spcBef>
                <a:spcPts val="7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постучать рукой по столу» - призыв соблюдать тишину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7858080" y="357120"/>
            <a:ext cx="1058760" cy="1295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C:\Users\Администратор\Desktop\i (2).jpg"/>
          <p:cNvPicPr/>
          <p:nvPr/>
        </p:nvPicPr>
        <p:blipFill>
          <a:blip r:embed="rId2"/>
          <a:stretch/>
        </p:blipFill>
        <p:spPr>
          <a:xfrm>
            <a:off x="35712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C:\Users\Администратор\Desktop\i.jpg"/>
          <p:cNvPicPr/>
          <p:nvPr/>
        </p:nvPicPr>
        <p:blipFill>
          <a:blip r:embed="rId3"/>
          <a:stretch/>
        </p:blipFill>
        <p:spPr>
          <a:xfrm>
            <a:off x="4214880" y="35712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8360" y="278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Mit den Füßen trampeln «топать ногами» - выражение положительной оценки, приветствия в цирке, варьете (но не на концерте!) и mit den Füßen scharren «шаркать ногами» - выражение отрицательной оценки, возможно в студенческой аудитори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топать ногами на кого-л.» - выражение угрозы, возмуще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9" name="Picture 4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5651640" y="836640"/>
            <a:ext cx="1990440" cy="1428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C:\Users\Администратор\Desktop\i (1).jpg"/>
          <p:cNvPicPr/>
          <p:nvPr/>
        </p:nvPicPr>
        <p:blipFill>
          <a:blip r:embed="rId2"/>
          <a:stretch/>
        </p:blipFill>
        <p:spPr>
          <a:xfrm>
            <a:off x="1187280" y="981000"/>
            <a:ext cx="28576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Eine anerkennende Geste machen – жест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выражающий высокое качество,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положительную оценку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Большой и указательный пальцы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образуют кольцо, остальные пальцы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отставлены. Рука поднимается до уровня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глаз, ладонь слегка двигается вперед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324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Georgia"/>
              </a:rPr>
              <a:t>назад, после чего рука опускается.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7500960" y="1357200"/>
            <a:ext cx="1266840" cy="2038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6516720" y="4724280"/>
            <a:ext cx="22575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571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амильярный жест sich an die Stirn tippen «постучать пальцем по лбу» показывает собеседнику, что он «не в своем уме» у русски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Sich an die Stirn schlagen «ударить себя ладонью по лбу» имеет значение «вспомнить» у немце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6858000" y="28584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C:\Users\Администратор\Desktop\1349434992_15.jpg"/>
          <p:cNvPicPr/>
          <p:nvPr/>
        </p:nvPicPr>
        <p:blipFill>
          <a:blip r:embed="rId2"/>
          <a:stretch/>
        </p:blipFill>
        <p:spPr>
          <a:xfrm>
            <a:off x="285840" y="214200"/>
            <a:ext cx="182880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95280" y="1844280"/>
            <a:ext cx="822960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Eine verneinende Geste 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,означающий отрицани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приемлемость, - правая рука вытяну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перед на уровне груди, ладон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щена тыльной стороной 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оворящему, указательный палец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тянут, остальные сомкнуты, ки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изводит краткие, отрывист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вижения слева направо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6500880" y="571680"/>
            <a:ext cx="19238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овокупность неязыковых средств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имволов и знаков, используемых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ля передачи информации 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ообщений в процессе общения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зывают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невербальной коммуникацией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ест,означающий положительную реакцию,большой палец поднят вверх, остальные согну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усской традиции означает « все здорово», в немецкой – «остановить машину, голос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571680" y="3214800"/>
            <a:ext cx="2207880" cy="3311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5143680" y="4071960"/>
            <a:ext cx="297000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Вывод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щаясь, мы слушаем не тольк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весную информацию, но и смотрим 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лаза друг другу, воспринимаем темб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олоса, интонацию, мимику, жесты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ва передают нам логическую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формацию, а жесты, мимика, голос эт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формацию дополняю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феру невербальной коммуника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тавляют все неязыковые сигналы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сылаемые человеком, имеющ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ковый характе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кими знаками, обладающими ка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ниверсальными, так и национальны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пецифическими чертами, являют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имика и жест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Выявление сходств и отличий языка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мимики и жестов немецкого 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русского народов и будет являтьс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целью данной  работы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57120" y="214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Мимика-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 это движения лица,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выражающие эмоции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К мимике относятся: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Взгляд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Губы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Бров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Нос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1000" cy="2087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5929200" y="4357800"/>
            <a:ext cx="1747800" cy="2340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0" y="4357800"/>
            <a:ext cx="1560600" cy="2340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о своей специфике взгляд может быть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еловой — когда он фиксируется в районе лба собеседника, что предполагает создание серьезной атмосферы делового партнерств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ветский — когда взгляд опускается ниже уровня глаз собеседника (до уровня губ), что способствует, как отмечают исследователи, созданию атмосферы светского, непринужденного общени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нтимный — когда взгляд направлен не прямо в глаза собеседника, а ниже лица — на тело до уровня груди. Специалисты утверждают, что такой взгляд говорит о несколько большей заинтересованности в общени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згляд искоса, который говорит, как правило, о подозрительном или критическом отношении к собеседник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убы :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0040" y="2262240"/>
            <a:ext cx="822960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лотно сжатые губы и стиснутые зубы- признак решительности и настойчивост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тянутые губы, сжатые и обнаженные  зубы –вспышка  гнева или злобной ярост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убы вытянуты вперед -при оценивании, дегустац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т открывается максимально -при сильном удивлени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лизывание губ- при предвкушени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a04da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ущенные книзу уголки губ – говорят о безрадостном состоянии, печали, разочаровани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1314360" cy="9428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3"/>
          <a:stretch/>
        </p:blipFill>
        <p:spPr>
          <a:xfrm>
            <a:off x="7429680" y="357120"/>
            <a:ext cx="1247760" cy="9810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4"/>
          <a:stretch/>
        </p:blipFill>
        <p:spPr>
          <a:xfrm>
            <a:off x="5429160" y="1214280"/>
            <a:ext cx="135252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2484720" cy="5881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Бров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4288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морщенные бров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ычно выражают напряжение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ритику, неудовольствие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нев, бешенство и потряс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рови в виде выпуклог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умесяца выражаю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определенных ситуациях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дивление, недоумение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 в других, в сочетани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 улыбкой — радость, удовольств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6:07:12Z</dcterms:created>
  <dc:creator>Яна Олеговна</dc:creator>
  <dc:description/>
  <dc:language>en-US</dc:language>
  <cp:lastModifiedBy>XTreme.ws</cp:lastModifiedBy>
  <dcterms:modified xsi:type="dcterms:W3CDTF">2013-02-13T07:15:36Z</dcterms:modified>
  <cp:revision>30</cp:revision>
  <dc:subject/>
  <dc:title>Жесты</dc:title>
</cp:coreProperties>
</file>