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5B3-3DC6-47DB-9F8D-8204500623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D99-C351-477C-86AC-9AE5EF246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7E3-DBD0-4B1F-B4F8-04C107BF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F42-E79A-492F-90F7-49B49A94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D5E-4498-40B0-A9A2-2E802AA0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E72-F694-4DF1-9A67-BA07B82A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DD08-184A-44B3-BC54-C668F6E9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2B0B-E2E3-4725-AC13-38CAAABF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2203-6805-40C9-B6E5-1B69157C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C44A-6BFC-41B7-B821-49326AB5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257B-75AB-4C0F-97B4-852AB7EC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5C3A-DE6F-458F-BF50-B99E5A49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A210-F13B-4211-A3DC-960D2BE2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7EE-84A1-4416-BE7F-4919C398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C390-426E-4899-91BC-D4EA609E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4D28-DA8B-4B88-969D-9C31E729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C1E9-264E-4FA6-8269-35E0643E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FB9C-A67E-467E-B770-3B860A2F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9CE9-AE28-4AA4-9CA8-C1629B22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844-98BD-47EE-892F-47E80FAA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A05-B588-4020-8354-B7EC8023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ED4-7B02-4073-A8D8-82AF0C8C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165-44ED-45AB-A6E2-B8FCB342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B71-A1BD-4908-8C30-86A8A69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CF8-DA10-42A4-BB2D-D8C42716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73C-A5F4-4259-B1A2-1F08A8F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9CE-D3C4-42DA-899E-8BC6EAB7E8D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custGeom>
                  <a:avLst/>
                  <a:gdLst>
                    <a:gd name="textAreaLeft" fmla="*/ 0 w 429840"/>
                    <a:gd name="textAreaRight" fmla="*/ 430200 w 4298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custGeom>
                  <a:avLst/>
                  <a:gdLst>
                    <a:gd name="textAreaLeft" fmla="*/ 0 w 807480"/>
                    <a:gd name="textAreaRight" fmla="*/ 807840 w 8074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custGeom>
                  <a:avLst/>
                  <a:gdLst>
                    <a:gd name="textAreaLeft" fmla="*/ 0 w 1212120"/>
                    <a:gd name="textAreaRight" fmla="*/ 1212480 w 1212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custGeom>
                  <a:avLst/>
                  <a:gdLst>
                    <a:gd name="textAreaLeft" fmla="*/ 0 w 270000"/>
                    <a:gd name="textAreaRight" fmla="*/ 270360 w 2700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0E9F-F3BC-461D-A153-4067A616B5D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2428920"/>
            <a:ext cx="7786800" cy="1357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го больше: Музыки в Математике или Математики в Музыке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9680" y="4500360"/>
            <a:ext cx="828684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 ученик 9 класса Монгуш Сая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Ондар Чодураа Эрес-оол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642960" y="2142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БОУ Кара-Чыраанская средняя  общеобразовате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95280" y="333360"/>
            <a:ext cx="7462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им образом, музыка действительно повышает интерес к математике и помогает ее усво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зыка, сама по себе, как явление настолько сильна, что пройти мимо человека незамеченной она просто не может. Даже если в детстве она была для него закрытой дверью, то в отрочестве он все равно распахивает эту дверь и бросается в рок или поп-культуру. Предмет «музыка» в школе ведется по аналогии с другими гуманитарными предметами - сообщить побольше сведений, классифицировать явле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анное исследование доказывает, что музыка помогает изучать математику. Ребятам, которые занимаются музыкой легче справляться  с математикой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очу закончить словами великого математика Лейбница: «Музыка есть таинственная арифметика души; она вычисляет, сама того не сознав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333797597"/>
          <p:cNvPicPr/>
          <p:nvPr/>
        </p:nvPicPr>
        <p:blipFill>
          <a:blip r:embed="rId1"/>
          <a:stretch/>
        </p:blipFill>
        <p:spPr>
          <a:xfrm rot="5172600">
            <a:off x="4463640" y="4344840"/>
            <a:ext cx="1944720" cy="28940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7">
            <a:hlinkClick r:id="rId2" action="ppaction://hlinksldjump"/>
          </p:cNvPr>
          <p:cNvSpPr/>
          <p:nvPr/>
        </p:nvSpPr>
        <p:spPr>
          <a:xfrm>
            <a:off x="2268360" y="6165720"/>
            <a:ext cx="792360" cy="395280"/>
          </a:xfrm>
          <a:custGeom>
            <a:avLst/>
            <a:gdLst>
              <a:gd name="textAreaLeft" fmla="*/ 25560 w 792360"/>
              <a:gd name="textAreaRight" fmla="*/ 766800 w 7923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43279" h="21600">
                <a:moveTo>
                  <a:pt x="0" y="0"/>
                </a:moveTo>
                <a:lnTo>
                  <a:pt x="43279" y="0"/>
                </a:lnTo>
                <a:lnTo>
                  <a:pt x="43279" y="21600"/>
                </a:lnTo>
                <a:lnTo>
                  <a:pt x="0" y="21600"/>
                </a:lnTo>
                <a:close/>
              </a:path>
              <a:path fill="lightenLess" w="43279" h="21600">
                <a:moveTo>
                  <a:pt x="0" y="0"/>
                </a:moveTo>
                <a:lnTo>
                  <a:pt x="43279" y="0"/>
                </a:lnTo>
                <a:lnTo>
                  <a:pt x="41879" y="1400"/>
                </a:lnTo>
                <a:lnTo>
                  <a:pt x="1400" y="1400"/>
                </a:lnTo>
                <a:close/>
              </a:path>
              <a:path fill="darken" w="43279" h="21600">
                <a:moveTo>
                  <a:pt x="43279" y="0"/>
                </a:moveTo>
                <a:lnTo>
                  <a:pt x="43279" y="21600"/>
                </a:lnTo>
                <a:lnTo>
                  <a:pt x="41879" y="20200"/>
                </a:lnTo>
                <a:lnTo>
                  <a:pt x="41879" y="1400"/>
                </a:lnTo>
                <a:close/>
              </a:path>
              <a:path fill="darkenLess" w="43279" h="21600">
                <a:moveTo>
                  <a:pt x="43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9" y="20200"/>
                </a:lnTo>
                <a:close/>
              </a:path>
              <a:path fill="lighten" w="43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9" h="21600">
                <a:moveTo>
                  <a:pt x="14633" y="10800"/>
                </a:moveTo>
                <a:lnTo>
                  <a:pt x="28646" y="3794"/>
                </a:lnTo>
                <a:lnTo>
                  <a:pt x="286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" action="ppaction://hlinkshowjump?jump=lastslide"/>
          </p:cNvPr>
          <p:cNvSpPr/>
          <p:nvPr/>
        </p:nvSpPr>
        <p:spPr>
          <a:xfrm>
            <a:off x="802800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16968" y="10800"/>
                </a:moveTo>
                <a:lnTo>
                  <a:pt x="6462" y="17806"/>
                </a:lnTo>
                <a:lnTo>
                  <a:pt x="6462" y="3794"/>
                </a:lnTo>
                <a:close/>
              </a:path>
              <a:path fill="darken" w="26938" h="21600">
                <a:moveTo>
                  <a:pt x="18813" y="3794"/>
                </a:moveTo>
                <a:lnTo>
                  <a:pt x="18813" y="17806"/>
                </a:lnTo>
                <a:lnTo>
                  <a:pt x="20475" y="17806"/>
                </a:lnTo>
                <a:lnTo>
                  <a:pt x="20475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7160" y="1071360"/>
            <a:ext cx="7601040" cy="52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помогает восприятию математи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ясь музыкой, человек развивает и тренирует свои математические способности. Музыка математична. По результатам исследования 25000 американских школьников, учившиеся музыке, с большей вероятностью показывали в математических тестах высшие баллы чем дети, музыке не учившие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ющийся исследователь таланта и одаренности Стэнли Стейнберг опубликовал аналогичные результаты: ученики 8 класса, которые занимались игрой на музыкальных инструментах, показали себя гораздо лучшими математиками, чем остальные ученики. Особенно отличились пианисты,  которые выиграли по тестовым баллам конкурс по математике. Многие авторитетные фирмы и компании, среди которы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рупные западные банки, предпочитают сотрудников с музыкальным образованием. Они правы: музыка расширяет и усиливает все духовные и интеллектуальные возможности человека. Музыкант означает лучший: самый дисциплинированный, самый быстрый, самый четкий, самый мыслящи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477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ан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Провести опрос среди друзей и взросл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. Поиск информации о сравнении теории музыки и математ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Ознакомление с великими искусствоведами, имеющими заслуги в области математ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812000" cy="9144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ели и задач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ь, что Музыки больше в Математике, чем Математики в музык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анализировать литературу по теме исследова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делать срав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формулировать выво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28760" y="836640"/>
            <a:ext cx="7572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 и музыка - два школьных предмета, два полюса человеческой культуры. Я решил определить, чего же больше: Музыки в математике или Математики в му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ервую очередь я решил провести опрос среди учащихся 5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ссов и учителей школы. В него входил вопрос: Чего больше: Музыки в математике или Математики в му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0" y="189000"/>
            <a:ext cx="7596360" cy="5814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1000080" y="928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14200" y="500040"/>
          <a:ext cx="8786880" cy="4124520"/>
        </p:xfrm>
        <a:graphic>
          <a:graphicData uri="http://schemas.openxmlformats.org/drawingml/2006/table">
            <a:tbl>
              <a:tblPr/>
              <a:tblGrid>
                <a:gridCol w="928800"/>
                <a:gridCol w="1785960"/>
                <a:gridCol w="1679400"/>
                <a:gridCol w="1463760"/>
                <a:gridCol w="1465200"/>
                <a:gridCol w="14637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ичество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го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тематика в му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зыка в матема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785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ультаты опроса учителей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5840" y="1428840"/>
          <a:ext cx="8001000" cy="17906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  <a:gridCol w="1600200"/>
              </a:tblGrid>
              <a:tr h="444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го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тематика в му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зыка в матема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152280"/>
            <a:ext cx="7429680" cy="33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 результатам опроса учащихся и учителей я убедился, что музыки больше в математик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47840" y="34776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951087657"/>
          <p:cNvPicPr/>
          <p:nvPr/>
        </p:nvPicPr>
        <p:blipFill>
          <a:blip r:embed="rId1"/>
          <a:stretch/>
        </p:blipFill>
        <p:spPr>
          <a:xfrm>
            <a:off x="2050920" y="3860640"/>
            <a:ext cx="2190960" cy="2389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i25"/>
          <p:cNvPicPr/>
          <p:nvPr/>
        </p:nvPicPr>
        <p:blipFill>
          <a:blip r:embed="rId2"/>
          <a:stretch/>
        </p:blipFill>
        <p:spPr>
          <a:xfrm>
            <a:off x="5435640" y="3860640"/>
            <a:ext cx="1081080" cy="2494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45812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ие выдающиеся музыканты блистали математической одаренностью: Эрнест Ансерме-профессиональный математик и лучший исполнитель Стравинского, Леонид Сабанеев-выпускник математического факультета Московского университета, прекрасный пианист, композитор и друг Скрябина. Композитор Эдисон Денисов преподавал математику в Томском университет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Психологов возникло предположение о совпадении слуховых данных музыкантов и математиков: музыкальный слух в значительной степени аналитичен, и он мог быть одной из причин музыкальности математиков и математических способностей музыкан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20:27:15Z</dcterms:created>
  <dc:creator>User</dc:creator>
  <dc:description/>
  <dc:language>en-US</dc:language>
  <cp:lastModifiedBy>Admin</cp:lastModifiedBy>
  <dcterms:modified xsi:type="dcterms:W3CDTF">2013-02-14T06:39:52Z</dcterms:modified>
  <cp:revision>58</cp:revision>
  <dc:subject/>
  <dc:title>Слайд 1</dc:title>
</cp:coreProperties>
</file>