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8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3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130-B6EF-4B66-9C13-F0C4B9EA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EE0-DD29-4E8D-A058-D3A0F93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B17-E329-4713-BAF7-36739FD6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454-361F-4773-BBDD-344ECD3C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E54-9D34-4944-8B3B-48770084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D327-0470-4F4B-90B6-611567D9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F7B-FEDB-487C-A066-0752F13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19D1-BC6C-425E-BF55-6F4F389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89F-6167-4DF7-B56C-0E0EC19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0EC-76A5-477E-A02E-A3EFF021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12F-6A9C-4321-8340-B6EC84E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9F1-A89D-4139-9C83-D15F37B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C5C-83FD-4849-919F-6924266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9B5-F879-4E35-A9CB-2221F42E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A91-BC80-4619-8EB9-DE687669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A123-8780-4206-B9C8-CF586D0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A4C-8C24-4BA3-BFE9-B6165DE6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2C-92A2-4D7D-9B94-9798301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4E6-096D-4E7F-BC6C-75A568F8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E1B-EF41-48DE-A755-A384C834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AF2-F0DF-4CE9-91B6-A2D8575A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078-9FCF-4E15-AE80-F4348D2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DA5-F79C-48BE-BE7F-77B93D5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0FA-492D-462E-BC19-45AF6D31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2.wmf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2.wmf"/><Relationship Id="rId54" Type="http://schemas.openxmlformats.org/officeDocument/2006/relationships/image" Target="../media/image2.wmf"/><Relationship Id="rId55" Type="http://schemas.openxmlformats.org/officeDocument/2006/relationships/image" Target="../media/image2.wmf"/><Relationship Id="rId56" Type="http://schemas.openxmlformats.org/officeDocument/2006/relationships/image" Target="../media/image2.wmf"/><Relationship Id="rId57" Type="http://schemas.openxmlformats.org/officeDocument/2006/relationships/image" Target="../media/image2.wmf"/><Relationship Id="rId58" Type="http://schemas.openxmlformats.org/officeDocument/2006/relationships/image" Target="../media/image2.wmf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image" Target="../media/image6.png"/><Relationship Id="rId64" Type="http://schemas.openxmlformats.org/officeDocument/2006/relationships/slideLayout" Target="../slideLayouts/slideLayout13.xml"/><Relationship Id="rId65" Type="http://schemas.openxmlformats.org/officeDocument/2006/relationships/slideLayout" Target="../slideLayouts/slideLayout14.xml"/><Relationship Id="rId66" Type="http://schemas.openxmlformats.org/officeDocument/2006/relationships/slideLayout" Target="../slideLayouts/slideLayout15.xml"/><Relationship Id="rId67" Type="http://schemas.openxmlformats.org/officeDocument/2006/relationships/slideLayout" Target="../slideLayouts/slideLayout16.xml"/><Relationship Id="rId68" Type="http://schemas.openxmlformats.org/officeDocument/2006/relationships/slideLayout" Target="../slideLayouts/slideLayout17.xml"/><Relationship Id="rId69" Type="http://schemas.openxmlformats.org/officeDocument/2006/relationships/slideLayout" Target="../slideLayouts/slideLayout18.xml"/><Relationship Id="rId70" Type="http://schemas.openxmlformats.org/officeDocument/2006/relationships/slideLayout" Target="../slideLayouts/slideLayout19.xml"/><Relationship Id="rId71" Type="http://schemas.openxmlformats.org/officeDocument/2006/relationships/slideLayout" Target="../slideLayouts/slideLayout20.xml"/><Relationship Id="rId72" Type="http://schemas.openxmlformats.org/officeDocument/2006/relationships/slideLayout" Target="../slideLayouts/slideLayout21.xml"/><Relationship Id="rId73" Type="http://schemas.openxmlformats.org/officeDocument/2006/relationships/slideLayout" Target="../slideLayouts/slideLayout22.xml"/><Relationship Id="rId74" Type="http://schemas.openxmlformats.org/officeDocument/2006/relationships/slideLayout" Target="../slideLayouts/slideLayout23.xml"/><Relationship Id="rId7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42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29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79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5DC3-33C9-4766-84E6-8F097A8E71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42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29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79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152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0"/>
                <a:ext cx="762120" cy="2282760"/>
                <a:chOff x="8381880" y="0"/>
                <a:chExt cx="762120" cy="22827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23160" y="0"/>
                  <a:ext cx="279720" cy="275040"/>
                  <a:chOff x="8723160" y="0"/>
                  <a:chExt cx="279720" cy="27504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23160" y="0"/>
                    <a:ext cx="279720" cy="275040"/>
                    <a:chOff x="8723160" y="0"/>
                    <a:chExt cx="279720" cy="27504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62400" y="-39240"/>
                      <a:ext cx="200880" cy="279720"/>
                    </a:xfrm>
                    <a:custGeom>
                      <a:avLst/>
                      <a:gdLst>
                        <a:gd name="textAreaLeft" fmla="*/ 0 w 200880"/>
                        <a:gd name="textAreaRight" fmla="*/ 201240 w 20088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76440" y="572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48080" y="446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917200" y="94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320B-23A7-4EC5-8C34-D68CCEA5A6C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4"/>
    <p:sldLayoutId id="2147483663" r:id="rId65"/>
    <p:sldLayoutId id="2147483664" r:id="rId66"/>
    <p:sldLayoutId id="2147483665" r:id="rId67"/>
    <p:sldLayoutId id="2147483666" r:id="rId68"/>
    <p:sldLayoutId id="2147483667" r:id="rId69"/>
    <p:sldLayoutId id="2147483668" r:id="rId70"/>
    <p:sldLayoutId id="2147483669" r:id="rId71"/>
    <p:sldLayoutId id="2147483670" r:id="rId72"/>
    <p:sldLayoutId id="2147483671" r:id="rId73"/>
    <p:sldLayoutId id="2147483672" r:id="rId74"/>
    <p:sldLayoutId id="2147483673" r:id="rId7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819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нтегрированный элективный курс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Словом, цветом, звуком…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50920" y="3885840"/>
            <a:ext cx="38894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Элективный курс построен на основе анализа романа А.С.Пушкина «Евгений Онегин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6" descr="1670ai"/>
          <p:cNvPicPr/>
          <p:nvPr/>
        </p:nvPicPr>
        <p:blipFill>
          <a:blip r:embed="rId1"/>
          <a:stretch/>
        </p:blipFill>
        <p:spPr>
          <a:xfrm>
            <a:off x="4427640" y="2565360"/>
            <a:ext cx="2665440" cy="2143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99"/>
          <p:cNvPicPr/>
          <p:nvPr/>
        </p:nvPicPr>
        <p:blipFill>
          <a:blip r:embed="rId2"/>
          <a:stretch/>
        </p:blipFill>
        <p:spPr>
          <a:xfrm>
            <a:off x="1476360" y="2637000"/>
            <a:ext cx="1511280" cy="1172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3995640" y="5157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резова И.И.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русского язы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 литературы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БОУ СОШ № 36 г. Томс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Рисунок 1" descr="Логотип школы (зеленый)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остби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904000" cy="50515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395280" y="5950080"/>
            <a:ext cx="6985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юдо английское.  Жареная говядина разной степени прожарки, в данном случае  - «с кровью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трасбургский  пиро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6" name="Picture 2" descr="C:\Documents and Settings\Admin\Рабочий стол\кулинария\страсбургский пирог.jpg"/>
          <p:cNvPicPr/>
          <p:nvPr/>
        </p:nvPicPr>
        <p:blipFill>
          <a:blip r:embed="rId1"/>
          <a:stretch/>
        </p:blipFill>
        <p:spPr>
          <a:xfrm>
            <a:off x="324000" y="1268280"/>
            <a:ext cx="7118280" cy="53467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611280" y="1484280"/>
            <a:ext cx="6265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Страсбургский пирог «нетленный» -гусиный паштет с грибами, рябчиками и свиным фарше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В Петербург его привозили прямо из Франци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«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Рецепт  пиро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9" name="Picture 2" descr="C:\Documents and Settings\Admin\Рабочий стол\кулинария\рецепт пирога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имбургский  сы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1" name="Picture 2" descr="C:\Documents and Settings\Admin\Рабочий стол\кулинария\лимбургский сыр.jpg"/>
          <p:cNvPicPr/>
          <p:nvPr/>
        </p:nvPicPr>
        <p:blipFill>
          <a:blip r:embed="rId1"/>
          <a:stretch/>
        </p:blipFill>
        <p:spPr>
          <a:xfrm>
            <a:off x="250920" y="981000"/>
            <a:ext cx="5089320" cy="381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ALEX\Desktop\картинки с призентации\480752_3.jpg"/>
          <p:cNvPicPr/>
          <p:nvPr/>
        </p:nvPicPr>
        <p:blipFill>
          <a:blip r:embed="rId2"/>
          <a:stretch/>
        </p:blipFill>
        <p:spPr>
          <a:xfrm>
            <a:off x="4356000" y="2781360"/>
            <a:ext cx="3240360" cy="3843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179280" y="4941720"/>
            <a:ext cx="4176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-82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Этот мягкий острый сыр с пикантным вкусом  из коровьего молока поставлялся из Бельгии, из городка Лимбурга.  «Живым» сыр казался из-за своей желеобразной консистенци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рюф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5" name="Picture 2" descr="C:\Documents and Settings\Admin\Рабочий стол\кулинария\трюфли1.jpg"/>
          <p:cNvPicPr/>
          <p:nvPr/>
        </p:nvPicPr>
        <p:blipFill>
          <a:blip r:embed="rId1"/>
          <a:stretch/>
        </p:blipFill>
        <p:spPr>
          <a:xfrm>
            <a:off x="468360" y="1406520"/>
            <a:ext cx="6840360" cy="51372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3"/>
          <p:cNvSpPr/>
          <p:nvPr/>
        </p:nvSpPr>
        <p:spPr>
          <a:xfrm>
            <a:off x="684360" y="1557360"/>
            <a:ext cx="520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Трюфель (от 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нем.</a:t>
            </a: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 Trüffel; 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лат.</a:t>
            </a: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 Tube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Это земляные гриб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рюф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Picture 2" descr="C:\Documents and Settings\Admin\Рабочий стол\кулинария\трюфли.jpg"/>
          <p:cNvPicPr/>
          <p:nvPr/>
        </p:nvPicPr>
        <p:blipFill>
          <a:blip r:embed="rId1"/>
          <a:stretch/>
        </p:blipFill>
        <p:spPr>
          <a:xfrm>
            <a:off x="468360" y="1341360"/>
            <a:ext cx="6699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тлеты на косточ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Picture 2" descr="C:\Documents and Settings\Admin\Рабочий стол\кулинария\котлеты на косточке.jpg"/>
          <p:cNvPicPr/>
          <p:nvPr/>
        </p:nvPicPr>
        <p:blipFill>
          <a:blip r:embed="rId1"/>
          <a:stretch/>
        </p:blipFill>
        <p:spPr>
          <a:xfrm>
            <a:off x="971640" y="981000"/>
            <a:ext cx="5789520" cy="50292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250920" y="6021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ета – слово французское.cotlett – в переводе «ребрышко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ифштек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3" name="Picture 2" descr="C:\Documents and Settings\Admin\Рабочий стол\кулинария\бифштекс.jpg"/>
          <p:cNvPicPr/>
          <p:nvPr/>
        </p:nvPicPr>
        <p:blipFill>
          <a:blip r:embed="rId1"/>
          <a:stretch/>
        </p:blipFill>
        <p:spPr>
          <a:xfrm>
            <a:off x="395280" y="1413000"/>
            <a:ext cx="6697800" cy="524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1692360" y="5013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f6e5"/>
                </a:solidFill>
                <a:latin typeface="Arial"/>
              </a:rPr>
              <a:t>Бифштекс (от англ. beef (говядина) + steaks (куски) — «куски говядины»)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Анана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6" name="Picture 5" descr="C:\Users\ALEX\Desktop\рi.jpg"/>
          <p:cNvPicPr/>
          <p:nvPr/>
        </p:nvPicPr>
        <p:blipFill>
          <a:blip r:embed="rId1"/>
          <a:stretch/>
        </p:blipFill>
        <p:spPr>
          <a:xfrm>
            <a:off x="684360" y="1341360"/>
            <a:ext cx="4321080" cy="5023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5076720" y="2349360"/>
            <a:ext cx="251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веке ананас считался символом роскошной жиз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то время ананасы подавали в ресторанах, так как они дорого стоил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Шампанское «Вино комет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2" descr="C:\Documents and Settings\Admin\Рабочий стол\кулинария\шампанское.jpg"/>
          <p:cNvPicPr/>
          <p:nvPr/>
        </p:nvPicPr>
        <p:blipFill>
          <a:blip r:embed="rId1"/>
          <a:stretch/>
        </p:blipFill>
        <p:spPr>
          <a:xfrm>
            <a:off x="468360" y="1557360"/>
            <a:ext cx="2265480" cy="466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ALEX\Desktop\картинки с призентации\planeta_cometa.jpg"/>
          <p:cNvPicPr/>
          <p:nvPr/>
        </p:nvPicPr>
        <p:blipFill>
          <a:blip r:embed="rId2"/>
          <a:stretch/>
        </p:blipFill>
        <p:spPr>
          <a:xfrm>
            <a:off x="5219640" y="1268280"/>
            <a:ext cx="1944720" cy="51850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2700360" y="1125360"/>
            <a:ext cx="295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о кометы (франц. vin de la comete)-название редких ви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1 год был замечателен появлением кометы исключительной яркости, и в том же году во Франции и в Испании был собран урожай винограда особенного вкуса и аромат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27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Обед довольно прихотливый…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488680" y="2060640"/>
            <a:ext cx="61470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 довольно прихотливы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тылка светлого ви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единенье, тиши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жизнь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99"/>
          <p:cNvPicPr/>
          <p:nvPr/>
        </p:nvPicPr>
        <p:blipFill>
          <a:blip r:embed="rId1"/>
          <a:stretch/>
        </p:blipFill>
        <p:spPr>
          <a:xfrm>
            <a:off x="3059280" y="4292640"/>
            <a:ext cx="2835000" cy="1882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g01205i"/>
          <p:cNvPicPr/>
          <p:nvPr/>
        </p:nvPicPr>
        <p:blipFill>
          <a:blip r:embed="rId2"/>
          <a:stretch/>
        </p:blipFill>
        <p:spPr>
          <a:xfrm>
            <a:off x="371520" y="2133720"/>
            <a:ext cx="1940040" cy="21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g01205i"/>
          <p:cNvPicPr/>
          <p:nvPr/>
        </p:nvPicPr>
        <p:blipFill>
          <a:blip r:embed="rId3"/>
          <a:stretch/>
        </p:blipFill>
        <p:spPr>
          <a:xfrm>
            <a:off x="395280" y="2133720"/>
            <a:ext cx="19400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абл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63520" y="1598760"/>
          <a:ext cx="7386480" cy="23922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торан «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O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ны Татьян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нетленный страсбургский пирог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жирный пересолённый пирог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окровавленный ростбиф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жарко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золотой ананас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бланманж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шампанское «Вино кометы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нское шипучее вино «Цимлянско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  <p:pic>
        <p:nvPicPr>
          <p:cNvPr id="314" name="Рисунок 4" descr="C:\Documents and Settings\Admin\Рабочий стол\0375415208.jpg"/>
          <p:cNvPicPr/>
          <p:nvPr/>
        </p:nvPicPr>
        <p:blipFill>
          <a:blip r:embed="rId1"/>
          <a:srcRect l="0" t="8133" r="0" b="5961"/>
          <a:stretch/>
        </p:blipFill>
        <p:spPr>
          <a:xfrm>
            <a:off x="2627280" y="4221000"/>
            <a:ext cx="2830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ланманж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2" descr="C:\Documents and Settings\Admin\Рабочий стол\кулинария\бланманже.jpg"/>
          <p:cNvPicPr/>
          <p:nvPr/>
        </p:nvPicPr>
        <p:blipFill>
          <a:blip r:embed="rId1"/>
          <a:stretch/>
        </p:blipFill>
        <p:spPr>
          <a:xfrm>
            <a:off x="250920" y="1268280"/>
            <a:ext cx="3902040" cy="396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Documents and Settings\Admin\Рабочий стол\кулинария\бланманже2.jpg"/>
          <p:cNvPicPr/>
          <p:nvPr/>
        </p:nvPicPr>
        <p:blipFill>
          <a:blip r:embed="rId2"/>
          <a:stretch/>
        </p:blipFill>
        <p:spPr>
          <a:xfrm>
            <a:off x="4284720" y="1484280"/>
            <a:ext cx="4286160" cy="3384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250920" y="53737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ланманже – старинное французское сладкое блюдо. В России появилось в первой половине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века. Это нежный сливочный крем, в который добавляли миндальное молок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Жарко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0" name="Picture 2" descr="C:\Documents and Settings\Admin\Рабочий стол\кулинария\жаркое.jpg"/>
          <p:cNvPicPr/>
          <p:nvPr/>
        </p:nvPicPr>
        <p:blipFill>
          <a:blip r:embed="rId1"/>
          <a:stretch/>
        </p:blipFill>
        <p:spPr>
          <a:xfrm>
            <a:off x="0" y="1197000"/>
            <a:ext cx="7472520" cy="3960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179280" y="53006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обеде из двух кушаний обыкновенно первым подают суп, а вторым жаркое, если же обед состоит из многих кушаний, то жарким называют последнее подаваемое жареное блюд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Домашний пиро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Picture 2" descr="C:\Documents and Settings\Admin\Рабочий стол\кулинария\домашний пирог.jpg"/>
          <p:cNvPicPr/>
          <p:nvPr/>
        </p:nvPicPr>
        <p:blipFill>
          <a:blip r:embed="rId1"/>
          <a:stretch/>
        </p:blipFill>
        <p:spPr>
          <a:xfrm>
            <a:off x="0" y="1197000"/>
            <a:ext cx="7805880" cy="4176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250920" y="5661000"/>
            <a:ext cx="735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этого кулинарного изделия происходит от слова «пир». Праздничное застолье на Руси не обходилось без пирог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Вино «Цимлянское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Picture 7" descr="C:\Users\ALEX\Desktop\ciml_igrkrasn_big.jpg"/>
          <p:cNvPicPr/>
          <p:nvPr/>
        </p:nvPicPr>
        <p:blipFill>
          <a:blip r:embed="rId1"/>
          <a:stretch/>
        </p:blipFill>
        <p:spPr>
          <a:xfrm>
            <a:off x="1476360" y="1557360"/>
            <a:ext cx="1584360" cy="4922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3059280" y="227664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млянское игристое - самое знаменитое русское красное вино в мире. Вино отличается тёмно-красным цветом с рубиновым оттенком и отличными пенистыми свойств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русничная во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9" name="Picture 2" descr="C:\Documents and Settings\Admin\Рабочий стол\кулинария\брусничная вода.jpg"/>
          <p:cNvPicPr/>
          <p:nvPr/>
        </p:nvPicPr>
        <p:blipFill>
          <a:blip r:embed="rId1"/>
          <a:stretch/>
        </p:blipFill>
        <p:spPr>
          <a:xfrm>
            <a:off x="185760" y="1773360"/>
            <a:ext cx="7110360" cy="4751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" descr="Логотип школы (зеленый)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ли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2" name="Picture 2" descr="C:\Documents and Settings\Admin\Рабочий стол\кулинария\блины.jpeg"/>
          <p:cNvPicPr/>
          <p:nvPr/>
        </p:nvPicPr>
        <p:blipFill>
          <a:blip r:embed="rId1"/>
          <a:stretch/>
        </p:blipFill>
        <p:spPr>
          <a:xfrm>
            <a:off x="324000" y="141300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539640" y="162864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Блины – это национальное русское блюдо. Круглый блин – символ яркого солнца. Дрожжевой блин появился на рубеже  1005-1006 год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5" name="Picture 2" descr="C:\Documents and Settings\Admin\Рабочий стол\чаепитие.jpg"/>
          <p:cNvPicPr/>
          <p:nvPr/>
        </p:nvPicPr>
        <p:blipFill>
          <a:blip r:embed="rId1"/>
          <a:stretch/>
        </p:blipFill>
        <p:spPr>
          <a:xfrm>
            <a:off x="0" y="692280"/>
            <a:ext cx="76676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сторан «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alon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2" descr="C:\Documents and Settings\Admin\Рабочий стол\кулинария\талон.jpg"/>
          <p:cNvPicPr/>
          <p:nvPr/>
        </p:nvPicPr>
        <p:blipFill>
          <a:blip r:embed="rId1"/>
          <a:stretch/>
        </p:blipFill>
        <p:spPr>
          <a:xfrm>
            <a:off x="179280" y="1557360"/>
            <a:ext cx="7247160" cy="49021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3635280" y="1557360"/>
            <a:ext cx="3745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 Talon помчался: он уверен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Что там уж ждет его Кавери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Вошел: и пробка в потолок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Вина кометы брызнул ток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4149360"/>
            <a:ext cx="76676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Ресторан «Талон» открыт в сер. 1810-х гг. выходцем из Франции П. Талоном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Ресторан существовал до весны 1825 года. Находился он на Невском проспекте (ныне Невский, 15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 описываемый период времени этот ресторан был одним из самых модных и дорогих в Петербурге, потому что посетители могли чувствовать себя словно в  ресторанах Лондона и Парижа. Часто в нём бывал и Пушкин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2" descr="C:\Documents and Settings\Admin\Рабочий стол\урок на конкурс\онегин\app1.jpg"/>
          <p:cNvPicPr/>
          <p:nvPr/>
        </p:nvPicPr>
        <p:blipFill>
          <a:blip r:embed="rId1"/>
          <a:stretch/>
        </p:blipFill>
        <p:spPr>
          <a:xfrm>
            <a:off x="250920" y="260280"/>
            <a:ext cx="3097080" cy="3468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ALEX\Desktop\картинки с призентации\Евгений Онегин. Из спектакля a258807_mainpic.jpg"/>
          <p:cNvPicPr/>
          <p:nvPr/>
        </p:nvPicPr>
        <p:blipFill>
          <a:blip r:embed="rId2"/>
          <a:stretch/>
        </p:blipFill>
        <p:spPr>
          <a:xfrm>
            <a:off x="4572000" y="260280"/>
            <a:ext cx="2090880" cy="30243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"/>
          <p:cNvSpPr/>
          <p:nvPr/>
        </p:nvSpPr>
        <p:spPr>
          <a:xfrm>
            <a:off x="4500720" y="34290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. Кавер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8670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ие блюда входили в состав меню знаменитого петербургского ресторана «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alon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»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мпанское «Вино кометы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пучее вино «Цимлянское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юф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рко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нманж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фштек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тбиф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мбургский сы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на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усничная во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леты на косточк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й с ром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4" descr="Gribi_zapechennie"/>
          <p:cNvPicPr/>
          <p:nvPr/>
        </p:nvPicPr>
        <p:blipFill>
          <a:blip r:embed="rId1"/>
          <a:stretch/>
        </p:blipFill>
        <p:spPr>
          <a:xfrm>
            <a:off x="4410000" y="2281320"/>
            <a:ext cx="30546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бка в потол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на коме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ызнул т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 н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ast-be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кровавленны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юф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оскошь юных лет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узской кухни лучший цвет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трасбурга пирог нетлен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ом лимбург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ивы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на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лоты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3" name="Picture 4" descr="GUEST"/>
          <p:cNvPicPr/>
          <p:nvPr/>
        </p:nvPicPr>
        <p:blipFill>
          <a:blip r:embed="rId1"/>
          <a:stretch/>
        </p:blipFill>
        <p:spPr>
          <a:xfrm>
            <a:off x="5508720" y="692280"/>
            <a:ext cx="241920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t_056i"/>
          <p:cNvPicPr/>
          <p:nvPr/>
        </p:nvPicPr>
        <p:blipFill>
          <a:blip r:embed="rId2"/>
          <a:stretch/>
        </p:blipFill>
        <p:spPr>
          <a:xfrm>
            <a:off x="5378400" y="3371760"/>
            <a:ext cx="1452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бокалов жажда проси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лить горячий жи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же мог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f-stea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мпан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ивать бутылкой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м за трубкой раскалённ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усульман в своём раю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сточной гущ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ф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ь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7" name="Picture 4" descr="GUEST"/>
          <p:cNvPicPr/>
          <p:nvPr/>
        </p:nvPicPr>
        <p:blipFill>
          <a:blip r:embed="rId1"/>
          <a:stretch/>
        </p:blipFill>
        <p:spPr>
          <a:xfrm>
            <a:off x="5580000" y="692280"/>
            <a:ext cx="2417760" cy="1079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s_529i"/>
          <p:cNvPicPr/>
          <p:nvPr/>
        </p:nvPicPr>
        <p:blipFill>
          <a:blip r:embed="rId2"/>
          <a:stretch/>
        </p:blipFill>
        <p:spPr>
          <a:xfrm>
            <a:off x="4667400" y="2790720"/>
            <a:ext cx="23907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еню ресторана «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Talon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Холодные блю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бургский сы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биф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Горячие блю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юф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ле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фштек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Десе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на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пи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мпанское «Вино кометы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9:47:02Z</dcterms:created>
  <dc:creator>User_IDO_TSU</dc:creator>
  <dc:description/>
  <dc:language>en-US</dc:language>
  <cp:lastModifiedBy>Admin</cp:lastModifiedBy>
  <dcterms:modified xsi:type="dcterms:W3CDTF">2013-02-14T04:04:07Z</dcterms:modified>
  <cp:revision>134</cp:revision>
  <dc:subject/>
  <dc:title>Интегрированный элективный курс  «Словом, цветом, звуком…»</dc:title>
</cp:coreProperties>
</file>