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8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3.jpeg" ContentType="image/jpeg"/>
  <Override PartName="/ppt/media/image39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81E-896A-4D82-A228-4A17F674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FCB-96A2-4C5D-A285-EB0FF6A8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705-D400-4883-BAA3-08A53D65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224-EA7A-4A25-836B-2192B62E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BAE3-540A-4A86-98FE-570DBF8D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023A-0173-4573-B96B-70EFC5F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57D2-C4CE-4CCB-8865-4C473C3B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2102-045A-48EF-910C-2BBE9949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8F98-BCDD-4E6E-8DFC-5A1C2E95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F6A0-3DE7-42E4-98AD-741FF36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ABE-F421-48A2-AE10-5174B85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9A33-3BCD-4754-8A2B-146B37C6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4BC3-6DE2-436E-BCC1-36A8C95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69CE-5B7E-4B24-88EB-351BCED5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A766-D658-4DD5-ACD7-8CEF09FB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8EEC-8F20-473A-806C-C47DABCB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21A9-C47B-4ECD-AD8B-3CB77405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983-C43E-4C48-BAFB-FF2EB489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A93-97C3-4437-9AC7-3315FFF7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171-F6BB-4743-914F-4A398627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BEE-81D5-43B9-BDD3-4043A1E5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057-3641-46D6-92D6-F5D7584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A43-3623-4891-AD5C-AE4AAF28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509-C24F-4847-B7EF-24FBD26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2.wmf"/><Relationship Id="rId35" Type="http://schemas.openxmlformats.org/officeDocument/2006/relationships/image" Target="../media/image2.wmf"/><Relationship Id="rId36" Type="http://schemas.openxmlformats.org/officeDocument/2006/relationships/image" Target="../media/image2.wmf"/><Relationship Id="rId37" Type="http://schemas.openxmlformats.org/officeDocument/2006/relationships/image" Target="../media/image2.wmf"/><Relationship Id="rId38" Type="http://schemas.openxmlformats.org/officeDocument/2006/relationships/image" Target="../media/image2.wmf"/><Relationship Id="rId39" Type="http://schemas.openxmlformats.org/officeDocument/2006/relationships/image" Target="../media/image2.wmf"/><Relationship Id="rId40" Type="http://schemas.openxmlformats.org/officeDocument/2006/relationships/image" Target="../media/image2.wmf"/><Relationship Id="rId41" Type="http://schemas.openxmlformats.org/officeDocument/2006/relationships/image" Target="../media/image2.wmf"/><Relationship Id="rId42" Type="http://schemas.openxmlformats.org/officeDocument/2006/relationships/image" Target="../media/image2.wmf"/><Relationship Id="rId43" Type="http://schemas.openxmlformats.org/officeDocument/2006/relationships/image" Target="../media/image2.wmf"/><Relationship Id="rId44" Type="http://schemas.openxmlformats.org/officeDocument/2006/relationships/image" Target="../media/image2.wmf"/><Relationship Id="rId45" Type="http://schemas.openxmlformats.org/officeDocument/2006/relationships/image" Target="../media/image2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2.wmf"/><Relationship Id="rId50" Type="http://schemas.openxmlformats.org/officeDocument/2006/relationships/image" Target="../media/image2.wmf"/><Relationship Id="rId51" Type="http://schemas.openxmlformats.org/officeDocument/2006/relationships/image" Target="../media/image2.wmf"/><Relationship Id="rId52" Type="http://schemas.openxmlformats.org/officeDocument/2006/relationships/image" Target="../media/image2.wmf"/><Relationship Id="rId53" Type="http://schemas.openxmlformats.org/officeDocument/2006/relationships/image" Target="../media/image2.wmf"/><Relationship Id="rId54" Type="http://schemas.openxmlformats.org/officeDocument/2006/relationships/image" Target="../media/image2.wmf"/><Relationship Id="rId55" Type="http://schemas.openxmlformats.org/officeDocument/2006/relationships/image" Target="../media/image2.wmf"/><Relationship Id="rId56" Type="http://schemas.openxmlformats.org/officeDocument/2006/relationships/image" Target="../media/image2.wmf"/><Relationship Id="rId57" Type="http://schemas.openxmlformats.org/officeDocument/2006/relationships/image" Target="../media/image2.wmf"/><Relationship Id="rId58" Type="http://schemas.openxmlformats.org/officeDocument/2006/relationships/image" Target="../media/image2.wmf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image" Target="../media/image6.png"/><Relationship Id="rId64" Type="http://schemas.openxmlformats.org/officeDocument/2006/relationships/slideLayout" Target="../slideLayouts/slideLayout13.xml"/><Relationship Id="rId65" Type="http://schemas.openxmlformats.org/officeDocument/2006/relationships/slideLayout" Target="../slideLayouts/slideLayout14.xml"/><Relationship Id="rId66" Type="http://schemas.openxmlformats.org/officeDocument/2006/relationships/slideLayout" Target="../slideLayouts/slideLayout15.xml"/><Relationship Id="rId67" Type="http://schemas.openxmlformats.org/officeDocument/2006/relationships/slideLayout" Target="../slideLayouts/slideLayout16.xml"/><Relationship Id="rId68" Type="http://schemas.openxmlformats.org/officeDocument/2006/relationships/slideLayout" Target="../slideLayouts/slideLayout17.xml"/><Relationship Id="rId69" Type="http://schemas.openxmlformats.org/officeDocument/2006/relationships/slideLayout" Target="../slideLayouts/slideLayout18.xml"/><Relationship Id="rId70" Type="http://schemas.openxmlformats.org/officeDocument/2006/relationships/slideLayout" Target="../slideLayouts/slideLayout19.xml"/><Relationship Id="rId71" Type="http://schemas.openxmlformats.org/officeDocument/2006/relationships/slideLayout" Target="../slideLayouts/slideLayout20.xml"/><Relationship Id="rId72" Type="http://schemas.openxmlformats.org/officeDocument/2006/relationships/slideLayout" Target="../slideLayouts/slideLayout21.xml"/><Relationship Id="rId73" Type="http://schemas.openxmlformats.org/officeDocument/2006/relationships/slideLayout" Target="../slideLayouts/slideLayout22.xml"/><Relationship Id="rId74" Type="http://schemas.openxmlformats.org/officeDocument/2006/relationships/slideLayout" Target="../slideLayouts/slideLayout23.xml"/><Relationship Id="rId7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42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29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79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C428-277D-47C1-95F1-B2DE15CCE4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421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295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795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0"/>
            <a:ext cx="9159840" cy="6870240"/>
            <a:chOff x="0" y="0"/>
            <a:chExt cx="9159840" cy="6870240"/>
          </a:xfrm>
        </p:grpSpPr>
        <p:sp>
          <p:nvSpPr>
            <p:cNvPr id="152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0"/>
              <a:ext cx="1295280" cy="6310800"/>
              <a:chOff x="7848720" y="0"/>
              <a:chExt cx="1295280" cy="63108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0"/>
                <a:ext cx="762120" cy="2282760"/>
                <a:chOff x="8381880" y="0"/>
                <a:chExt cx="762120" cy="228276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23160" y="0"/>
                  <a:ext cx="279720" cy="275040"/>
                  <a:chOff x="8723160" y="0"/>
                  <a:chExt cx="279720" cy="27504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23160" y="0"/>
                    <a:ext cx="279720" cy="275040"/>
                    <a:chOff x="8723160" y="0"/>
                    <a:chExt cx="279720" cy="27504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62400" y="-39240"/>
                      <a:ext cx="200880" cy="279720"/>
                    </a:xfrm>
                    <a:custGeom>
                      <a:avLst/>
                      <a:gdLst>
                        <a:gd name="textAreaLeft" fmla="*/ 0 w 200880"/>
                        <a:gd name="textAreaRight" fmla="*/ 201240 w 200880"/>
                        <a:gd name="textAreaTop" fmla="*/ 0 h 279720"/>
                        <a:gd name="textAreaBottom" fmla="*/ 280080 h 2797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71760" y="91800"/>
                      <a:ext cx="140760" cy="225720"/>
                    </a:xfrm>
                    <a:custGeom>
                      <a:avLst/>
                      <a:gdLst>
                        <a:gd name="textAreaLeft" fmla="*/ 0 w 140760"/>
                        <a:gd name="textAreaRight" fmla="*/ 141120 w 140760"/>
                        <a:gd name="textAreaTop" fmla="*/ 0 h 225720"/>
                        <a:gd name="textAreaBottom" fmla="*/ 226080 h 2257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3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43040" y="144360"/>
                    <a:ext cx="28440" cy="2700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76440" y="57240"/>
                    <a:ext cx="42480" cy="57240"/>
                  </a:xfrm>
                  <a:custGeom>
                    <a:avLst/>
                    <a:gdLst>
                      <a:gd name="textAreaLeft" fmla="*/ 0 w 42480"/>
                      <a:gd name="textAreaRight" fmla="*/ 42840 w 424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48080" y="44640"/>
                    <a:ext cx="64800" cy="3816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280" bIns="-82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917200" y="946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43040" y="205920"/>
                    <a:ext cx="63360" cy="2700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91200" y="18180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endParaRPr b="0" lang="en-US" sz="36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994760"/>
                <a:gd name="textAreaBottom" fmla="*/ 1995120 h 19947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26600"/>
                <a:gd name="textAreaBottom" fmla="*/ 4026960 h 40266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78720"/>
                <a:gd name="textAreaBottom" fmla="*/ 2179080 h 217872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35320"/>
                <a:gd name="textAreaBottom" fmla="*/ 5035320 h 503532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63600"/>
                <a:gd name="textAreaBottom" fmla="*/ 3063960 h 306360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44040"/>
                <a:gd name="textAreaBottom" fmla="*/ 3344400 h 3344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44400"/>
                <a:gd name="textAreaBottom" fmla="*/ 3344760 h 33444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36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9F7B-5C5B-47C9-A858-B1E27D75655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4"/>
    <p:sldLayoutId id="2147483663" r:id="rId65"/>
    <p:sldLayoutId id="2147483664" r:id="rId66"/>
    <p:sldLayoutId id="2147483665" r:id="rId67"/>
    <p:sldLayoutId id="2147483666" r:id="rId68"/>
    <p:sldLayoutId id="2147483667" r:id="rId69"/>
    <p:sldLayoutId id="2147483668" r:id="rId70"/>
    <p:sldLayoutId id="2147483669" r:id="rId71"/>
    <p:sldLayoutId id="2147483670" r:id="rId72"/>
    <p:sldLayoutId id="2147483671" r:id="rId73"/>
    <p:sldLayoutId id="2147483672" r:id="rId74"/>
    <p:sldLayoutId id="2147483673" r:id="rId7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819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нтегрированный элективный курс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«Словом, цветом, звуком…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50920" y="3885840"/>
            <a:ext cx="388944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Элективный курс построен на основе анализа романа А.С.Пушкина «Евгений Онегин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Picture 6" descr="1670ai"/>
          <p:cNvPicPr/>
          <p:nvPr/>
        </p:nvPicPr>
        <p:blipFill>
          <a:blip r:embed="rId1"/>
          <a:stretch/>
        </p:blipFill>
        <p:spPr>
          <a:xfrm>
            <a:off x="4427640" y="2565360"/>
            <a:ext cx="2665440" cy="2143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99"/>
          <p:cNvPicPr/>
          <p:nvPr/>
        </p:nvPicPr>
        <p:blipFill>
          <a:blip r:embed="rId2"/>
          <a:stretch/>
        </p:blipFill>
        <p:spPr>
          <a:xfrm>
            <a:off x="1476360" y="2637000"/>
            <a:ext cx="1511280" cy="1172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3995640" y="515772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дрезова И.И.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читель русского язы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 литературы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БОУ СОШ № 36 г. Томс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Рисунок 1" descr="Логотип школы (зеленый)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остбиф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5904000" cy="50515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>
            <a:off x="395280" y="5950080"/>
            <a:ext cx="6985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юдо английское.  Жареная говядина разной степени прожарки, в данном случае  - «с кровью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трасбургский  пиро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6" name="Picture 2" descr="C:\Documents and Settings\Admin\Рабочий стол\кулинария\страсбургский пирог.jpg"/>
          <p:cNvPicPr/>
          <p:nvPr/>
        </p:nvPicPr>
        <p:blipFill>
          <a:blip r:embed="rId1"/>
          <a:stretch/>
        </p:blipFill>
        <p:spPr>
          <a:xfrm>
            <a:off x="324000" y="1268280"/>
            <a:ext cx="7118280" cy="53467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611280" y="1484280"/>
            <a:ext cx="62658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6e5"/>
                </a:solidFill>
                <a:latin typeface="Arial"/>
              </a:rPr>
              <a:t>Страсбургский пирог «нетленный» -гусиный паштет с грибами, рябчиками и свиным фарше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6e5"/>
                </a:solidFill>
                <a:latin typeface="Arial"/>
              </a:rPr>
              <a:t>В Петербург его привозили прямо из Франци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«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Рецепт  пирог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89" name="Picture 2" descr="C:\Documents and Settings\Admin\Рабочий стол\кулинария\рецепт пирога.jp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Лимбургский  сыр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1" name="Picture 2" descr="C:\Documents and Settings\Admin\Рабочий стол\кулинария\лимбургский сыр.jpg"/>
          <p:cNvPicPr/>
          <p:nvPr/>
        </p:nvPicPr>
        <p:blipFill>
          <a:blip r:embed="rId1"/>
          <a:stretch/>
        </p:blipFill>
        <p:spPr>
          <a:xfrm>
            <a:off x="250920" y="981000"/>
            <a:ext cx="5089320" cy="381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C:\Users\ALEX\Desktop\картинки с призентации\480752_3.jpg"/>
          <p:cNvPicPr/>
          <p:nvPr/>
        </p:nvPicPr>
        <p:blipFill>
          <a:blip r:embed="rId2"/>
          <a:stretch/>
        </p:blipFill>
        <p:spPr>
          <a:xfrm>
            <a:off x="4356000" y="2781360"/>
            <a:ext cx="3240360" cy="3843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179280" y="4941720"/>
            <a:ext cx="41767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indent="-82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Этот мягкий острый сыр с пикантным вкусом  из коровьего молока поставлялся из Бельгии, из городка Лимбурга.  «Живым» сыр казался из-за своей желеобразной консистенции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рюф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5" name="Picture 2" descr="C:\Documents and Settings\Admin\Рабочий стол\кулинария\трюфли1.jpg"/>
          <p:cNvPicPr/>
          <p:nvPr/>
        </p:nvPicPr>
        <p:blipFill>
          <a:blip r:embed="rId1"/>
          <a:stretch/>
        </p:blipFill>
        <p:spPr>
          <a:xfrm>
            <a:off x="468360" y="1406520"/>
            <a:ext cx="6840360" cy="51372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3"/>
          <p:cNvSpPr/>
          <p:nvPr/>
        </p:nvSpPr>
        <p:spPr>
          <a:xfrm>
            <a:off x="684360" y="1557360"/>
            <a:ext cx="520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Трюфель (от </a:t>
            </a: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нем.</a:t>
            </a: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 Trüffel; </a:t>
            </a:r>
            <a:r>
              <a:rPr b="0" lang="ru-RU" sz="2000" spc="-1" strike="noStrike" u="sng">
                <a:solidFill>
                  <a:srgbClr val="f0b854"/>
                </a:solidFill>
                <a:uFillTx/>
                <a:latin typeface="Arial"/>
                <a:hlinkClick r:id="rId3"/>
              </a:rPr>
              <a:t>лат.</a:t>
            </a: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 Tuber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7f1e6"/>
                </a:solidFill>
                <a:latin typeface="Arial"/>
              </a:rPr>
              <a:t>Это земляные грибы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рюф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98" name="Picture 2" descr="C:\Documents and Settings\Admin\Рабочий стол\кулинария\трюфли.jpg"/>
          <p:cNvPicPr/>
          <p:nvPr/>
        </p:nvPicPr>
        <p:blipFill>
          <a:blip r:embed="rId1"/>
          <a:stretch/>
        </p:blipFill>
        <p:spPr>
          <a:xfrm>
            <a:off x="468360" y="1341360"/>
            <a:ext cx="6699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тлеты на косточк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Picture 2" descr="C:\Documents and Settings\Admin\Рабочий стол\кулинария\котлеты на косточке.jpg"/>
          <p:cNvPicPr/>
          <p:nvPr/>
        </p:nvPicPr>
        <p:blipFill>
          <a:blip r:embed="rId1"/>
          <a:stretch/>
        </p:blipFill>
        <p:spPr>
          <a:xfrm>
            <a:off x="971640" y="981000"/>
            <a:ext cx="5789520" cy="50292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4"/>
          <p:cNvSpPr/>
          <p:nvPr/>
        </p:nvSpPr>
        <p:spPr>
          <a:xfrm>
            <a:off x="250920" y="6021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ета – слово французское.cotlett – в переводе «ребрышко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ифштек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3" name="Picture 2" descr="C:\Documents and Settings\Admin\Рабочий стол\кулинария\бифштекс.jpg"/>
          <p:cNvPicPr/>
          <p:nvPr/>
        </p:nvPicPr>
        <p:blipFill>
          <a:blip r:embed="rId1"/>
          <a:stretch/>
        </p:blipFill>
        <p:spPr>
          <a:xfrm>
            <a:off x="395280" y="1413000"/>
            <a:ext cx="6697800" cy="5246640"/>
          </a:xfrm>
          <a:prstGeom prst="rect">
            <a:avLst/>
          </a:prstGeom>
          <a:ln w="0">
            <a:noFill/>
          </a:ln>
        </p:spPr>
      </p:pic>
      <p:sp>
        <p:nvSpPr>
          <p:cNvPr id="304" name="TextBox 3"/>
          <p:cNvSpPr/>
          <p:nvPr/>
        </p:nvSpPr>
        <p:spPr>
          <a:xfrm>
            <a:off x="1692360" y="501336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df6e5"/>
                </a:solidFill>
                <a:latin typeface="Arial"/>
              </a:rPr>
              <a:t>Бифштекс (от англ. beef (говядина) + steaks (куски) — «куски говядины»)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Ананас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6" name="Picture 5" descr="C:\Users\ALEX\Desktop\рi.jpg"/>
          <p:cNvPicPr/>
          <p:nvPr/>
        </p:nvPicPr>
        <p:blipFill>
          <a:blip r:embed="rId1"/>
          <a:stretch/>
        </p:blipFill>
        <p:spPr>
          <a:xfrm>
            <a:off x="684360" y="1341360"/>
            <a:ext cx="4321080" cy="5023080"/>
          </a:xfrm>
          <a:prstGeom prst="rect">
            <a:avLst/>
          </a:prstGeom>
          <a:ln w="0">
            <a:noFill/>
          </a:ln>
        </p:spPr>
      </p:pic>
      <p:sp>
        <p:nvSpPr>
          <p:cNvPr id="307" name="TextBox 3"/>
          <p:cNvSpPr/>
          <p:nvPr/>
        </p:nvSpPr>
        <p:spPr>
          <a:xfrm>
            <a:off x="5076720" y="2349360"/>
            <a:ext cx="251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веке ананас считался символом роскошной жизн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то время ананасы подавали в ресторанах, так как они дорого стоил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Шампанское «Вино кометы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9" name="Picture 2" descr="C:\Documents and Settings\Admin\Рабочий стол\кулинария\шампанское.jpg"/>
          <p:cNvPicPr/>
          <p:nvPr/>
        </p:nvPicPr>
        <p:blipFill>
          <a:blip r:embed="rId1"/>
          <a:stretch/>
        </p:blipFill>
        <p:spPr>
          <a:xfrm>
            <a:off x="468360" y="1557360"/>
            <a:ext cx="2265480" cy="4668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C:\Users\ALEX\Desktop\картинки с призентации\planeta_cometa.jpg"/>
          <p:cNvPicPr/>
          <p:nvPr/>
        </p:nvPicPr>
        <p:blipFill>
          <a:blip r:embed="rId2"/>
          <a:stretch/>
        </p:blipFill>
        <p:spPr>
          <a:xfrm>
            <a:off x="5219640" y="1268280"/>
            <a:ext cx="1944720" cy="51850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5"/>
          <p:cNvSpPr/>
          <p:nvPr/>
        </p:nvSpPr>
        <p:spPr>
          <a:xfrm>
            <a:off x="2700360" y="1125360"/>
            <a:ext cx="295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о кометы (франц. vin de la comete)-название редких вин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11 год был замечателен появлением кометы исключительной яркости, и в том же году во Франции и в Испании был собран урожай винограда особенного вкуса и аромата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27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«Обед довольно прихотливый…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488680" y="2060640"/>
            <a:ext cx="61470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 довольно прихотливый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тылка светлого вина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единенье, тишина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т жизнь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5" name="Picture 4" descr="99"/>
          <p:cNvPicPr/>
          <p:nvPr/>
        </p:nvPicPr>
        <p:blipFill>
          <a:blip r:embed="rId1"/>
          <a:stretch/>
        </p:blipFill>
        <p:spPr>
          <a:xfrm>
            <a:off x="3059280" y="4292640"/>
            <a:ext cx="2835000" cy="1882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g01205i"/>
          <p:cNvPicPr/>
          <p:nvPr/>
        </p:nvPicPr>
        <p:blipFill>
          <a:blip r:embed="rId2"/>
          <a:stretch/>
        </p:blipFill>
        <p:spPr>
          <a:xfrm>
            <a:off x="371520" y="2133720"/>
            <a:ext cx="1940040" cy="215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g01205i"/>
          <p:cNvPicPr/>
          <p:nvPr/>
        </p:nvPicPr>
        <p:blipFill>
          <a:blip r:embed="rId3"/>
          <a:stretch/>
        </p:blipFill>
        <p:spPr>
          <a:xfrm>
            <a:off x="395280" y="2133720"/>
            <a:ext cx="19400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Табл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63520" y="1598760"/>
          <a:ext cx="7386480" cy="23922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торан «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O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ины Татьяны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18720">
                      <a:solidFill>
                        <a:srgbClr val="c16059"/>
                      </a:solidFill>
                    </a:lnB>
                    <a:solidFill>
                      <a:srgbClr val="d5b78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нетленный страсбургский пирог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жирный пересолённый пирог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1872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окровавленный ростбиф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жаркое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золотой ананас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бланманже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efe6d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шампанское «Вино кометы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нское шипучее вино «Цимлянское»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16059"/>
                      </a:solidFill>
                    </a:lnL>
                    <a:lnR w="5760">
                      <a:solidFill>
                        <a:srgbClr val="c16059"/>
                      </a:solidFill>
                    </a:lnR>
                    <a:lnT w="5760">
                      <a:solidFill>
                        <a:srgbClr val="c16059"/>
                      </a:solidFill>
                    </a:lnT>
                    <a:lnB w="5760">
                      <a:solidFill>
                        <a:srgbClr val="c16059"/>
                      </a:solidFill>
                    </a:lnB>
                    <a:solidFill>
                      <a:srgbClr val="f7f3ed"/>
                    </a:solidFill>
                  </a:tcPr>
                </a:tc>
              </a:tr>
            </a:tbl>
          </a:graphicData>
        </a:graphic>
      </p:graphicFrame>
      <p:pic>
        <p:nvPicPr>
          <p:cNvPr id="314" name="Рисунок 4" descr="C:\Documents and Settings\Admin\Рабочий стол\0375415208.jpg"/>
          <p:cNvPicPr/>
          <p:nvPr/>
        </p:nvPicPr>
        <p:blipFill>
          <a:blip r:embed="rId1"/>
          <a:srcRect l="0" t="8133" r="0" b="5961"/>
          <a:stretch/>
        </p:blipFill>
        <p:spPr>
          <a:xfrm>
            <a:off x="2627280" y="4221000"/>
            <a:ext cx="28306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ланманж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6" name="Picture 2" descr="C:\Documents and Settings\Admin\Рабочий стол\кулинария\бланманже.jpg"/>
          <p:cNvPicPr/>
          <p:nvPr/>
        </p:nvPicPr>
        <p:blipFill>
          <a:blip r:embed="rId1"/>
          <a:stretch/>
        </p:blipFill>
        <p:spPr>
          <a:xfrm>
            <a:off x="250920" y="1268280"/>
            <a:ext cx="3902040" cy="396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C:\Documents and Settings\Admin\Рабочий стол\кулинария\бланманже2.jpg"/>
          <p:cNvPicPr/>
          <p:nvPr/>
        </p:nvPicPr>
        <p:blipFill>
          <a:blip r:embed="rId2"/>
          <a:stretch/>
        </p:blipFill>
        <p:spPr>
          <a:xfrm>
            <a:off x="4284720" y="1484280"/>
            <a:ext cx="4286160" cy="338472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250920" y="53737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Бланманже – старинное французское сладкое блюдо. В России появилось в первой половине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века. Это нежный сливочный крем, в который добавляли миндальное молок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89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Жарко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0" name="Picture 2" descr="C:\Documents and Settings\Admin\Рабочий стол\кулинария\жаркое.jpg"/>
          <p:cNvPicPr/>
          <p:nvPr/>
        </p:nvPicPr>
        <p:blipFill>
          <a:blip r:embed="rId1"/>
          <a:stretch/>
        </p:blipFill>
        <p:spPr>
          <a:xfrm>
            <a:off x="0" y="1197000"/>
            <a:ext cx="7472520" cy="3960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179280" y="530064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В обеде из двух кушаний обыкновенно первым подают суп, а вторым жаркое, если же обед состоит из многих кушаний, то жарким называют последнее подаваемое жареное блюдо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Домашний пирог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3" name="Picture 2" descr="C:\Documents and Settings\Admin\Рабочий стол\кулинария\домашний пирог.jpg"/>
          <p:cNvPicPr/>
          <p:nvPr/>
        </p:nvPicPr>
        <p:blipFill>
          <a:blip r:embed="rId1"/>
          <a:stretch/>
        </p:blipFill>
        <p:spPr>
          <a:xfrm>
            <a:off x="0" y="1197000"/>
            <a:ext cx="7805880" cy="41767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4"/>
          <p:cNvSpPr/>
          <p:nvPr/>
        </p:nvSpPr>
        <p:spPr>
          <a:xfrm>
            <a:off x="250920" y="5661000"/>
            <a:ext cx="735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звание этого кулинарного изделия происходит от слова «пир». Праздничное застолье на Руси не обходилось без пирог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Вино «Цимлянское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6" name="Picture 7" descr="C:\Users\ALEX\Desktop\ciml_igrkrasn_big.jpg"/>
          <p:cNvPicPr/>
          <p:nvPr/>
        </p:nvPicPr>
        <p:blipFill>
          <a:blip r:embed="rId1"/>
          <a:stretch/>
        </p:blipFill>
        <p:spPr>
          <a:xfrm>
            <a:off x="1476360" y="1557360"/>
            <a:ext cx="1584360" cy="49226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3"/>
          <p:cNvSpPr/>
          <p:nvPr/>
        </p:nvSpPr>
        <p:spPr>
          <a:xfrm>
            <a:off x="3059280" y="227664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млянское игристое - самое знаменитое русское красное вино в мире. Вино отличается тёмно-красным цветом с рубиновым оттенком и отличными пенистыми свойствам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русничная вод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9" name="Picture 2" descr="C:\Documents and Settings\Admin\Рабочий стол\кулинария\брусничная вода.jpg"/>
          <p:cNvPicPr/>
          <p:nvPr/>
        </p:nvPicPr>
        <p:blipFill>
          <a:blip r:embed="rId1"/>
          <a:stretch/>
        </p:blipFill>
        <p:spPr>
          <a:xfrm>
            <a:off x="185760" y="1773360"/>
            <a:ext cx="7110360" cy="47512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1" descr="Логотип школы (зеленый)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Бли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2" name="Picture 2" descr="C:\Documents and Settings\Admin\Рабочий стол\кулинария\блины.jpeg"/>
          <p:cNvPicPr/>
          <p:nvPr/>
        </p:nvPicPr>
        <p:blipFill>
          <a:blip r:embed="rId1"/>
          <a:stretch/>
        </p:blipFill>
        <p:spPr>
          <a:xfrm>
            <a:off x="324000" y="1413000"/>
            <a:ext cx="6912000" cy="51847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539640" y="1628640"/>
            <a:ext cx="63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df6e5"/>
                </a:solidFill>
                <a:latin typeface="Arial"/>
              </a:rPr>
              <a:t>Блины – это национальное русское блюдо. Круглый блин – символ яркого солнца. Дрожжевой блин появился на рубеже  1005-1006 годо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5" name="Picture 2" descr="C:\Documents and Settings\Admin\Рабочий стол\чаепитие.jpg"/>
          <p:cNvPicPr/>
          <p:nvPr/>
        </p:nvPicPr>
        <p:blipFill>
          <a:blip r:embed="rId1"/>
          <a:stretch/>
        </p:blipFill>
        <p:spPr>
          <a:xfrm>
            <a:off x="0" y="692280"/>
            <a:ext cx="766764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Ресторан «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Talon</a:t>
            </a: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9" name="Picture 2" descr="C:\Documents and Settings\Admin\Рабочий стол\кулинария\талон.jpg"/>
          <p:cNvPicPr/>
          <p:nvPr/>
        </p:nvPicPr>
        <p:blipFill>
          <a:blip r:embed="rId1"/>
          <a:stretch/>
        </p:blipFill>
        <p:spPr>
          <a:xfrm>
            <a:off x="179280" y="1557360"/>
            <a:ext cx="7247160" cy="49021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3635280" y="1557360"/>
            <a:ext cx="37450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 Talon помчался: он уверен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Что там уж ждет его Каверин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Вошел: и пробка в потолок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Вина кометы брызнул ток;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4149360"/>
            <a:ext cx="76676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Ресторан «Талон» открыт в сер. 1810-х гг. выходцем из Франции П. Талоном</a:t>
            </a:r>
            <a:r>
              <a:rPr b="1" lang="en-US" sz="1800" spc="-1" strike="noStrike">
                <a:solidFill>
                  <a:srgbClr val="0d0d0d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Ресторан существовал до весны 1825 года. Находился он на Невском проспекте (ныне Невский, 15)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В описываемый период времени этот ресторан был одним из самых модных и дорогих в Петербурге, потому что посетители могли чувствовать себя словно в  ресторанах Лондона и Парижа. Часто в нём бывал и Пушкин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Picture 2" descr="C:\Documents and Settings\Admin\Рабочий стол\урок на конкурс\онегин\app1.jpg"/>
          <p:cNvPicPr/>
          <p:nvPr/>
        </p:nvPicPr>
        <p:blipFill>
          <a:blip r:embed="rId1"/>
          <a:stretch/>
        </p:blipFill>
        <p:spPr>
          <a:xfrm>
            <a:off x="250920" y="260280"/>
            <a:ext cx="3097080" cy="3468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C:\Users\ALEX\Desktop\картинки с призентации\Евгений Онегин. Из спектакля a258807_mainpic.jpg"/>
          <p:cNvPicPr/>
          <p:nvPr/>
        </p:nvPicPr>
        <p:blipFill>
          <a:blip r:embed="rId2"/>
          <a:stretch/>
        </p:blipFill>
        <p:spPr>
          <a:xfrm>
            <a:off x="4572000" y="260280"/>
            <a:ext cx="2090880" cy="30243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6"/>
          <p:cNvSpPr/>
          <p:nvPr/>
        </p:nvSpPr>
        <p:spPr>
          <a:xfrm>
            <a:off x="4500720" y="34290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. Каверин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8670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Какие блюда входили в состав меню знаменитого петербургского ресторана «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alon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»?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мпанское «Вино кометы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пучее вино «Цимлянское»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юфли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арко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ланманж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асбургский пирог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ифштек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стбиф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мбургский сы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на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усничная во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тлеты на косточке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й с ромом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0" name="Picture 4" descr="Gribi_zapechennie"/>
          <p:cNvPicPr/>
          <p:nvPr/>
        </p:nvPicPr>
        <p:blipFill>
          <a:blip r:embed="rId1"/>
          <a:stretch/>
        </p:blipFill>
        <p:spPr>
          <a:xfrm>
            <a:off x="4410000" y="2281320"/>
            <a:ext cx="30546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бка в потоло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на коме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ызнул ток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 н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ast-be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кровавленны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юф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оскошь юных лет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нцузской кухни лучший цвет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Страсбурга пирог нетленны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ыром лимбургск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живым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ана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олотым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3" name="Picture 4" descr="GUEST"/>
          <p:cNvPicPr/>
          <p:nvPr/>
        </p:nvPicPr>
        <p:blipFill>
          <a:blip r:embed="rId1"/>
          <a:stretch/>
        </p:blipFill>
        <p:spPr>
          <a:xfrm>
            <a:off x="5508720" y="692280"/>
            <a:ext cx="2419200" cy="1079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t_056i"/>
          <p:cNvPicPr/>
          <p:nvPr/>
        </p:nvPicPr>
        <p:blipFill>
          <a:blip r:embed="rId2"/>
          <a:stretch/>
        </p:blipFill>
        <p:spPr>
          <a:xfrm>
            <a:off x="5378400" y="3371760"/>
            <a:ext cx="1452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ё бокалов жажда проси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лить горячий жи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же мог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ef-steak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сбургский пирог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ампанс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ивать бутылкой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ом за трубкой раскалённой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усульман в своём раю,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восточной гущ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ф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ью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7" name="Picture 4" descr="GUEST"/>
          <p:cNvPicPr/>
          <p:nvPr/>
        </p:nvPicPr>
        <p:blipFill>
          <a:blip r:embed="rId1"/>
          <a:stretch/>
        </p:blipFill>
        <p:spPr>
          <a:xfrm>
            <a:off x="5580000" y="692280"/>
            <a:ext cx="2417760" cy="1079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s_529i"/>
          <p:cNvPicPr/>
          <p:nvPr/>
        </p:nvPicPr>
        <p:blipFill>
          <a:blip r:embed="rId2"/>
          <a:stretch/>
        </p:blipFill>
        <p:spPr>
          <a:xfrm>
            <a:off x="4667400" y="2790720"/>
            <a:ext cx="239076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еню ресторана «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Talon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Холодные блю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мбургский сы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биф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сбургский пирог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Горячие блю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юфл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лет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фштек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2552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Десер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нас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Напит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мпанское «Вино кометы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9:47:02Z</dcterms:created>
  <dc:creator>User_IDO_TSU</dc:creator>
  <dc:description/>
  <dc:language>en-US</dc:language>
  <cp:lastModifiedBy>Admin</cp:lastModifiedBy>
  <dcterms:modified xsi:type="dcterms:W3CDTF">2013-02-14T04:04:07Z</dcterms:modified>
  <cp:revision>134</cp:revision>
  <dc:subject/>
  <dc:title>Интегрированный элективный курс  «Словом, цветом, звуком…»</dc:title>
</cp:coreProperties>
</file>