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2E2-9B11-411A-8175-D83C4A90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866-B05E-4EBD-81C4-5E2A0CD9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D172-206B-494B-AA7D-DDBA263E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7EA-1120-4C3C-894B-B18950CA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BD8-7E68-4205-93C8-79A09CA5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15A-E7A3-445B-947C-C1BF0B44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661-6F2A-4D74-8271-8C74149B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555-897A-4765-9E8D-14F215AD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FAD-B25E-47CC-83EA-51CBAAEE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30F-7ED7-42E3-9887-819BF2BE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758-CEB8-4639-8415-0BB9A298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3B0-2D28-4DE3-A29D-CAD2C552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A9DE-D63B-412A-9630-35F7C1E33C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МОУ ДОД Детский эколого-биологический центр 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г.Ростова-на-Дону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пасные растения рядом с нам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итель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дагог высшей катего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пивненко Т.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ните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ы 4 «А» класса лицея№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куленко 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Щеглова Екатер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4392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лещеви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9280" y="907560"/>
            <a:ext cx="4105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мена клещевины содержат ядовитое вещество-рицин, которое при промышленном производстве не переходит в касторового масла, в домашних условиях яд остается в мас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мена опасны для жизни людей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3743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олочай лозны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2808360" cy="2376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этого растения ядовитый млечный сок, содержащийся в стебле растения. При сильных отравлениях наступает нарушение дыхания, сердечной деятельности и  судорог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ервая помощь при отравлен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При попадании яда внутрь, промыть желудок водой или марганцовкой, дать активированный уголь, доставить в стациона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При поражении кожи и слизистых оболочек их надо промыть теплой водой, внутрь дать препараты против аллерг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естирование в класс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771640" y="2781360"/>
            <a:ext cx="302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Знакомство с опасными растениям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367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зультаты исследов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32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результате тестирования с учащимися 2,3,4 классов, мы получили следующие данные, которые предоставленные 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иаграмм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859280" y="1125360"/>
          <a:ext cx="4483080" cy="458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125360"/>
                    <a:ext cx="4483080" cy="45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ывод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зультаты конечного тестирования показали, что уровень знаний у  школьников, после бесед значительно повысилс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ти имеют представления об опасных растениях, которые находятся рядом с н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нают и умеют оказывать первую до врачебную помощ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итератур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пов Н.В. На охоту за растениями. Ростов издат., 1971г., с.86-9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рентьева Т. Клещевина // В Мире Растений 2004, № 8. — стр. 12-1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урова. А. Д., Сапожникова. Э. Н. / Лекарственные растения СССР и   их применение. – 3-е изд., перераб. и доп. – М.: Медицина, 1982,  стр. 19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азета «Ростов официальный», от 05.09.2012г.,№36 (927), Илона Кувалдина «Лес обжигает и убивает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ещевина в Википед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ещевина на сайте «Энциклопедия декоративных садовых растений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акты из Интернета 2007-2012г.г. Информация глобальной се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вед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территории нашего города встречаются опасные для жизни для людей, особенно для детей растения. Период цветения и плодоношения это весенний- осенний сезон. В это время особенно надо быть внимательным и информированными к этим растениям и знать, как предупредить отравления, ожоги и другие заболевания, вызванные сорными растения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Цели и задач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формировать представление о опасных растениях  нашего города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вести беседы и выпустить школьную газету «Осторожно! Опасные растения!»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учить оказывать первую помощь при отравлени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орудов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итель раст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отоаппара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левой дневни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пью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Амброз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68360" y="836640"/>
            <a:ext cx="2305080" cy="1800360"/>
            <a:chOff x="468360" y="836640"/>
            <a:chExt cx="2305080" cy="180036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468360" y="836640"/>
              <a:ext cx="23050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 txBox="1"/>
            <p:nvPr/>
          </p:nvSpPr>
          <p:spPr>
            <a:xfrm>
              <a:off x="468360" y="836640"/>
              <a:ext cx="230508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брозия полыннолистная, однолетний сорняк, широко распространен у на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мброзия трёхраздельная, как предыдущая- однолетник, который распространяется с чудовищной скоростью на юге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24000" y="3933720"/>
            <a:ext cx="2592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Айлант высочайш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Живуч таинственный айлант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журных листь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рово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ветенья буйство и талан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й множить ро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года в год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колина Валь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03640" y="3789360"/>
            <a:ext cx="2232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елена черна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2376720" cy="1584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то растение произрастает на пустырях, вдоль дорог, и на заброшенных территор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равление семенами, которые дети принимают за ма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орщеви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4360" y="2781360"/>
            <a:ext cx="2519280" cy="187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рное растение. Встречается на пустырях, около доро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травления и ожоги возникают при соприкосновении с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еблями, листьями и при попадании сока на кож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лещевина- ядовитая красавиц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3246480" cy="2735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одина клещевины Африка, в Россию она попала в19веке. В настоящее время её можно встретить как в хорошо ухоженных садах и парка, так и в дикой приро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6:03:50Z</dcterms:created>
  <dc:creator>Таня</dc:creator>
  <dc:description/>
  <dc:language>en-US</dc:language>
  <cp:lastModifiedBy>Таня</cp:lastModifiedBy>
  <dcterms:modified xsi:type="dcterms:W3CDTF">2013-02-14T13:23:48Z</dcterms:modified>
  <cp:revision>22</cp:revision>
  <dc:subject/>
  <dc:title>Слайд 1</dc:title>
</cp:coreProperties>
</file>