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6BB-F6E5-4971-BAA4-E0F3B7C3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FB9-F786-4832-96F6-96772BA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65D-7C11-4647-8109-C2CB742E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E07-05F8-4225-9DD2-FB3C920C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421-78B7-40A4-854A-9CAB5507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D76-90C1-4B06-AB89-E5B0DDB9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A18-B09F-45EB-BB25-8050C2B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8C2-EF0B-4A9C-BDB9-D825E1E0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EC1-36B4-4953-B1B3-16EFF8DA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8B5-29F3-4353-9BF1-C3534B7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88B-899C-43A4-8B2C-B5FADF65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CDE-428B-4781-B0E3-515B8B3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8617-43B5-4EE9-95E9-D04B255D4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МОУ ДОД Детский эколого-биологический центр 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г.Ростова-на-Дон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асные растения рядом с н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дагог высшей катего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пивненко Т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нит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ы 4 «А» класса лицея№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куленко 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еглова Екатер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439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лещеви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9280" y="907560"/>
            <a:ext cx="410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ена клещевины содержат ядовитое вещество-рицин, которое при промышленном производстве не переходит в касторового масла, в домашних условиях яд остается в мас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ена опасны для жизни людей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743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олочай лозны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280836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этого растения ядовитый млечный сок, содержащийся в стебле растения. При сильных отравлениях наступает нарушение дыхания, сердечной деятельности и  судор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ервая помощь при отравл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При попадании яда внутрь, промыть желудок водой или марганцовкой, дать активированный уголь, доставить в стациона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При поражении кожи и слизистых оболочек их надо промыть теплой водой, внутрь дать препараты против аллерг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стирование в класс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02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накомство с опасными растениям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зультаты исследо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результате тестирования с учащимися 2,3,4 классов, мы получили следующие данные, которые предоставленные 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грамм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859280" y="1125360"/>
          <a:ext cx="4483080" cy="45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125360"/>
                    <a:ext cx="4483080" cy="45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ывод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зультаты конечного тестирования показали, что уровень знаний у  школьников, после бесед значительно повысил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ти имеют представления об опасных растениях, которые находятся рядом с 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ют и умеют оказывать первую до врачебную помощ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пов Н.В. На охоту за растениями. Ростов издат., 1971г., с.86-9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ентьева Т. Клещевина // В Мире Растений 2004, № 8. — стр. 12-1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урова. А. Д., Сапожникова. Э. Н. / Лекарственные растения СССР и   их применение. – 3-е изд., перераб. и доп. – М.: Медицина, 1982,  стр. 19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зета «Ростов официальный», от 05.09.2012г.,№36 (927), Илона Кувалдина «Лес обжигает и убивает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ещевина в Википед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ещевина на сайте «Энциклопедия декоративных садовых растений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акты из Интернета 2007-2012г.г. Информация глобальной се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вед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территории нашего города встречаются опасные для жизни для людей, особенно для детей растения. Период цветения и плодоношения это весенний- осенний сезон. В это время особенно надо быть внимательным и информированными к этим растениям и знать, как предупредить отравления, ожоги и другие заболевания, вызванные сорными растени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 и 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формировать представление о опасных растениях  нашего горо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вести беседы и выпустить школьную газету «Осторожно! Опасные растения!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учить оказывать первую помощь при отравлени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орудов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ель раст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отоаппар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левой дневн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пью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мброз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68360" y="836640"/>
            <a:ext cx="2305080" cy="1800360"/>
            <a:chOff x="468360" y="836640"/>
            <a:chExt cx="2305080" cy="18003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468360" y="836640"/>
              <a:ext cx="2305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468360" y="836640"/>
              <a:ext cx="230508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брозия полыннолистная, однолетний сорняк, широко распространен у н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брозия трёхраздельная, как предыдущая- однолетник, который распространяется с чудовищной скоростью на юге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3933720"/>
            <a:ext cx="2592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йлант высочайш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Живуч таинственный айлант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урных листь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во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ветенья буйство и талан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й множить ро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года в год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олина Валь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223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лена черн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2376720" cy="158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о растение произрастает на пустырях, вдоль дорог, и на заброшенных территор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равление семенами, которые дети принимают за ма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орщев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2519280" cy="187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рное растение. Встречается на пустырях, около дор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равления и ожоги возникают при соприкосновении с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еблями, листьями и при попадании сока на кож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лещевина- ядовитая красавиц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32464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дина клещевины Африка, в Россию она попала в19веке. В настоящее время её можно встретить как в хорошо ухоженных садах и парка, так и в дикой прир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6:03:50Z</dcterms:created>
  <dc:creator>Таня</dc:creator>
  <dc:description/>
  <dc:language>en-US</dc:language>
  <cp:lastModifiedBy>Таня</cp:lastModifiedBy>
  <dcterms:modified xsi:type="dcterms:W3CDTF">2013-02-14T13:23:48Z</dcterms:modified>
  <cp:revision>22</cp:revision>
  <dc:subject/>
  <dc:title>Слайд 1</dc:title>
</cp:coreProperties>
</file>