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9656-36E1-4F5E-9F34-004F62C3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9DF-AAA4-4BAF-A371-EEC4C0D7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C93-D256-4787-8AAB-6E7A2E4F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FDE-1CB0-4387-848A-3EDB0D81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EA385-2E01-4947-AAE3-6FCDDFA0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2B510-C2FF-480E-ADA8-32A4A2BF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48065-FBE1-47A9-BA23-6846A104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F8A39-A1CB-4B44-A466-CB240CBA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2A58E-58FE-4D36-87A5-850053C3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BD158-3EF1-4BCE-938B-55D54D7C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C734C-6B48-4E04-9586-D05CF0A4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FEF-78E4-43A8-AA03-33B9CDF6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A1162-7400-46D4-9049-EB80698A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31A47-C7E2-49B0-B3EC-E758808B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5E46E-151B-473E-9D63-DDC61A39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6AB05-CEDF-47E3-A2FC-8B566E82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A0036-C669-41D4-AE56-97F42A51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9A8-29CC-41AD-A03C-85071814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BB3B-18F5-4A67-B42F-12A35D3F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4FAB-5873-4464-809D-2912A8D2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D4B-DF77-48FE-9EED-997F2DC2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1769-0C09-471B-A686-EF665FF2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D7C-413C-41F9-80F2-6784F607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6DF-71BB-4A16-A98E-952272E9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B854-7C1E-4AE9-9A65-AF6082B01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9765-B350-49CF-89D9-611D6A6F74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5;&#1072;&#1088;&#1080;&#1078;" TargetMode="External"/><Relationship Id="rId3" Type="http://schemas.openxmlformats.org/officeDocument/2006/relationships/hyperlink" Target="http://ru.wikipedia.org/wiki/&#1041;&#1072;&#1089;&#1090;&#1080;&#1083;&#1080;&#1103;" TargetMode="External"/><Relationship Id="rId4" Type="http://schemas.openxmlformats.org/officeDocument/2006/relationships/hyperlink" Target="http://ru.wikipedia.org/wiki/&#1042;&#1077;&#1083;&#1080;&#1082;&#1072;&#1103;_&#1092;&#1088;&#1072;&#1085;&#1094;&#1091;&#1079;&#1089;&#1082;&#1072;&#1103;_&#1088;&#1077;&#1074;&#1086;&#1083;&#1102;&#1094;&#1080;&#1103;" TargetMode="External"/><Relationship Id="rId5" Type="http://schemas.openxmlformats.org/officeDocument/2006/relationships/hyperlink" Target="http://ru.wikipedia.org/wiki/III_&#1086;&#1082;&#1088;&#1091;&#1075;_&#1055;&#1072;&#1088;&#1080;&#1078;&#1072;" TargetMode="External"/><Relationship Id="rId6" Type="http://schemas.openxmlformats.org/officeDocument/2006/relationships/hyperlink" Target="http://ru.wikipedia.org/wiki/IV_&#1086;&#1082;&#1088;&#1091;&#1075;_&#1055;&#1072;&#1088;&#1080;&#1078;&#1072;" TargetMode="External"/><Relationship Id="rId7" Type="http://schemas.openxmlformats.org/officeDocument/2006/relationships/hyperlink" Target="http://ru.wikipedia.org/wiki/XI_&#1086;&#1082;&#1088;&#1091;&#1075;_&#1055;&#1072;&#1088;&#1080;&#1078;&#1072;" TargetMode="External"/><Relationship Id="rId8" Type="http://schemas.openxmlformats.org/officeDocument/2006/relationships/hyperlink" Target="http://ru.wikipedia.org/wiki/XII_&#1086;&#1082;&#1088;&#1091;&#1075;_&#1055;&#1072;&#1088;&#1080;&#1078;&#1072;" TargetMode="External"/><Relationship Id="rId9" Type="http://schemas.openxmlformats.org/officeDocument/2006/relationships/hyperlink" Target="http://ru.wikipedia.org/wiki/&#1040;&#1076;&#1084;&#1080;&#1085;&#1080;&#1089;&#1090;&#1088;&#1072;&#1090;&#1080;&#1074;&#1085;&#1086;&#1077;_&#1076;&#1077;&#1083;&#1077;&#1085;&#1080;&#1077;_&#1055;&#1072;&#1088;&#1080;&#1078;&#1072;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1042;&#1077;&#1083;&#1080;&#1082;&#1072;&#1103;_&#1060;&#1088;&#1072;&#1085;&#1094;&#1091;&#1079;&#1089;&#1082;&#1072;&#1103;_&#1088;&#1077;&#1074;&#1086;&#1083;&#1102;&#1094;&#1080;&#1103;" TargetMode="External"/><Relationship Id="rId3" Type="http://schemas.openxmlformats.org/officeDocument/2006/relationships/hyperlink" Target="http://ru.wikipedia.org/wiki/14_&#1080;&#1102;&#1083;&#1103;" TargetMode="External"/><Relationship Id="rId4" Type="http://schemas.openxmlformats.org/officeDocument/2006/relationships/hyperlink" Target="http://ru.wikipedia.org/wiki/1789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лощадь Бастил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6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лощадь Бастил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фр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fr-FR" sz="3200" spc="-1" strike="noStrike">
                <a:solidFill>
                  <a:srgbClr val="ffffff"/>
                </a:solidFill>
                <a:latin typeface="Tahoma"/>
              </a:rPr>
              <a:t>la place de la Bastill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) — площадь в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Париж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обязанная своим названием крепости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Бастил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разрушенной во время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Великой французской революц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Находится на границе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1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12-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округ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Является местом пересечения более чем десяти улиц и бульва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641520"/>
            <a:ext cx="8964720" cy="62164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начале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Великой Французской революци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4 июля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178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крепость была взята революционно настроенным населением. На то, чтобы разобрать крепость, ушло три года. От дома № 5 до дома № 49 по бульвару Генриха IV брусчаткой была выложена черта, которая обозначает контуры стен разрушенной креп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35280" y="190440"/>
            <a:ext cx="5333760" cy="6667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пустыре поставили табличку с надписью                                    «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Désormais ici dansent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, что значит «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тныне здесь танцую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 и ежегодно здесь стали устраиваться народные гулянья. Традиция сохраняется до сих пор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годня на площади устраиваются различные концерты, ярмарки, марши, это отправная точка многих демонстраций — политических, профсоюзных, первомайских и прочих. Парижская молодежь собирается здесь во многочисленных кафе, ресторанах и ночных клубах. 14 июля здесь проводится самый крупный парижский ба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ждое воскресенье с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199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г. здесь стартует прогулка на роликовых коньках. В туре участвует до 28 000 человек. Заезды сопровождает полиция, в том числе специальное подразделение на роликах. Этот тур популярен среди роллеров всего ми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bf00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6c00"/>
                </a:solidFill>
                <a:latin typeface="Tahoma"/>
              </a:rPr>
              <a:t>Made by Ilia Karpo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6:38:00Z</dcterms:created>
  <dc:creator>Irina</dc:creator>
  <dc:description/>
  <dc:language>en-US</dc:language>
  <cp:lastModifiedBy>IKo</cp:lastModifiedBy>
  <dcterms:modified xsi:type="dcterms:W3CDTF">2011-02-16T07:07:23Z</dcterms:modified>
  <cp:revision>4</cp:revision>
  <dc:subject/>
  <dc:title>Площадь Бастилии</dc:title>
</cp:coreProperties>
</file>