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8B0-512E-4DC9-90B8-AE09D92B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C2A-AEA8-4DA1-BD9C-43B102AD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9D2-16B2-4150-8606-CBDD9ACC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853-F44D-411C-B45F-53BD28E3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A706B-0432-459F-B9FE-B8918D21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38437-F277-4457-A504-30F678F1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A6E7F-D6AE-437E-A1F5-EB267705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DF10E-493B-4254-B16C-9B54AB51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F24AC-2961-43D3-BE0B-17352533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66415-6433-48F2-A9CB-7DCC58B6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72786-D66C-4150-80F9-D51E638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020-4FE7-44FF-9210-93EA2465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29711-D0E4-4EC8-8DC0-1E88144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823A1-FDFF-4DD7-A19E-E66F5A5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38F1E-2C5F-43CF-B3B6-8B69C38F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8F0EC-057C-41F5-AD47-9F3EA1D6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529B5-33C4-4A5B-A0F5-CCA2B6CA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3FC-53B3-4BD0-921E-524812D2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266-167D-4100-8728-7714926B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8AC-A26D-4DFB-8F98-41DE582C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55A-78FB-4516-80C1-69383AC1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6B1F-5959-459E-83F3-9BA1830A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83B-8528-4EF1-9581-3EC47CDC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401-C27F-4420-82FD-265EDD88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4C46-006B-4EB7-97BE-DF7D552AA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7BA3-B53D-40FD-8569-16269DF0D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72;&#1088;&#1080;&#1078;" TargetMode="External"/><Relationship Id="rId3" Type="http://schemas.openxmlformats.org/officeDocument/2006/relationships/hyperlink" Target="http://ru.wikipedia.org/wiki/&#1041;&#1072;&#1089;&#1090;&#1080;&#1083;&#1080;&#1103;" TargetMode="External"/><Relationship Id="rId4" Type="http://schemas.openxmlformats.org/officeDocument/2006/relationships/hyperlink" Target="http://ru.wikipedia.org/wiki/&#1042;&#1077;&#1083;&#1080;&#1082;&#1072;&#1103;_&#1092;&#1088;&#1072;&#1085;&#1094;&#1091;&#1079;&#1089;&#1082;&#1072;&#1103;_&#1088;&#1077;&#1074;&#1086;&#1083;&#1102;&#1094;&#1080;&#1103;" TargetMode="External"/><Relationship Id="rId5" Type="http://schemas.openxmlformats.org/officeDocument/2006/relationships/hyperlink" Target="http://ru.wikipedia.org/wiki/III_&#1086;&#1082;&#1088;&#1091;&#1075;_&#1055;&#1072;&#1088;&#1080;&#1078;&#1072;" TargetMode="External"/><Relationship Id="rId6" Type="http://schemas.openxmlformats.org/officeDocument/2006/relationships/hyperlink" Target="http://ru.wikipedia.org/wiki/IV_&#1086;&#1082;&#1088;&#1091;&#1075;_&#1055;&#1072;&#1088;&#1080;&#1078;&#1072;" TargetMode="External"/><Relationship Id="rId7" Type="http://schemas.openxmlformats.org/officeDocument/2006/relationships/hyperlink" Target="http://ru.wikipedia.org/wiki/XI_&#1086;&#1082;&#1088;&#1091;&#1075;_&#1055;&#1072;&#1088;&#1080;&#1078;&#1072;" TargetMode="External"/><Relationship Id="rId8" Type="http://schemas.openxmlformats.org/officeDocument/2006/relationships/hyperlink" Target="http://ru.wikipedia.org/wiki/XII_&#1086;&#1082;&#1088;&#1091;&#1075;_&#1055;&#1072;&#1088;&#1080;&#1078;&#1072;" TargetMode="External"/><Relationship Id="rId9" Type="http://schemas.openxmlformats.org/officeDocument/2006/relationships/hyperlink" Target="http://ru.wikipedia.org/wiki/&#1040;&#1076;&#1084;&#1080;&#1085;&#1080;&#1089;&#1090;&#1088;&#1072;&#1090;&#1080;&#1074;&#1085;&#1086;&#1077;_&#1076;&#1077;&#1083;&#1077;&#1085;&#1080;&#1077;_&#1055;&#1072;&#1088;&#1080;&#1078;&#1072;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2;&#1077;&#1083;&#1080;&#1082;&#1072;&#1103;_&#1060;&#1088;&#1072;&#1085;&#1094;&#1091;&#1079;&#1089;&#1082;&#1072;&#1103;_&#1088;&#1077;&#1074;&#1086;&#1083;&#1102;&#1094;&#1080;&#1103;" TargetMode="External"/><Relationship Id="rId3" Type="http://schemas.openxmlformats.org/officeDocument/2006/relationships/hyperlink" Target="http://ru.wikipedia.org/wiki/14_&#1080;&#1102;&#1083;&#1103;" TargetMode="External"/><Relationship Id="rId4" Type="http://schemas.openxmlformats.org/officeDocument/2006/relationships/hyperlink" Target="http://ru.wikipedia.org/wiki/1789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лощадь Бастил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лощадь Бастил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3200" spc="-1" strike="noStrike">
                <a:solidFill>
                  <a:srgbClr val="ffffff"/>
                </a:solidFill>
                <a:latin typeface="Tahoma"/>
              </a:rPr>
              <a:t>la place de la Bastill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) — площадь в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ариж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бязанная своим названием крепост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Бастил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азрушенной во время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Великой французской революц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Находится на границе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1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2-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округ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Является местом пересечения более чем десяти улиц и бульва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641520"/>
            <a:ext cx="8964720" cy="6216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начале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Великой Французской револю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4 июл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78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крепость была взята революционно настроенным населением. На то, чтобы разобрать крепость, ушло три года. От дома № 5 до дома № 49 по бульвару Генриха IV брусчаткой была выложена черта, которая обозначает контуры стен разрушенной креп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35280" y="190440"/>
            <a:ext cx="5333760" cy="6667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пустыре поставили табличку с надписью                                   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Désormais ici dansent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, что значит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тныне здесь танцую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 и ежегодно здесь стали устраиваться народные гулянья. Традиция сохраняется до сих пор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годня на площади устраиваются различные концерты, ярмарки, марши, это отправная точка многих демонстраций — политических, профсоюзных, первомайских и прочих. Парижская молодежь собирается здесь во многочисленных кафе, ресторанах и ночных клубах. 14 июля здесь проводится самый крупный парижский б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ое воскресенье с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г. здесь стартует прогулка на роликовых коньках. В туре участвует до 28 000 человек. Заезды сопровождает полиция, в том числе специальное подразделение на роликах. Этот тур популярен среди роллеров всего ми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bf0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6c00"/>
                </a:solidFill>
                <a:latin typeface="Tahoma"/>
              </a:rPr>
              <a:t>Made by Ilia Karpo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6:38:00Z</dcterms:created>
  <dc:creator>Irina</dc:creator>
  <dc:description/>
  <dc:language>en-US</dc:language>
  <cp:lastModifiedBy>IKo</cp:lastModifiedBy>
  <dcterms:modified xsi:type="dcterms:W3CDTF">2011-02-16T07:07:23Z</dcterms:modified>
  <cp:revision>4</cp:revision>
  <dc:subject/>
  <dc:title>Площадь Бастилии</dc:title>
</cp:coreProperties>
</file>