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gif" ContentType="image/gi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0FF-9027-4B31-8282-6C7A84EA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F72-6F36-412F-B627-10AB4BF1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67A-3E40-4B5A-9D51-F678E566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609-25FF-4BC7-962A-2E2858E2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BDEE-8361-4C54-82C5-DC4A0053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E190-7F33-49D2-BCFB-81C89452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2C2C-9BD4-445E-A84D-B825EB62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5850-6AA9-43DC-93AE-C23D5557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1D8F-DF4E-403F-872C-47AF8E06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0752-0E44-47A4-B022-D6F665B3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640A-667C-4C55-9FC0-8B1F9654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8CA-D158-4E2A-A879-3069FB88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534A-EC2A-42F6-A831-69AE1489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913A-65B0-408D-822D-86C8D26E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C32D-24C0-4458-9FF1-DB2F784B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A3C1-D017-4B93-A126-5172D90B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974F-DE35-4DAC-BC9F-85D07ED0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7C88-0629-4CF3-A1FB-A93D99D2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8A709-6C51-4E08-B035-351B4853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1925-7897-4D53-8D70-9C10B4DB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1BF85-4921-401F-A18C-2CD91C90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F5E45-48CA-4090-B265-DE672A45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D14-F1AE-4101-9D03-DA516E8D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9546-B86A-4981-84DD-A9A3096A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E4EA-FEB9-4B7E-9E68-221FB92C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96F5A-3E4C-4319-A206-9F5DAE9C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5956-8536-4820-886D-681EB6E6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D85E7-64FE-40D0-ABA5-CC2279E6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B8F96-76AB-4AE2-83BF-681E1936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E19CB-61D8-4431-AD2E-A9BF87ABA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87C28-086A-41FE-9558-61039DEE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F00C8-2976-4C89-99EC-C357FCA0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9BFE4-D2B1-4719-869D-B02B2716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D1B-1754-42AE-A551-22079D7E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253E0-0789-4D55-80C6-91CC801B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17164-02A0-4EFA-A71B-EAA8E284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EDD89-038C-4C73-B581-15D104A9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15C7E-48E7-4628-AE6D-FF4D6FEE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518B9-5403-4D32-BF7C-D5042325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B9AAF-B8FB-44D8-AF32-52C41BDC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C7C9C-3B78-4593-8D1F-B2DA7225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2F5AE-7771-4D7A-9B02-676F6938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3FF77-B1B3-4789-ADD4-93C05A9C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860-FAA9-40F9-B35C-AFB322EB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73AC-A07B-4437-BE87-68F2E948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370-D186-47C3-8A27-7CCDEF0F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481-EA87-4601-B4FB-EA7E0D65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CCF-664B-4389-9C86-CDB6DD76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3931-3247-4C91-8F0D-CAC79061D1B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287A-1426-44E7-9724-541726BF063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7794-5E43-4C01-BF3B-80F8DD5E5D12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C922-24D4-4894-A151-8E54B1BE058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57200" y="1197000"/>
            <a:ext cx="68580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Подготовка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к сжатому изложению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 9 класс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Picture 7" descr="141"/>
          <p:cNvPicPr/>
          <p:nvPr/>
        </p:nvPicPr>
        <p:blipFill>
          <a:blip r:embed="rId1"/>
          <a:stretch/>
        </p:blipFill>
        <p:spPr>
          <a:xfrm>
            <a:off x="152280" y="4343400"/>
            <a:ext cx="159228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мена однородных членов предложения обобщающим слово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920960"/>
            <a:ext cx="45435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ногие утверждают, что слушать музыку дома даже лучше, чем в зале: никто не шепчется, не шуршит конфетными бумажками, не кашляет, не скрипит кресл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286240" y="1920960"/>
            <a:ext cx="34005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Многие утверждают, что слушать музыку дома даже лучше, чем в зале: никто не меша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мена прямой речи косвенно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20960"/>
            <a:ext cx="4400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 Сударыня, вы подарили им минуту счастья, дав на миг позабыть ежедневные заботы»,-ответила горничная на вопрос великой балер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Горничная ответила, что балерина своим искусством подарила окружающим минуту счасть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Calibri"/>
              </a:rPr>
              <a:t>Замена простых предложений сложным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мню вечер перед Новым годом. Мне было шесть или семь лет. В подарок я получил книгу со сказками Андерсена. Так в моей жизни появился этот датский сказочни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(По К. Паустовско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Моя встреча с Андерсеном произошла в детстве, когда мне на Новый год подарили книгу с его сказк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Упражне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.Прочитайте текст, выделите ключевые сло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2800" spc="-1" strike="noStrike">
                <a:solidFill>
                  <a:srgbClr val="333333"/>
                </a:solidFill>
                <a:latin typeface="Constantia"/>
              </a:rPr>
              <a:t>Много есть озер на свете – больших и малых, глубоких и мелких, суровых и живописных, но ни одно из них не может сравниться с Байкалом, и нет другого такого водоема в мире, который мог бы соперничать с ним столь широкой известностью и громкой славой. И ни о каком другом озере не сложено так много легенд и сказаний, песен и стихов, поэм и рассказ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nstantia"/>
              </a:rPr>
              <a:t>     </a:t>
            </a:r>
            <a:r>
              <a:rPr b="0" lang="ru-RU" sz="2800" spc="-1" strike="noStrike">
                <a:solidFill>
                  <a:srgbClr val="333333"/>
                </a:solidFill>
                <a:latin typeface="Constantia"/>
              </a:rPr>
              <a:t>(Много озер, известность, легенды и песни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Прямоугольник 3"/>
          <p:cNvSpPr/>
          <p:nvPr/>
        </p:nvSpPr>
        <p:spPr>
          <a:xfrm>
            <a:off x="900000" y="4797360"/>
            <a:ext cx="7344000" cy="141768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3880" y="785880"/>
            <a:ext cx="7572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2.Прочитайте предложения и выпишите из них главную информацию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а) Многие вещества биологического происхождения, основой которых является вода, имеют жидкокристаллическую структур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Многие вещества биологического происхождения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, основой которых является вода,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имеют жидкокристаллическую структур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Прямоугольник 3"/>
          <p:cNvSpPr/>
          <p:nvPr/>
        </p:nvSpPr>
        <p:spPr>
          <a:xfrm>
            <a:off x="142920" y="3714840"/>
            <a:ext cx="8539200" cy="173016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Б) Принято считать, что чистый воздух нужен только людям, подтверждением тому является устойчивый оборот «как без воздуха», но чистый воздух необходим и в особо точном производстве, так как из-за пыли машины преждевременно изнашивают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Б) Ч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истый воздух нужен не только людям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, но и машинам, так как из-за пыли они преждевременно изнашиваю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395280" y="3286080"/>
            <a:ext cx="8286840" cy="178596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4"/>
          <p:cNvSpPr/>
          <p:nvPr/>
        </p:nvSpPr>
        <p:spPr>
          <a:xfrm>
            <a:off x="357120" y="3286080"/>
            <a:ext cx="8286840" cy="178596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8567640" cy="987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3. 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В данных предложениях найдите однородные члены, замените их обобщающим словом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197000"/>
            <a:ext cx="73864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нято считать, что телеграф, телефон, поезда, автомобили, поезда и лайнеры призваны экономить человеку его драгоценное врем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(Достижения техники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 каждой…чашки какой-нибудь, у дорожной или прогулочной палки, у книги, у зеркала все равно своя истор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f6fc6"/>
                </a:solidFill>
                <a:latin typeface="Constantia"/>
              </a:rPr>
              <a:t>(У каждого предмет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395280" y="5072040"/>
            <a:ext cx="7488360" cy="114300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324000" y="2857680"/>
            <a:ext cx="6480000" cy="57132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4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. Объедините предложения со схожим смыслом в сложные, запишите сокращенный вариант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928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арактер отдыха в наш интеллектуальный век значительно изменился. Что требуется для нормального отдыха? Прежде всего тишина. Современные исследования показывают, что человек, вернувшись с работы домой, стремится к изоляции от городского шума и сует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временные исследования показывают, что человеку для нормального отдыха прежде всего необходима тиши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395280" y="4429080"/>
            <a:ext cx="8286840" cy="221472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8684e"/>
                </a:solidFill>
                <a:latin typeface="Arial Black"/>
              </a:rPr>
              <a:t>Перестройте сложные предложение в простые, сохраняя их суть</a:t>
            </a:r>
            <a:r>
              <a:rPr b="0" i="1" lang="ru-RU" sz="2500" spc="-1" strike="noStrike">
                <a:solidFill>
                  <a:srgbClr val="08684e"/>
                </a:solidFill>
                <a:latin typeface="Arial Black"/>
              </a:rPr>
              <a:t>.</a:t>
            </a:r>
            <a:r>
              <a:rPr b="0" lang="ru-RU" sz="2500" spc="-1" strike="noStrike">
                <a:solidFill>
                  <a:srgbClr val="08684e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илософы, то есть древние философы, первыми поняли ценность времени – они наверняка еще до Сенеки пробовали как-то обуздать время, приручить, понять его природу, ибо и тогда оно доставляло людям огорчение своей быстротечностью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Ценность времени – в его быстротеч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Прямоугольник 3"/>
          <p:cNvSpPr/>
          <p:nvPr/>
        </p:nvSpPr>
        <p:spPr>
          <a:xfrm>
            <a:off x="395280" y="4714920"/>
            <a:ext cx="8286840" cy="121428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57120" y="4714920"/>
            <a:ext cx="8286840" cy="121428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8684e"/>
                </a:solidFill>
                <a:latin typeface="Arial Black"/>
              </a:rPr>
              <a:t>Перестройте сложные предложение в простые, сохраняя их суть</a:t>
            </a:r>
            <a:r>
              <a:rPr b="0" i="1" lang="ru-RU" sz="2500" spc="-1" strike="noStrike">
                <a:solidFill>
                  <a:srgbClr val="08684e"/>
                </a:solidFill>
                <a:latin typeface="Arial Black"/>
              </a:rPr>
              <a:t>.</a:t>
            </a:r>
            <a:r>
              <a:rPr b="0" lang="ru-RU" sz="2500" spc="-1" strike="noStrike">
                <a:solidFill>
                  <a:srgbClr val="08684e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ловой человек наращивает скорости, внедряет ЭВМ, переделывает универмаги в универсамы, печатает газеты фотоспособом, он и говорить старается лаконичнее, уже не пишет, а диктует в диктофон, а дефицит времени увеличивает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У делового человека дефицит времени увеличивает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428760" y="5000760"/>
            <a:ext cx="8286480" cy="135720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7500960" cy="142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жатое изложение – задание №1 экзаменационной работ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данной работе проверяются уме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ять тему и основную мысль высказы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делять микротем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делять главную информацию от второстепенн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здавать собственное связное высказывание в письменной форм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5.Замените прямую речь косвенной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женщины замолкли, оборванный охотник в обмотках из солдатской шинели сказал вполголоса своему спутнику: «Споем и мы, Ваня. Как думаешь?» «Ну что ж, споем», - согласился спутни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гда женщины замолкли, оборванный охотник в обмотках из солдатской шинели предложил своему спутнику спеть. Тот согласил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395280" y="3857760"/>
            <a:ext cx="8286840" cy="264312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357120" y="3933720"/>
            <a:ext cx="8286840" cy="2567160"/>
          </a:xfrm>
          <a:prstGeom prst="rect">
            <a:avLst/>
          </a:prstGeom>
          <a:solidFill>
            <a:srgbClr val="a5c249"/>
          </a:solidFill>
          <a:ln w="25560">
            <a:solidFill>
              <a:srgbClr val="788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444480" y="272520"/>
            <a:ext cx="569916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ать подтверждение – подтверди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сти доказательство – доказать;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одить исследование - …; совершать превращение - …; проявлять интерес -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цесс реакции – реакция; месяц март -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42560" y="765000"/>
            <a:ext cx="30718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6.Выберите из синонимичных языковых средств наиболее экономичны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400"/>
                            </p:stCondLst>
                            <p:childTnLst>
                              <p:par>
                                <p:cTn id="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00"/>
                            </p:stCondLst>
                            <p:childTnLst>
                              <p:par>
                                <p:cTn id="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400"/>
                            </p:stCondLst>
                            <p:childTnLst>
                              <p:par>
                                <p:cTn id="1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9280" y="836640"/>
            <a:ext cx="34560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7.Замените придаточное предложение предложно-падежной конструкцие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419280" y="475920"/>
            <a:ext cx="540036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того чтобы осуществить – для осуществления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того чтобы получить – для получения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того чтобы изменить - …; для того чтобы соединить - …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того чтобы распределить - …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того чтобы рассмотреть -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0320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любом случае можно заранее продумать и просчитать, что нужно сделать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тобы этого достичь (достичь цели)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(В любом случае можно заранее продумать и просчитать, что нужно сделать </a:t>
            </a:r>
            <a:r>
              <a:rPr b="1" lang="ru-RU" sz="2400" spc="-1" strike="noStrike">
                <a:solidFill>
                  <a:srgbClr val="0f6fc6"/>
                </a:solidFill>
                <a:latin typeface="Constantia"/>
              </a:rPr>
              <a:t>для достижения цел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нергии, выделяющейся для ядерной реакции, достаточно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тобы нагреть от комнатной температуры до кипения 150 т вод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ru-RU" sz="2400" spc="-1" strike="noStrike">
                <a:solidFill>
                  <a:srgbClr val="0f6fc6"/>
                </a:solidFill>
                <a:latin typeface="Constantia"/>
              </a:rPr>
              <a:t>( Энергии, выделяющейся при ядерной реакции, достаточно </a:t>
            </a:r>
            <a:r>
              <a:rPr b="1" lang="ru-RU" sz="2400" spc="-1" strike="noStrike">
                <a:solidFill>
                  <a:srgbClr val="0f6fc6"/>
                </a:solidFill>
                <a:latin typeface="Constantia"/>
              </a:rPr>
              <a:t>для нагревания от комнатной температуры до кипения 150 т воды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1434600"/>
            <a:ext cx="2819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7.Замените придаточное предложение предложно-падежной конструкци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2" name="Прямоугольник 5"/>
          <p:cNvGrpSpPr/>
          <p:nvPr/>
        </p:nvGrpSpPr>
        <p:grpSpPr>
          <a:xfrm>
            <a:off x="3706920" y="4322880"/>
            <a:ext cx="5224320" cy="1809720"/>
            <a:chOff x="3706920" y="4322880"/>
            <a:chExt cx="5224320" cy="1809720"/>
          </a:xfrm>
        </p:grpSpPr>
        <p:pic>
          <p:nvPicPr>
            <p:cNvPr id="263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3706920" y="4322880"/>
              <a:ext cx="522432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780000" y="4357800"/>
              <a:ext cx="507816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00"/>
                  </a:solidFill>
                  <a:latin typeface="Times New Roman"/>
                </a:rPr>
                <a:t>Проверь себ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оугольник 6"/>
          <p:cNvGrpSpPr/>
          <p:nvPr/>
        </p:nvGrpSpPr>
        <p:grpSpPr>
          <a:xfrm>
            <a:off x="3571920" y="1517760"/>
            <a:ext cx="5505480" cy="1304640"/>
            <a:chOff x="3571920" y="1517760"/>
            <a:chExt cx="5505480" cy="1304640"/>
          </a:xfrm>
        </p:grpSpPr>
        <p:pic>
          <p:nvPicPr>
            <p:cNvPr id="26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3571920" y="1517760"/>
              <a:ext cx="550548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3643200" y="1557360"/>
              <a:ext cx="535788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00"/>
                  </a:solidFill>
                  <a:latin typeface="Times New Roman"/>
                </a:rPr>
                <a:t>Проверь себ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оугольник 7"/>
          <p:cNvGrpSpPr/>
          <p:nvPr/>
        </p:nvGrpSpPr>
        <p:grpSpPr>
          <a:xfrm>
            <a:off x="3571920" y="1536840"/>
            <a:ext cx="5505480" cy="1303200"/>
            <a:chOff x="3571920" y="1536840"/>
            <a:chExt cx="5505480" cy="1303200"/>
          </a:xfrm>
        </p:grpSpPr>
        <p:pic>
          <p:nvPicPr>
            <p:cNvPr id="26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3571920" y="1536840"/>
              <a:ext cx="550548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3643200" y="1571760"/>
              <a:ext cx="535788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00"/>
                  </a:solidFill>
                  <a:latin typeface="Times New Roman"/>
                </a:rPr>
                <a:t>Проверь себ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60"/>
                            </p:stCondLst>
                            <p:childTnLst>
                              <p:par>
                                <p:cTn id="1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60"/>
                            </p:stCondLst>
                            <p:childTnLst>
                              <p:par>
                                <p:cTn id="1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60"/>
                            </p:stCondLst>
                            <p:childTnLst>
                              <p:par>
                                <p:cTn id="1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560"/>
                            </p:stCondLst>
                            <p:childTnLst>
                              <p:par>
                                <p:cTn id="1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286080" y="272520"/>
            <a:ext cx="58579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Чтобы ядерная реакция протекала,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необходимо снизить скорость движения нейронов приблизительно в 10000 раз.  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500" spc="-1" strike="noStrike">
                <a:solidFill>
                  <a:srgbClr val="0f6fc6"/>
                </a:solidFill>
                <a:latin typeface="Constantia"/>
              </a:rPr>
              <a:t>(Для протекания ядерной реакции </a:t>
            </a:r>
            <a:r>
              <a:rPr b="0" lang="ru-RU" sz="2500" spc="-1" strike="noStrike">
                <a:solidFill>
                  <a:srgbClr val="0f6fc6"/>
                </a:solidFill>
                <a:latin typeface="Constantia"/>
              </a:rPr>
              <a:t>необходимо снизить скорость движения нейронов приблизительно в 10000 раз)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Если бы на мгновение прекратилось действие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электромагнитных сил,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то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сразу бы исчезла жизнь, немыслимая без сил электромагнитной природы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2500" spc="-1" strike="noStrike">
                <a:solidFill>
                  <a:srgbClr val="0f6fc6"/>
                </a:solidFill>
                <a:latin typeface="Constantia"/>
              </a:rPr>
              <a:t>(С прекращением действия </a:t>
            </a:r>
            <a:r>
              <a:rPr b="0" lang="ru-RU" sz="2500" spc="-1" strike="noStrike">
                <a:solidFill>
                  <a:srgbClr val="0f6fc6"/>
                </a:solidFill>
                <a:latin typeface="Constantia"/>
              </a:rPr>
              <a:t>электромагнитных сил сразу бы исчезла жизнь, немыслимая без сил электромагнитной природы)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85840" y="765000"/>
            <a:ext cx="235728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8.Замените придаточные условия и причины предложно-падежной конструкцией или деепричастным оборот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73" name="Прямоугольник 5"/>
          <p:cNvGrpSpPr/>
          <p:nvPr/>
        </p:nvGrpSpPr>
        <p:grpSpPr>
          <a:xfrm>
            <a:off x="3213000" y="1536840"/>
            <a:ext cx="5864400" cy="1358640"/>
            <a:chOff x="3213000" y="1536840"/>
            <a:chExt cx="5864400" cy="1358640"/>
          </a:xfrm>
        </p:grpSpPr>
        <p:pic>
          <p:nvPicPr>
            <p:cNvPr id="274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3213000" y="1536840"/>
              <a:ext cx="586440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286080" y="1571760"/>
              <a:ext cx="571500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9900"/>
                  </a:solidFill>
                  <a:latin typeface="Times New Roman"/>
                </a:rPr>
                <a:t>Проверь себ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Прямоугольник 7"/>
          <p:cNvGrpSpPr/>
          <p:nvPr/>
        </p:nvGrpSpPr>
        <p:grpSpPr>
          <a:xfrm>
            <a:off x="3425760" y="4462560"/>
            <a:ext cx="5505480" cy="1577880"/>
            <a:chOff x="3425760" y="4462560"/>
            <a:chExt cx="5505480" cy="1577880"/>
          </a:xfrm>
        </p:grpSpPr>
        <p:pic>
          <p:nvPicPr>
            <p:cNvPr id="277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3425760" y="4462560"/>
              <a:ext cx="550548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500280" y="4500720"/>
              <a:ext cx="5357880" cy="14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9900"/>
                  </a:solidFill>
                  <a:latin typeface="Times New Roman"/>
                </a:rPr>
                <a:t>Проверь себ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28180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лан работы с текстом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акова тема текста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Какова основная мысль текста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йдите ключевые сло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ыделите микротем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Составьте план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икротем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63520" y="1785960"/>
            <a:ext cx="81662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Настроение зависит не от самих событий, а от их восприятия н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.Укаждого отрицательного переживания есть важные положительные функ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.Положительные функции отрицательных эмоций часто не могут проявиться без ваших усилий. Преодолев себя и отдав другу то, что вам нравится, вы порадуете друга и повысите свою самооцен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263520" y="285840"/>
          <a:ext cx="8380440" cy="6172200"/>
        </p:xfrm>
        <a:graphic>
          <a:graphicData uri="http://schemas.openxmlformats.org/drawingml/2006/table">
            <a:tbl>
              <a:tblPr/>
              <a:tblGrid>
                <a:gridCol w="4807080"/>
                <a:gridCol w="3573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абза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нт сжатого из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По мнению психологов, настроение преимущественно зависит не от событий как таковых, а от того, как мы их воспринимаем. 2)Ведь настроение показывает, как мы воспринимаем то, что произошло, и как мы воспринимаем свое поведение в это время. 3)Если мы в какой-то ситуации действовали во вред себе, своей личности, то возникают неприятные переживания, мы чувствуем себя несчастными. 4)Поведение, которое делает нас сильнее, способствует нашему развитию, и тогда настроение улучшается, возникает рад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Настроение зависит не от самих событий, а от их восприятия нами. 2)Оно является нашей оценкой собственного поведения.3)Действуя во вред себе, мы чувствуем себя несчастными. 4)Поведение, делающее нас сильнее, улучшает настро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ариант сжатого изложения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второго абзац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У каждого отрицательного переживания есть свои положительные функции. 2) Страх- сигнал  о необходимости проявить осторожность. 3)Печаль – способ привыкнуть к утрат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Calibri"/>
              </a:rPr>
              <a:t>Модель проведения сжатого изложе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1000080"/>
          <a:ext cx="9144000" cy="6410520"/>
        </p:xfrm>
        <a:graphic>
          <a:graphicData uri="http://schemas.openxmlformats.org/drawingml/2006/table">
            <a:tbl>
              <a:tblPr/>
              <a:tblGrid>
                <a:gridCol w="685800"/>
                <a:gridCol w="3525840"/>
                <a:gridCol w="3097080"/>
                <a:gridCol w="1835280"/>
              </a:tblGrid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та организат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йствия экзаменуем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ное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ить аудиозапис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ра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лушивают  исходный текст.  Во  время  чтения текста   делают   запис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– 3 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83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ь время на осмысление тек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ют с черновикам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-4 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ить аудиозапис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ой ра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лушивают исход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– 3 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ключить запись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ить о начал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сания изложения и о возможности пользовать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ар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шут излож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ариант сжатого изложения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третьего абзац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)Положительные функции отрицательных эмоций не могут проявиться без ваших усилий. 2)Вы долго ищете подарок другу на день рождения, а придя домой, вспоминаете, что друг позавидовал тому, что вы купили новый альбом любимой группы. 3)Преодолевая себя, дарите ему диск, который вам нравится.5) Так вы обрадуете друга и повысите свою самооцен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65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Bookman Old Style"/>
              </a:rPr>
              <a:t>Использованная литератур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ИА 2012. Русский язык. Успешная подготовка. Разбор заданий.  Драбкина С.В., Субботин Д.И.-М.:201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кспресс-репетитор для подготовки к ГИА. Сжатое изложение. Е. В. Корчагина, Е. С. Симакова.- АСТ, Астрель,2011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ГИА. Система упражнений по подготовке к написанию сжатого изложения. Егораева Г.Т.- Экзамен., М.:201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Calibri"/>
              </a:rPr>
              <a:t>АЛГОРИТМ РАБОТЫ УЧАЩИХСЯ</a:t>
            </a:r>
            <a:r>
              <a:rPr b="1" lang="ru-RU" sz="25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2500"/>
            </a:br>
            <a:r>
              <a:rPr b="1" lang="ru-RU" sz="2500" spc="-1" strike="noStrike">
                <a:solidFill>
                  <a:srgbClr val="04617b"/>
                </a:solidFill>
                <a:latin typeface="Calibri"/>
              </a:rPr>
              <a:t>над сжатым изложением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рвичное прослушивание текста(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льше слушай – меньше пиши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мысление услышанного (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пись ключевых слов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деление микротем, составление пла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ичное прослушивание текста(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точнение содержания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деление главной информации от второстепенн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пись содержания каждой микротемы в сжатой форме (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рнови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рректировка текста (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оверка содержания, исправление речевых недочетов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бота со словарем (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справление орфографических ошибок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реписывание на чистови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тоговая провер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особы сокращения текс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9280" y="1600200"/>
            <a:ext cx="4176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684e"/>
                </a:solidFill>
                <a:latin typeface="Constantia"/>
              </a:rPr>
              <a:t>Содержательны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dd9"/>
                </a:solidFill>
                <a:latin typeface="Arial Black"/>
              </a:rPr>
              <a:t>Разделение 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dd9"/>
                </a:solidFill>
                <a:latin typeface="Arial Black"/>
              </a:rPr>
              <a:t>   </a:t>
            </a:r>
            <a:r>
              <a:rPr b="1" lang="ru-RU" sz="2600" spc="-1" strike="noStrike">
                <a:solidFill>
                  <a:srgbClr val="009dd9"/>
                </a:solidFill>
                <a:latin typeface="Arial Black"/>
              </a:rPr>
              <a:t>на главную и второстепен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dd9"/>
                </a:solidFill>
                <a:latin typeface="Arial Black"/>
              </a:rPr>
              <a:t>   </a:t>
            </a:r>
            <a:r>
              <a:rPr b="1" lang="ru-RU" sz="2600" spc="-1" strike="noStrike">
                <a:solidFill>
                  <a:srgbClr val="009dd9"/>
                </a:solidFill>
                <a:latin typeface="Arial Black"/>
              </a:rPr>
              <a:t>ную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dd9"/>
                </a:solidFill>
                <a:latin typeface="Arial Black"/>
              </a:rPr>
              <a:t>Свёртывание информации за счёт обобщ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788000" y="1599840"/>
            <a:ext cx="4176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Arial Black"/>
              </a:rPr>
              <a:t>Замен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Arial Black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Arial Black"/>
              </a:rPr>
              <a:t>Слия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1763640" y="1197000"/>
            <a:ext cx="503280" cy="934920"/>
          </a:xfrm>
          <a:prstGeom prst="downArrow">
            <a:avLst>
              <a:gd name="adj1" fmla="val 50000"/>
              <a:gd name="adj2" fmla="val 46441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948360" y="1268280"/>
            <a:ext cx="503280" cy="935280"/>
          </a:xfrm>
          <a:prstGeom prst="downArrow">
            <a:avLst>
              <a:gd name="adj1" fmla="val 50000"/>
              <a:gd name="adj2" fmla="val 46459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5867280" y="2205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684e"/>
                </a:solidFill>
                <a:latin typeface="Times New Roman"/>
              </a:rPr>
              <a:t>Язы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82818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Языковые приемы сокращения текс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nstantia"/>
              </a:rPr>
              <a:t>Замена</a:t>
            </a: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 однородных членов предложения обобщающим слов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nstantia"/>
              </a:rPr>
              <a:t>Замена</a:t>
            </a: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 фрагмента предложения синоним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nstantia"/>
              </a:rPr>
              <a:t>Замена</a:t>
            </a: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 предложения или его части указательным местоимение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nstantia"/>
              </a:rPr>
              <a:t>Замена</a:t>
            </a: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 СПП просты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Перевод прямой речи в косвенную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nstantia"/>
              </a:rPr>
              <a:t>Исключение</a:t>
            </a: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 повтор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nstantia"/>
              </a:rPr>
              <a:t>Исключение</a:t>
            </a: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 синоним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nstantia"/>
              </a:rPr>
              <a:t>Исключение </a:t>
            </a: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менее существенного фрагмента предлож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Constantia"/>
              </a:rPr>
              <a:t>Слияние</a:t>
            </a:r>
            <a:r>
              <a:rPr b="1" lang="ru-RU" sz="2800" spc="-1" strike="noStrike">
                <a:solidFill>
                  <a:srgbClr val="ff9900"/>
                </a:solidFill>
                <a:latin typeface="Constantia"/>
              </a:rPr>
              <a:t> несколько предложений в одн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571320"/>
            <a:ext cx="74768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сключение повторов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920960"/>
            <a:ext cx="4614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увства – это внутреннее отношение человека к окружающему. Чувства – это неотъемлемая часть нашей лич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57520" y="1920960"/>
            <a:ext cx="33289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Чувства – это внутреннее отношение человека к окружающему, неотъемлемая часть нашей лич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сключение синоним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20960"/>
            <a:ext cx="4400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 фотография учеников есть: деревенские ребятишки с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открытыми, простодушными, ясными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лицам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И фотография учеников есть: деревенские ребятишки с ясными лиц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сключение уточняющих, вводных конструкций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акие люди, разумеется, ничему не удивляются, а следовательно, и не способны совершить открытие, даже самое маленько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Такие люди ничему не удивляются и не способны совершить открыт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8:30:53Z</dcterms:created>
  <dc:creator>Инна</dc:creator>
  <dc:description/>
  <dc:language>en-US</dc:language>
  <cp:lastModifiedBy>Ирина</cp:lastModifiedBy>
  <dcterms:modified xsi:type="dcterms:W3CDTF">2013-02-13T21:56:36Z</dcterms:modified>
  <cp:revision>36</cp:revision>
  <dc:subject/>
  <dc:title>Содержательные и языковые способы сокращения текста</dc:title>
</cp:coreProperties>
</file>