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gif" ContentType="image/gi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700-2729-4ED5-A803-595B39B4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EAE-EDC2-48EC-8C5B-37128A18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998-3858-40BD-86FE-F7ADBCED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8B9-3F28-4F2D-B4A9-BCF61EB4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8C48-2F47-4015-AF25-A9C1738A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4274-7B93-4EE2-BD12-BEB596F8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2815-C2F4-4575-91A4-77B655F6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51F3-509B-425E-ADA0-700000F4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173D-8EE8-4A31-8E25-585B2F29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6B5D-6141-4C03-8635-DA0A6A2F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C659-1B70-4D24-A1C0-BFF2722D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88A-1CF5-4260-9E47-F48875FD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BEC4-9AA9-42FA-AC23-1E059F6A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DC57-1B86-417C-9DEB-0D8F7E32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3157-C49A-405F-A1B0-A6688DE1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B370-F9ED-4A53-BBB7-1993B93D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27EA-739D-41FC-9505-C4815878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A1AAD-F60C-48AC-8F67-521EE492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6E140-3AD5-4DCF-B23E-AAFC4BC8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FDF6E-7002-46D2-BEDB-B81262E4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6E97B-36F6-43E6-8FF2-1E7169A4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239B8-0B60-4CA4-ACD0-D48F808F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398-F480-4398-8D28-98B8F813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F56FE-DBEC-428E-AA23-3A81F340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827F1-8B02-403A-AF84-4E7F72E2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65E98-C5A6-448C-B5B4-73145BD0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0703C-DFC0-4E7B-88A3-F3C3C7AE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90F54-033E-4920-8457-B3EF9C0A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CCBB4-CFB7-419E-A96B-AB03A6C7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8331F-DF37-4BF3-BA86-52EF9B82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4042A-5461-4A94-9919-746D0815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3B3F4-92FB-4BF4-A28B-CBB390DE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0E95A-3705-4956-A1AB-078D7F90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A6E1-EE79-49B7-AE19-AEE485DB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C27CA-83FD-4AF8-A66D-FB5CC01C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A0D58-4A3E-4FC4-8471-AFB2D9A6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E0F9A-5776-4216-8F0F-29D222CC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C57C3-AAAB-4609-9F61-61CAA44B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41903-CAA7-4A63-9C8C-4DF656AF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9B400-E143-46F8-89EE-92449183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58A26-3EDB-42A2-884A-E58A083A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09F86-365C-4F00-BAE9-376790C0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91E6D-C948-401B-AA50-4E7C0B8C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F8A2-ADAC-4B8D-B01D-F5871807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11DE-1F55-4D8A-8845-E1DEA28A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63F-3171-4A28-9F71-AEB0C772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A886-D4FC-4E93-AEDC-3F8BECDF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429-2A0C-45D4-AF5A-B86A96F3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5B01-42CD-406F-9201-4DA4991D938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80B1-6ABD-442D-8349-B350D21E583C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8E4E-4FBD-41E3-8D50-9450B6337B03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1BF2-0BBA-477D-9589-BB1154AD69C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357200" y="1197000"/>
            <a:ext cx="68580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Подготовка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к сжатому изложению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в 9 класс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Picture 7" descr="141"/>
          <p:cNvPicPr/>
          <p:nvPr/>
        </p:nvPicPr>
        <p:blipFill>
          <a:blip r:embed="rId1"/>
          <a:stretch/>
        </p:blipFill>
        <p:spPr>
          <a:xfrm>
            <a:off x="152280" y="4343400"/>
            <a:ext cx="1592280" cy="2209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мена однородных членов предложения обобщающим слово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920960"/>
            <a:ext cx="45435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ногие утверждают, что слушать музыку дома даже лучше, чем в зале: никто не шепчется, не шуршит конфетными бумажками, не кашляет, не скрипит кресл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286240" y="1920960"/>
            <a:ext cx="34005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Многие утверждают, что слушать музыку дома даже лучше, чем в зале: никто не меша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мена прямой речи косвенно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20960"/>
            <a:ext cx="4400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 Сударыня, вы подарили им минуту счастья, дав на миг позабыть ежедневные заботы»,-ответила горничная на вопрос великой балери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Горничная ответила, что балерина своим искусством подарила окружающим минуту счасть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Calibri"/>
              </a:rPr>
              <a:t>Замена простых предложений сложным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мню вечер перед Новым годом. Мне было шесть или семь лет. В подарок я получил книгу со сказками Андерсена. Так в моей жизни появился этот датский сказочни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(По К. Паустовском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Моя встреча с Андерсеном произошла в детстве, когда мне на Новый год подарили книгу с его сказк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Упражне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.Прочитайте текст, выделите ключевые сло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800" spc="-1" strike="noStrike">
                <a:solidFill>
                  <a:srgbClr val="333333"/>
                </a:solidFill>
                <a:latin typeface="Constantia"/>
              </a:rPr>
              <a:t>Много есть озер на свете – больших и малых, глубоких и мелких, суровых и живописных, но ни одно из них не может сравниться с Байкалом, и нет другого такого водоема в мире, который мог бы соперничать с ним столь широкой известностью и громкой славой. И ни о каком другом озере не сложено так много легенд и сказаний, песен и стихов, поэм и рассказов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nstantia"/>
              </a:rPr>
              <a:t>     </a:t>
            </a:r>
            <a:r>
              <a:rPr b="0" lang="ru-RU" sz="2800" spc="-1" strike="noStrike">
                <a:solidFill>
                  <a:srgbClr val="333333"/>
                </a:solidFill>
                <a:latin typeface="Constantia"/>
              </a:rPr>
              <a:t>(Много озер, известность, легенды и песни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Прямоугольник 3"/>
          <p:cNvSpPr/>
          <p:nvPr/>
        </p:nvSpPr>
        <p:spPr>
          <a:xfrm>
            <a:off x="900000" y="4797360"/>
            <a:ext cx="7344000" cy="141768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3880" y="785880"/>
            <a:ext cx="7572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2.Прочитайте предложения и выпишите из них главную информацию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а) Многие вещества биологического происхождения, основой которых является вода, имеют жидкокристаллическую структур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Многие вещества биологического происхождения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, основой которых является вода,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имеют жидкокристаллическую структур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Прямоугольник 3"/>
          <p:cNvSpPr/>
          <p:nvPr/>
        </p:nvSpPr>
        <p:spPr>
          <a:xfrm>
            <a:off x="142920" y="3714840"/>
            <a:ext cx="8539200" cy="173016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Б) Принято считать, что чистый воздух нужен только людям, подтверждением тому является устойчивый оборот «как без воздуха», но чистый воздух необходим и в особо точном производстве, так как из-за пыли машины преждевременно изнашивают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Б) Ч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истый воздух нужен не только людям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, но и машинам, так как из-за пыли они преждевременно изнашивают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395280" y="3286080"/>
            <a:ext cx="8286840" cy="178596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4"/>
          <p:cNvSpPr/>
          <p:nvPr/>
        </p:nvSpPr>
        <p:spPr>
          <a:xfrm>
            <a:off x="357120" y="3286080"/>
            <a:ext cx="8286840" cy="178596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8567640" cy="987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3. </a:t>
            </a: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В данных предложениях найдите однородные члены, замените их обобщающим словом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63520" y="1197000"/>
            <a:ext cx="73864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нято считать, что телеграф, телефон, поезда, автомобили, поезда и лайнеры призваны экономить человеку его драгоценное врем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(Достижения техники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каждой…чашки какой-нибудь, у дорожной или прогулочной палки, у книги, у зеркала все равно своя истор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(У каждого предмет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395280" y="5072040"/>
            <a:ext cx="7488360" cy="114300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324000" y="2857680"/>
            <a:ext cx="6480000" cy="57132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45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4</a:t>
            </a: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. Объедините предложения со схожим смыслом в сложные, запишите сокращенный вариант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9284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арактер отдыха в наш интеллектуальный век значительно изменился. Что требуется для нормального отдыха? Прежде всего тишина. Современные исследования показывают, что человек, вернувшись с работы домой, стремится к изоляции от городского шума и сует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временные исследования показывают, что человеку для нормального отдыха прежде всего необходима тиши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Прямоугольник 3"/>
          <p:cNvSpPr/>
          <p:nvPr/>
        </p:nvSpPr>
        <p:spPr>
          <a:xfrm>
            <a:off x="395280" y="4429080"/>
            <a:ext cx="8286840" cy="221472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8684e"/>
                </a:solidFill>
                <a:latin typeface="Arial Black"/>
              </a:rPr>
              <a:t>Перестройте сложные предложение в простые, сохраняя их суть</a:t>
            </a:r>
            <a:r>
              <a:rPr b="0" i="1" lang="ru-RU" sz="2500" spc="-1" strike="noStrike">
                <a:solidFill>
                  <a:srgbClr val="08684e"/>
                </a:solidFill>
                <a:latin typeface="Arial Black"/>
              </a:rPr>
              <a:t>.</a:t>
            </a:r>
            <a:r>
              <a:rPr b="0" lang="ru-RU" sz="2500" spc="-1" strike="noStrike">
                <a:solidFill>
                  <a:srgbClr val="08684e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Философы, то есть древние философы, первыми поняли ценность времени – они наверняка еще до Сенеки пробовали как-то обуздать время, приручить, понять его природу, ибо и тогда оно доставляло людям огорчение своей быстротечность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Ценность времени – в его быстротеч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Прямоугольник 3"/>
          <p:cNvSpPr/>
          <p:nvPr/>
        </p:nvSpPr>
        <p:spPr>
          <a:xfrm>
            <a:off x="395280" y="4714920"/>
            <a:ext cx="8286840" cy="121428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57120" y="4714920"/>
            <a:ext cx="8286840" cy="121428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8684e"/>
                </a:solidFill>
                <a:latin typeface="Arial Black"/>
              </a:rPr>
              <a:t>Перестройте сложные предложение в простые, сохраняя их суть</a:t>
            </a:r>
            <a:r>
              <a:rPr b="0" i="1" lang="ru-RU" sz="2500" spc="-1" strike="noStrike">
                <a:solidFill>
                  <a:srgbClr val="08684e"/>
                </a:solidFill>
                <a:latin typeface="Arial Black"/>
              </a:rPr>
              <a:t>.</a:t>
            </a:r>
            <a:r>
              <a:rPr b="0" lang="ru-RU" sz="2500" spc="-1" strike="noStrike">
                <a:solidFill>
                  <a:srgbClr val="08684e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еловой человек наращивает скорости, внедряет ЭВМ, переделывает универмаги в универсамы, печатает газеты фотоспособом, он и говорить старается лаконичнее, уже не пишет, а диктует в диктофон, а дефицит времени увеличивает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У делового человека дефицит времени увеличивает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428760" y="5000760"/>
            <a:ext cx="8286480" cy="135720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7500960" cy="142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жатое изложение – задание №1 экзаменационной работ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данной работе проверяются умени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ять тему и основную мысль высказы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делять микротем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делять главную информацию от второстепенн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здавать собственное связное высказывание в письменной форм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5.Замените прямую речь косвенной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гда женщины замолкли, оборванный охотник в обмотках из солдатской шинели сказал вполголоса своему спутнику: «Споем и мы, Ваня. Как думаешь?» «Ну что ж, споем», - согласился спутни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гда женщины замолкли, оборванный охотник в обмотках из солдатской шинели предложил своему спутнику спеть. Тот согласил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395280" y="3857760"/>
            <a:ext cx="8286840" cy="264312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357120" y="3933720"/>
            <a:ext cx="8286840" cy="256716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444480" y="272520"/>
            <a:ext cx="569916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ать подтверждение – подтверди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вести доказательство – доказать;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одить исследование - …; совершать превращение - …; проявлять интерес -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цесс реакции – реакция; месяц март -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42560" y="765000"/>
            <a:ext cx="30718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6.Выберите из синонимичных языковых средств наиболее экономичны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400"/>
                            </p:stCondLst>
                            <p:childTnLst>
                              <p:par>
                                <p:cTn id="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900"/>
                            </p:stCondLst>
                            <p:childTnLst>
                              <p:par>
                                <p:cTn id="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400"/>
                            </p:stCondLst>
                            <p:childTnLst>
                              <p:par>
                                <p:cTn id="1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900"/>
                            </p:stCondLst>
                            <p:childTnLst>
                              <p:par>
                                <p:cTn id="1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9280" y="836640"/>
            <a:ext cx="34560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7.Замените придаточное предложение предложно-падежной конструкцие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419280" y="475920"/>
            <a:ext cx="540036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того чтобы осуществить – для осуществления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того чтобы получить – для получения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того чтобы изменить - …; для того чтобы соединить - …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того чтобы распределить - …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того чтобы рассмотреть -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0320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любом случае можно заранее продумать и просчитать, что нужно сделать,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тобы этого достичь (достичь цели)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(В любом случае можно заранее продумать и просчитать, что нужно сделать </a:t>
            </a:r>
            <a:r>
              <a:rPr b="1" lang="ru-RU" sz="2400" spc="-1" strike="noStrike">
                <a:solidFill>
                  <a:srgbClr val="0f6fc6"/>
                </a:solidFill>
                <a:latin typeface="Constantia"/>
              </a:rPr>
              <a:t>для достижения цел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нергии, выделяющейся для ядерной реакции, достаточно,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тобы нагреть от комнатной температуры до кипения 150 т воды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( Энергии, выделяющейся при ядерной реакции, достаточно </a:t>
            </a:r>
            <a:r>
              <a:rPr b="1" lang="ru-RU" sz="2400" spc="-1" strike="noStrike">
                <a:solidFill>
                  <a:srgbClr val="0f6fc6"/>
                </a:solidFill>
                <a:latin typeface="Constantia"/>
              </a:rPr>
              <a:t>для нагревания от комнатной температуры до кипения 150 т воды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0" y="1434600"/>
            <a:ext cx="2819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7.Замените придаточное предложение предложно-падежной конструкцие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2" name="Прямоугольник 5"/>
          <p:cNvGrpSpPr/>
          <p:nvPr/>
        </p:nvGrpSpPr>
        <p:grpSpPr>
          <a:xfrm>
            <a:off x="3706920" y="4322880"/>
            <a:ext cx="5224320" cy="1809720"/>
            <a:chOff x="3706920" y="4322880"/>
            <a:chExt cx="5224320" cy="1809720"/>
          </a:xfrm>
        </p:grpSpPr>
        <p:pic>
          <p:nvPicPr>
            <p:cNvPr id="263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3706920" y="4322880"/>
              <a:ext cx="522432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3780000" y="4357800"/>
              <a:ext cx="5078160" cy="16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00"/>
                  </a:solidFill>
                  <a:latin typeface="Times New Roman"/>
                </a:rPr>
                <a:t>Проверь себ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оугольник 6"/>
          <p:cNvGrpSpPr/>
          <p:nvPr/>
        </p:nvGrpSpPr>
        <p:grpSpPr>
          <a:xfrm>
            <a:off x="3571920" y="1517760"/>
            <a:ext cx="5505480" cy="1304640"/>
            <a:chOff x="3571920" y="1517760"/>
            <a:chExt cx="5505480" cy="1304640"/>
          </a:xfrm>
        </p:grpSpPr>
        <p:pic>
          <p:nvPicPr>
            <p:cNvPr id="266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3571920" y="1517760"/>
              <a:ext cx="550548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3643200" y="1557360"/>
              <a:ext cx="535788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00"/>
                  </a:solidFill>
                  <a:latin typeface="Times New Roman"/>
                </a:rPr>
                <a:t>Проверь себ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оугольник 7"/>
          <p:cNvGrpSpPr/>
          <p:nvPr/>
        </p:nvGrpSpPr>
        <p:grpSpPr>
          <a:xfrm>
            <a:off x="3571920" y="1536840"/>
            <a:ext cx="5505480" cy="1303200"/>
            <a:chOff x="3571920" y="1536840"/>
            <a:chExt cx="5505480" cy="1303200"/>
          </a:xfrm>
        </p:grpSpPr>
        <p:pic>
          <p:nvPicPr>
            <p:cNvPr id="26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571920" y="1536840"/>
              <a:ext cx="550548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3643200" y="1571760"/>
              <a:ext cx="535788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00"/>
                  </a:solidFill>
                  <a:latin typeface="Times New Roman"/>
                </a:rPr>
                <a:t>Проверь себ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60"/>
                            </p:stCondLst>
                            <p:childTnLst>
                              <p:par>
                                <p:cTn id="1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60"/>
                            </p:stCondLst>
                            <p:childTnLst>
                              <p:par>
                                <p:cTn id="1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560"/>
                            </p:stCondLst>
                            <p:childTnLst>
                              <p:par>
                                <p:cTn id="1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560"/>
                            </p:stCondLst>
                            <p:childTnLst>
                              <p:par>
                                <p:cTn id="1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286080" y="272520"/>
            <a:ext cx="58579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Чтобы ядерная реакция протекала,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необходимо снизить скорость движения нейронов приблизительно в 10000 раз.  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500" spc="-1" strike="noStrike">
                <a:solidFill>
                  <a:srgbClr val="0f6fc6"/>
                </a:solidFill>
                <a:latin typeface="Constantia"/>
              </a:rPr>
              <a:t>(Для протекания ядерной реакции </a:t>
            </a:r>
            <a:r>
              <a:rPr b="0" lang="ru-RU" sz="2500" spc="-1" strike="noStrike">
                <a:solidFill>
                  <a:srgbClr val="0f6fc6"/>
                </a:solidFill>
                <a:latin typeface="Constantia"/>
              </a:rPr>
              <a:t>необходимо снизить скорость движения нейронов приблизительно в 10000 раз)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Если бы на мгновение прекратилось действие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электромагнитных сил, </a:t>
            </a: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то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сразу бы исчезла жизнь, немыслимая без сил электромагнитной природы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ru-RU" sz="2500" spc="-1" strike="noStrike">
                <a:solidFill>
                  <a:srgbClr val="0f6fc6"/>
                </a:solidFill>
                <a:latin typeface="Constantia"/>
              </a:rPr>
              <a:t>(С прекращением действия </a:t>
            </a:r>
            <a:r>
              <a:rPr b="0" lang="ru-RU" sz="2500" spc="-1" strike="noStrike">
                <a:solidFill>
                  <a:srgbClr val="0f6fc6"/>
                </a:solidFill>
                <a:latin typeface="Constantia"/>
              </a:rPr>
              <a:t>электромагнитных сил сразу бы исчезла жизнь, немыслимая без сил электромагнитной природы)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85840" y="765000"/>
            <a:ext cx="235728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8.Замените придаточные условия и причины предложно-падежной конструкцией или деепричастным оборот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73" name="Прямоугольник 5"/>
          <p:cNvGrpSpPr/>
          <p:nvPr/>
        </p:nvGrpSpPr>
        <p:grpSpPr>
          <a:xfrm>
            <a:off x="3213000" y="1536840"/>
            <a:ext cx="5864400" cy="1358640"/>
            <a:chOff x="3213000" y="1536840"/>
            <a:chExt cx="5864400" cy="1358640"/>
          </a:xfrm>
        </p:grpSpPr>
        <p:pic>
          <p:nvPicPr>
            <p:cNvPr id="274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3213000" y="1536840"/>
              <a:ext cx="586440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3286080" y="1571760"/>
              <a:ext cx="57150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9900"/>
                  </a:solidFill>
                  <a:latin typeface="Times New Roman"/>
                </a:rPr>
                <a:t>Проверь себ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Прямоугольник 7"/>
          <p:cNvGrpSpPr/>
          <p:nvPr/>
        </p:nvGrpSpPr>
        <p:grpSpPr>
          <a:xfrm>
            <a:off x="3425760" y="4462560"/>
            <a:ext cx="5505480" cy="1577880"/>
            <a:chOff x="3425760" y="4462560"/>
            <a:chExt cx="5505480" cy="1577880"/>
          </a:xfrm>
        </p:grpSpPr>
        <p:pic>
          <p:nvPicPr>
            <p:cNvPr id="277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3425760" y="4462560"/>
              <a:ext cx="5505480" cy="15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500280" y="4500720"/>
              <a:ext cx="535788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9900"/>
                  </a:solidFill>
                  <a:latin typeface="Times New Roman"/>
                </a:rPr>
                <a:t>Проверь себ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281800" cy="6337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лан работы с текстом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акова тема текста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акова основная мысль текста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йдите ключевые сло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ыделите микротем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оставьте план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Микротем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63520" y="1785960"/>
            <a:ext cx="81662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.Настроение зависит не от самих событий, а от их восприятия н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.Укаждого отрицательного переживания есть важные положительные функц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.Положительные функции отрицательных эмоций часто не могут проявиться без ваших усилий. Преодолев себя и отдав другу то, что вам нравится, вы порадуете друга и повысите свою самооценк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263520" y="285840"/>
          <a:ext cx="8380440" cy="6172200"/>
        </p:xfrm>
        <a:graphic>
          <a:graphicData uri="http://schemas.openxmlformats.org/drawingml/2006/table">
            <a:tbl>
              <a:tblPr/>
              <a:tblGrid>
                <a:gridCol w="4807080"/>
                <a:gridCol w="3573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абза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сжатого изло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По мнению психологов, настроение преимущественно зависит не от событий как таковых, а от того, как мы их воспринимаем. 2)Ведь настроение показывает, как мы воспринимаем то, что произошло, и как мы воспринимаем свое поведение в это время. 3)Если мы в какой-то ситуации действовали во вред себе, своей личности, то возникают неприятные переживания, мы чувствуем себя несчастными. 4)Поведение, которое делает нас сильнее, способствует нашему развитию, и тогда настроение улучшается, возникает рад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Настроение зависит не от самих событий, а от их восприятия нами. 2)Оно является нашей оценкой собственного поведения.3)Действуя во вред себе, мы чувствуем себя несчастными. 4)Поведение, делающее нас сильнее, улучшает настро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ариант сжатого изложения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второго абзац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)У каждого отрицательного переживания есть свои положительные функции. 2) Страх- сигнал  о необходимости проявить осторожность. 3)Печаль – способ привыкнуть к утрата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03e"/>
                </a:solidFill>
                <a:latin typeface="Calibri"/>
              </a:rPr>
              <a:t>Модель проведения сжатого изложе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1000080"/>
          <a:ext cx="9144000" cy="6410520"/>
        </p:xfrm>
        <a:graphic>
          <a:graphicData uri="http://schemas.openxmlformats.org/drawingml/2006/table">
            <a:tbl>
              <a:tblPr/>
              <a:tblGrid>
                <a:gridCol w="685800"/>
                <a:gridCol w="3525840"/>
                <a:gridCol w="3097080"/>
                <a:gridCol w="183528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та организа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йствия экзаменуем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рное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ить аудиозапис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ра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лушивают  исходный текст.  Во  время  чтения текста   делают   запис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 – 3 м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83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ь время на осмысление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ют с черновикам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-4 м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ить аудиозапис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ой ра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лушивают исход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 – 3 м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ключить запись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бщить о начал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исания изложения и о возможности пользовать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аре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шут излож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ариант сжатого изложения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третьего абзац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)Положительные функции отрицательных эмоций не могут проявиться без ваших усилий. 2)Вы долго ищете подарок другу на день рождения, а придя домой, вспоминаете, что друг позавидовал тому, что вы купили новый альбом любимой группы. 3)Преодолевая себя, дарите ему диск, который вам нравится.5) Так вы обрадуете друга и повысите свою самооценк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65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Bookman Old Style"/>
              </a:rPr>
              <a:t>Использованная литератур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ИА 2012. Русский язык. Успешная подготовка. Разбор заданий.  Драбкина С.В., Субботин Д.И.-М.:201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спресс-репетитор для подготовки к ГИА. Сжатое изложение. Е. В. Корчагина, Е. С. Симакова.- АСТ, Астрель,2011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ИА. Система упражнений по подготовке к написанию сжатого изложения. Егораева Г.Т.- Экзамен., М.:201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617b"/>
                </a:solidFill>
                <a:latin typeface="Calibri"/>
              </a:rPr>
              <a:t>АЛГОРИТМ РАБОТЫ УЧАЩИХСЯ</a:t>
            </a:r>
            <a:r>
              <a:rPr b="1" lang="ru-RU" sz="25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2500"/>
            </a:br>
            <a:r>
              <a:rPr b="1" lang="ru-RU" sz="2500" spc="-1" strike="noStrike">
                <a:solidFill>
                  <a:srgbClr val="04617b"/>
                </a:solidFill>
                <a:latin typeface="Calibri"/>
              </a:rPr>
              <a:t>над сжатым изложением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ервичное прослушивание текста(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ольше слушай – меньше пиши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мысление услышанного (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пись ключевых слов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деление микротем, составление пла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ичное прослушивание текста(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точнение содержания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деление главной информации от второстепенн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пись содержания каждой микротемы в сжатой форме (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рновик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рректировка текста (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верка содержания, исправление речевых недочетов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бота со словарем (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справление орфографических ошибок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ереписывание на чистови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тоговая провер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пособы сокращения текс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79280" y="1600200"/>
            <a:ext cx="4176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684e"/>
                </a:solidFill>
                <a:latin typeface="Constantia"/>
              </a:rPr>
              <a:t>Содержательны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dd9"/>
                </a:solidFill>
                <a:latin typeface="Arial Black"/>
              </a:rPr>
              <a:t>Разделение информ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dd9"/>
                </a:solidFill>
                <a:latin typeface="Arial Black"/>
              </a:rPr>
              <a:t>   </a:t>
            </a:r>
            <a:r>
              <a:rPr b="1" lang="ru-RU" sz="2600" spc="-1" strike="noStrike">
                <a:solidFill>
                  <a:srgbClr val="009dd9"/>
                </a:solidFill>
                <a:latin typeface="Arial Black"/>
              </a:rPr>
              <a:t>на главную и второстепен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dd9"/>
                </a:solidFill>
                <a:latin typeface="Arial Black"/>
              </a:rPr>
              <a:t>   </a:t>
            </a:r>
            <a:r>
              <a:rPr b="1" lang="ru-RU" sz="2600" spc="-1" strike="noStrike">
                <a:solidFill>
                  <a:srgbClr val="009dd9"/>
                </a:solidFill>
                <a:latin typeface="Arial Black"/>
              </a:rPr>
              <a:t>ную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dd9"/>
                </a:solidFill>
                <a:latin typeface="Arial Black"/>
              </a:rPr>
              <a:t>Свёртывание информации за счёт обобщ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788000" y="1599840"/>
            <a:ext cx="4176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Arial Black"/>
              </a:rPr>
              <a:t>Замен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Arial Black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Arial Black"/>
              </a:rPr>
              <a:t>Слиян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1763640" y="1197000"/>
            <a:ext cx="503280" cy="934920"/>
          </a:xfrm>
          <a:prstGeom prst="downArrow">
            <a:avLst>
              <a:gd name="adj1" fmla="val 50000"/>
              <a:gd name="adj2" fmla="val 46441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948360" y="1268280"/>
            <a:ext cx="503280" cy="935280"/>
          </a:xfrm>
          <a:prstGeom prst="downArrow">
            <a:avLst>
              <a:gd name="adj1" fmla="val 50000"/>
              <a:gd name="adj2" fmla="val 46459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5867280" y="2205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684e"/>
                </a:solidFill>
                <a:latin typeface="Times New Roman"/>
              </a:rPr>
              <a:t>Язы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82818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Языковые приемы сокращения текст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Constantia"/>
              </a:rPr>
              <a:t>Замена</a:t>
            </a:r>
            <a:r>
              <a:rPr b="1" lang="ru-RU" sz="2800" spc="-1" strike="noStrike">
                <a:solidFill>
                  <a:srgbClr val="ff9900"/>
                </a:solidFill>
                <a:latin typeface="Constantia"/>
              </a:rPr>
              <a:t> однородных членов предложения обобщающим слово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Constantia"/>
              </a:rPr>
              <a:t>Замена</a:t>
            </a:r>
            <a:r>
              <a:rPr b="1" lang="ru-RU" sz="2800" spc="-1" strike="noStrike">
                <a:solidFill>
                  <a:srgbClr val="ff9900"/>
                </a:solidFill>
                <a:latin typeface="Constantia"/>
              </a:rPr>
              <a:t> фрагмента предложения синонимо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Constantia"/>
              </a:rPr>
              <a:t>Замена</a:t>
            </a:r>
            <a:r>
              <a:rPr b="1" lang="ru-RU" sz="2800" spc="-1" strike="noStrike">
                <a:solidFill>
                  <a:srgbClr val="ff9900"/>
                </a:solidFill>
                <a:latin typeface="Constantia"/>
              </a:rPr>
              <a:t> предложения или его части указательным местоимение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Constantia"/>
              </a:rPr>
              <a:t>Замена</a:t>
            </a:r>
            <a:r>
              <a:rPr b="1" lang="ru-RU" sz="2800" spc="-1" strike="noStrike">
                <a:solidFill>
                  <a:srgbClr val="ff9900"/>
                </a:solidFill>
                <a:latin typeface="Constantia"/>
              </a:rPr>
              <a:t> СПП просты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onstantia"/>
              </a:rPr>
              <a:t>Перевод прямой речи в косвенную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Constantia"/>
              </a:rPr>
              <a:t>Исключение</a:t>
            </a:r>
            <a:r>
              <a:rPr b="1" lang="ru-RU" sz="2800" spc="-1" strike="noStrike">
                <a:solidFill>
                  <a:srgbClr val="ff9900"/>
                </a:solidFill>
                <a:latin typeface="Constantia"/>
              </a:rPr>
              <a:t> повтор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Constantia"/>
              </a:rPr>
              <a:t>Исключение</a:t>
            </a:r>
            <a:r>
              <a:rPr b="1" lang="ru-RU" sz="2800" spc="-1" strike="noStrike">
                <a:solidFill>
                  <a:srgbClr val="ff9900"/>
                </a:solidFill>
                <a:latin typeface="Constantia"/>
              </a:rPr>
              <a:t> синоним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Constantia"/>
              </a:rPr>
              <a:t>Исключение </a:t>
            </a:r>
            <a:r>
              <a:rPr b="1" lang="ru-RU" sz="2800" spc="-1" strike="noStrike">
                <a:solidFill>
                  <a:srgbClr val="ff9900"/>
                </a:solidFill>
                <a:latin typeface="Constantia"/>
              </a:rPr>
              <a:t>менее существенного фрагмента предложе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Constantia"/>
              </a:rPr>
              <a:t>Слияние</a:t>
            </a:r>
            <a:r>
              <a:rPr b="1" lang="ru-RU" sz="2800" spc="-1" strike="noStrike">
                <a:solidFill>
                  <a:srgbClr val="ff9900"/>
                </a:solidFill>
                <a:latin typeface="Constantia"/>
              </a:rPr>
              <a:t> несколько предложений в од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571320"/>
            <a:ext cx="747684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Исключение повторов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920960"/>
            <a:ext cx="4614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увства – это внутреннее отношение человека к окружающему. Чувства – это неотъемлемая часть нашей лич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57520" y="1920960"/>
            <a:ext cx="33289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Чувства – это внутреннее отношение человека к окружающему, неотъемлемая часть нашей лич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сключение синоним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20960"/>
            <a:ext cx="4400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 фотография учеников есть: деревенские ребятишки с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открытыми, простодушными, ясными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лицам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И фотография учеников есть: деревенские ребятишки с ясными лиц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Исключение уточняющих, вводных конструкций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акие люди, разумеется, ничему не удивляются, а следовательно, и не способны совершить открытие, даже самое маленько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Такие люди ничему не удивляются и не способны совершить открыт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8:30:53Z</dcterms:created>
  <dc:creator>Инна</dc:creator>
  <dc:description/>
  <dc:language>en-US</dc:language>
  <cp:lastModifiedBy>Ирина</cp:lastModifiedBy>
  <dcterms:modified xsi:type="dcterms:W3CDTF">2013-02-13T21:56:36Z</dcterms:modified>
  <cp:revision>36</cp:revision>
  <dc:subject/>
  <dc:title>Содержательные и языковые способы сокращения текста</dc:title>
</cp:coreProperties>
</file>