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C6F-0241-4B48-BE55-6B6D13F8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46D-CDBF-402D-B566-0133CD18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C17F-56AB-4FC9-B067-00748B4D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EA6-CC04-4B79-ACBC-56772235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D622-78DB-4823-8FA7-9EB06E5A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EAB-BE4E-467D-9F06-01C4F82A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47F-B514-4148-B908-B80CBC81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01D-85EA-4C51-B024-3397DFB9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F83-C667-4A9D-80AE-16D1EBB4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39D-65D2-48B4-9AAF-EB1EC6F0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B45-BEED-498F-8C27-34EF28EC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1A7-F22C-4C3D-AEE9-C489819F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FCA5-C0E0-4C22-99F4-D0AA0B7F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096920"/>
            <a:ext cx="7417080" cy="576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йствия с обыкновенными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33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ff9933"/>
                    </a:gs>
                    <a:gs pos="100000">
                      <a:srgbClr val="ffffcc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робями</a:t>
            </a:r>
            <a:endParaRPr b="0" lang="en-US" sz="1800" spc="1" strike="noStrike">
              <a:ln w="1260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ff9933"/>
                  </a:gs>
                  <a:gs pos="100000">
                    <a:srgbClr val="ffffcc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ролевская задача</a:t>
            </a:r>
            <a:br>
              <a:rPr sz="40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По древнему закону, нарушить который не мог ни один король, при дворе всегда должно находиться столько мудрецов, чтобы среди них непременно нашлос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41101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7 слепых на оба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2слепых на один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5 зрячих на оба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9 зрячих на 1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Вопрос: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сколько мудрецов пришлось оставлять королю при дворе, чтобы не нарушать зако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ответ: 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40388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Хоть суров закон, но 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Королем был обойд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Кто хитер, сумеет лов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бойти закон улов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Семь слепых и зрячих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Дважды стал король счит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Мысли ход своей чуд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Объяснить изволил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«Тот, кто слеп на оба гл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Явно слеп на глаз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Тот, кто видит в об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Может видеть и одн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Решите 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и определите, является ли получ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корень корнем уравнени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                .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572000" y="260280"/>
                <a:ext cx="21607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724360" y="2852640"/>
                <a:ext cx="1584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стафета  </a:t>
            </a: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Разгадай зашифрованное слово)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5400000">
            <a:off x="2088000" y="3464640"/>
            <a:ext cx="5185080" cy="79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космос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42920" y="1125360"/>
                <a:ext cx="1728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042920" y="2060640"/>
            <a:ext cx="1656000" cy="87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042920" y="2997360"/>
                <a:ext cx="18734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42920" y="3933720"/>
                <a:ext cx="1944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16000" y="4941720"/>
                <a:ext cx="1295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16000" y="5805360"/>
                <a:ext cx="1871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26920" y="189000"/>
            <a:ext cx="48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Нарисуй мар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197000"/>
            <a:ext cx="50403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С Марса прислали нам в 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Блок красивых редких ма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Бесконечно ценен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Но немного поврежде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Почему-то нет од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Непременно в вых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Ты ее придумай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Как приятно будет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767040" cy="367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089080" cy="13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ое число лишнее в этом ряд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42920" y="2421000"/>
                <a:ext cx="5637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050920" y="2349360"/>
                <a:ext cx="836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419640" y="2349360"/>
                <a:ext cx="836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43280" y="2349360"/>
                <a:ext cx="6336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012000" y="2349360"/>
                <a:ext cx="8841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равните дроб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2421000"/>
                <a:ext cx="17272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19640" y="2421000"/>
                <a:ext cx="1655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2124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940360" y="2421000"/>
                <a:ext cx="165600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u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63640" y="1844640"/>
                <a:ext cx="20163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859280" y="1844640"/>
                <a:ext cx="1944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411280" y="3573360"/>
                <a:ext cx="37450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70920" y="590040"/>
            <a:ext cx="773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сложение и вычитание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5560" y="29469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84120" y="364212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85920" y="43758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92360" y="2349360"/>
                <a:ext cx="1871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932360" y="2349360"/>
                <a:ext cx="1800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403280" y="1774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умножение и де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71600" y="3321360"/>
            <a:ext cx="38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74991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Сравните  1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&gt;               б) 1&lt;               в) 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Вычислите: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             б)               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:  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Вычислите наиболее  удобным спосо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2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140360" y="1197000"/>
                <a:ext cx="288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411280" y="620640"/>
                <a:ext cx="319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050920" y="1700280"/>
                <a:ext cx="195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71640" y="3068640"/>
                <a:ext cx="476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187280" y="1268280"/>
                <a:ext cx="2494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700360" y="1197000"/>
                <a:ext cx="279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27280" y="1700280"/>
                <a:ext cx="195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26920" y="2349360"/>
                <a:ext cx="28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79640" y="2349360"/>
                <a:ext cx="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3640" y="2349360"/>
                <a:ext cx="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4221000"/>
                <a:ext cx="423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268360" y="4221000"/>
                <a:ext cx="3286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508720" y="5229360"/>
                <a:ext cx="2448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26920" y="3573360"/>
                <a:ext cx="238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3573360"/>
                <a:ext cx="254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26920" y="472428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050920" y="4724280"/>
                <a:ext cx="225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76720" y="4724280"/>
                <a:ext cx="21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195640" y="5805360"/>
                <a:ext cx="22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тв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6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 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рога состоит из 4-х участков. Первый участок составляет 3/8 части всей дороги, второй участок – 1/4 части, третий – 1/8 часть, а четвертый участок – 1200 км. Найдите длину всей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аны 3 фигуры: круг, квадрат, прямоугольни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421000"/>
          <a:ext cx="1992240" cy="20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21000"/>
                    <a:ext cx="19922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16360" y="2421000"/>
          <a:ext cx="2016000" cy="19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2421000"/>
                    <a:ext cx="20160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580000" y="2421000"/>
          <a:ext cx="2879640" cy="201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80000" y="2421000"/>
                    <a:ext cx="287964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4797360"/>
                <a:ext cx="136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69236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08360" y="4797360"/>
                <a:ext cx="666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4857840"/>
                <a:ext cx="107964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8459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4365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964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3200" y="3213000"/>
            <a:ext cx="82440" cy="587520"/>
          </a:xfrm>
          <a:custGeom>
            <a:avLst/>
            <a:gdLst/>
            <a:ahLst/>
            <a:rect l="l" t="t" r="r" b="b"/>
            <a:pathLst>
              <a:path w="52" h="370">
                <a:moveTo>
                  <a:pt x="7" y="0"/>
                </a:moveTo>
                <a:cubicBezTo>
                  <a:pt x="7" y="15"/>
                  <a:pt x="7" y="30"/>
                  <a:pt x="7" y="45"/>
                </a:cubicBezTo>
                <a:cubicBezTo>
                  <a:pt x="7" y="60"/>
                  <a:pt x="7" y="68"/>
                  <a:pt x="7" y="91"/>
                </a:cubicBezTo>
                <a:cubicBezTo>
                  <a:pt x="7" y="114"/>
                  <a:pt x="7" y="151"/>
                  <a:pt x="7" y="181"/>
                </a:cubicBezTo>
                <a:cubicBezTo>
                  <a:pt x="7" y="211"/>
                  <a:pt x="0" y="242"/>
                  <a:pt x="7" y="272"/>
                </a:cubicBezTo>
                <a:cubicBezTo>
                  <a:pt x="14" y="302"/>
                  <a:pt x="52" y="356"/>
                  <a:pt x="52" y="363"/>
                </a:cubicBezTo>
                <a:cubicBezTo>
                  <a:pt x="52" y="370"/>
                  <a:pt x="29" y="343"/>
                  <a:pt x="7" y="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8:09:54Z</dcterms:created>
  <dc:creator>Ольга Васильевна</dc:creator>
  <dc:description/>
  <dc:language>en-US</dc:language>
  <cp:lastModifiedBy>Ольга Васильевна</cp:lastModifiedBy>
  <dcterms:modified xsi:type="dcterms:W3CDTF">2008-01-22T17:37:13Z</dcterms:modified>
  <cp:revision>18</cp:revision>
  <dc:subject/>
  <dc:title>Слайд 1</dc:title>
</cp:coreProperties>
</file>