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013-CFFE-4B32-B8A8-9FB64E3C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818-9A5C-415A-8C54-12CE013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71F-1404-4CEC-9D55-C11815C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71D-0D0A-4FC3-B427-4FD5D0A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24B-D0EA-4BE0-B2F2-40C4019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183-F013-44A2-BD6D-C36D2F20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B2E-FD1B-439F-A0D2-20E0C15C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AB3-FDDE-434C-8582-3A6EBF2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6CC-6F0C-4D72-9003-930ED88F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CB5-3D25-4222-956F-4BE9A9F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6E0-B0C7-4AAC-BBA8-B85E498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D5C-91FC-4D18-A1DC-0D4B485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AD3-3A7A-4783-8D0D-BD3BF0A5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096920"/>
            <a:ext cx="7417080" cy="576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йствия с обыкновенными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33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обями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33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ролевская задача</a:t>
            </a:r>
            <a:br>
              <a:rPr sz="40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о древнему закону, нарушить который не мог ни один король, при дворе всегда должно находиться столько мудрецов, чтобы среди них непременно нашлос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1101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7 слепых на оба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2слепых на один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5 зрячих на оба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 зрячих на 1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прос: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сколько мудрецов пришлось оставлять королю при дворе, чтобы не нарушать зак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ответ: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40388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Хоть суров закон, но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Королем был обойд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Кто хитер, сумеет лов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бойти закон улов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Семь слепых и зрячих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Дважды стал король с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Мысли ход своей чуд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бъяснить изволил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«Тот, кто слеп на оба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Явно слеп на глаз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Тот, кто видит в об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Может видеть и одн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и определите, является ли получ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корень корнем уравнени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          .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72000" y="260280"/>
                <a:ext cx="21607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24360" y="2852640"/>
                <a:ext cx="1584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стафета  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Разгадай зашифрованное слово)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2088000" y="3464640"/>
            <a:ext cx="51850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космос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42920" y="1125360"/>
                <a:ext cx="1728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042920" y="2060640"/>
            <a:ext cx="1656000" cy="87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42920" y="2997360"/>
                <a:ext cx="18734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42920" y="393372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16000" y="4941720"/>
                <a:ext cx="1295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16000" y="5805360"/>
                <a:ext cx="1871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18900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Нарисуй мар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197000"/>
            <a:ext cx="504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С Марса прислали нам в 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Блок красивых редких ма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Бесконечно ценен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Но немного поврежд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Почему-то нет од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Непременно в вых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Ты ее придумай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Как приятно будет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767040" cy="367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089080" cy="13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ое число лишнее в этом ряд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42920" y="2421000"/>
                <a:ext cx="563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50920" y="2349360"/>
                <a:ext cx="836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19640" y="2349360"/>
                <a:ext cx="836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43280" y="2349360"/>
                <a:ext cx="633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012000" y="2349360"/>
                <a:ext cx="8841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равните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2421000"/>
                <a:ext cx="17272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19640" y="2421000"/>
                <a:ext cx="1655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2124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40360" y="2421000"/>
                <a:ext cx="16560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63640" y="1844640"/>
                <a:ext cx="20163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1844640"/>
                <a:ext cx="1944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11280" y="3573360"/>
                <a:ext cx="37450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70920" y="590040"/>
            <a:ext cx="77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сложение и вычитание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5560" y="29469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84120" y="36421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85920" y="43758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92360" y="2349360"/>
                <a:ext cx="1871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932360" y="2349360"/>
                <a:ext cx="18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403280" y="1774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умножение и 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1600" y="3321360"/>
            <a:ext cx="3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4991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равните  1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&gt;               б) 1&lt;               в) 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ычислите: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            б)               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: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 наиболее  удоб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2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40360" y="1197000"/>
                <a:ext cx="288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411280" y="620640"/>
                <a:ext cx="31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50920" y="1700280"/>
                <a:ext cx="1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71640" y="3068640"/>
                <a:ext cx="476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187280" y="1268280"/>
                <a:ext cx="249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00360" y="1197000"/>
                <a:ext cx="279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27280" y="1700280"/>
                <a:ext cx="195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26920" y="2349360"/>
                <a:ext cx="28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79640" y="2349360"/>
                <a:ext cx="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3640" y="2349360"/>
                <a:ext cx="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4221000"/>
                <a:ext cx="423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68360" y="4221000"/>
                <a:ext cx="328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08720" y="522936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26920" y="3573360"/>
                <a:ext cx="238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254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26920" y="472428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050920" y="472428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76720" y="4724280"/>
                <a:ext cx="21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195640" y="5805360"/>
                <a:ext cx="22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состоит из 4-х участков. Первый участок составляет 3/8 части всей дороги, второй участок – 1/4 части, третий – 1/8 часть, а четвертый участок – 1200 км. Найдите длину всей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аны 3 фигуры: круг, квадрат, прямоугольни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421000"/>
          <a:ext cx="1992240" cy="20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21000"/>
                    <a:ext cx="19922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16360" y="2421000"/>
          <a:ext cx="2016000" cy="19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2421000"/>
                    <a:ext cx="20160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580000" y="2421000"/>
          <a:ext cx="2879640" cy="201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0000" y="2421000"/>
                    <a:ext cx="28796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4797360"/>
                <a:ext cx="136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69236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08360" y="4797360"/>
                <a:ext cx="66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4857840"/>
                <a:ext cx="1079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8459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365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964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00" y="3213000"/>
            <a:ext cx="82440" cy="587520"/>
          </a:xfrm>
          <a:custGeom>
            <a:avLst/>
            <a:gdLst/>
            <a:ahLst/>
            <a:rect l="l" t="t" r="r" b="b"/>
            <a:pathLst>
              <a:path w="52" h="370">
                <a:moveTo>
                  <a:pt x="7" y="0"/>
                </a:moveTo>
                <a:cubicBezTo>
                  <a:pt x="7" y="15"/>
                  <a:pt x="7" y="30"/>
                  <a:pt x="7" y="45"/>
                </a:cubicBezTo>
                <a:cubicBezTo>
                  <a:pt x="7" y="60"/>
                  <a:pt x="7" y="68"/>
                  <a:pt x="7" y="91"/>
                </a:cubicBezTo>
                <a:cubicBezTo>
                  <a:pt x="7" y="114"/>
                  <a:pt x="7" y="151"/>
                  <a:pt x="7" y="181"/>
                </a:cubicBezTo>
                <a:cubicBezTo>
                  <a:pt x="7" y="211"/>
                  <a:pt x="0" y="242"/>
                  <a:pt x="7" y="272"/>
                </a:cubicBezTo>
                <a:cubicBezTo>
                  <a:pt x="14" y="302"/>
                  <a:pt x="52" y="356"/>
                  <a:pt x="52" y="363"/>
                </a:cubicBezTo>
                <a:cubicBezTo>
                  <a:pt x="52" y="370"/>
                  <a:pt x="29" y="343"/>
                  <a:pt x="7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8:09:54Z</dcterms:created>
  <dc:creator>Ольга Васильевна</dc:creator>
  <dc:description/>
  <dc:language>en-US</dc:language>
  <cp:lastModifiedBy>Ольга Васильевна</cp:lastModifiedBy>
  <dcterms:modified xsi:type="dcterms:W3CDTF">2008-01-22T17:37:13Z</dcterms:modified>
  <cp:revision>18</cp:revision>
  <dc:subject/>
  <dc:title>Слайд 1</dc:title>
</cp:coreProperties>
</file>