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F71-732B-46EE-9407-278F9A89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1EC-43DA-4672-BF9A-B92E5A68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CEB-D92A-4F96-88FF-82DECFD1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15B-51E2-428B-91F2-44A69782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3E50-572D-4C68-81A8-441AAF75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7C83-8310-4FFB-9524-6B4324F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F337-999F-46FE-A01B-68A3BF06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AC4E-58F0-444C-8639-8EEC1CA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F926-DA4C-4CF3-B0B5-7A41BCE9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B83E-642D-4310-9EC0-5BF10BC8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6ACB-C20F-412F-99D0-2D4807B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A5F-8514-430B-BC67-FE3F40A8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2E81-5B43-4117-BA30-5F540DB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A36-554D-47C2-A6A4-45AFEC8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502-3AB2-473D-8CB6-B80E58D9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9EB-B7D0-4B11-8CB1-753783F8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7292-93C8-4900-96DC-47C2E2EB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990-8A18-4EBA-98F4-F45F111B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FBD-3DAA-409A-B9C9-9218A794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0C7-2E6E-4562-AB8C-5C2D924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C05-9E97-4ABB-A8DC-4B4C66AF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657-EC0F-4209-98BB-30429363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A9F-3557-432D-8376-1F8F0F52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0F5-1369-42E2-B416-780F75C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400C-E07C-4A01-9528-06558E6CC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A64-E6F2-46AE-B9B0-4FB3540A8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2560" cy="63374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692280"/>
            <a:ext cx="64008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OUR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f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302680" cy="58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cup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glass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knife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spoon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fork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 plate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1284480" cy="121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1547640" cy="1547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627280" y="242100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3851280" y="3357720"/>
            <a:ext cx="1217520" cy="1217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2124000" y="4581360"/>
            <a:ext cx="1800360" cy="912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2411280" y="5516640"/>
            <a:ext cx="1106640" cy="10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The lesson wa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Now I know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I,d like to know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460872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1. A friendly family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2. A close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3. A caring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4. A hospitable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5. A traditional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omic"/>
              </a:rPr>
              <a:t>6. A conservative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859280" y="5013360"/>
            <a:ext cx="341172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always help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feel responsibility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have many tra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are near in relationship.</a:t>
            </a:r>
            <a:r>
              <a:rPr b="0" lang="ru-RU" sz="3200" spc="-1" strike="noStrike">
                <a:solidFill>
                  <a:srgbClr val="ffff66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are friendly with gu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"/>
              </a:rPr>
              <a:t>Members of the family do not allow their children to go to the dis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5075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1. A friendly family   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a. Members of the family always help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2. A close family       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b. Members of the family are near in relatio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3. A caring family      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c. Members of the family feel responsibility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4. A hospitable family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d. Members of the family are friendly with gu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5. A traditional family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e. Members of the family have many tradi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"/>
              </a:rPr>
              <a:t>6. A conservative family  </a:t>
            </a:r>
            <a:r>
              <a:rPr b="0" lang="en-US" sz="2800" spc="-1" strike="noStrike">
                <a:solidFill>
                  <a:srgbClr val="ffff66"/>
                </a:solidFill>
                <a:latin typeface="comic"/>
              </a:rPr>
              <a:t>f. Members of the family do not allow their children to go to the dis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SPO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knife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cup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glass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A PL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1:16Z</dcterms:created>
  <dc:creator>Антон</dc:creator>
  <dc:description/>
  <dc:language>en-US</dc:language>
  <cp:lastModifiedBy>Антон</cp:lastModifiedBy>
  <dcterms:modified xsi:type="dcterms:W3CDTF">2013-01-29T15:22:51Z</dcterms:modified>
  <cp:revision>2</cp:revision>
  <dc:subject/>
  <dc:title>Слайд 1</dc:title>
</cp:coreProperties>
</file>