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C36-D83E-4078-A176-3647C8AE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155-C71A-437C-8A4A-74FC0004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3FE-D8AE-48C5-899E-094EAA59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726-113A-4746-8554-87E1DCFF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F8AA-F41B-411E-9C51-BF9583DC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5941-1685-4130-ABE9-147890DD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128C-F8BC-4373-9EC6-E4D20AFB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0500-4558-454B-B3B7-D753EE8A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8736-4E27-4DD1-848B-1372F1EC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E5E6-0490-442B-B08E-4E1EE7A5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9C1E-8DF8-4029-AC5E-1B6E55D3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F73-809D-4B53-819C-7FA6BBE1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906F-A706-4AAF-815D-E72FDC78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9005-DB8A-40B9-B8E2-7FDFE4D9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E761-9F35-4A70-925B-ECF8F53C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A519-82E0-462D-A6E7-2E0050A1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27B2-93F2-483A-AFBD-F046DD74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9C9-7A06-40F9-87C8-ED1C8D8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16C-6BCE-4A8D-8817-4DF5B729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601-595C-43C2-8D3E-2E00495B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4D7-BF2A-43CF-B34A-AA1E236D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3B9-A055-4BD5-A951-49C9BB45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69F-1BBF-4C19-9FF1-D96BCEA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725-8E5F-4092-B795-73B6FD93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B309-73EB-4F66-AB5D-07877C120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3B22-1A16-4B13-931E-C2112547C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02560" cy="63374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692280"/>
            <a:ext cx="64008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OUR RESPONSI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f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404280"/>
            <a:ext cx="8302680" cy="58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cup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glass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knife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spoon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fork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plate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1284480" cy="1218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780000" y="141300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627280" y="242100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851280" y="3357720"/>
            <a:ext cx="1217520" cy="1217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2124000" y="4581360"/>
            <a:ext cx="1800360" cy="912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2411280" y="5516640"/>
            <a:ext cx="110664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The lesson wa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Now I know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I,d like to know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356000" y="836640"/>
            <a:ext cx="460872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62028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1. A friendly family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2. A close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3. A caring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4. A hospitable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5. A traditional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6. A conservative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859280" y="5013360"/>
            <a:ext cx="341172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always help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feel responsibility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have many tra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are near in relationship.</a:t>
            </a:r>
            <a:r>
              <a:rPr b="0" lang="ru-RU" sz="3200" spc="-1" strike="noStrike">
                <a:solidFill>
                  <a:srgbClr val="ffff66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are friendly with gu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do not allow their children to go to the dis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50752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1. A friendly family   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a. Members of the family always help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2. A close family       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b. Members of the family are near in relatio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3. A caring family      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c. Members of the family feel responsibility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4. A hospitable family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d. Members of the family are friendly with gu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5. A traditional family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e. Members of the family have many tra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6. A conservative family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f. Members of the family do not allow their children to go to the dis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SPO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knife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cup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glass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PL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1:16Z</dcterms:created>
  <dc:creator>Антон</dc:creator>
  <dc:description/>
  <dc:language>en-US</dc:language>
  <cp:lastModifiedBy>Антон</cp:lastModifiedBy>
  <dcterms:modified xsi:type="dcterms:W3CDTF">2013-01-29T15:22:51Z</dcterms:modified>
  <cp:revision>2</cp:revision>
  <dc:subject/>
  <dc:title>Слайд 1</dc:title>
</cp:coreProperties>
</file>