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173F-E72C-4A4D-811D-1CBC8D3BB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4745-96C1-4598-ADA9-5E0DD6A1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A3C2-09D9-48F3-9F4F-313FBBEE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CBC2-E1E2-4D5E-BEBC-5CAE2B90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2481-BDA2-41D6-A48A-6074B7F9F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B7E4-E861-43BD-9A54-7AEF951A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4B81-BFAD-44DC-BCC3-5563D6D8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F675-80F4-497C-A258-B5A82694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BAE7-81B2-4E4E-B907-F30C3CDC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E37C-640E-4932-B84A-48E40AED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8694-569D-4B4C-8089-0D454708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06C5-73F8-4F1F-8EEF-786630D2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36F6-531B-4E15-9363-E86B25E6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7A37-3AB9-429A-A088-9210E7C4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87DE-C64B-4148-B199-D26A12ED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A23C-0C96-49F5-9B4F-01E0C2DD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F857-696D-4CF4-83AF-B2657D711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BF45A6-8030-42CD-BA23-5D71A37F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277840-5595-4BC6-A933-7CFDC05B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88DDE0-E1A9-4413-A1BC-6F4AFD30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965C00-EB48-4F13-99D0-0369102C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18F1C6-E87B-45E1-97E5-D12CCE13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26B7-E751-48B3-B746-20C1564A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55CBC4-3979-4B72-871C-A2F28328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81D2BF-8D45-428D-97F0-E3C431C8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0F6D19-0F8F-42EF-B5C8-97EACF05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FC394-96D1-4589-9ECC-B598CE46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C24D24-05F2-4C2B-BA93-C7BA2300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06854E-4C89-45CE-A1AE-BABE1EB53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A82236-24CE-487E-8BD6-AE32577B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54967-7D8A-408C-8D89-A5805DDE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23FF4-411B-45CC-82F9-E50ED50C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889FA-068C-4FCD-94D2-C6C67E1D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A9B3-5A9A-4309-BF7D-1FC1C263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C4D95-4CFF-4A81-997E-A4FDF4C2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FF936-642E-4196-85F3-65D8F6E2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7D5C8-B159-4BEA-BDBB-DA7F5A42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C8122-4549-42FC-8990-F3320523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A748A-4E7E-4D9F-A12A-C84E53C3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0739B-0AFC-4939-8379-EB50D038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4EFED-E85C-4846-9536-6B40A2DA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BECCD-8337-4270-80F5-59A13196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83ACB-8511-4F11-A637-EDDB287E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F940-B9F4-4C49-BDA1-F09FB6DB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5C50-4831-463A-B8AF-D656FF16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9C09-BC5C-4C8E-B330-E45F9556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055B-5507-4047-AAA0-482F93A3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334F-31F1-47B4-8285-7AE61A6D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554D-9248-48A4-BAB8-BCB2C3E224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3869-8585-4DFA-803C-67B914ED8FA6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FD7C-EE12-476D-B812-6579F99A14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1E44-9795-48D1-9B85-7BA1C40428A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258920" y="692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Відкритий урок з географії у 6 класі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2176560" y="85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547640" y="1773360"/>
            <a:ext cx="64090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Тема уроку :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Літосфер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Внутрішня будова Землі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3611520" y="5392800"/>
            <a:ext cx="37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ідготувала: вчитель географі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арфоломєєва Г.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Заголовок 1" descr=""/>
          <p:cNvPicPr/>
          <p:nvPr/>
        </p:nvPicPr>
        <p:blipFill>
          <a:blip r:embed="rId2"/>
          <a:stretch/>
        </p:blipFill>
        <p:spPr>
          <a:xfrm>
            <a:off x="0" y="0"/>
            <a:ext cx="842472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3733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будові Землі виділяють три основні частин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емна к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нті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др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3851280" y="1125360"/>
            <a:ext cx="4952880" cy="4953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645440" y="404640"/>
            <a:ext cx="25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дова Землі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-360" y="914400"/>
            <a:ext cx="4724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ітосфе́ра (від грец.  камінь і — шар, сфера) — тверда оболонка Землі. Складається з земної кори і верхньої частини мантії, до астеносфер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стеносфера —пластичний шар в верхній мантії Землі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ahoma"/>
              </a:rPr>
              <a:t>Земна кора + Астеносфера = </a:t>
            </a:r>
            <a:r>
              <a:rPr b="0" lang="ru-RU" sz="24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ahoma"/>
              </a:rPr>
              <a:t>    Л</a:t>
            </a:r>
            <a:r>
              <a:rPr b="0" lang="uk-UA" sz="2400" spc="-1" strike="noStrike">
                <a:solidFill>
                  <a:srgbClr val="c00000"/>
                </a:solidFill>
                <a:latin typeface="Tahoma"/>
              </a:rPr>
              <a:t>ітосфе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2"/>
          <a:stretch/>
        </p:blipFill>
        <p:spPr>
          <a:xfrm>
            <a:off x="4724280" y="1676520"/>
            <a:ext cx="4038840" cy="4525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509440" y="378000"/>
            <a:ext cx="254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Літосфер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Заголовок 1" descr=""/>
          <p:cNvPicPr/>
          <p:nvPr/>
        </p:nvPicPr>
        <p:blipFill>
          <a:blip r:embed="rId2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457200" y="1905120"/>
          <a:ext cx="8229600" cy="3033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и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тужн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i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ь,к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ари гірських порі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тиненталь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-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адковий гранітний базальтов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кеаніч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-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адковий базальтов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рехід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-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адковий гранітний базальтов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Знайдіть відповідність між поняттями і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изначенням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1. Літосфера            А. Верхня тверда частина Земл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2. Мантія                 Б. Земна кора і верхня частина      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мантії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3. Ядро                    В. Внутрішня частина Земл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4. Гідросфера           Г. Центральна частина Земл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5. Астнеосфера        Д. Частково – розплавлена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частина мантії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6. Земна кора           Ж. Водна оболонка Земл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7.                             З. Повітряна оболонка Земл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-541440" y="1341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Практичність теорії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4" marL="2165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Географічна задач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1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Через 33 м. у глиб Землі температура підвищується на 1 градус С. Яка температура буде в шахті на глибині 900м., якщо температура шару земної кори, що не залежить від пори року, становить+10 град.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Рішенн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65400" indent="-37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900м. : 33 м. = 27,3(раз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65400" indent="-37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1град. Х 27,3 =27,3 град.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65400" indent="-37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+10град. + 27,3град. =37,3град.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Відповідь: температура в шахті буде 37,3град.С. на глибині 900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Задач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Яка температура гірських порід на глибині 1000м., якщо на поверхні вона становить +20град.С.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"/>
          <p:cNvPicPr/>
          <p:nvPr/>
        </p:nvPicPr>
        <p:blipFill>
          <a:blip r:embed="rId3"/>
          <a:stretch/>
        </p:blipFill>
        <p:spPr>
          <a:xfrm>
            <a:off x="3276720" y="5562720"/>
            <a:ext cx="1081080" cy="10270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20560" y="-7920"/>
            <a:ext cx="3829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Как яблоко на блюд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емля у нас од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Не торопитесь, люд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сё выскрести до д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Не мудрено добрать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о скрытых тайник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азграбить все богат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У будущих ве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0418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2T14:40:14Z</dcterms:created>
  <dc:creator>User</dc:creator>
  <dc:description/>
  <dc:language>en-US</dc:language>
  <cp:lastModifiedBy>User</cp:lastModifiedBy>
  <dcterms:modified xsi:type="dcterms:W3CDTF">2013-02-09T16:50:54Z</dcterms:modified>
  <cp:revision>46</cp:revision>
  <dc:subject/>
  <dc:title>Слайд 1</dc:title>
</cp:coreProperties>
</file>