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A55E-8A8D-4DAB-A551-E40B9CF7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5028-78A0-4346-AB55-D7F986E7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A676-7914-4C10-9636-31199E9A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1504-B101-4909-ABEA-0D35E91D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D79E-891D-42BD-ACB5-45DAC201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41C7-57B1-4FD3-AB7E-87287A6F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C50D-6A8D-4E68-B87C-F49FF38F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59CF-63C8-4E43-B854-3FF2B2D4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4BF6-0462-460F-A833-B52A9804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5299-3494-4C56-A363-9F75C923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0F6F-D144-4D75-A006-A477F31F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0EA-B8BC-4DE2-BD87-6396D1F2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E3F4-C896-4125-8809-74F1F6FE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9791-4E04-4BF6-9D9B-705AFC16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F0E3-0718-41B4-B3E4-EB7FE9FE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C701-90A7-4035-99D1-33EBEAD5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66E1-DCF3-4B31-B49C-65192873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9F2D4-3761-442E-A836-DF06A08E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38BE7-646B-4166-B778-74C6BAD4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F2453-0927-4AF3-9551-5A8002C1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C6846A-37CF-447F-A231-BA7DEB6E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CCC2C-4467-46FA-81E4-C93B8B33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1D1F-F88E-4C93-A9C9-5D724AEE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1085A-6D76-47B7-A6D2-4146AB70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22D43-AFEB-4BFE-B522-EB94C22E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05C40-AF25-4CD9-BA20-A96FC0FF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BFFF4-7CDB-4391-A1AE-E16CA1B5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F9BB7-296C-4352-8585-E7FBEF51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0BF14-51F8-4F0B-B6B3-1687C28C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9E6A6-6804-4537-83AB-3791FD1D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3ECFF-9D97-4370-A3CE-650F78D3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A43FE-9052-45CF-B8AB-2B5D7953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84806-4448-4FA8-87F7-EA7CB447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1751-8C94-4D31-B79E-5CDEDB76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2FCFC-66B8-40B7-B26F-F894014D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FDA7B-24CC-412F-A84D-EA9720EB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2AC31-C4A3-41E4-AE27-1F5A2E32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F55D7-E809-4E56-8738-2A019A01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ABE5F-5E40-4CAD-81A1-FB8B6C8F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C68F3-9AE7-4C7F-85DC-08B36BE2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C5A6F-8AF6-4EAD-B00B-1B833BA7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2FD08-B6EB-48C5-9D79-5DFBA982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C63F0-63F7-4AAA-A7C4-2EAFF2C2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9D3-96C7-40FD-B81F-D75AFA19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AF8-F6B8-4981-BC83-B16F6D2D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EE3-9E51-44A4-816F-F7669A48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7900-3B8A-4159-8717-FA7E4166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984-878F-43ED-A0F6-57A64DF7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8241-29BF-45B9-A91B-70A181782F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6835-C247-47F0-A1FA-82ABF8EEDDC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80A5-6D48-4944-BD75-7181D9A4B8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1603-3F1D-4291-9660-437760F51B4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58920" y="692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Відкритий урок з географії у 6 класі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176560" y="85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547640" y="1773360"/>
            <a:ext cx="6409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ема уроку :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Літосфер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Внутрішня будова Землі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611520" y="5392800"/>
            <a:ext cx="37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ідготувала: вчитель географі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арфоломєєва Г.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Заголовок 1" descr=""/>
          <p:cNvPicPr/>
          <p:nvPr/>
        </p:nvPicPr>
        <p:blipFill>
          <a:blip r:embed="rId2"/>
          <a:stretch/>
        </p:blipFill>
        <p:spPr>
          <a:xfrm>
            <a:off x="0" y="0"/>
            <a:ext cx="84247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будові Землі виділяють три основні частин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емна к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нті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др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3851280" y="112536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45440" y="40464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дова Земл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-360" y="914400"/>
            <a:ext cx="4724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ітосфе́ра (від грец.  камінь і — шар, сфера) — тверда оболонка Землі. Складається з земної кори і верхньої частини мантії, до астеносфе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стеносфера —пластичний шар в верхній мантії Землі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Земна кора + Астеносфера = 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Tahoma"/>
              </a:rPr>
              <a:t>    Л</a:t>
            </a:r>
            <a:r>
              <a:rPr b="0" lang="uk-UA" sz="2400" spc="-1" strike="noStrike">
                <a:solidFill>
                  <a:srgbClr val="c00000"/>
                </a:solidFill>
                <a:latin typeface="Tahoma"/>
              </a:rPr>
              <a:t>ітосфе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4038840" cy="4525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509440" y="37800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Літосфер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1905120"/>
          <a:ext cx="8229600" cy="3033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тужн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ь,к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ари гірських порі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тиненталь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-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адковий гранітний базальтов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кеаніч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-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адковий базальтов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ехід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-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адковий гранітний базальтов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найдіть відповідність між поняттями і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изначенням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1. Літосфера            А. Верхня тверда частин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2. Мантія                 Б. Земна кора і верхня частина    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мантії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3. Ядро                    В. Внутрішня частин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4. Гідросфера           Г. Центральна частин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5. Астнеосфера        Д. Частково – розплавлена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частина мантії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6. Земна кора           Ж. Водна оболонк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7.                             З. Повітряна оболонка Земл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-541440" y="1341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Практичність теорії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4" marL="216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еографічна задач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Через 33 м. у глиб Землі температура підвищується на 1 градус С. Яка температура буде в шахті на глибині 900м., якщо температура шару земної кори, що не залежить від пори року, становить+10 град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Рішенн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-37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900м. : 33 м. = 27,3(раз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-37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1град. Х 27,3 =27,3 град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-37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+10град. + 27,3град. =37,3град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65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ідповідь: температура в шахті буде 37,3град.С. на глибині 900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ка температура гірських порід на глибині 1000м., якщо на поверхні вона становить +20град.С.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"/>
          <p:cNvPicPr/>
          <p:nvPr/>
        </p:nvPicPr>
        <p:blipFill>
          <a:blip r:embed="rId3"/>
          <a:stretch/>
        </p:blipFill>
        <p:spPr>
          <a:xfrm>
            <a:off x="3276720" y="5562720"/>
            <a:ext cx="1081080" cy="1027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20560" y="-7920"/>
            <a:ext cx="3829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ак яблоко на блюд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емля у нас од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е торопитесь, люд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сё выскрести до д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е мудрено добр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о скрытых тайник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азграбить все богат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 будущих ве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418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14:40:14Z</dcterms:created>
  <dc:creator>User</dc:creator>
  <dc:description/>
  <dc:language>en-US</dc:language>
  <cp:lastModifiedBy>User</cp:lastModifiedBy>
  <dcterms:modified xsi:type="dcterms:W3CDTF">2013-02-09T16:50:54Z</dcterms:modified>
  <cp:revision>46</cp:revision>
  <dc:subject/>
  <dc:title>Слайд 1</dc:title>
</cp:coreProperties>
</file>