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EEAE-F0C7-41D2-B015-831B625F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D16-5B53-46C3-870D-9C3E2D54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7A8-7A9E-47BA-BA34-C63D0B9F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C0B-7582-4BFF-BDAD-058CFA15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056-0258-45C3-B206-FDE7C2EE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735-5A1E-4231-B679-D0DD38C0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8E1-6B87-4F6A-B057-A4A008DD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429-FFEE-4F4A-839D-86F6D15C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D90-1F53-4376-8B9D-94AA041F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83E-E486-4640-BDF6-A57EE2BB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C88-E293-4BBA-83FC-A7A752C6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EAE7-76CD-4825-B4F2-3EB32750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6AE7-ADB1-43D2-B6A4-EDF98B70B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«Методы решения показательных уравнен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3933360"/>
            <a:ext cx="6400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Метод решения хорош, если с самого начала мы можем предвидеть – и в последствии подтвердить это, - что, следуя этому методу, мы достигнем ц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. Лейбн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МОУ Лицей № 15 г.Саратов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                            Копова Ольга Васи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abde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02"/>
          <p:cNvSpPr/>
          <p:nvPr/>
        </p:nvSpPr>
        <p:spPr>
          <a:xfrm>
            <a:off x="7145280" y="4429080"/>
            <a:ext cx="3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2"/>
          <p:cNvSpPr/>
          <p:nvPr/>
        </p:nvSpPr>
        <p:spPr>
          <a:xfrm>
            <a:off x="6459480" y="4429080"/>
            <a:ext cx="3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9"/>
          <p:cNvSpPr/>
          <p:nvPr/>
        </p:nvSpPr>
        <p:spPr>
          <a:xfrm>
            <a:off x="504972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8"/>
          <p:cNvSpPr/>
          <p:nvPr/>
        </p:nvSpPr>
        <p:spPr>
          <a:xfrm>
            <a:off x="1816200" y="4289400"/>
            <a:ext cx="144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3187800" y="4290840"/>
            <a:ext cx="1440" cy="1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0" y="0"/>
            <a:ext cx="910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ясните, при каких значениях а уравнени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меет реш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762120" y="4379760"/>
            <a:ext cx="7821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4570560" y="878040"/>
            <a:ext cx="0" cy="575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5243400" y="4289400"/>
            <a:ext cx="1800" cy="17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5595840" y="428940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496960" y="4289400"/>
            <a:ext cx="180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3529080" y="4289400"/>
            <a:ext cx="144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4911840" y="4289400"/>
            <a:ext cx="14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5937120" y="4289400"/>
            <a:ext cx="1800" cy="17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>
            <a:off x="4462560" y="3024360"/>
            <a:ext cx="19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4462560" y="3700440"/>
            <a:ext cx="19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4462560" y="4064040"/>
            <a:ext cx="19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4462560" y="4694400"/>
            <a:ext cx="19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4462560" y="5388120"/>
            <a:ext cx="19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4462560" y="5727600"/>
            <a:ext cx="19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9"/>
          <p:cNvSpPr/>
          <p:nvPr/>
        </p:nvSpPr>
        <p:spPr>
          <a:xfrm>
            <a:off x="4462560" y="6068880"/>
            <a:ext cx="19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0"/>
          <p:cNvSpPr/>
          <p:nvPr/>
        </p:nvSpPr>
        <p:spPr>
          <a:xfrm>
            <a:off x="4462560" y="6416640"/>
            <a:ext cx="19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4462560" y="2368440"/>
            <a:ext cx="19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 flipH="1">
            <a:off x="3868200" y="4289400"/>
            <a:ext cx="180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 flipV="1">
            <a:off x="6283440" y="4289400"/>
            <a:ext cx="144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 flipV="1">
            <a:off x="6621480" y="4289400"/>
            <a:ext cx="1440" cy="1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0"/>
          <p:cNvSpPr/>
          <p:nvPr/>
        </p:nvSpPr>
        <p:spPr>
          <a:xfrm>
            <a:off x="4462560" y="3351240"/>
            <a:ext cx="19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8089920" y="3876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4152960" y="833400"/>
            <a:ext cx="2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8"/>
          <p:cNvSpPr/>
          <p:nvPr/>
        </p:nvSpPr>
        <p:spPr>
          <a:xfrm>
            <a:off x="4678200" y="484020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4691160" y="620388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4699080" y="550692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5"/>
          <p:cNvSpPr/>
          <p:nvPr/>
        </p:nvSpPr>
        <p:spPr>
          <a:xfrm>
            <a:off x="4594320" y="4419720"/>
            <a:ext cx="2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9"/>
          <p:cNvSpPr/>
          <p:nvPr/>
        </p:nvSpPr>
        <p:spPr>
          <a:xfrm>
            <a:off x="0" y="5373720"/>
            <a:ext cx="293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Monotype Corsiva"/>
              </a:rPr>
              <a:t>   </a:t>
            </a:r>
            <a:r>
              <a:rPr b="1" lang="ru-RU" sz="2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Проект 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ученица 11 «Б»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МОУ   Лицея   № 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Гришина Ма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9"/>
          <p:cNvSpPr/>
          <p:nvPr/>
        </p:nvSpPr>
        <p:spPr>
          <a:xfrm>
            <a:off x="4462560" y="2695680"/>
            <a:ext cx="19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1"/>
          <p:cNvSpPr/>
          <p:nvPr/>
        </p:nvSpPr>
        <p:spPr>
          <a:xfrm>
            <a:off x="2849400" y="4289400"/>
            <a:ext cx="180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2"/>
          <p:cNvSpPr/>
          <p:nvPr/>
        </p:nvSpPr>
        <p:spPr>
          <a:xfrm>
            <a:off x="2165400" y="4289400"/>
            <a:ext cx="144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93"/>
          <p:cNvSpPr/>
          <p:nvPr/>
        </p:nvSpPr>
        <p:spPr>
          <a:xfrm>
            <a:off x="4227480" y="4289400"/>
            <a:ext cx="180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6"/>
          <p:cNvSpPr/>
          <p:nvPr/>
        </p:nvSpPr>
        <p:spPr>
          <a:xfrm>
            <a:off x="7305840" y="4289400"/>
            <a:ext cx="144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7"/>
          <p:cNvSpPr/>
          <p:nvPr/>
        </p:nvSpPr>
        <p:spPr>
          <a:xfrm>
            <a:off x="6962760" y="4289400"/>
            <a:ext cx="144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2"/>
          <p:cNvSpPr/>
          <p:nvPr/>
        </p:nvSpPr>
        <p:spPr>
          <a:xfrm>
            <a:off x="5749920" y="4419720"/>
            <a:ext cx="3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3638520" y="441972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6"/>
          <p:cNvSpPr/>
          <p:nvPr/>
        </p:nvSpPr>
        <p:spPr>
          <a:xfrm>
            <a:off x="2951280" y="4419720"/>
            <a:ext cx="5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4"/>
          <p:cNvSpPr/>
          <p:nvPr/>
        </p:nvSpPr>
        <p:spPr>
          <a:xfrm>
            <a:off x="4462560" y="5040360"/>
            <a:ext cx="19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6"/>
          <p:cNvSpPr/>
          <p:nvPr/>
        </p:nvSpPr>
        <p:spPr>
          <a:xfrm>
            <a:off x="4659480" y="28512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614840" y="3517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7"/>
          <p:cNvSpPr/>
          <p:nvPr/>
        </p:nvSpPr>
        <p:spPr>
          <a:xfrm>
            <a:off x="4711680" y="21906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3"/>
          <p:cNvSpPr/>
          <p:nvPr/>
        </p:nvSpPr>
        <p:spPr>
          <a:xfrm>
            <a:off x="1471680" y="4289400"/>
            <a:ext cx="144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25"/>
              <p:cNvSpPr txBox="1"/>
              <p:nvPr/>
            </p:nvSpPr>
            <p:spPr>
              <a:xfrm>
                <a:off x="450720" y="425520"/>
                <a:ext cx="2448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Line 130"/>
          <p:cNvSpPr/>
          <p:nvPr/>
        </p:nvSpPr>
        <p:spPr>
          <a:xfrm flipH="1">
            <a:off x="1793520" y="3013200"/>
            <a:ext cx="56610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136"/>
              <p:cNvSpPr txBox="1"/>
              <p:nvPr/>
            </p:nvSpPr>
            <p:spPr>
              <a:xfrm>
                <a:off x="7120080" y="2362320"/>
                <a:ext cx="1069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0" name="Line 140"/>
          <p:cNvSpPr/>
          <p:nvPr/>
        </p:nvSpPr>
        <p:spPr>
          <a:xfrm>
            <a:off x="4476600" y="171756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2"/>
          <p:cNvSpPr/>
          <p:nvPr/>
        </p:nvSpPr>
        <p:spPr>
          <a:xfrm>
            <a:off x="4476600" y="2044800"/>
            <a:ext cx="1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4"/>
          <p:cNvSpPr/>
          <p:nvPr/>
        </p:nvSpPr>
        <p:spPr>
          <a:xfrm>
            <a:off x="4726080" y="153972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49"/>
          <p:cNvSpPr/>
          <p:nvPr/>
        </p:nvSpPr>
        <p:spPr>
          <a:xfrm rot="163800">
            <a:off x="5287680" y="628560"/>
            <a:ext cx="1154160" cy="2484360"/>
          </a:xfrm>
          <a:prstGeom prst="pi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51"/>
          <p:cNvSpPr/>
          <p:nvPr/>
        </p:nvSpPr>
        <p:spPr>
          <a:xfrm>
            <a:off x="2314440" y="3049560"/>
            <a:ext cx="2944800" cy="1184400"/>
          </a:xfrm>
          <a:prstGeom prst="pi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52"/>
              <p:cNvSpPr txBox="1"/>
              <p:nvPr/>
            </p:nvSpPr>
            <p:spPr>
              <a:xfrm>
                <a:off x="2327400" y="3719520"/>
                <a:ext cx="9302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6" name="Freeform 158"/>
          <p:cNvSpPr/>
          <p:nvPr/>
        </p:nvSpPr>
        <p:spPr>
          <a:xfrm>
            <a:off x="2273400" y="3119400"/>
            <a:ext cx="2971800" cy="1278000"/>
          </a:xfrm>
          <a:prstGeom prst="pi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9"/>
          <p:cNvSpPr/>
          <p:nvPr/>
        </p:nvSpPr>
        <p:spPr>
          <a:xfrm flipH="1">
            <a:off x="1803240" y="5722920"/>
            <a:ext cx="5661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35"/>
          <p:cNvSpPr/>
          <p:nvPr/>
        </p:nvSpPr>
        <p:spPr>
          <a:xfrm>
            <a:off x="4559400" y="2587680"/>
            <a:ext cx="4140000" cy="17874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0"/>
          <p:cNvSpPr/>
          <p:nvPr/>
        </p:nvSpPr>
        <p:spPr>
          <a:xfrm>
            <a:off x="130320" y="1800360"/>
            <a:ext cx="18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При а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&lt;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61"/>
          <p:cNvSpPr/>
          <p:nvPr/>
        </p:nvSpPr>
        <p:spPr>
          <a:xfrm>
            <a:off x="4570560" y="3940200"/>
            <a:ext cx="4140000" cy="17874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63"/>
              <p:cNvSpPr txBox="1"/>
              <p:nvPr/>
            </p:nvSpPr>
            <p:spPr>
              <a:xfrm>
                <a:off x="2316240" y="4870440"/>
                <a:ext cx="14000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64"/>
              <p:cNvSpPr txBox="1"/>
              <p:nvPr/>
            </p:nvSpPr>
            <p:spPr>
              <a:xfrm>
                <a:off x="2104920" y="2567160"/>
                <a:ext cx="15084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65"/>
              <p:cNvSpPr txBox="1"/>
              <p:nvPr/>
            </p:nvSpPr>
            <p:spPr>
              <a:xfrm>
                <a:off x="6832440" y="3664080"/>
                <a:ext cx="1509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TextBox 71"/>
          <p:cNvSpPr/>
          <p:nvPr/>
        </p:nvSpPr>
        <p:spPr>
          <a:xfrm>
            <a:off x="6415200" y="178452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рней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60"/>
          <p:cNvSpPr/>
          <p:nvPr/>
        </p:nvSpPr>
        <p:spPr>
          <a:xfrm>
            <a:off x="127080" y="199692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При а =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3"/>
          <p:cNvSpPr/>
          <p:nvPr/>
        </p:nvSpPr>
        <p:spPr>
          <a:xfrm>
            <a:off x="6405480" y="20113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 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6"/>
          <p:cNvSpPr/>
          <p:nvPr/>
        </p:nvSpPr>
        <p:spPr>
          <a:xfrm>
            <a:off x="2260440" y="4429080"/>
            <a:ext cx="5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6"/>
          <p:cNvSpPr/>
          <p:nvPr/>
        </p:nvSpPr>
        <p:spPr>
          <a:xfrm>
            <a:off x="1589040" y="4429080"/>
            <a:ext cx="5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8"/>
          <p:cNvSpPr/>
          <p:nvPr/>
        </p:nvSpPr>
        <p:spPr>
          <a:xfrm>
            <a:off x="71280" y="2260440"/>
            <a:ext cx="21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 -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&lt; a ≤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9"/>
          <p:cNvSpPr/>
          <p:nvPr/>
        </p:nvSpPr>
        <p:spPr>
          <a:xfrm>
            <a:off x="6424560" y="2222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кор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блако 80"/>
          <p:cNvSpPr/>
          <p:nvPr/>
        </p:nvSpPr>
        <p:spPr>
          <a:xfrm>
            <a:off x="5129280" y="4286160"/>
            <a:ext cx="271440" cy="214560"/>
          </a:xfrm>
          <a:prstGeom prst="pi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блако 82"/>
          <p:cNvSpPr/>
          <p:nvPr/>
        </p:nvSpPr>
        <p:spPr>
          <a:xfrm>
            <a:off x="4680000" y="3781440"/>
            <a:ext cx="271440" cy="214200"/>
          </a:xfrm>
          <a:prstGeom prst="pi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блако 83"/>
          <p:cNvSpPr/>
          <p:nvPr/>
        </p:nvSpPr>
        <p:spPr>
          <a:xfrm>
            <a:off x="5695920" y="3282840"/>
            <a:ext cx="271440" cy="214560"/>
          </a:xfrm>
          <a:prstGeom prst="pi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0"/>
          <p:cNvSpPr/>
          <p:nvPr/>
        </p:nvSpPr>
        <p:spPr>
          <a:xfrm>
            <a:off x="58680" y="2444760"/>
            <a:ext cx="18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При а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&g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86"/>
          <p:cNvSpPr/>
          <p:nvPr/>
        </p:nvSpPr>
        <p:spPr>
          <a:xfrm>
            <a:off x="6410160" y="24145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 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блако 87"/>
          <p:cNvSpPr/>
          <p:nvPr/>
        </p:nvSpPr>
        <p:spPr>
          <a:xfrm>
            <a:off x="6311880" y="2039760"/>
            <a:ext cx="271440" cy="214560"/>
          </a:xfrm>
          <a:prstGeom prst="pi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75"/>
              <p:cNvSpPr txBox="1"/>
              <p:nvPr/>
            </p:nvSpPr>
            <p:spPr>
              <a:xfrm>
                <a:off x="6670800" y="1312920"/>
                <a:ext cx="1509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Text Box 69"/>
          <p:cNvSpPr/>
          <p:nvPr/>
        </p:nvSpPr>
        <p:spPr>
          <a:xfrm>
            <a:off x="5214960" y="4797360"/>
            <a:ext cx="39290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Monotype Corsiva"/>
              </a:rPr>
              <a:t>   </a:t>
            </a: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При а = -1              1 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При -1</a:t>
            </a:r>
            <a:r>
              <a:rPr b="1" i="1" lang="en-US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а≤1</a:t>
            </a:r>
            <a:r>
              <a:rPr b="1" i="1" lang="en-US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2 кор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При а</a:t>
            </a:r>
            <a:r>
              <a:rPr b="1" i="1" lang="en-US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 &gt; </a:t>
            </a: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 1</a:t>
            </a:r>
            <a:r>
              <a:rPr b="1" i="1" lang="en-US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73988E-006 L -0.00156 0.19144 E">
                                      <p:cBhvr>
                                        <p:cTn id="221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04624E-006 L -2.5E-006 0.18959 E">
                                      <p:cBhvr>
                                        <p:cTn id="223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1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1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4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90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1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1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1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1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400"/>
                            </p:stCondLst>
                            <p:childTnLst>
                              <p:par>
                                <p:cTn id="31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3.33333E-006 -0.09259 E">
                                      <p:cBhvr>
                                        <p:cTn id="314" dur="3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4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1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1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8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800"/>
                            </p:stCondLst>
                            <p:childTnLst>
                              <p:par>
                                <p:cTn id="3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250" autoRev="1" fill="hold"/>
                                        <p:tgtEl>
                                          <p:spTgt spid="2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9259 L 3.33333E-006 -0.21111 E">
                                      <p:cBhvr>
                                        <p:cTn id="350" dur="5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700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1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1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35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8350"/>
                            </p:stCondLst>
                            <p:childTnLst>
                              <p:par>
                                <p:cTn id="3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250" autoRev="1" fill="hold"/>
                                        <p:tgtEl>
                                          <p:spTgt spid="2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250" autoRev="1" fill="hold"/>
                                        <p:tgtEl>
                                          <p:spTgt spid="2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1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1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30243 L 4.72222E-006 -0.3637 E">
                                      <p:cBhvr>
                                        <p:cTn id="393" dur="5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9000"/>
                            </p:stCondLst>
                            <p:childTnLst>
                              <p:par>
                                <p:cTn id="3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1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1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1" dur="250" autoRev="1" fill="hold"/>
                                        <p:tgtEl>
                                          <p:spTgt spid="2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15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5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15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5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675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15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5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15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5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116000" y="3933720"/>
                <a:ext cx="34560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042920" y="5013360"/>
                <a:ext cx="43210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116000" y="2708280"/>
                <a:ext cx="3960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,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5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116000" y="1484280"/>
                <a:ext cx="23050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Т Е С 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3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к, если верно неравенство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=k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&gt;k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В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&lt;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Г) нельзя определ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 какого уравнения изображено на рисун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сумму корней урав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  -1                 Б)   0                 В)   1               Г)  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шите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 81                 Б)   0                 В)   -81               Г) нет кор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йдите наибольший корень урав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 0                    Б)  1                  В)  7                   Г) нет кор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4"/>
          <p:cNvSpPr/>
          <p:nvPr/>
        </p:nvSpPr>
        <p:spPr>
          <a:xfrm flipV="1">
            <a:off x="6012000" y="198864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5"/>
          <p:cNvSpPr/>
          <p:nvPr/>
        </p:nvSpPr>
        <p:spPr>
          <a:xfrm>
            <a:off x="5292720" y="342900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6"/>
          <p:cNvSpPr/>
          <p:nvPr/>
        </p:nvSpPr>
        <p:spPr>
          <a:xfrm flipV="1">
            <a:off x="6877080" y="2349000"/>
            <a:ext cx="1079640" cy="1079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7"/>
          <p:cNvSpPr/>
          <p:nvPr/>
        </p:nvSpPr>
        <p:spPr>
          <a:xfrm flipH="1" flipV="1">
            <a:off x="5795640" y="2349000"/>
            <a:ext cx="1081080" cy="1079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30"/>
              <p:cNvSpPr txBox="1"/>
              <p:nvPr/>
            </p:nvSpPr>
            <p:spPr>
              <a:xfrm>
                <a:off x="7667640" y="3429000"/>
                <a:ext cx="2491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2"/>
              <p:cNvSpPr txBox="1"/>
              <p:nvPr/>
            </p:nvSpPr>
            <p:spPr>
              <a:xfrm>
                <a:off x="6084720" y="2060640"/>
                <a:ext cx="2541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6"/>
              <p:cNvSpPr txBox="1"/>
              <p:nvPr/>
            </p:nvSpPr>
            <p:spPr>
              <a:xfrm>
                <a:off x="6804000" y="3429000"/>
                <a:ext cx="2541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8"/>
              <p:cNvSpPr txBox="1"/>
              <p:nvPr/>
            </p:nvSpPr>
            <p:spPr>
              <a:xfrm>
                <a:off x="6012000" y="3429000"/>
                <a:ext cx="1983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Rectangle 4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9"/>
              <p:cNvSpPr txBox="1"/>
              <p:nvPr/>
            </p:nvSpPr>
            <p:spPr>
              <a:xfrm>
                <a:off x="6084720" y="549360"/>
                <a:ext cx="1729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" name="Rectangle 4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1"/>
              <p:cNvSpPr txBox="1"/>
              <p:nvPr/>
            </p:nvSpPr>
            <p:spPr>
              <a:xfrm>
                <a:off x="1042920" y="2022480"/>
                <a:ext cx="1873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Rectangle 4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3"/>
              <p:cNvSpPr txBox="1"/>
              <p:nvPr/>
            </p:nvSpPr>
            <p:spPr>
              <a:xfrm>
                <a:off x="971640" y="2257560"/>
                <a:ext cx="2016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Rectangle 4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5"/>
              <p:cNvSpPr txBox="1"/>
              <p:nvPr/>
            </p:nvSpPr>
            <p:spPr>
              <a:xfrm>
                <a:off x="1042920" y="2805120"/>
                <a:ext cx="18003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Rectangle 48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7"/>
              <p:cNvSpPr txBox="1"/>
              <p:nvPr/>
            </p:nvSpPr>
            <p:spPr>
              <a:xfrm>
                <a:off x="900000" y="3068640"/>
                <a:ext cx="20163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Arc 52"/>
          <p:cNvSpPr/>
          <p:nvPr/>
        </p:nvSpPr>
        <p:spPr>
          <a:xfrm flipV="1" rot="844800">
            <a:off x="4788000" y="1844280"/>
            <a:ext cx="2017440" cy="2004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4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53"/>
              <p:cNvSpPr txBox="1"/>
              <p:nvPr/>
            </p:nvSpPr>
            <p:spPr>
              <a:xfrm>
                <a:off x="6012000" y="3716280"/>
                <a:ext cx="28872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Line 55"/>
          <p:cNvSpPr/>
          <p:nvPr/>
        </p:nvSpPr>
        <p:spPr>
          <a:xfrm>
            <a:off x="4716360" y="3716280"/>
            <a:ext cx="302436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56"/>
              <p:cNvSpPr txBox="1"/>
              <p:nvPr/>
            </p:nvSpPr>
            <p:spPr>
              <a:xfrm>
                <a:off x="6012000" y="292428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Rectangle 59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58"/>
              <p:cNvSpPr txBox="1"/>
              <p:nvPr/>
            </p:nvSpPr>
            <p:spPr>
              <a:xfrm>
                <a:off x="5148360" y="3879720"/>
                <a:ext cx="12952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60"/>
              <p:cNvSpPr txBox="1"/>
              <p:nvPr/>
            </p:nvSpPr>
            <p:spPr>
              <a:xfrm>
                <a:off x="3276720" y="4614840"/>
                <a:ext cx="22320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Rectangle 6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2"/>
              <p:cNvSpPr txBox="1"/>
              <p:nvPr/>
            </p:nvSpPr>
            <p:spPr>
              <a:xfrm>
                <a:off x="5724360" y="5373720"/>
                <a:ext cx="2087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люч к тес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    В)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&lt;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    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    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    Б)  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7"/>
              <p:cNvSpPr txBox="1"/>
              <p:nvPr/>
            </p:nvSpPr>
            <p:spPr>
              <a:xfrm>
                <a:off x="2195640" y="2421000"/>
                <a:ext cx="2447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Каким способом можно решить каждое уравн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187280" y="1414440"/>
                <a:ext cx="28800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6"/>
          <p:cNvGraphicFramePr/>
          <p:nvPr/>
        </p:nvGraphicFramePr>
        <p:xfrm>
          <a:off x="1187280" y="2382840"/>
          <a:ext cx="3097440" cy="62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2382840"/>
                    <a:ext cx="30974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1116000" y="2992320"/>
                <a:ext cx="302436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1,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1187280" y="4308480"/>
                <a:ext cx="288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2"/>
              <p:cNvSpPr txBox="1"/>
              <p:nvPr/>
            </p:nvSpPr>
            <p:spPr>
              <a:xfrm>
                <a:off x="1187280" y="5200560"/>
                <a:ext cx="3024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Индивидуа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1116000" y="1547640"/>
                <a:ext cx="3168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1187280" y="2276640"/>
                <a:ext cx="28800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3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2"/>
              <p:cNvSpPr txBox="1"/>
              <p:nvPr/>
            </p:nvSpPr>
            <p:spPr>
              <a:xfrm>
                <a:off x="1116000" y="5829480"/>
                <a:ext cx="56880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πx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πx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4"/>
              <p:cNvSpPr txBox="1"/>
              <p:nvPr/>
            </p:nvSpPr>
            <p:spPr>
              <a:xfrm>
                <a:off x="1116000" y="3213000"/>
                <a:ext cx="2879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17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6"/>
              <p:cNvSpPr txBox="1"/>
              <p:nvPr/>
            </p:nvSpPr>
            <p:spPr>
              <a:xfrm>
                <a:off x="1116000" y="3957480"/>
                <a:ext cx="4464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6000" y="4836960"/>
                <a:ext cx="30243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ra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Определить количество корней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7"/>
              <p:cNvSpPr txBox="1"/>
              <p:nvPr/>
            </p:nvSpPr>
            <p:spPr>
              <a:xfrm>
                <a:off x="2484360" y="2276640"/>
                <a:ext cx="41767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оставить уравнение, решение которого изображено на рисун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6"/>
              <p:cNvSpPr txBox="1"/>
              <p:nvPr/>
            </p:nvSpPr>
            <p:spPr>
              <a:xfrm>
                <a:off x="4643280" y="1773360"/>
                <a:ext cx="2667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33"/>
              <p:cNvSpPr txBox="1"/>
              <p:nvPr/>
            </p:nvSpPr>
            <p:spPr>
              <a:xfrm>
                <a:off x="4329000" y="3284640"/>
                <a:ext cx="1159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58"/>
              <p:cNvSpPr txBox="1"/>
              <p:nvPr/>
            </p:nvSpPr>
            <p:spPr>
              <a:xfrm>
                <a:off x="4284720" y="2708280"/>
                <a:ext cx="179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Line 4"/>
          <p:cNvSpPr/>
          <p:nvPr/>
        </p:nvSpPr>
        <p:spPr>
          <a:xfrm flipV="1">
            <a:off x="4572000" y="1773000"/>
            <a:ext cx="0" cy="431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2124000" y="3645000"/>
            <a:ext cx="496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 flipH="1">
            <a:off x="2987640" y="2852640"/>
            <a:ext cx="2448000" cy="2232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5435640" y="2852640"/>
            <a:ext cx="2449440" cy="2160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0"/>
              <p:cNvSpPr txBox="1"/>
              <p:nvPr/>
            </p:nvSpPr>
            <p:spPr>
              <a:xfrm>
                <a:off x="7020000" y="3645000"/>
                <a:ext cx="2509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11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5"/>
              <p:cNvSpPr txBox="1"/>
              <p:nvPr/>
            </p:nvSpPr>
            <p:spPr>
              <a:xfrm>
                <a:off x="6227640" y="3645000"/>
                <a:ext cx="1476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9"/>
              <p:cNvSpPr txBox="1"/>
              <p:nvPr/>
            </p:nvSpPr>
            <p:spPr>
              <a:xfrm>
                <a:off x="4572000" y="3645000"/>
                <a:ext cx="1476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Line 20"/>
          <p:cNvSpPr/>
          <p:nvPr/>
        </p:nvSpPr>
        <p:spPr>
          <a:xfrm>
            <a:off x="5435640" y="3573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457200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4500720" y="285264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>
            <a:off x="4859280" y="3573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0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9"/>
              <p:cNvSpPr txBox="1"/>
              <p:nvPr/>
            </p:nvSpPr>
            <p:spPr>
              <a:xfrm>
                <a:off x="4859280" y="364500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Freeform 31"/>
          <p:cNvSpPr/>
          <p:nvPr/>
        </p:nvSpPr>
        <p:spPr>
          <a:xfrm rot="717600">
            <a:off x="5068440" y="1626840"/>
            <a:ext cx="284400" cy="2087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8"/>
              <p:cNvSpPr txBox="1"/>
              <p:nvPr/>
            </p:nvSpPr>
            <p:spPr>
              <a:xfrm>
                <a:off x="4284720" y="2997360"/>
                <a:ext cx="1648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Line 48"/>
          <p:cNvSpPr/>
          <p:nvPr/>
        </p:nvSpPr>
        <p:spPr>
          <a:xfrm>
            <a:off x="2268360" y="3141720"/>
            <a:ext cx="4535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1"/>
          <p:cNvSpPr/>
          <p:nvPr/>
        </p:nvSpPr>
        <p:spPr>
          <a:xfrm>
            <a:off x="4500720" y="335772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55"/>
          <p:cNvSpPr/>
          <p:nvPr/>
        </p:nvSpPr>
        <p:spPr>
          <a:xfrm flipH="1" flipV="1" rot="10666800">
            <a:off x="2842200" y="3141720"/>
            <a:ext cx="2017800" cy="5745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0"/>
          <p:cNvSpPr/>
          <p:nvPr/>
        </p:nvSpPr>
        <p:spPr>
          <a:xfrm>
            <a:off x="2268360" y="4149720"/>
            <a:ext cx="4535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61"/>
              <p:cNvSpPr txBox="1"/>
              <p:nvPr/>
            </p:nvSpPr>
            <p:spPr>
              <a:xfrm>
                <a:off x="4211640" y="4149720"/>
                <a:ext cx="297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62"/>
              <p:cNvSpPr txBox="1"/>
              <p:nvPr/>
            </p:nvSpPr>
            <p:spPr>
              <a:xfrm>
                <a:off x="4284720" y="3789360"/>
                <a:ext cx="2649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63"/>
              <p:cNvSpPr txBox="1"/>
              <p:nvPr/>
            </p:nvSpPr>
            <p:spPr>
              <a:xfrm>
                <a:off x="468360" y="5300640"/>
                <a:ext cx="27352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Line 65"/>
          <p:cNvSpPr/>
          <p:nvPr/>
        </p:nvSpPr>
        <p:spPr>
          <a:xfrm>
            <a:off x="5148360" y="3573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66"/>
              <p:cNvSpPr txBox="1"/>
              <p:nvPr/>
            </p:nvSpPr>
            <p:spPr>
              <a:xfrm>
                <a:off x="5076720" y="3645000"/>
                <a:ext cx="1666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68"/>
              <p:cNvSpPr txBox="1"/>
              <p:nvPr/>
            </p:nvSpPr>
            <p:spPr>
              <a:xfrm>
                <a:off x="5364000" y="3645000"/>
                <a:ext cx="150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Line 71"/>
          <p:cNvSpPr/>
          <p:nvPr/>
        </p:nvSpPr>
        <p:spPr>
          <a:xfrm flipV="1">
            <a:off x="5148360" y="3141720"/>
            <a:ext cx="0" cy="5032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4"/>
          <p:cNvSpPr/>
          <p:nvPr/>
        </p:nvSpPr>
        <p:spPr>
          <a:xfrm>
            <a:off x="4572000" y="3933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5"/>
          <p:cNvSpPr/>
          <p:nvPr/>
        </p:nvSpPr>
        <p:spPr>
          <a:xfrm flipH="1">
            <a:off x="5363640" y="285264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2050920" y="1773360"/>
                <a:ext cx="5327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Найдите ошибку в решении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2843280" y="1484280"/>
                <a:ext cx="3024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8</m:t>
                                    </m:r>
                                  </m:e>
                                </m:rad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3059280" y="2276640"/>
                <a:ext cx="252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8</m:t>
                                    </m:r>
                                  </m:e>
                                </m:rad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0"/>
              <p:cNvSpPr txBox="1"/>
              <p:nvPr/>
            </p:nvSpPr>
            <p:spPr>
              <a:xfrm>
                <a:off x="2700360" y="2997360"/>
                <a:ext cx="31669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Rectangle 13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2"/>
              <p:cNvSpPr txBox="1"/>
              <p:nvPr/>
            </p:nvSpPr>
            <p:spPr>
              <a:xfrm>
                <a:off x="3492360" y="3645000"/>
                <a:ext cx="215928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Rectangle 15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4"/>
              <p:cNvSpPr txBox="1"/>
              <p:nvPr/>
            </p:nvSpPr>
            <p:spPr>
              <a:xfrm>
                <a:off x="3479760" y="4653000"/>
                <a:ext cx="106848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Text Box 17"/>
          <p:cNvSpPr/>
          <p:nvPr/>
        </p:nvSpPr>
        <p:spPr>
          <a:xfrm>
            <a:off x="5074920" y="5877000"/>
            <a:ext cx="19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 -4; -3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8:10:03Z</dcterms:created>
  <dc:creator>Ольга Васильевна</dc:creator>
  <dc:description/>
  <dc:language>en-US</dc:language>
  <cp:lastModifiedBy>Ольга Васильевна</cp:lastModifiedBy>
  <dcterms:modified xsi:type="dcterms:W3CDTF">2009-11-13T18:11:43Z</dcterms:modified>
  <cp:revision>50</cp:revision>
  <dc:subject/>
  <dc:title>«Различные методы решения показательных уравнений»</dc:title>
</cp:coreProperties>
</file>