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3CCB-0539-4DE0-94A4-8304D4637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016C-01D9-4679-A08C-6D3D2356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D2C2-AD18-41AD-A132-942B56D7A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CD74-47A3-4B19-B583-EE91809FB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CC96-27F4-4434-A2CD-0F4610BB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D12B-1FB6-4F73-804F-1517BBE5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4071-7B32-4ED8-9182-D15F01F5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D79D-3626-43DB-91F3-DE44A77C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4B04-3334-43C6-968A-3DBD0225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BA55-E08A-47E8-918D-30BBCF3A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22E2-6678-48D2-BA93-26C1D7C7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CEF6-9C1F-4214-B363-1D8E7025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F729-B5F9-4268-8B1D-473A28A7B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Решение иррациональных уравнени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64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У Лицей №1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.Сара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пова Ольга Василье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0520" y="0"/>
            <a:ext cx="910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ыясните, при каких значения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уравнение имеет решение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-3 = a-|x|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9494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68440" y="3484440"/>
            <a:ext cx="468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484520" y="942480"/>
            <a:ext cx="0" cy="4705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18200" y="3398760"/>
            <a:ext cx="1440" cy="171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76760" y="3398760"/>
            <a:ext cx="0" cy="171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73360" y="3403440"/>
            <a:ext cx="1440" cy="17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87600" y="3403440"/>
            <a:ext cx="1800" cy="17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57840" y="3403440"/>
            <a:ext cx="1440" cy="17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37120" y="3403440"/>
            <a:ext cx="1800" cy="17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79760" y="136368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79760" y="203976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79760" y="240660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87680" y="273996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79760" y="312264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79760" y="385272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79760" y="420372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79760" y="457056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79760" y="490536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79760" y="528624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19320" y="3398760"/>
            <a:ext cx="180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51200" y="3403440"/>
            <a:ext cx="1800" cy="17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086360" y="3398760"/>
            <a:ext cx="144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297480" y="3398760"/>
            <a:ext cx="1800" cy="176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632640" y="3398760"/>
            <a:ext cx="1440" cy="176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84520" y="2432160"/>
            <a:ext cx="3005280" cy="1033200"/>
          </a:xfrm>
          <a:custGeom>
            <a:avLst/>
            <a:gdLst/>
            <a:ahLst/>
            <a:rect l="l" t="t" r="r" b="b"/>
            <a:pathLst>
              <a:path w="1893" h="668">
                <a:moveTo>
                  <a:pt x="0" y="668"/>
                </a:moveTo>
                <a:cubicBezTo>
                  <a:pt x="40" y="594"/>
                  <a:pt x="81" y="520"/>
                  <a:pt x="229" y="439"/>
                </a:cubicBezTo>
                <a:cubicBezTo>
                  <a:pt x="377" y="358"/>
                  <a:pt x="610" y="256"/>
                  <a:pt x="887" y="183"/>
                </a:cubicBezTo>
                <a:cubicBezTo>
                  <a:pt x="1164" y="110"/>
                  <a:pt x="1722" y="30"/>
                  <a:pt x="1893" y="0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68440" y="3133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5  -4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3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2  -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87680" y="3537000"/>
            <a:ext cx="25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   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3   4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  6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79760" y="168444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59720" y="2952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779400"/>
            <a:ext cx="6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115884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152568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91080" y="1863720"/>
            <a:ext cx="3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51480" y="221472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91080" y="256536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038480" y="3720960"/>
            <a:ext cx="7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038480" y="511020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62240" y="4729320"/>
            <a:ext cx="72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439416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4027320"/>
            <a:ext cx="6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20618400">
            <a:off x="5133960" y="2379240"/>
            <a:ext cx="14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20529600">
            <a:off x="6297840" y="2338200"/>
            <a:ext cx="14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  x 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21000" y="349236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2668680" y="1865160"/>
            <a:ext cx="1814400" cy="161928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483080" y="1726920"/>
            <a:ext cx="1709640" cy="175716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2610600">
            <a:off x="2942280" y="2064600"/>
            <a:ext cx="9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|x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38880" y="2373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20509800">
            <a:off x="5541840" y="2440080"/>
            <a:ext cx="406440" cy="214200"/>
          </a:xfrm>
          <a:custGeom>
            <a:avLst/>
            <a:gdLst/>
            <a:ahLst/>
            <a:rect l="l" t="t" r="r" b="b"/>
            <a:pathLst>
              <a:path w="329" h="183">
                <a:moveTo>
                  <a:pt x="0" y="64"/>
                </a:moveTo>
                <a:lnTo>
                  <a:pt x="55" y="183"/>
                </a:lnTo>
                <a:lnTo>
                  <a:pt x="128" y="0"/>
                </a:lnTo>
                <a:lnTo>
                  <a:pt x="329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20440800">
            <a:off x="6684840" y="2281320"/>
            <a:ext cx="727200" cy="284040"/>
          </a:xfrm>
          <a:custGeom>
            <a:avLst/>
            <a:gdLst/>
            <a:ahLst/>
            <a:rect l="l" t="t" r="r" b="b"/>
            <a:pathLst>
              <a:path w="540" h="192">
                <a:moveTo>
                  <a:pt x="0" y="100"/>
                </a:moveTo>
                <a:lnTo>
                  <a:pt x="37" y="192"/>
                </a:lnTo>
                <a:lnTo>
                  <a:pt x="101" y="0"/>
                </a:lnTo>
                <a:lnTo>
                  <a:pt x="5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4493880" y="3492360"/>
            <a:ext cx="2095560" cy="198144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498760" y="3484080"/>
            <a:ext cx="1985760" cy="19926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8870600">
            <a:off x="2821320" y="4206240"/>
            <a:ext cx="9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-|x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54200" y="604800"/>
            <a:ext cx="650880" cy="338040"/>
          </a:xfrm>
          <a:custGeom>
            <a:avLst/>
            <a:gdLst/>
            <a:ahLst/>
            <a:rect l="l" t="t" r="r" b="b"/>
            <a:pathLst>
              <a:path w="540" h="192">
                <a:moveTo>
                  <a:pt x="0" y="100"/>
                </a:moveTo>
                <a:lnTo>
                  <a:pt x="37" y="192"/>
                </a:lnTo>
                <a:lnTo>
                  <a:pt x="101" y="0"/>
                </a:lnTo>
                <a:lnTo>
                  <a:pt x="5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43360" y="5864400"/>
            <a:ext cx="34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&gt;=3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8843600">
            <a:off x="5044680" y="16815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520" y="337176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Georgia"/>
              </a:rPr>
              <a:t>При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0280" y="502452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Georgia"/>
              </a:rPr>
              <a:t>П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33280" y="2065320"/>
            <a:ext cx="17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Georgia"/>
              </a:rPr>
              <a:t>Пр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8861000">
            <a:off x="2862720" y="5679360"/>
            <a:ext cx="19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 a - |x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8839400">
            <a:off x="3110760" y="225360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 3 - |x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482720" y="2396880"/>
            <a:ext cx="2095560" cy="198108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496960" y="2397240"/>
            <a:ext cx="1986120" cy="199224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452920" y="3319560"/>
            <a:ext cx="257400" cy="25884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520" y="140796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Georgia"/>
              </a:rPr>
              <a:t>При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&gt;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24760" y="2770200"/>
            <a:ext cx="241200" cy="25236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8861000">
            <a:off x="3180240" y="1037520"/>
            <a:ext cx="19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 a - |x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08560" y="5648400"/>
            <a:ext cx="293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   </a:t>
            </a: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Подготов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ученица 9 «В»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     </a:t>
            </a: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Гришина Ма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3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3321E-006 L 0.12084 1.3321E-006 E">
                                      <p:cBhvr>
                                        <p:cTn id="264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9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30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8" presetSubtype="3">
                                  <p:stCondLst>
                                    <p:cond delay="0"/>
                                  </p:stCondLst>
                                  <p:childTnLst>
                                    <p:animEffect filter="strips(upRight)" transition="out">
                                      <p:cBhvr additive="repl">
                                        <p:cTn id="31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96296E-006 L 5.55556E-007 0.30277 E">
                                      <p:cBhvr>
                                        <p:cTn id="340" dur="3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11111E-006 L 5E-006 0.3037 E">
                                      <p:cBhvr>
                                        <p:cTn id="342" dur="3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000"/>
                            </p:stCondLst>
                            <p:childTnLst>
                              <p:par>
                                <p:cTn id="3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5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000"/>
                            </p:stCondLst>
                            <p:childTnLst>
                              <p:par>
                                <p:cTn id="3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000"/>
                            </p:stCondLst>
                            <p:childTnLst>
                              <p:par>
                                <p:cTn id="3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6000"/>
                            </p:stCondLst>
                            <p:childTnLst>
                              <p:par>
                                <p:cTn id="409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1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8000"/>
                            </p:stCondLst>
                            <p:childTnLst>
                              <p:par>
                                <p:cTn id="4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0.00139 L -1.11111E-006 -0.18478 E">
                                      <p:cBhvr>
                                        <p:cTn id="421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208 L 0.00035 -0.18409 E">
                                      <p:cBhvr>
                                        <p:cTn id="423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6000"/>
                            </p:stCondLst>
                            <p:childTnLst>
                              <p:par>
                                <p:cTn id="451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5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8000"/>
                            </p:stCondLst>
                            <p:childTnLst>
                              <p:par>
                                <p:cTn id="45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3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3500"/>
                            </p:stCondLst>
                            <p:childTnLst>
                              <p:par>
                                <p:cTn id="47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1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5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1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Т Е С 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у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5       Б) нет корней      В) -4       Г) множество кор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  Решение какого уравнения изображено на рисун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Найдите область определения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                  Б)                    В)                  Г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572000" y="836640"/>
                <a:ext cx="27367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6804000" y="5084640"/>
                <a:ext cx="18716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826920" y="6093000"/>
                <a:ext cx="13687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;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771640" y="6093000"/>
                <a:ext cx="13687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716360" y="6093000"/>
                <a:ext cx="1440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6588000" y="6093000"/>
                <a:ext cx="244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]</m:t>
                    </m:r>
                    <m:r>
                      <m:t xml:space="preserve">∪</m:t>
                    </m:r>
                    <m:r>
                      <m:t xml:space="preserve">[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042920" y="3716280"/>
                <a:ext cx="17287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ra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284640"/>
                <a:ext cx="16556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ra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116000" y="2852640"/>
                <a:ext cx="16556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116000" y="4149720"/>
                <a:ext cx="1655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 flipV="1">
            <a:off x="6012000" y="3141360"/>
            <a:ext cx="0" cy="19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92720" y="4508640"/>
            <a:ext cx="25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877080" y="3428640"/>
            <a:ext cx="1079640" cy="1079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795640" y="3428640"/>
            <a:ext cx="1081080" cy="1079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88000" y="3933720"/>
            <a:ext cx="1584360" cy="574920"/>
          </a:xfrm>
          <a:custGeom>
            <a:avLst/>
            <a:gdLst/>
            <a:ahLst/>
            <a:rect l="l" t="t" r="r" b="b"/>
            <a:pathLst>
              <a:path w="998" h="362">
                <a:moveTo>
                  <a:pt x="0" y="362"/>
                </a:moveTo>
                <a:cubicBezTo>
                  <a:pt x="11" y="332"/>
                  <a:pt x="22" y="302"/>
                  <a:pt x="45" y="272"/>
                </a:cubicBezTo>
                <a:cubicBezTo>
                  <a:pt x="68" y="242"/>
                  <a:pt x="90" y="211"/>
                  <a:pt x="136" y="181"/>
                </a:cubicBezTo>
                <a:cubicBezTo>
                  <a:pt x="182" y="151"/>
                  <a:pt x="242" y="113"/>
                  <a:pt x="318" y="90"/>
                </a:cubicBezTo>
                <a:cubicBezTo>
                  <a:pt x="394" y="67"/>
                  <a:pt x="477" y="60"/>
                  <a:pt x="590" y="45"/>
                </a:cubicBezTo>
                <a:cubicBezTo>
                  <a:pt x="703" y="30"/>
                  <a:pt x="930" y="8"/>
                  <a:pt x="99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7812000" y="4581360"/>
                <a:ext cx="24948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6084720" y="3141720"/>
                <a:ext cx="2541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516720" y="4508640"/>
                <a:ext cx="2206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804000" y="4508640"/>
                <a:ext cx="2541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012000" y="4508640"/>
                <a:ext cx="19836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Ключ к тес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  Б) нет кор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   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    А)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556000" y="2565360"/>
                <a:ext cx="27367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ra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627280" y="3645000"/>
                <a:ext cx="2016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;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5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Докажите, что уравнение не имеет корне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34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908000" y="1557360"/>
                <a:ext cx="2519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908000" y="2565360"/>
                <a:ext cx="3529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908000" y="3573360"/>
                <a:ext cx="36007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79640" y="4581360"/>
                <a:ext cx="36003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rad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979640" y="5516640"/>
                <a:ext cx="41050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rad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Индивидуаль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971640" y="1341360"/>
                <a:ext cx="273672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ra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042920" y="3213000"/>
                <a:ext cx="3816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971640" y="2276640"/>
                <a:ext cx="4392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t xml:space="preserve">3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971640" y="4292640"/>
                <a:ext cx="45370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116000" y="5300640"/>
                <a:ext cx="4680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Определить количество корней уравн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124000" y="2421000"/>
                <a:ext cx="453708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Составить уравнение, решение которого изображено на рисун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572000" y="1773000"/>
            <a:ext cx="0" cy="431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3645000"/>
            <a:ext cx="496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916000" y="2852640"/>
            <a:ext cx="2376360" cy="2521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92720" y="2852640"/>
            <a:ext cx="2303640" cy="2376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95520" y="3645000"/>
            <a:ext cx="4561200" cy="936360"/>
          </a:xfrm>
          <a:custGeom>
            <a:avLst/>
            <a:gdLst/>
            <a:ahLst/>
            <a:rect l="l" t="t" r="r" b="b"/>
            <a:pathLst>
              <a:path w="2873" h="590">
                <a:moveTo>
                  <a:pt x="15" y="0"/>
                </a:moveTo>
                <a:cubicBezTo>
                  <a:pt x="7" y="11"/>
                  <a:pt x="0" y="22"/>
                  <a:pt x="15" y="45"/>
                </a:cubicBezTo>
                <a:cubicBezTo>
                  <a:pt x="30" y="68"/>
                  <a:pt x="53" y="106"/>
                  <a:pt x="106" y="136"/>
                </a:cubicBezTo>
                <a:cubicBezTo>
                  <a:pt x="159" y="166"/>
                  <a:pt x="242" y="197"/>
                  <a:pt x="333" y="227"/>
                </a:cubicBezTo>
                <a:cubicBezTo>
                  <a:pt x="424" y="257"/>
                  <a:pt x="514" y="288"/>
                  <a:pt x="650" y="318"/>
                </a:cubicBezTo>
                <a:cubicBezTo>
                  <a:pt x="786" y="348"/>
                  <a:pt x="779" y="363"/>
                  <a:pt x="1149" y="408"/>
                </a:cubicBezTo>
                <a:cubicBezTo>
                  <a:pt x="1519" y="453"/>
                  <a:pt x="2586" y="560"/>
                  <a:pt x="2873" y="59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020000" y="3645000"/>
                <a:ext cx="2509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132000" y="3645000"/>
                <a:ext cx="28764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227640" y="3645000"/>
                <a:ext cx="1987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219640" y="3645000"/>
                <a:ext cx="1825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572000" y="3645000"/>
                <a:ext cx="19836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292720" y="357336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270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112760" y="5805360"/>
                <a:ext cx="36054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4500720" y="2852640"/>
            <a:ext cx="14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Работа в групп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258920" y="2133720"/>
                <a:ext cx="64818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  <m:r>
                      <m:t xml:space="preserve">+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Найдите ошибку в решении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ет: 1;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395360" y="1773360"/>
                <a:ext cx="3398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325520" y="2637000"/>
                <a:ext cx="36133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468440" y="3573360"/>
                <a:ext cx="29653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619280" y="4292640"/>
                <a:ext cx="2376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050920" y="4869000"/>
                <a:ext cx="12258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14:33:52Z</dcterms:created>
  <dc:creator>Ольга Васильевна</dc:creator>
  <dc:description/>
  <dc:language>en-US</dc:language>
  <cp:lastModifiedBy>Ольга Васильевна</cp:lastModifiedBy>
  <dcterms:modified xsi:type="dcterms:W3CDTF">2002-12-31T21:56:46Z</dcterms:modified>
  <cp:revision>41</cp:revision>
  <dc:subject/>
  <dc:title>Докажите, что уравнение не имеет корней:</dc:title>
</cp:coreProperties>
</file>