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E8C-2C94-4C63-B27A-AD8CAC0B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CC59-DAA9-4C6E-9482-86462756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D8D-5C17-4E14-ACB3-5814FF127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0E8-4B99-4AEE-9A87-5D5D7DE4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23D-F860-40D0-B339-76DA99E0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1CB-CB7A-4F23-BE26-53A496AE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D12-067A-48A3-97A2-FC441D4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68C-C963-427E-AF65-EB03F302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42B-609F-482C-9DEF-2E8279E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58B-5924-4E31-8316-4AA105A6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116-C238-4F4C-889F-4E31A82E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C56-F6A4-4420-B73A-1647D54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76D1-95CC-4986-B6B0-C5F7AE6A0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ешение иррациональных уравне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ОУ Лицей №1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Сар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пова Ольга Васи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0520" y="0"/>
            <a:ext cx="910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ыясните, при каких значения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уравнение имеет решение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3 = a-|x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9494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8440" y="3484440"/>
            <a:ext cx="4680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484520" y="942480"/>
            <a:ext cx="0" cy="4705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18200" y="3398760"/>
            <a:ext cx="144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76760" y="339876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73360" y="3403440"/>
            <a:ext cx="144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87600" y="3403440"/>
            <a:ext cx="180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57840" y="3403440"/>
            <a:ext cx="1440" cy="1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7120" y="3403440"/>
            <a:ext cx="1800" cy="1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79760" y="13636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79760" y="20397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79760" y="240660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87680" y="27399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79760" y="3122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79760" y="385272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79760" y="420372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79760" y="45705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79760" y="490536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79760" y="52862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9320" y="3398760"/>
            <a:ext cx="180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51200" y="3403440"/>
            <a:ext cx="1800" cy="17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086360" y="3398760"/>
            <a:ext cx="1440" cy="17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297480" y="3398760"/>
            <a:ext cx="1800" cy="1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632640" y="3398760"/>
            <a:ext cx="1440" cy="1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84520" y="2432160"/>
            <a:ext cx="3005280" cy="1033200"/>
          </a:xfrm>
          <a:custGeom>
            <a:avLst/>
            <a:gdLst/>
            <a:ahLst/>
            <a:rect l="l" t="t" r="r" b="b"/>
            <a:pathLst>
              <a:path w="1893" h="668">
                <a:moveTo>
                  <a:pt x="0" y="668"/>
                </a:moveTo>
                <a:cubicBezTo>
                  <a:pt x="40" y="594"/>
                  <a:pt x="81" y="520"/>
                  <a:pt x="229" y="439"/>
                </a:cubicBezTo>
                <a:cubicBezTo>
                  <a:pt x="377" y="358"/>
                  <a:pt x="610" y="256"/>
                  <a:pt x="887" y="183"/>
                </a:cubicBezTo>
                <a:cubicBezTo>
                  <a:pt x="1164" y="110"/>
                  <a:pt x="1722" y="30"/>
                  <a:pt x="1893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68440" y="3133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5  -4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2  -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87680" y="353700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   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3   4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  6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79760" y="16844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59720" y="295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77940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1588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5256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91080" y="186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51480" y="221472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91080" y="25653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720960"/>
            <a:ext cx="7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511020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2240" y="47293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3941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027320"/>
            <a:ext cx="6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20618400">
            <a:off x="5133960" y="237924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0529600">
            <a:off x="6297840" y="2338200"/>
            <a:ext cx="14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 x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1000" y="3492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2668680" y="1865160"/>
            <a:ext cx="1814400" cy="16192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483080" y="1726920"/>
            <a:ext cx="1709640" cy="175716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610600">
            <a:off x="2942280" y="2064600"/>
            <a:ext cx="9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|x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38880" y="2373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509800">
            <a:off x="5541840" y="2440080"/>
            <a:ext cx="406440" cy="214200"/>
          </a:xfrm>
          <a:custGeom>
            <a:avLst/>
            <a:gdLst/>
            <a:ahLst/>
            <a:rect l="l" t="t" r="r" b="b"/>
            <a:pathLst>
              <a:path w="329" h="183">
                <a:moveTo>
                  <a:pt x="0" y="64"/>
                </a:moveTo>
                <a:lnTo>
                  <a:pt x="55" y="183"/>
                </a:lnTo>
                <a:lnTo>
                  <a:pt x="128" y="0"/>
                </a:lnTo>
                <a:lnTo>
                  <a:pt x="329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440800">
            <a:off x="6684840" y="2281320"/>
            <a:ext cx="727200" cy="284040"/>
          </a:xfrm>
          <a:custGeom>
            <a:avLst/>
            <a:gdLst/>
            <a:ahLst/>
            <a:rect l="l" t="t" r="r" b="b"/>
            <a:pathLst>
              <a:path w="540" h="192">
                <a:moveTo>
                  <a:pt x="0" y="100"/>
                </a:moveTo>
                <a:lnTo>
                  <a:pt x="37" y="192"/>
                </a:lnTo>
                <a:lnTo>
                  <a:pt x="101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493880" y="3492360"/>
            <a:ext cx="2095560" cy="19814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98760" y="3484080"/>
            <a:ext cx="1985760" cy="19926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8870600">
            <a:off x="2821320" y="4206240"/>
            <a:ext cx="9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-|x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54200" y="604800"/>
            <a:ext cx="650880" cy="338040"/>
          </a:xfrm>
          <a:custGeom>
            <a:avLst/>
            <a:gdLst/>
            <a:ahLst/>
            <a:rect l="l" t="t" r="r" b="b"/>
            <a:pathLst>
              <a:path w="540" h="192">
                <a:moveTo>
                  <a:pt x="0" y="100"/>
                </a:moveTo>
                <a:lnTo>
                  <a:pt x="37" y="192"/>
                </a:lnTo>
                <a:lnTo>
                  <a:pt x="101" y="0"/>
                </a:lnTo>
                <a:lnTo>
                  <a:pt x="5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43360" y="5864400"/>
            <a:ext cx="34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&gt;=3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843600">
            <a:off x="5044680" y="16815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0520" y="337176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0280" y="502452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3280" y="206532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8861000">
            <a:off x="2862720" y="5679360"/>
            <a:ext cx="19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a - |x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8839400">
            <a:off x="3110760" y="225360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3 - |x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482720" y="2396880"/>
            <a:ext cx="2095560" cy="19810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96960" y="2397240"/>
            <a:ext cx="1986120" cy="199224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52920" y="3319560"/>
            <a:ext cx="257400" cy="2588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520" y="140796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&gt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4760" y="2770200"/>
            <a:ext cx="241200" cy="25236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8861000">
            <a:off x="3180240" y="1037520"/>
            <a:ext cx="19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a - |x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08560" y="5648400"/>
            <a:ext cx="293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Подготов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ученица 9 «В»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Georgia"/>
              </a:rPr>
              <a:t>Гришина М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3321E-006 L 0.12084 1.3321E-006 E">
                                      <p:cBhvr>
                                        <p:cTn id="264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3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8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31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5.55556E-007 0.30277 E">
                                      <p:cBhvr>
                                        <p:cTn id="340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5E-006 0.3037 E">
                                      <p:cBhvr>
                                        <p:cTn id="342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6000"/>
                            </p:stCondLst>
                            <p:childTnLst>
                              <p:par>
                                <p:cTn id="40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0139 L -1.11111E-006 -0.18478 E">
                                      <p:cBhvr>
                                        <p:cTn id="421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208 L 0.00035 -0.18409 E">
                                      <p:cBhvr>
                                        <p:cTn id="423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5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000"/>
                            </p:stCondLst>
                            <p:childTnLst>
                              <p:par>
                                <p:cTn id="4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50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5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Т Е С 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5       Б) нет корней      В) -4       Г) множество кор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  Решение какого уравнения изображено на рисун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Найдите область определ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                  Б)                    В)                  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72000" y="836640"/>
                <a:ext cx="2736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804000" y="5084640"/>
                <a:ext cx="1871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26920" y="6093000"/>
                <a:ext cx="1368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71640" y="6093000"/>
                <a:ext cx="1368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16360" y="6093000"/>
                <a:ext cx="1440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588000" y="6093000"/>
                <a:ext cx="244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3716280"/>
                <a:ext cx="1728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284640"/>
                <a:ext cx="1655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16000" y="2852640"/>
                <a:ext cx="1655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116000" y="4149720"/>
                <a:ext cx="1655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flipV="1">
            <a:off x="6012000" y="3141360"/>
            <a:ext cx="0" cy="19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92720" y="450864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77080" y="3428640"/>
            <a:ext cx="107964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795640" y="3428640"/>
            <a:ext cx="1081080" cy="1079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3933720"/>
            <a:ext cx="1584360" cy="574920"/>
          </a:xfrm>
          <a:custGeom>
            <a:avLst/>
            <a:gdLst/>
            <a:ahLst/>
            <a:rect l="l" t="t" r="r" b="b"/>
            <a:pathLst>
              <a:path w="998" h="362">
                <a:moveTo>
                  <a:pt x="0" y="362"/>
                </a:moveTo>
                <a:cubicBezTo>
                  <a:pt x="11" y="332"/>
                  <a:pt x="22" y="302"/>
                  <a:pt x="45" y="272"/>
                </a:cubicBezTo>
                <a:cubicBezTo>
                  <a:pt x="68" y="242"/>
                  <a:pt x="90" y="211"/>
                  <a:pt x="136" y="181"/>
                </a:cubicBezTo>
                <a:cubicBezTo>
                  <a:pt x="182" y="151"/>
                  <a:pt x="242" y="113"/>
                  <a:pt x="318" y="90"/>
                </a:cubicBezTo>
                <a:cubicBezTo>
                  <a:pt x="394" y="67"/>
                  <a:pt x="477" y="60"/>
                  <a:pt x="590" y="45"/>
                </a:cubicBezTo>
                <a:cubicBezTo>
                  <a:pt x="703" y="30"/>
                  <a:pt x="930" y="8"/>
                  <a:pt x="99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812000" y="4581360"/>
                <a:ext cx="24948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6084720" y="314172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516720" y="4508640"/>
                <a:ext cx="220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04000" y="4508640"/>
                <a:ext cx="254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12000" y="4508640"/>
                <a:ext cx="198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Ключ к тес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  Б) нет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    А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556000" y="2565360"/>
                <a:ext cx="2736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27280" y="3645000"/>
                <a:ext cx="2016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5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Докажите, что уравнение не имеет кор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1557360"/>
                <a:ext cx="2519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908000" y="2565360"/>
                <a:ext cx="35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908000" y="3573360"/>
                <a:ext cx="360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79640" y="4581360"/>
                <a:ext cx="3600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79640" y="5516640"/>
                <a:ext cx="41050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Индивидуа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971640" y="1341360"/>
                <a:ext cx="27367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042920" y="3213000"/>
                <a:ext cx="381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2276640"/>
                <a:ext cx="439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3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71640" y="4292640"/>
                <a:ext cx="4537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16000" y="5300640"/>
                <a:ext cx="468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Определить количество корней уравн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24000" y="2421000"/>
                <a:ext cx="4537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оставить уравнение, решение которого изображено на рисун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77300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645000"/>
            <a:ext cx="496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916000" y="2852640"/>
            <a:ext cx="2376360" cy="252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2852640"/>
            <a:ext cx="2303640" cy="2376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95520" y="3645000"/>
            <a:ext cx="4561200" cy="936360"/>
          </a:xfrm>
          <a:custGeom>
            <a:avLst/>
            <a:gdLst/>
            <a:ahLst/>
            <a:rect l="l" t="t" r="r" b="b"/>
            <a:pathLst>
              <a:path w="2873" h="590">
                <a:moveTo>
                  <a:pt x="15" y="0"/>
                </a:moveTo>
                <a:cubicBezTo>
                  <a:pt x="7" y="11"/>
                  <a:pt x="0" y="22"/>
                  <a:pt x="15" y="45"/>
                </a:cubicBezTo>
                <a:cubicBezTo>
                  <a:pt x="30" y="68"/>
                  <a:pt x="53" y="106"/>
                  <a:pt x="106" y="136"/>
                </a:cubicBezTo>
                <a:cubicBezTo>
                  <a:pt x="159" y="166"/>
                  <a:pt x="242" y="197"/>
                  <a:pt x="333" y="227"/>
                </a:cubicBezTo>
                <a:cubicBezTo>
                  <a:pt x="424" y="257"/>
                  <a:pt x="514" y="288"/>
                  <a:pt x="650" y="318"/>
                </a:cubicBezTo>
                <a:cubicBezTo>
                  <a:pt x="786" y="348"/>
                  <a:pt x="779" y="363"/>
                  <a:pt x="1149" y="408"/>
                </a:cubicBezTo>
                <a:cubicBezTo>
                  <a:pt x="1519" y="453"/>
                  <a:pt x="2586" y="560"/>
                  <a:pt x="2873" y="59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020000" y="3645000"/>
                <a:ext cx="2509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132000" y="3645000"/>
                <a:ext cx="28764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227640" y="3645000"/>
                <a:ext cx="19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219640" y="3645000"/>
                <a:ext cx="1825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572000" y="3645000"/>
                <a:ext cx="1983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292720" y="357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12760" y="5805360"/>
                <a:ext cx="3605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ra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00720" y="285264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58920" y="2133720"/>
                <a:ext cx="6481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9d"/>
            </a:gs>
            <a:gs pos="50000">
              <a:srgbClr val="ffffcc"/>
            </a:gs>
            <a:gs pos="100000">
              <a:srgbClr val="c5c5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Найдите ошибку в решении урав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: 1;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395360" y="1773360"/>
                <a:ext cx="3398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25520" y="2637000"/>
                <a:ext cx="3613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468440" y="3573360"/>
                <a:ext cx="29653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19280" y="4292640"/>
                <a:ext cx="23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50920" y="4869000"/>
                <a:ext cx="12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4:33:52Z</dcterms:created>
  <dc:creator>Ольга Васильевна</dc:creator>
  <dc:description/>
  <dc:language>en-US</dc:language>
  <cp:lastModifiedBy>Ольга Васильевна</cp:lastModifiedBy>
  <dcterms:modified xsi:type="dcterms:W3CDTF">2002-12-31T21:56:46Z</dcterms:modified>
  <cp:revision>41</cp:revision>
  <dc:subject/>
  <dc:title>Докажите, что уравнение не имеет корней:</dc:title>
</cp:coreProperties>
</file>