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21C-18D4-4573-93F4-13ED4301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B65-839C-4C65-A4D5-E1B53322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B77-7B5B-4469-9A1A-C44A8E55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7AC-4A02-4794-991D-37AAE265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24F9-0ADD-4F7C-A7BC-B1DFB98F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C4F6-6E68-4A39-9A84-2BC268DA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D4F3-C19E-4A6A-97EB-FA9A2E4B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9CE3-9C73-432E-8336-C622F97E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0E6A-62F7-4706-9595-228D7CA9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BE8A-E30B-47BD-B9DC-6852E72A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238D-7294-464E-B528-A92A223D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032-08E2-4F0E-8437-996BE7CB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374C-1F26-4292-BF0D-44012DD5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B486-396A-49CA-BFF6-A6B91A4A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55CD-B266-4B80-8B1D-7EB7B230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C5A5-1CD8-4A8B-9617-0C29A11C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0F34-C136-4D17-8FF7-D2C97C4B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EC8-8BB6-44BA-A5C1-947FD22E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E0B-151B-48ED-AAD8-703D54A9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BCC-A418-4836-BA96-14C0C7A7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351-3E65-43A8-B86D-61FBFD70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0FC-4DC7-4D14-9784-68A1D617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D90-3B79-4047-81DA-6154EFA9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F9A-62CE-4605-BC39-96E3F15E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281A-019C-4030-A27B-9AE4911F22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3E50-254A-4606-9E3E-F5823B0F3D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280" y="1143000"/>
            <a:ext cx="69231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Производная показательной и логарифмической функций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11640" y="4869000"/>
            <a:ext cx="259236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 в 11 «Б»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Копо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Вычислить производную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227640" y="1844640"/>
                <a:ext cx="23767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619280" y="1628640"/>
                <a:ext cx="158256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19280" y="1989000"/>
                <a:ext cx="5745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19280" y="2421000"/>
                <a:ext cx="6476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547640" y="2924280"/>
                <a:ext cx="1008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547640" y="3357720"/>
                <a:ext cx="50508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476360" y="3789360"/>
                <a:ext cx="2160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0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227640" y="3429000"/>
                <a:ext cx="2016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292720" y="148428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11253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10429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сь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227640" y="2708280"/>
                <a:ext cx="23036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а функция                    . Найти угловой коэффициент касательной, проведенной в точке с абсциссой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ить уравнение касательной к графику функции                      в точке с абсциссой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924360" y="1628640"/>
                <a:ext cx="16556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00720" y="2492280"/>
                <a:ext cx="8632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203640" y="4368960"/>
                <a:ext cx="7444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284720" y="3971880"/>
                <a:ext cx="1800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дание B8 (№ 831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             . Найдите промежутки возрастания функции . В ответе укажите длину наибольшего и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79640" y="3860640"/>
            <a:ext cx="4968720" cy="2614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0" t="0" r="0" b="68689"/>
          <a:stretch/>
        </p:blipFill>
        <p:spPr>
          <a:xfrm>
            <a:off x="0" y="0"/>
            <a:ext cx="9144000" cy="2287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788000" y="2997360"/>
                <a:ext cx="79200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дание B8 (№ 903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 , определенной на интервале             . Найдите точку экстремума функции   на отрезке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835280" y="3654360"/>
            <a:ext cx="4968720" cy="3070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rcRect l="0" t="0" r="0" b="68689"/>
          <a:stretch/>
        </p:blipFill>
        <p:spPr>
          <a:xfrm>
            <a:off x="0" y="0"/>
            <a:ext cx="9144000" cy="2287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932360" y="2997360"/>
                <a:ext cx="71928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435640" y="3295800"/>
                <a:ext cx="7920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дание B8 (№ 879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исунке изображен график производной функции, определенной на интервале                . Найдите количество точек, в которых касательная к графику функции   параллельна прямой                          или совпадает с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067280" y="3573360"/>
                <a:ext cx="12967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932360" y="2924280"/>
                <a:ext cx="7920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3" name="" descr=""/>
          <p:cNvPicPr/>
          <p:nvPr/>
        </p:nvPicPr>
        <p:blipFill>
          <a:blip r:embed="rId1"/>
          <a:srcRect l="0" t="1956" r="0" b="9827"/>
          <a:stretch/>
        </p:blipFill>
        <p:spPr>
          <a:xfrm>
            <a:off x="2195640" y="3860640"/>
            <a:ext cx="4105080" cy="2905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0" t="0" r="0" b="68689"/>
          <a:stretch/>
        </p:blipFill>
        <p:spPr>
          <a:xfrm>
            <a:off x="0" y="0"/>
            <a:ext cx="91440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тотип задания B14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точку минимума  функции                                  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наибольшее значение функции                        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                               на отрезке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580000" y="1700280"/>
                <a:ext cx="23767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300720" y="2492280"/>
                <a:ext cx="15112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300720" y="3284640"/>
                <a:ext cx="180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700360" y="3645000"/>
                <a:ext cx="5032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Мини-тест (В8, В14)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19280" y="169956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юч к тест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63640" y="2133720"/>
          <a:ext cx="5097600" cy="3709800"/>
        </p:xfrm>
        <a:graphic>
          <a:graphicData uri="http://schemas.openxmlformats.org/drawingml/2006/table">
            <a:tbl>
              <a:tblPr/>
              <a:tblGrid>
                <a:gridCol w="1008000"/>
                <a:gridCol w="1944720"/>
                <a:gridCol w="2144880"/>
              </a:tblGrid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348000" y="170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35640" y="170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ПИ (открытый банк зад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6727, 26724, 77489, 245179, 245183  (В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ztest.ru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ные показательной и логарифмической фун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3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979640" y="4365720"/>
                <a:ext cx="208764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0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≥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8:47:47Z</dcterms:created>
  <dc:creator>Ольга Васильевна</dc:creator>
  <dc:description/>
  <dc:language>en-US</dc:language>
  <cp:lastModifiedBy>Ольга Васильевна</cp:lastModifiedBy>
  <dcterms:modified xsi:type="dcterms:W3CDTF">2013-01-27T15:00:21Z</dcterms:modified>
  <cp:revision>22</cp:revision>
  <dc:subject/>
  <dc:title>Производная показательной и логарифмической функции</dc:title>
</cp:coreProperties>
</file>