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573-DE87-4022-954D-F1345F05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CAC-F59D-4BFA-ACB9-B487A0F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79E-A9ED-4DDC-9D59-5B544BF9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8EF-E10C-4ACA-AF8D-C2F4D070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070F-5E5C-4075-ADFD-00C33C5F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A4D7-042A-48A1-91C7-46DF3A2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FEE8-893D-47FF-A5D7-55386B7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9F2-9713-4720-903E-3A7398F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54BA-306A-4D04-BF0F-22E3F4B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C99-4444-418C-A010-14DD03C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E23-B2FD-4D54-BB4E-8343B94A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784-B521-41E3-8C70-1679AA4B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884F-57C7-42FC-B8A9-EF5E016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5684-FAD2-47DF-A7A9-0DE60AD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36B-9EA3-4B1E-A22B-69021DB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8AD-0E95-492C-A2E2-0D32761C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6A87-81A2-4C57-B7E2-7C9138D7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627-A45F-41CF-AB1F-672C2DEC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C33-8986-4645-A35E-38774E8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095-E0F9-4ABF-A899-8CAE6151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F9B-AA01-42B5-81CB-FEEEC52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0C1-3B92-4196-96ED-B049544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B17-E193-4BBD-944B-B927125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E14-F32C-43A1-8290-EDFDA32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6811-D09D-412D-9CCA-5830A68854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19C-8324-4192-A34A-F5161C1EE0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1143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Производная показательной и логарифмической функц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11640" y="4869000"/>
            <a:ext cx="25923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в 11 «Б»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Копо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Вычислить производную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227640" y="1844640"/>
                <a:ext cx="2376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19280" y="1628640"/>
                <a:ext cx="15825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1989000"/>
                <a:ext cx="574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19280" y="2421000"/>
                <a:ext cx="6476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547640" y="2924280"/>
                <a:ext cx="100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47640" y="3357720"/>
                <a:ext cx="5050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76360" y="3789360"/>
                <a:ext cx="21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227640" y="3429000"/>
                <a:ext cx="201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292720" y="1484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125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1042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сь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27640" y="2708280"/>
                <a:ext cx="2303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а функция                    . Найти угловой коэффициент касательной, проведенной в точке с абсциссой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ь уравнение касательной к графику функции                      в точке с абсциссой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24360" y="1628640"/>
                <a:ext cx="1655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00720" y="2492280"/>
                <a:ext cx="863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3640" y="4368960"/>
                <a:ext cx="744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284720" y="397188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B8 (№ 831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            . Найдите промежутки возрастания функции . В ответе укажите длину наибольшего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3860640"/>
            <a:ext cx="4968720" cy="2614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0" b="68689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88000" y="2997360"/>
                <a:ext cx="7920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B8 (№ 903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            . Найдите точку экстремума функции   на отрезке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35280" y="3654360"/>
            <a:ext cx="4968720" cy="3070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0" t="0" r="0" b="68689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932360" y="2997360"/>
                <a:ext cx="7192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435640" y="3295800"/>
                <a:ext cx="792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B8 (№ 879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, определенной на интервале                . Найдите количество точек, в которых касательная к графику функции   параллельна прямой                          или совпадает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067280" y="3573360"/>
                <a:ext cx="1296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2360" y="2924280"/>
                <a:ext cx="792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rcRect l="0" t="1956" r="0" b="9827"/>
          <a:stretch/>
        </p:blipFill>
        <p:spPr>
          <a:xfrm>
            <a:off x="2195640" y="3860640"/>
            <a:ext cx="4105080" cy="2905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0" b="68689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тотип задания B14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точку минимума  функции                                  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                      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                              на отрезке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80000" y="1700280"/>
                <a:ext cx="23767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300720" y="2492280"/>
                <a:ext cx="1511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00720" y="3284640"/>
                <a:ext cx="180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645000"/>
                <a:ext cx="503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Мини-тест (В8, В14)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6995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юч к тес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63640" y="2133720"/>
          <a:ext cx="5097600" cy="3709800"/>
        </p:xfrm>
        <a:graphic>
          <a:graphicData uri="http://schemas.openxmlformats.org/drawingml/2006/table">
            <a:tbl>
              <a:tblPr/>
              <a:tblGrid>
                <a:gridCol w="1008000"/>
                <a:gridCol w="1944720"/>
                <a:gridCol w="214488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34800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ПИ (открытый банк зад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727, 26724, 77489, 245179, 245183  (В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test.ru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ные показательной и логарифмической 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79640" y="4365720"/>
                <a:ext cx="208764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0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8:47:47Z</dcterms:created>
  <dc:creator>Ольга Васильевна</dc:creator>
  <dc:description/>
  <dc:language>en-US</dc:language>
  <cp:lastModifiedBy>Ольга Васильевна</cp:lastModifiedBy>
  <dcterms:modified xsi:type="dcterms:W3CDTF">2013-01-27T15:00:21Z</dcterms:modified>
  <cp:revision>22</cp:revision>
  <dc:subject/>
  <dc:title>Производная показательной и логарифмической функции</dc:title>
</cp:coreProperties>
</file>