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E0F5-BA03-455A-A92B-84328C73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2DFF-B445-4B71-AE84-81CC0411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57E-E600-4639-BA5D-47A3BED1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BED-BCAB-4283-86E9-02C0C520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C395-7E77-4478-95DE-1495976C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003D-F1C3-493E-B370-3E20254B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1A01-3C77-4753-A00A-C73A0845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C593-556B-45BE-9480-56B5284B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9C97-3F16-4420-9C98-A3E8ED60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6E94-15DD-4F04-A97D-3DA5C4E3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A298-128A-4F65-B99B-10C94679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F7D-10A1-4F7E-8E73-59DD1ADE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0E92-069C-40EB-88C8-C63ACECD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DF1E-C279-421A-891F-B9D67A64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C7F2-7052-4B6B-BB40-6F80B876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D7FC-B0FE-45A8-B35C-53982B73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4D5B-CF5D-4C7F-ACE9-EA996F59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081-90AD-4EC2-A01C-1E044725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1F2-EE69-46B0-A951-D38E4007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3FCC-9791-4D53-9DDB-E83B173B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A3EB-1493-4FE0-9267-A19A177F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B83-25D0-48B7-AC61-B556CF49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358D-F732-405B-9BF0-82124AAD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8D7-949D-42CA-9161-87AD6A9D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2FF6-07A7-4FDE-9F79-0F39140FED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9D85-AAEE-493D-BC9D-FD3C59CE5A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umama.r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1628640"/>
            <a:ext cx="6408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имующие птиц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робей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27972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 Вайне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из с рябиновых ветве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тел к луже воробе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гляделся – плюх! – и в воду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л плескаться в непогоду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ит воробей купаться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одно и закалять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635280" y="1952640"/>
            <a:ext cx="512136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пасибо за вним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7280" y="3933720"/>
            <a:ext cx="7772400" cy="25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авила воспитател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ДОУ № 40 «Колокольчик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икина Н.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.Фряново 2012 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нтернет – ресурс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numama.ru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http://images.yandex.ru/yandsearch?text=%D1%84%D0%BE%D1%82%D0%BE%20%D0%BF%D1%82%D0%B8%D1%86&amp;img_url=img.tut.by%2Fn%2F01%2F9%2F1803grachwebtitul.jpg&amp;pos=0&amp;rpt=simage&amp;lr=213&amp;noreask=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Программное содержание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ировать реалистические представления о птицах, расширять знания об особенностях внешнего вида, повадках птиц. Учить анализировать, делать простейшие выводы, устанавливать причинно-следственные связ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вать коммуникативные навыки, эмоциональную отзывчивость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спитывать заботливое отношение к птиц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негирь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27352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. Скородумо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вно отблески зари 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деревьях снегир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блочки румяны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 довольно странны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зу удивляю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блочки летают!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80000" y="1852560"/>
            <a:ext cx="48704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ятел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. Герасимо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ятел дерево: тук-тук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 по лесу: стук-стук-стук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лавный доктор Айболит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н на дереве сиди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5831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рок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20494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.Черняев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 избавится соро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 ужасного порока —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щет мелочи везд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ячет в собственном гнезд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615636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в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7306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. Бат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орок взгляд совиный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дит след зверины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онок слух совиный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лышит писк мышины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357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олуб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28080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Пиудунен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тянула я ладошку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ладони хлеба крош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летали голуб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мело брали хлеб с ру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51116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иниц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2592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. Громо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Шустрые синичк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тички-невеличк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летают в гор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зиму, где есть ед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 весеннею пор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летают в лес родн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19640" y="1916280"/>
            <a:ext cx="5391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рон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25941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. Кирее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берёзе возле дом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роила гнездо ворон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храняет днём и ночью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амой стать ворона хоче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635280" y="1798560"/>
            <a:ext cx="53197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10:52:12Z</dcterms:created>
  <dc:creator>Наталья</dc:creator>
  <dc:description/>
  <dc:language>en-US</dc:language>
  <cp:lastModifiedBy>Наталья</cp:lastModifiedBy>
  <dcterms:modified xsi:type="dcterms:W3CDTF">2013-02-10T07:51:43Z</dcterms:modified>
  <cp:revision>5</cp:revision>
  <dc:subject/>
  <dc:title>Какие разные птицы</dc:title>
</cp:coreProperties>
</file>