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9AB-F793-48C8-95BD-AF01D2CF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E7B-D1CA-4CDA-9715-F58B47DD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147-686C-4424-8F94-64E16A0A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25B-434F-4ACB-BEE5-4E28AB72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A226-8112-4168-BD74-4C52E921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AAE-3979-4E3E-95C2-41641C0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333-F5F5-4588-A082-8AFF957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2C2-DF66-4245-921E-F64AA10F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A3E0-47BB-41A9-976E-84A2CC3B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E159-F2CB-4D51-83E8-45AB6D90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DF52-D013-4896-9B8A-194C226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26C-A1D6-446D-95A5-7DAA021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DC8A-A7B7-49CE-9268-C335242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DDC-C53C-4CF1-9F61-4D67480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0BAB-F334-48D2-A024-96B0E18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290-F670-4AD2-9AB8-B0D54AE1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1AA-CFEC-416A-A190-67C6DCDD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A17-CADD-4935-8672-C5B451D7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2D0-04EC-4252-860F-D63478F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16D-6FD8-4DC4-A1D6-A1805939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154-D0B3-4552-8074-2326E83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6CE-053E-4C28-921B-DE1A34D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DE6-C034-4D92-A264-7426E1D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BFD-317C-4037-BBB6-89E7C30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D37A-049D-4ED7-B28D-936541D146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23CF-63B3-4CAF-8629-167610CFE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umama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640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имующие пт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робе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2797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 Вайне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з с рябиновых ветв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тел к луже вороб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ляделся – плюх! – и в воду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л плескаться в непогод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т воробей купатьс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одно и закалять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952640"/>
            <a:ext cx="5121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7280" y="3933720"/>
            <a:ext cx="777240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№ 40 «Колокольчи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Фряново 2012 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тернет – ресур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umama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images.yandex.ru/yandsearch?text=%D1%84%D0%BE%D1%82%D0%BE%20%D0%BF%D1%82%D0%B8%D1%86&amp;img_url=img.tut.by%2Fn%2F01%2F9%2F1803grachwebtitul.jpg&amp;pos=0&amp;rpt=simage&amp;lr=213&amp;noreask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Программное содержание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реалистические представления о птицах, расширять знания об особенностях внешнего вида, повадках птиц. Учить анализировать, делать простейшие выводы, устанавливать причинно-следственные связ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, эмоциональную отзывчивос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ывать заботливое отношение к птиц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негир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7352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 Скороду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но отблески зари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деревьях снегир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блочки румяны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довольно стран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зу удивля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блочки летают!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1852560"/>
            <a:ext cx="4870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яте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. Гераси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ятел дерево: тук-тук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по лесу: стук-стук-стук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авный доктор Айболи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 на дереве сиди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5831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ро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20494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.Черняе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избавится со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 ужасного порока 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щет мелочи везд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ячет в собственном гнезд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61563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7306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. Бат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орок взгляд совины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дит след зверин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нок слух совины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ышит писк мышин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5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олуб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2808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Пиудун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янула я ладошк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ладони хлеба крош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летали голуб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ло брали хлеб с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1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ниц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2592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. Гро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устрые синичк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тички-невеличк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летают в г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зиму, где есть е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весеннею пор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летают в лес родн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5391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рон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2594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. Кирее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берёзе возле до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оила гнездо вор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храняет днём и ночью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мой стать ворона хоч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35280" y="1798560"/>
            <a:ext cx="53197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0:52:12Z</dcterms:created>
  <dc:creator>Наталья</dc:creator>
  <dc:description/>
  <dc:language>en-US</dc:language>
  <cp:lastModifiedBy>Наталья</cp:lastModifiedBy>
  <dcterms:modified xsi:type="dcterms:W3CDTF">2013-02-10T07:51:43Z</dcterms:modified>
  <cp:revision>5</cp:revision>
  <dc:subject/>
  <dc:title>Какие разные птицы</dc:title>
</cp:coreProperties>
</file>