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FB4B-42C4-4D39-9A91-1CB575BA3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EF95-D236-4849-B6A6-9A4F58A5BD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E33-9C27-4D1D-9B75-D76B590A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EEF-21C0-41FB-A66B-ACECEA33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47D-097D-421A-8209-F5A4830E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9D3-4C7D-4E5C-8275-30FFF33C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9698-FF08-4BD4-A498-46C483A4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428B-9D87-4375-81CC-8F3A6188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673D-B7B2-4A2E-8FD6-D33236E4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F554-6A2B-473D-9C13-C74A9127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F0E8-0D75-4CF6-AEAF-7910C946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E01A-8FF9-4DE4-A78A-0B6E9324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57A3-DB95-4990-8FED-AC57B1F8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863C-DEAC-42B1-8D1F-01A873DE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DBE3-4E6E-49B4-8D1D-B17F05D1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EB02-C89C-45ED-B9B4-982DD1EF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D33E-DA60-46CC-B714-FC2E720D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DD4F-64F8-47BF-93CF-54796F8B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4A8F-F49E-451B-956F-0C704694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4E5-52F3-4873-ABE9-F92E6072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669-5EC4-4F37-881D-218B864D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41B-C5EC-404B-8580-8EFB6DC7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8AB-8C93-44CF-BA55-1A7C2FA1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CE3-2458-4495-9D3D-DA40CC01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326-71C7-4467-BD5C-9FCB60DB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A566-16B4-4416-96D7-F0D028D3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924C-494C-48A3-847F-132CC220680D}" type="datetime">
              <a:rPr b="0" lang="en-US" sz="1200" spc="-1" strike="noStrike">
                <a:solidFill>
                  <a:srgbClr val="045c75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B3FC-A93E-4668-B144-764CA61F4D6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2B9F-7362-4E94-9F3B-72D93BC1F8AF}" type="datetime">
              <a:rPr b="0" lang="en-US" sz="1200" spc="-1" strike="noStrike">
                <a:solidFill>
                  <a:srgbClr val="045c75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3BE4-9F36-4844-B468-785AC1B134A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0" y="390600"/>
            <a:ext cx="3633840" cy="1590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Развитие речи и творческого воображения младших школьников »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Monotype Corsiva"/>
              </a:rPr>
              <a:t>                        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БО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ь-Элегестинск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Ш Конзан-оол Р.О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C91E-D3E9-43E7-90F7-C09A5A57317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34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34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владение 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творческими и интеллектуальными умениями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ют работать самостоятельно с любой информацией, исследуя, анализируя её, и делают вывод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дут поиск нужного материала к уроку или внеклассному мероприяти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ют находить альтернативные варианты решения пробле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атся работать с разными справочными материал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ют отстаивать  свою точку зр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D5B0-E6D5-4F44-828A-15C76BA8CDA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11" descr=""/>
          <p:cNvPicPr/>
          <p:nvPr/>
        </p:nvPicPr>
        <p:blipFill>
          <a:blip r:embed="rId1"/>
          <a:stretch/>
        </p:blipFill>
        <p:spPr>
          <a:xfrm>
            <a:off x="176040" y="26208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marL="660240" indent="-660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ервый эта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дготовка связанная с нацеленностью всего процесса обучения на достижение оптимального общего развития учащихся и общей языковой готовностью школьников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60240" indent="-660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рекция звуков, выработка четкости артикуляции. Анализ готовых произведении  ( расшифровывание пиктограмм; анализ загадок, стихов, рассказов, сказок из учебника, на основе которого осуществляется устное рисование художественных образов; введение термина «рифма», нахождение рифмующихся слов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60240" indent="-660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ближение опыта читателя с опытом писателя ( экскурсии в природу, организация наблюдении за жизнью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60240" indent="-660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в детях отсутствие страха перед высказыванием, пробуждение фантазии, укреплении присущей возрасту творческой свободы, посредством специальных задан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6BF9-F824-47E2-82E1-8641E262FA7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with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150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860"/>
                            </p:stCondLst>
                            <p:childTnLst>
                              <p:par>
                                <p:cTn id="154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360"/>
                            </p:stCondLst>
                            <p:childTnLst>
                              <p:par>
                                <p:cTn id="158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860"/>
                            </p:stCondLst>
                            <p:childTnLst>
                              <p:par>
                                <p:cTn id="162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685800" indent="-685800">
              <a:buClr>
                <a:srgbClr val="0461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Второй этап: Творческая работ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234900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ставление пиктограм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чинение загадок, стих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писание сочинени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исование (на бумаге) литературных образ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тение произведении по роля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раматизация (на уроках во внеурочное время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DA29-69E2-4A61-BDB2-043C5391EE7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25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50"/>
                            </p:stCondLst>
                            <p:childTnLst>
                              <p:par>
                                <p:cTn id="17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25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25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750"/>
                            </p:stCondLst>
                            <p:childTnLst>
                              <p:par>
                                <p:cTn id="18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25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25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250"/>
                            </p:stCondLst>
                            <p:childTnLst>
                              <p:par>
                                <p:cTn id="18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25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ретий этап: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флекс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2472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Редактирование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нализ готовых рабо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спользование работ на уроках по различным предметам и во внеклассной деятельно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D296-C07D-4098-BECA-F7BFC15CEE1B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Заключение: 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определение составных частей работы по развитию творческих способностей</a:t>
            </a: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69992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1) Изучить личность ребенка совместно с психологом и учителями-предметниками ещё до поступления в школу с целью безболезненной адаптации к новым условиям и требованиям, для выявления уровня развития познавательных процессов- восприятия памяти, внимания, воображения, мышлени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2) Получив целостную картину класса наметить пути развития классного коллектива: политехнических, гуманитарных, эстетических цикл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3) Разработать пути становления и формирования каждой личности, чтобы каждый ученик осознал свое «Я», свою значимость, сумел раскрыть свои возможности и наклонност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4) Творчески организовать повседневность, чтобы наполнить день интересными и полезными мыслями и делами, маленькими победами и радостям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61E9-F163-4112-8F60-DCF3D950E6E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зультативность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интереса к язы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витие речи дете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ктивное участие детей в творческих конкурсах, концертах, театральных представлениях, проектах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крепощенная, общительная личность ребенка, готовая к творческой деятельности в любой обла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D4E9-4F73-4D8D-92FE-A10BDA19FE1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92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4800" spc="-1" strike="noStrike">
                <a:solidFill>
                  <a:srgbClr val="0b5395"/>
                </a:solidFill>
                <a:latin typeface="Constantia"/>
              </a:rPr>
              <a:t>Спасибо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554C-99AA-4C85-A400-0CF549504EA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407880" y="103320"/>
            <a:ext cx="8321760" cy="3798720"/>
          </a:xfrm>
          <a:prstGeom prst="rect">
            <a:avLst/>
          </a:prstGeom>
          <a:ln w="0">
            <a:noFill/>
          </a:ln>
        </p:spPr>
      </p:pic>
      <p:grpSp>
        <p:nvGrpSpPr>
          <p:cNvPr id="106" name="Organization Chart 3"/>
          <p:cNvGrpSpPr/>
          <p:nvPr/>
        </p:nvGrpSpPr>
        <p:grpSpPr>
          <a:xfrm>
            <a:off x="324000" y="3806640"/>
            <a:ext cx="8208000" cy="2073240"/>
            <a:chOff x="324000" y="3806640"/>
            <a:chExt cx="8208000" cy="2073240"/>
          </a:xfrm>
        </p:grpSpPr>
        <p:cxnSp>
          <p:nvCxnSpPr>
            <p:cNvPr id="107" name="_s1028"/>
            <p:cNvCxnSpPr>
              <a:stCxn id="108" idx="0"/>
              <a:endCxn id="109" idx="3"/>
            </p:cNvCxnSpPr>
            <p:nvPr/>
          </p:nvCxnSpPr>
          <p:spPr>
            <a:xfrm flipV="1" rot="16200000">
              <a:off x="5749200" y="3229200"/>
              <a:ext cx="229320" cy="2954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dbf5f9"/>
              </a:solidFill>
              <a:miter/>
            </a:ln>
          </p:spPr>
        </p:cxnSp>
        <p:cxnSp>
          <p:nvCxnSpPr>
            <p:cNvPr id="110" name="_s1029"/>
            <p:cNvCxnSpPr>
              <a:stCxn id="111" idx="0"/>
              <a:endCxn id="109" idx="3"/>
            </p:cNvCxnSpPr>
            <p:nvPr/>
          </p:nvCxnSpPr>
          <p:spPr>
            <a:xfrm flipV="1" rot="16200000">
              <a:off x="4320720" y="4657680"/>
              <a:ext cx="229320" cy="97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dbf5f9"/>
              </a:solidFill>
              <a:miter/>
            </a:ln>
          </p:spPr>
        </p:cxnSp>
        <p:cxnSp>
          <p:nvCxnSpPr>
            <p:cNvPr id="112" name="_s1030"/>
            <p:cNvCxnSpPr>
              <a:stCxn id="113" idx="0"/>
              <a:endCxn id="109" idx="3"/>
            </p:cNvCxnSpPr>
            <p:nvPr/>
          </p:nvCxnSpPr>
          <p:spPr>
            <a:xfrm flipH="1" flipV="1" rot="5400000">
              <a:off x="2894760" y="3328200"/>
              <a:ext cx="229320" cy="2756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dbf5f9"/>
              </a:solidFill>
              <a:miter/>
            </a:ln>
          </p:spPr>
        </p:cxnSp>
        <p:sp>
          <p:nvSpPr>
            <p:cNvPr id="109" name="_s1031"/>
            <p:cNvSpPr/>
            <p:nvPr/>
          </p:nvSpPr>
          <p:spPr>
            <a:xfrm>
              <a:off x="3359880" y="3806640"/>
              <a:ext cx="2136240" cy="785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f6fc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</a:rPr>
                <a:t>реч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2"/>
            <p:cNvSpPr/>
            <p:nvPr/>
          </p:nvSpPr>
          <p:spPr>
            <a:xfrm>
              <a:off x="324000" y="4821120"/>
              <a:ext cx="2498400" cy="1058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dd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мышл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3"/>
            <p:cNvSpPr/>
            <p:nvPr/>
          </p:nvSpPr>
          <p:spPr>
            <a:xfrm>
              <a:off x="3179160" y="4821120"/>
              <a:ext cx="2498040" cy="1058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dd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чувст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>
              <a:off x="6033600" y="4821120"/>
              <a:ext cx="2498400" cy="1058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dd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навы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бщ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9AB0-F728-406D-B198-97E9CC9570E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8717040" cy="1694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95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пособствовать полноценному развитию личности через самовыражение и творчеств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ормирование потребности в творческой деятельност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рганизация творческого сотрудничества учащихся, родителей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536E-19C7-404A-8F6B-E5995CAFD30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40"/>
                            </p:stCondLst>
                            <p:childTnLst>
                              <p:par>
                                <p:cTn id="57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2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90"/>
                            </p:stCondLst>
                            <p:childTnLst>
                              <p:par>
                                <p:cTn id="61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25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340"/>
                            </p:stCondLst>
                            <p:childTnLst>
                              <p:par>
                                <p:cTn id="65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25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1262160" y="249120"/>
            <a:ext cx="7564320" cy="1586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знакомиться с новинками литературы по данному вопросу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думать систему работы по развитию письменной и устной речи школьников на урока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ть условия для раскрытия творческого потенциала детей;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полнить дидактический материал по этому вопросу и широко использовать его на урока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A6FF-12CB-417E-8E51-C03D96CA72B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with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79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1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710"/>
                            </p:stCondLst>
                            <p:childTnLst>
                              <p:par>
                                <p:cTn id="8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1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460"/>
                            </p:stCondLst>
                            <p:childTnLst>
                              <p:par>
                                <p:cTn id="87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1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210"/>
                            </p:stCondLst>
                            <p:childTnLst>
                              <p:par>
                                <p:cTn id="91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1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with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95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12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ктивные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етоды обуче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2" name="Picture 4" descr="C41-33 копия"/>
          <p:cNvPicPr/>
          <p:nvPr/>
        </p:nvPicPr>
        <p:blipFill>
          <a:blip r:embed="rId1"/>
          <a:stretch/>
        </p:blipFill>
        <p:spPr>
          <a:xfrm>
            <a:off x="6588000" y="2349360"/>
            <a:ext cx="2664000" cy="4337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блемные, поисковые, исследовательские, практические, ориентированные на реальные практические результаты и способствующие активизации познавательной и творческой деятель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13A0-A176-4DFC-8E6B-AC1A0BA09FB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Формы организации учебного пространств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77336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Индивидуальные (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чинение, «рифмованные строки», стихи, отзыв о книге и др.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Индивидуально-групповы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 микро групповое взаимодействие, практическая ситуация, исследовательский проект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арны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парное взаимодействие в парах сменного состава: рассуждение в доказательствах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рупповы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групповое взаимодействие: разрешение противоречии в мнениях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Коллективны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 межгрупповое взаимодействие: для отработки алгоритма-творческого мышления и организации творческой деятельности вообще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7190-E9BC-4198-AA38-BC5EEF8AA3C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етоды и при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55700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стные рассказы на заданную тем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чинение сказок, стихов, загадок, поздравлени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оговой аукцион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чинение чистоговорок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чинение по картинке, по серии катринок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бор к словам синонимов, антонимов, родственных сл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ставление с новыми словами предложени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накомство с новыми словами по толковому словарю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ение по данному началу и концу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оварики- помощник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Номер слайда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2E5C-AF11-4C00-B2C5-CCDBD4A2BA7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59151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тельност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гичност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разительност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13" descr="1251136701_back-to-school-13"/>
          <p:cNvPicPr/>
          <p:nvPr/>
        </p:nvPicPr>
        <p:blipFill>
          <a:blip r:embed="rId1"/>
          <a:stretch/>
        </p:blipFill>
        <p:spPr>
          <a:xfrm>
            <a:off x="6678720" y="1557360"/>
            <a:ext cx="2465280" cy="438948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11" descr=""/>
          <p:cNvPicPr/>
          <p:nvPr/>
        </p:nvPicPr>
        <p:blipFill>
          <a:blip r:embed="rId2"/>
          <a:stretch/>
        </p:blipFill>
        <p:spPr>
          <a:xfrm>
            <a:off x="324000" y="590400"/>
            <a:ext cx="6540480" cy="1774800"/>
          </a:xfrm>
          <a:prstGeom prst="rect">
            <a:avLst/>
          </a:prstGeom>
          <a:ln w="0">
            <a:noFill/>
          </a:ln>
        </p:spPr>
      </p:pic>
      <p:sp>
        <p:nvSpPr>
          <p:cNvPr id="134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C323-307C-447B-822C-935C7B3F23CD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with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withEffect" fill="hold">
                            <p:stCondLst>
                              <p:cond delay="334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with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withEffect" fill="hold">
                            <p:stCondLst>
                              <p:cond delay="434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сновные направления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развития творческих способностей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242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гровая деятельность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ворческое сочинительство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чинения и диктант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южетные и тематические циклы урок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еатральная деятельность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нтеллектуальные игры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7382-A33D-4F38-9F02-56F885F2004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29:36Z</dcterms:created>
  <dc:creator>Татьяна</dc:creator>
  <dc:description/>
  <dc:language>en-US</dc:language>
  <cp:lastModifiedBy>1</cp:lastModifiedBy>
  <dcterms:modified xsi:type="dcterms:W3CDTF">2013-02-06T10:29:28Z</dcterms:modified>
  <cp:revision>80</cp:revision>
  <dc:subject/>
  <dc:title>Слайд 1</dc:title>
</cp:coreProperties>
</file>