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F15B-7234-4DC5-AFB0-2C42AC130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9A51-22B5-44AC-BA67-085B2F0F6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FDF-6A80-4F9A-9200-13C9AAEB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2B4-BA83-47A3-A063-8FEC933C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F6A-71BF-4D70-9DF1-0A18D34E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237-D61B-4141-A73F-DA894713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E991-1353-49F1-AEEE-03AE33C0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542E-25F5-4A5B-9E1F-CEF02766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5C8-ADF0-4C31-91DD-A3C8053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08B4-85C1-47D8-9C8C-BB80D426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46CD-AB43-499D-B0BB-8C909837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989A-7D93-496F-B1CE-41A92F10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979F-7D5C-4922-892D-85F4400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D6D-CEA7-459B-9FAD-6708E07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371-5B96-4026-B4EC-499D9EA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36F2-A8D4-4020-94E1-3ECE0AA4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57E6-4298-409F-BE7A-2EF2BBA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6445-505E-4894-849B-AC2AACD4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5F8-12ED-4ACC-B23C-9FF207F5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58F-D72B-42D8-BAB9-0C840414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3C9-7064-4EE6-8B41-E555F8E9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400-42EC-4D95-B03C-3031BA7B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251-0123-40EB-A647-101565A9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BDD-E036-40C4-AB47-5ADE4C9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416-043B-4F8E-9810-B68C0B7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492-F03B-4AD8-ABF9-69EDF6D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6B43-1C66-4098-B336-2F1AEE4A7631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67AB-6D20-4062-A652-B69AB90CF6C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171B-F510-4B82-890A-B9C9BB20D16A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4D36-510A-472F-827E-93BAA3F19BF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0" y="390600"/>
            <a:ext cx="3633840" cy="1590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Развитие речи и творческого воображения младших школьников 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ь-Элегестинс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Ш Конзан-оол Р.О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FFEB-FB08-4C2A-A882-BFEC5FFCF1A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3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34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владение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ворческими и интеллектуальными умениям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т работать самостоятельно с любой информацией, исследуя, анализируя её, и делают вывод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дут поиск нужного материала к уроку или внеклассному мероприят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т находить альтернативные варианты решения пробл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тся работать с разными справочными материал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т отстаивать  свою точку зр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0FC-944F-4A74-B5B6-42FD33F5B7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11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ервый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дготовка связанная с нацеленностью всего процесса обучения на достижение оптимального общего развития учащихся и общей языковой готовностью школьник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я звуков, выработка четкости артикуляции. Анализ готовых произведении  ( расшифровывание пиктограмм; анализ загадок, стихов, рассказов, сказок из учебника, на основе которого осуществляется устное рисование художественных образов; введение термина «рифма», нахождение рифмующихся сл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лижение опыта читателя с опытом писателя ( экскурсии в природу, организация наблюдении за жизнью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в детях отсутствие страха перед высказыванием, пробуждение фантазии, укреплении присущей возрасту творческой свободы, посредством специальных задан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F209-E6DD-4D0C-80E0-764E1AB8488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with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150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860"/>
                            </p:stCondLst>
                            <p:childTnLst>
                              <p:par>
                                <p:cTn id="154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360"/>
                            </p:stCondLst>
                            <p:childTnLst>
                              <p:par>
                                <p:cTn id="158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860"/>
                            </p:stCondLst>
                            <p:childTnLst>
                              <p:par>
                                <p:cTn id="162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685800" indent="-685800">
              <a:buClr>
                <a:srgbClr val="0461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торой этап: Творческая рабо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234900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ставление пикто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чинение загадок, стих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писание сочинен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исование (на бумаге) литературных образ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ение произведении по роля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раматизация (на уроках во внеурочное время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84F-BEF1-49E6-88CA-0344B170933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25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50"/>
                            </p:stCondLst>
                            <p:childTnLst>
                              <p:par>
                                <p:cTn id="17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25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25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750"/>
                            </p:stCondLst>
                            <p:childTnLst>
                              <p:par>
                                <p:cTn id="1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25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25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250"/>
                            </p:stCondLst>
                            <p:childTnLst>
                              <p:par>
                                <p:cTn id="18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25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етий этап: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2472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едактирова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нализ готовых рабо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ользование работ на уроках по различным предметам и во внеклассной деятель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473-2C11-4B05-BAE3-A2FC09D274F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Заключение: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определение составных частей работы по развитию творческих способностей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69992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) Изучить личность ребенка совместно с психологом и учителями-предметниками ещё до поступления в школу с целью безболезненной адаптации к новым условиям и требованиям, для выявления уровня развития познавательных процессов- восприятия памяти, внимания, воображения, мышл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) Получив целостную картину класса наметить пути развития классного коллектива: политехнических, гуманитарных, эстетических цикл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) Разработать пути становления и формирования каждой личности, чтобы каждый ученик осознал свое «Я», свою значимость, сумел раскрыть свои возможности и наклонност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) Творчески организовать повседневность, чтобы наполнить день интересными и полезными мыслями и делами, маленькими победами и радостя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9F63-D6CB-41F3-96F3-D19F102B837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ивность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интереса к язы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ие речи дете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тивное участие детей в творческих конкурсах, концертах, театральных представлениях, проект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крепощенная, общительная личность ребенка, готовая к творческой деятельности в любой обла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E63D-3F93-495E-8FFE-886C9661939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92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4800" spc="-1" strike="noStrike">
                <a:solidFill>
                  <a:srgbClr val="0b5395"/>
                </a:solidFill>
                <a:latin typeface="Constantia"/>
              </a:rPr>
              <a:t>Спасибо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A61-4016-4788-BEE7-FB5AA6E3036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07880" y="103320"/>
            <a:ext cx="8321760" cy="3798720"/>
          </a:xfrm>
          <a:prstGeom prst="rect">
            <a:avLst/>
          </a:prstGeom>
          <a:ln w="0">
            <a:noFill/>
          </a:ln>
        </p:spPr>
      </p:pic>
      <p:grpSp>
        <p:nvGrpSpPr>
          <p:cNvPr id="106" name="Organization Chart 3"/>
          <p:cNvGrpSpPr/>
          <p:nvPr/>
        </p:nvGrpSpPr>
        <p:grpSpPr>
          <a:xfrm>
            <a:off x="324000" y="3806640"/>
            <a:ext cx="8208000" cy="2073240"/>
            <a:chOff x="324000" y="3806640"/>
            <a:chExt cx="8208000" cy="2073240"/>
          </a:xfrm>
        </p:grpSpPr>
        <p:cxnSp>
          <p:nvCxnSpPr>
            <p:cNvPr id="107" name="_s1028"/>
            <p:cNvCxnSpPr>
              <a:stCxn id="108" idx="0"/>
              <a:endCxn id="109" idx="3"/>
            </p:cNvCxnSpPr>
            <p:nvPr/>
          </p:nvCxnSpPr>
          <p:spPr>
            <a:xfrm flipV="1" rot="16200000">
              <a:off x="5749200" y="3229200"/>
              <a:ext cx="229320" cy="295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110" name="_s1029"/>
            <p:cNvCxnSpPr>
              <a:stCxn id="111" idx="0"/>
              <a:endCxn id="109" idx="3"/>
            </p:cNvCxnSpPr>
            <p:nvPr/>
          </p:nvCxnSpPr>
          <p:spPr>
            <a:xfrm flipV="1" rot="16200000">
              <a:off x="4320720" y="4657680"/>
              <a:ext cx="229320" cy="9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112" name="_s1030"/>
            <p:cNvCxnSpPr>
              <a:stCxn id="113" idx="0"/>
              <a:endCxn id="109" idx="3"/>
            </p:cNvCxnSpPr>
            <p:nvPr/>
          </p:nvCxnSpPr>
          <p:spPr>
            <a:xfrm flipH="1" flipV="1" rot="5400000">
              <a:off x="2894760" y="3328200"/>
              <a:ext cx="229320" cy="275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sp>
          <p:nvSpPr>
            <p:cNvPr id="109" name="_s1031"/>
            <p:cNvSpPr/>
            <p:nvPr/>
          </p:nvSpPr>
          <p:spPr>
            <a:xfrm>
              <a:off x="3359880" y="3806640"/>
              <a:ext cx="2136240" cy="785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f6fc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реч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>
              <a:off x="324000" y="4821120"/>
              <a:ext cx="2498400" cy="1058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мышл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3179160" y="4821120"/>
              <a:ext cx="2498040" cy="1058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чув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6033600" y="4821120"/>
              <a:ext cx="2498400" cy="1058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ав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EC7-0D71-4CDF-B51C-99A640964E2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717040" cy="1694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95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пособствовать полноценному развитию личности через самовыражение и творчест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ормирование потребности в творческой деятельно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рганизация творческого сотрудничества учащихся, родителей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4C8A-0559-4389-ADEA-BE4655E4557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40"/>
                            </p:stCondLst>
                            <p:childTnLst>
                              <p:par>
                                <p:cTn id="57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90"/>
                            </p:stCondLst>
                            <p:childTnLst>
                              <p:par>
                                <p:cTn id="61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2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34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25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262160" y="249120"/>
            <a:ext cx="7564320" cy="1586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комиться с новинками литературы по данному вопросу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мать систему работы по развитию письменной и устной речи школьников на урока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условия для раскрытия творческого потенциала детей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полнить дидактический материал по этому вопросу и широко использовать его на урока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B165-7958-4C3B-A672-CB5768F0417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with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79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10"/>
                            </p:stCondLst>
                            <p:childTnLst>
                              <p:par>
                                <p:cTn id="8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460"/>
                            </p:stCondLst>
                            <p:childTnLst>
                              <p:par>
                                <p:cTn id="87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210"/>
                            </p:stCondLst>
                            <p:childTnLst>
                              <p:par>
                                <p:cTn id="91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with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95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ктивные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ы обуче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2" name="Picture 4" descr="C41-33 копия"/>
          <p:cNvPicPr/>
          <p:nvPr/>
        </p:nvPicPr>
        <p:blipFill>
          <a:blip r:embed="rId1"/>
          <a:stretch/>
        </p:blipFill>
        <p:spPr>
          <a:xfrm>
            <a:off x="6588000" y="2349360"/>
            <a:ext cx="2664000" cy="4337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лемные, поисковые, исследовательские, практические, ориентированные на реальные практические результаты и способствующие активизации познавательной и творческой деятель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B823-7503-409A-8BC4-A1FC1C4AF4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Формы организации учебного пространств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77336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ндивидуальные (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чинение, «рифмованные строки», стихи, отзыв о книге и др.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ндивидуально-групповы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микро групповое взаимодействие, практическая ситуация, исследовательский проек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арн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парное взаимодействие в парах сменного состава: рассуждение в доказательствах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рупповы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групповое взаимодействие: разрешение противоречии в мнениях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ллективны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межгрупповое взаимодействие: для отработки алгоритма-творческого мышления и организации творческой деятельности вообщ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FE1E-DF66-4D42-8ADF-9B8ED40EE12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55700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тные рассказы на заданную 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 сказок, стихов, загадок, поздравлен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оговой аукцио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 чистоговоро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 по картинке, по серии катрино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бор к словам синонимов, антонимов, родственных сл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ление с новыми словами предложен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комство с новыми словами по толковому словар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ение по данному началу и конц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оварики- помощник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51E2-BA34-40FA-A429-76BE6268969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5915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гич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13" descr="1251136701_back-to-school-13"/>
          <p:cNvPicPr/>
          <p:nvPr/>
        </p:nvPicPr>
        <p:blipFill>
          <a:blip r:embed="rId1"/>
          <a:stretch/>
        </p:blipFill>
        <p:spPr>
          <a:xfrm>
            <a:off x="6678720" y="1557360"/>
            <a:ext cx="2465280" cy="43894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11" descr=""/>
          <p:cNvPicPr/>
          <p:nvPr/>
        </p:nvPicPr>
        <p:blipFill>
          <a:blip r:embed="rId2"/>
          <a:stretch/>
        </p:blipFill>
        <p:spPr>
          <a:xfrm>
            <a:off x="324000" y="590400"/>
            <a:ext cx="6540480" cy="1774800"/>
          </a:xfrm>
          <a:prstGeom prst="rect">
            <a:avLst/>
          </a:prstGeom>
          <a:ln w="0">
            <a:noFill/>
          </a:ln>
        </p:spPr>
      </p:pic>
      <p:sp>
        <p:nvSpPr>
          <p:cNvPr id="13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892-C4A1-439F-A47B-F3FF700A8D5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withEffect" fill="hold">
                            <p:stCondLst>
                              <p:cond delay="334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with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withEffect" fill="hold">
                            <p:stCondLst>
                              <p:cond delay="434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сновные направления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звития творческих способностей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гровая деятельн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рческое сочинительств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чинения и диктант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южетные и тематические циклы урок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еатральная деятельн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нтеллектуальные игр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59A2-5E80-49EB-9CAC-32C1C8F211A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29:36Z</dcterms:created>
  <dc:creator>Татьяна</dc:creator>
  <dc:description/>
  <dc:language>en-US</dc:language>
  <cp:lastModifiedBy>1</cp:lastModifiedBy>
  <dcterms:modified xsi:type="dcterms:W3CDTF">2013-02-06T10:29:28Z</dcterms:modified>
  <cp:revision>80</cp:revision>
  <dc:subject/>
  <dc:title>Слайд 1</dc:title>
</cp:coreProperties>
</file>