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B94-AEE3-482E-9DC9-9146497E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40F-1B46-4AC0-A57F-4AF63D2F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1B5-C46A-4AA1-BCC5-007E70BE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2E2-C859-4666-8D5C-28A170FD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38BDC-70FB-40BF-A2C0-62797099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FB7A1-C2A1-4893-B452-2D247E08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BA25E-8AC5-483D-AD45-D0CFE25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FCF2B-51F4-4403-B576-10A1759E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C4EA1-E1E2-4BCA-A8BC-D460AD89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5450E-6CD4-4DC4-AF0C-4EC6A11F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62071-714E-4E6A-A547-46CD856C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668-293B-4756-A54E-7E3E4C07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3BFD0-90C9-4971-8AD1-BFC7012C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8266F-6848-4F49-AB8C-BD51E9F1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3A821-78F3-4D0B-9BB1-04A179FA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68411-2FC5-4968-AD9D-1683994F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F964-8D33-468F-9848-AC2C6B1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F12-BDAE-45EF-857C-A14F0B0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82A-AA1B-40C7-930F-DDA94397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7A0-07B6-4EA0-841B-D955137E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4A2-E4C8-427E-A452-C6C13D8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323-E6B7-4498-864B-DE1C016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2D2-5DD7-48F0-9810-46AB748C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613-734C-448D-83F4-382B5B7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D299-A4A7-4C5F-A5E7-F08CCC9A9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8BA-603E-4ECF-B339-9C8649FC4A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А.И. Леонова, </a:t>
            </a:r>
            <a:br>
              <a:rPr sz="2400"/>
            </a:b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0066"/>
                </a:solidFill>
                <a:latin typeface="Tahoma"/>
              </a:rPr>
              <a:t>учитель английского язык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Ролевая игра как средство повышения эффективности урока иностранного языка 5 – 9 кла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ожительное в игр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ется благоприятный психологический климат на урок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еся испытывают удовольствие от проведения игры, так как любая игра имеет высокую мотивацию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 происходит на высоком эмоциональном уровн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ссе игры учащиеся имитируют определенную деятельность, что формирует умения и навыки, а также способствует применению своих знаниях комплексн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ащиеся учатся лучше слушать друг друга и реагировать на реплики собеседника, показывая тем самым, что коммуникация говорящих состоялас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и учащихся появляются фразы-клише повседневного обиход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игровое обсуждение способствует закреплению зна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трицательные стороны использования иг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трудоемкость подготовки к уроку для учите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ности с заменой участников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ая неопределенность и непредсказуемость результатов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можное скрытое сопротивление отдельных участн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левые игр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ятся на принципах коллективной работы, практической полезности, соревновательности, максимальной занятости каждого учащегося и неограниченной перспективы творческой деятель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ссе ролевой игры формируется сознание принадлежности ее участников к коллективу, сообща определяется степень участия каждого из них в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цессе ролевой игры развивается логическое мышление, способность к поиску ответов на поставленные вопросы, речь, речевой этикет, умение общаться друг с дру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вышают эффективность учебного процесса, помогая сохранить интерес учащихся к иностранному языку на всех этапах об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тимальная интенсификация труда = повышение эффективности труда в каждую единицу врем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613080" y="-600480"/>
            <a:ext cx="2530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ятельность (А.С. Выготский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уд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р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дагогический феномен игры истолкован в труда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.С. Макаренк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А. Сухомлинског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Б. Элькони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.П. Аникее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.С. Анисимо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В. Петрусинског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Д. Ушинског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ж. Сел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. Бюлле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ункции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лекатель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муникативн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агност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терапевт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ореализа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национальной коммуник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циализ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стетиче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840" y="291960"/>
            <a:ext cx="8472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лучаи употребления игр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честве самостоятельного метода для освоения определенной т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 элементы (иногда весьма существенные) какого-то другого мет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честве целого урока или его части (введения, объяснения, закрепления, контроля или упражнени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но использование игры по организации внеклассного меро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Основные направления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дактическая цель ставится перед учащимися в форме игровой задач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ая деятельность подчиняется правилам иг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ый материал используется в качестве ее средства, в учебную деятельность вводится элем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 характеру игровой методики игры можно разделить н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мет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южет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ев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ов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итационны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ы-драматиз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меры речевых иг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229600" cy="4592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 р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туации для речевого проигры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чевые р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мь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гры в дочки-матери, представление членов семьи(имена, фамилии, возраст, род деятельности, хобби), озвучивание ситуации каждодневной жизни семьи (завтрак, обед, ужин, сервировка стола, помощь по дому, обсуждение проблем, школы, выбора будущей профессии и т.д.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ма, папа, дочка, сын, тетя, дядя, бабушка, внезапный гость, близкий друг и т.д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2:49:59Z</dcterms:created>
  <dc:creator>aleksandra.leonova</dc:creator>
  <dc:description/>
  <dc:language>en-US</dc:language>
  <cp:lastModifiedBy>anastasia.burlakova</cp:lastModifiedBy>
  <dcterms:modified xsi:type="dcterms:W3CDTF">2010-06-02T08:18:05Z</dcterms:modified>
  <cp:revision>5</cp:revision>
  <dc:subject/>
  <dc:title>Магнитогорск</dc:title>
</cp:coreProperties>
</file>