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14B7-E798-4DF9-9CD3-D0788E7C9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5B39-3C6C-43FD-9AAB-7EA5B438A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EBB1-D487-4992-9CC0-89FF24095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D16D-C8B1-4979-AD95-B7939946C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98A19F-E52B-4E88-817A-3BE4251EE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07DD79-0278-4173-A33E-21CCC4DD2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258393-B12C-4D4E-8B38-8F09D4D20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5AF501-A94C-464B-B315-F372F8750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42D6AA-B7C7-433C-93B7-F3B87EC58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BF02DA-D816-45FB-9F49-86782D8A0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2C3E5C-440F-4001-AEB7-9010A327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0EC6-2044-45A3-8AD3-350D9655C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A3B7F0-1651-483D-923B-B863DE45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7A15F4-3A70-4992-A5E2-FC6369AA7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E328AF-E084-41A7-8901-A2714F3EC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08449D-D517-4AB9-86FA-4E644B4C3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1BDAE7-A594-4697-9932-583833EDB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E45D-8F51-475B-AC82-6D32AF0BB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BEFD-1111-4330-84DC-7A30DF572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7F9F-6CCE-489A-A842-B2C8ACA19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D4B5-F541-4CF3-9F4D-A2738741B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6560-813C-4407-AB3A-23132E942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B5C8-59B2-4737-89AD-A387649E0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9889-2CAA-42AD-B69B-89A5C75A4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BDF16-9C69-408C-8184-D6EF6CFBE1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CFA68-3028-4602-A0ED-29635D48B3D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0066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0066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0066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0066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0066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0066"/>
                </a:solidFill>
                <a:latin typeface="Tahoma"/>
              </a:rPr>
              <a:t>А.И. Леонова, </a:t>
            </a:r>
            <a:br>
              <a:rPr sz="2400"/>
            </a:br>
            <a:r>
              <a:rPr b="0" lang="ru-RU" sz="2400" spc="-1" strike="noStrike">
                <a:solidFill>
                  <a:srgbClr val="ff0066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0066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0066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0066"/>
                </a:solidFill>
                <a:latin typeface="Tahoma"/>
              </a:rPr>
              <a:t>учитель английского языка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0066"/>
                </a:solidFill>
                <a:latin typeface="Tahoma"/>
              </a:rPr>
              <a:t>Ролевая игра как средство повышения эффективности урока иностранного языка 5 – 9 класс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12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оложительное в игре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здается благоприятный психологический климат на уроке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чащиеся испытывают удовольствие от проведения игры, так как любая игра имеет высокую мотивацию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рок происходит на высоком эмоциональном уровне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процессе игры учащиеся имитируют определенную деятельность, что формирует умения и навыки, а также способствует применению своих знаниях комплексно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чащиеся учатся лучше слушать друг друга и реагировать на реплики собеседника, показывая тем самым, что коммуникация говорящих состоялась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речи учащихся появляются фразы-клише повседневного обиход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слеигровое обсуждение способствует закреплению знани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Отрицательные стороны использования игры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сокая трудоемкость подготовки к уроку для учител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рудности с заменой участников игры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которая неопределенность и непредсказуемость результатов игры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зможное скрытое сопротивление отдельных участник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Вывод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олевые игры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троятся на принципах коллективной работы, практической полезности, соревновательности, максимальной занятости каждого учащегося и неограниченной перспективы творческой деятельност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процессе ролевой игры формируется сознание принадлежности ее участников к коллективу, сообща определяется степень участия каждого из них в работ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процессе ролевой игры развивается логическое мышление, способность к поиску ответов на поставленные вопросы, речь, речевой этикет, умение общаться друг с друго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вышают эффективность учебного процесса, помогая сохранить интерес учащихся к иностранному языку на всех этапах обуче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6836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Оптимальная интенсификация труда = повышение эффективности труда в каждую единицу времен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613080" y="-600480"/>
            <a:ext cx="253044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62064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еятельность (А.С. Выготский)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рудов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гров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ебн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24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47592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дагогический феномен игры истолкован в трудах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.С. Макаренко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.А. Сухомлинского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.Б. Эльконина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.П. Аникеева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.С. Анисимова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.В. Петрусинского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.Д. Ушинского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ж. Сели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. Бюлле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Функции игр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звлекательна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ммуникативна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иагностическ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гротерапевтическа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амореализаци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ежнациональной коммуника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циализа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стетическа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3840" y="291960"/>
            <a:ext cx="8472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Случаи употребления игры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качестве самостоятельного метода для освоения определенной тем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к элементы (иногда весьма существенные) какого-то другого метод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качестве целого урока или его части (введения, объяснения, закрепления, контроля или упражнения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зможно использование игры по организации внеклассного мероприят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Основные направления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идактическая цель ставится перед учащимися в форме игровой задач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ебная деятельность подчиняется правилам игры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ебный материал используется в качестве ее средства, в учебную деятельность вводится элемен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о характеру игровой методики игры можно разделить на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дметны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южетны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олевы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еловы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митационны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гры-драматизац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римеры речевых игр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57200" y="1905120"/>
          <a:ext cx="8229600" cy="45925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ема рол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итуации для речевого проигрыва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чевые рол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0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емь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гры в дочки-матери, представление членов семьи(имена, фамилии, возраст, род деятельности, хобби), озвучивание ситуации каждодневной жизни семьи (завтрак, обед, ужин, сервировка стола, помощь по дому, обсуждение проблем, школы, выбора будущей профессии и т.д.)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ама, папа, дочка, сын, тетя, дядя, бабушка, внезапный гость, близкий друг и т.д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1T02:49:59Z</dcterms:created>
  <dc:creator>aleksandra.leonova</dc:creator>
  <dc:description/>
  <dc:language>en-US</dc:language>
  <cp:lastModifiedBy>anastasia.burlakova</cp:lastModifiedBy>
  <dcterms:modified xsi:type="dcterms:W3CDTF">2010-06-02T08:18:05Z</dcterms:modified>
  <cp:revision>5</cp:revision>
  <dc:subject/>
  <dc:title>Магнитогорск</dc:title>
</cp:coreProperties>
</file>