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F2F-9EEC-43A2-BF06-39AFEAC6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004-E6DE-4C07-A7C7-FA4E711E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353-CF3A-44F7-8F75-362C99C5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BBD-BFEA-4052-9DEE-B82570FD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ED9-31DA-47EC-BE7D-002AF753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BF8-9A85-49CC-A1D1-3A5FCA06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251-1EA2-4A28-90EC-DB2EAE92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AB8-5035-48E6-8DF0-1B0CA679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57D-E4AA-4637-8A3B-F656FFC8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0A6-B8C0-4842-B961-9A1A6512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639-E17A-4A08-A7F5-5FB16281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6A4-074E-41B8-A716-D16BB0DA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9CF2-3A76-43BE-930A-67DCE6A833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Фольклор –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ое народное 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ые сказки, загадки и 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Мораль басни И.А. Крылова «Ворона и лис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е верь льсте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Не будь жад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е ешь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е пой, если не уме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Определи жанр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В доме одна Домна. Думает Домна: «Дай, приберу». Прибрала Домна дом, а у Домны дом вверх дно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рогово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сказ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 называется нравоучение в бас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В каких произведениях рассказывается о богатыр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каз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ыли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были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асн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ому принадлежат слова из поэмы «Руслан и Людмила» А.С. Пушк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…Пустился в дальнюю дор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гал, шагал и, слава Б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бы пророчеству наз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 счастливо сначала ш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отдаленными г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шли мы роковой подв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разметал его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потаенный меч доста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л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ном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ое произведение часто начинается словами «Жили-были…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В каком произведении всегда есть мора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каз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ы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ас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га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меть фамилию автора сказ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З. Су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 такое абза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меть лишне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Эзоп и И.А. Крылов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снопис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пис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то из авторов писал рассказы о природ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.А. Кры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. Биа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А. Есен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Героем каких произведений стал Илья Муромец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ли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жанр фолькло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фамилию автора стихотворения «Зимний вечер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ен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ит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рмон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8377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имя героя литературной сказ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тофей Иван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аревич Нехитер- Немуд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нязь Гвидон Салтан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лена Премудр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ие книги помогут получить справку о писател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лковы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ф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циклопед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рочитай отрывок. Укажи название строф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оет уж лист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ажную землю в лес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мело топчу я но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шнюю леса кр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Дву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яти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Четверо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Шестистишие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Присказка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упление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овка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тливое вступление или концовка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льклорный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имя и отчество Турген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Андр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Серг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кажи жанр произведения Л.Н. Толстого «Два брат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изведение «Крестьянские дети» напис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.Ю. Лермо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Укажи фамилию французского сказочн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.К. Андер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арль Перр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ратья Гри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акариас Топелиу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 называется описание картины природы в литерату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лицетв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голово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жанр произве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сыпала Лукер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ребряные пе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рутила, заме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ала улица б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роговор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рочитай отрывок. Кто автор этого произвед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безьяна села на первой перекладине мачты, сняла шляпу и стала зубами и лапами рвать ее. Она как будто дразнила мальчика, показывала на него и делала ему рож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жанр отры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Чародейкою Зим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колдован лес стоит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 под снежной бахромо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подвижною, немо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Чудной жизнью он блест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расс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бас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стихотвор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8377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тметь имя и отчество Чех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в Никола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Алекс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Прочитай произведение. Отметь его жанр и тем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ленькое дело лучше большого безде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 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б у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адка о тр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 тр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имя и отчество Некрасо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Никола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Алекс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фанасий Афанась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тему пословиц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Где работают, там густо, а в ленивом доме пуст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друж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Род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тру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челове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Автор стихотворения «Листопад»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И. Тют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Н. Май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Автор рассказа «Ванька»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ейзаж – это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картины приро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а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Героем какого произведения является Ванька Жук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ихотвор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Arial"/>
              </a:rPr>
              <a:t>Отметь фамилию русского поэта и сказочник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ы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й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то автор рассказа «Белолобый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Н. Но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баснописца Древней Гр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А. Кры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Е. Изм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басню Эз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рон и Лис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рона и Лис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Филин и чиж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ак, Лебедь и Щ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ая книга поможет проверить написание сло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лковы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ф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циклопед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фамилию поэ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р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пр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устов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ыл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Укажи автора басни «Петух и Жемчужное Зер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Укажи имя и отчество 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Сав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Загадка –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равоучение в бас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е мудрое народное изр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картины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ая форма фолькл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 называется шутливое начало или конец сказ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ы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загадку-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1) Щучка - одноручка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Носок стальной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Хвостик льняной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2) Чулан невелик, а народом набит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3) Какой мост из воды построен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4) Железный нос в землю врос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Роет, копает, землю разрыхляет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Из какого произведения отры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3500" spc="-1" strike="noStrike">
                <a:solidFill>
                  <a:srgbClr val="000000"/>
                </a:solidFill>
                <a:latin typeface="Arial"/>
              </a:rPr>
              <a:t>Милый сын мой Добрынюшка, ты не езди к Пучай-реке. Пучай-река свирепая, сердита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ба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бы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небы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Подумай, что поможет тебе найти нужные произведения в книге-сбор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ложка кн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главление (содерж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нот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то говорит эти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Мы объехали весь св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орговали мы була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стым серебром и зла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теперь нам вышел ср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лежит нам путь дал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мо острова Буя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царство славного Салта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нязь Гвидо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ядька Черномо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ри сестр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орабельщи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02-27T05:16:1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