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759-7545-40B9-B1C0-774BBCF9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8D1-5E23-4B99-80F2-79DFAEB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FAB-E94E-4A83-8BD4-2C5F9A20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415-6151-4A9A-A8D0-E2F78036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CD4-94B3-4943-AED6-8492ED59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86A-5D7A-4596-8426-2C1CC7A6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CC9-CAFC-4632-867F-1E2ED2CD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569-8023-4062-8F18-4239EC5A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3987-DD56-4867-A879-91976DC3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D21-2491-4C79-BA1B-AA2871C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BD9-6096-4CFB-9B12-C877BD6C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BE1-EECC-429F-A83C-B00ED3D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C69-BC49-4F1F-8717-D39BBD14D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Фольклор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ое народ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е 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е сказки, загадки и 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Мораль басни И.А. Крылова «Ворона и лис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е верь льсте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е будь жа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е еш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е пой, если не умее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Определи жанр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300" spc="-1" strike="noStrike">
                <a:solidFill>
                  <a:srgbClr val="000000"/>
                </a:solidFill>
                <a:latin typeface="Arial"/>
              </a:rPr>
              <a:t>В доме одна Домна. Думает Домна: «Дай, приберу». Прибрала Домна дом, а у Домны дом вверх дном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рогово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сказ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нравоучение в бас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их произведениях рассказывается о богатыр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ебыл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ому принадлежат слова из поэмы «Руслан и Людмила» А.С. Пушк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…Пустился в дальнюю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гал, шагал и, слава Б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 бы пророчеству наз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 счастливо сначала ш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 отдаленными г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шли мы роковой подв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разметал его ру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таенный меч доста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л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ном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ое произведение часто начинается словами «Жили-были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В каком произведении всегда есть морал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каз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ы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ага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фамилию автора сказ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З. Сур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 такое абза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меть лишне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зоп и И.А. Крылов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снопис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опис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из авторов писал рассказы о природ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. Биа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А. 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их произведений стал Илья Муромец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жанр фолькло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автора стихотворения «Зимний вечер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ит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рмон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8377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героя литературной сказ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тофей Ив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ревич Нехитер- Немуд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нязь Гвидон Салтан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лена Премудр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ие книги помогут получить справку о писател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Укажи название строф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оет уж лист золо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жную землю в лес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мело топчу я но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шнюю леса кр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Дву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яти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етверостиш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Шестистишие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рисказка – 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упление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тливое вступление или концовка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льклорный жан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имя и отчество Турген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кажи жанр произведения Л.Н. Толстого «Два бра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ы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изведение «Крестьянские дети» напис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.Ю. Лермо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2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Укажи фамилию французского сказочни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К. Андерс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арль Перр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акариас Топелиу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 называется описание картины природы в литерату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йза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о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произве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ссыпала Лукер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ебряные пер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рутила, заме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ала улица б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е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короговор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рочитай отрывок. Кто автор этого произвед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безьяна села на первой перекладине мачты, сняла шляпу и стала зубами и лапами рвать ее. Она как будто дразнила мальчика, показывала на него и делала ему рож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жанр отрыв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колдован лес стоит 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 стихотвор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тметь имя и отчество Чех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ев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Arial"/>
              </a:rPr>
              <a:t>Прочитай произведение. Отметь его жанр и тем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ленькое дело лучше большого бездел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друж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б у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адк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овица о тр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7621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имя и отчество Некрас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Никола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лай Алексе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тон Павло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фанасий Афанасьеви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предели тему пословиц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Где работают, там густо, а в ленивом доме пусто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др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Р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тру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 челове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стихотворения «Листопад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 Май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Автор рассказа «Ванька»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С. Турген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Пейзаж – это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а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рия о приро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Героем какого произведения является Ванька Жук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аз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с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ас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ихотвор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Arial"/>
              </a:rPr>
              <a:t>Отметь фамилию русского поэта и сказочник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й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то автор рассказа «Белолобы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А. Некр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Н. Но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Чех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описца Древней Гре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А. Кры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Е. Изм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басню Эз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рона и Лис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лин и чиж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ак, Лебедь и Щу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Какая книга поможет проверить написание слов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лковы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фограф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нциклопедический слова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Arial"/>
              </a:rPr>
              <a:t>Отметь фамилию поэ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ури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пр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устов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ы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автора басни «Петух и Жемчужное Зер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з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ы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Укажи имя и отчество Кры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ав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Андр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ван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Загадка – э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равоучение в бас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е мудрое народн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картин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ая форма фолькл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ак называется шутливое начало или конец сказ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ка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ы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Укажи загадку-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1) Щучка - одноручка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осок стальной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Хвостик льняной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2) Чулан невелик, а народом наби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3) Какой мост из воды построен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4) Железный нос в землю врос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оет, копает, землю разрыхляет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Из какого произведения отрыв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3500" spc="-1" strike="noStrike">
                <a:solidFill>
                  <a:srgbClr val="000000"/>
                </a:solidFill>
                <a:latin typeface="Arial"/>
              </a:rPr>
              <a:t>Милый сын мой Добрынюшка, ты не езди к Пучай-реке. Пучай-река свирепая, сердита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а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бы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ебыл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Подумай, что поможет тебе найти нужные произведения в книге-сбор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ложка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лавление (содерж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нно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cc"/>
                </a:solidFill>
                <a:latin typeface="Arial"/>
              </a:rPr>
              <a:t>Кто говорит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Мы объехали весь св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рговали мы бу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истым серебром и зла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теперь нам вышел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 лежит нам путь дал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царство славного Салта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нязь Гвидо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ядька Черномо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и сестр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орабельщ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a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1-02-27T05:16:1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