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65C-9794-4E24-835E-F00FB251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F15-97FD-4CBF-A263-9DF96016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CE6-B323-4710-A22F-3FFFC950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A50-7837-467E-86DE-14CFD6B3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6C04-5C81-425C-AC25-2540CD9C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8A66-0638-456E-A12D-A2099435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71CA-38FC-4BB5-BEE3-9DAFF2B2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B852-05D7-4DC0-B771-0C579A6A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F3CE-C2E0-431A-8340-5F3AADD2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698F-9CC4-49C4-9A64-F26BCBC3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6637-5638-429E-8154-B673F3C6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22E-B196-4B18-ABF7-ECE04743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D0D5-3B0E-49D0-B05D-E2B2A3B1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E0BC-4754-4BFB-8641-680251DE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356A-62C9-4E9D-940F-1B7E8164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7B2F-C30C-49DC-BC59-EFDF7E32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780C-E7B6-46AC-BD6A-0C54CB0E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3EF-DB16-405A-8A8B-9D48EFA6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6D7-4BD3-4834-ABDA-57D086DE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0CB-FECE-4271-ADF5-8CA557B0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A7C-72F0-47EF-8451-85EF70D8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57A-B5C0-4F00-8C10-B609CD32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EC7-F672-4A27-847F-0464F7CA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5BB-D6D9-49E9-8754-CA406F3D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AEE4-02C2-4387-A521-EFEB8C6E3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7934-648F-449A-9534-3E39D4882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7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Предмет: СБО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(5 класс)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Тема урока: Приготовление бутербродов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38280" y="434304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работала:    учитель СБ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ачева И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рге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1.20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Хлеб занимает особое место в питании человека. В нем содержится много питательных веществ необходимых для жизнедеятельности человека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Хлеб – это наше богатство.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Пословицы о хлебе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леб  всему голо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леб сердце человека укрепи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леба ни куска и в горле тос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удет хлеб – будет и обед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ез хлеба куска везде тос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леб да вода мужицкая е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905120"/>
            <a:ext cx="7848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Физминутка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Виды бутербродов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419720" cy="4496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Простой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Канапе с огурцами"/>
          <p:cNvPicPr/>
          <p:nvPr/>
        </p:nvPicPr>
        <p:blipFill>
          <a:blip r:embed="rId2"/>
          <a:stretch/>
        </p:blipFill>
        <p:spPr>
          <a:xfrm>
            <a:off x="4724280" y="1828800"/>
            <a:ext cx="4114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115480" cy="5410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Сложный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6101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Открытый бутерброд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51976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крытый бутерброд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крытые бутерброд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принято называть сэндвичам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ля приготовления сэндвичей обычно используются специальные булочки, но можно взять и простой хлеб. Перед тем как положить на хлеб начинку - мясо, рыбу, овощи, сыры  - кусочки смазывают сливочным маслом, горчицей, майонезом т.д., затем укладывают выбранную начинку, а сверху - второй ломтик хлеба, также предварительно смазанный маслом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сэндвич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Гамбургер «губернский»"/>
          <p:cNvPicPr/>
          <p:nvPr/>
        </p:nvPicPr>
        <p:blipFill>
          <a:blip r:embed="rId1"/>
          <a:stretch/>
        </p:blipFill>
        <p:spPr>
          <a:xfrm>
            <a:off x="685800" y="1662120"/>
            <a:ext cx="81532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ема урока: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иготовление бутерброд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формировать навык по приготовлению открытых бутербродов с соблюдением правил техники безопасности  и санита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1.Оразовательная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знакомить учащихся с историей появления бутербр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хнологией приготовления бутербр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Коррекционно-развивающ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вать внимательность, творческие способности, эстетический вкус при оформлении блюда и сервировки стол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Воспитательна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спитывать аккуратность, бережливость, самостоятельность, навыки коммуникативного об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утерброды делятся на несколько видов: 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орячие и холодные бутерброды, в зависимости от того, в каком виде их подают на стол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леные и сладкие бутерброды, в зависимости от вкусовых качеств  продуктов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кусочные (канапе). 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44080"/>
            <a:ext cx="83088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ffffb7"/>
                </a:solidFill>
                <a:latin typeface="Arial Black"/>
              </a:rPr>
              <a:t>КАНАПЕ </a:t>
            </a:r>
            <a:br>
              <a:rPr sz="6000"/>
            </a:b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3898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Канапе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– </a:t>
            </a:r>
            <a:br>
              <a:rPr sz="48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это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маленькие бутерброды толщиной 0,5-0,8 см, шириной или диаметром 3-4 см,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риготовленные на любом хлебе или печенье. 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Их подают к кофе, чаю, как закуску к ужину или перед обедом. 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о форме они могут быть треугольные, четырехугольные, круглые, квадратные, ромбовидные и др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.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Памятка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терброды необходимо готовить перед подач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дукты должны быть свеж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леб не должен быть слишком толстым или тонк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леб  должен быть полностью покрыт продук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терброды на блюде располагают в один ря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Вопросы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6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такое бутерброд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ля чего нужны  бутербро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является основой бутерброд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кие продукты можно использовать для его приготовлен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такое сэндвич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такое канап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267080" cy="34275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00600" y="3200400"/>
            <a:ext cx="4038480" cy="3429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724280" y="22860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495680" cy="6141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191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8480" cy="2747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114800" cy="2774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724280" y="3352680"/>
            <a:ext cx="4229280" cy="31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Рецепт заливка для кисло-сладких маринадов."/>
          <p:cNvPicPr/>
          <p:nvPr/>
        </p:nvPicPr>
        <p:blipFill>
          <a:blip r:embed="rId1"/>
          <a:stretch/>
        </p:blipFill>
        <p:spPr>
          <a:xfrm>
            <a:off x="1828800" y="304920"/>
            <a:ext cx="55627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сставь цифры  в порядке возрастания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905120"/>
          <a:ext cx="8540280" cy="4190760"/>
        </p:xfrm>
        <a:graphic>
          <a:graphicData uri="http://schemas.openxmlformats.org/drawingml/2006/table">
            <a:tbl>
              <a:tblPr/>
              <a:tblGrid>
                <a:gridCol w="948240"/>
                <a:gridCol w="950040"/>
                <a:gridCol w="947880"/>
                <a:gridCol w="950040"/>
                <a:gridCol w="947880"/>
                <a:gridCol w="950040"/>
                <a:gridCol w="948240"/>
                <a:gridCol w="950040"/>
                <a:gridCol w="94788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3581280"/>
            <a:ext cx="7086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Бутербр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07" name="" descr="Башня из сандвичей"/>
          <p:cNvPicPr/>
          <p:nvPr/>
        </p:nvPicPr>
        <p:blipFill>
          <a:blip r:embed="rId1"/>
          <a:stretch/>
        </p:blipFill>
        <p:spPr>
          <a:xfrm>
            <a:off x="4800600" y="5335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4038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b7"/>
                </a:solidFill>
                <a:uFillTx/>
                <a:latin typeface="Arial Black"/>
              </a:rPr>
              <a:t>Бутерброд – 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лово  немецкого происхождения. 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 переводе  означает: «бутер» - масло, «брод» - хлеб, т.е. масло на хлебе – так можно перевести это слово.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Arial Black"/>
              </a:rPr>
              <a:t>Загадки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162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чные да крупные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т такие круглые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том зеленеют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 осени краснеют.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4572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3200400"/>
            <a:ext cx="8464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й продукт нам очень нужен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 пицце он необходи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 холодильнике хранится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кусный ароматный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726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540640" cy="20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 грядке длинный и зеленый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 в кадке желтый и солены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72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3-01-20T05:08:18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