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470-D84F-45E7-ADDB-120474C8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4BFF-B804-431A-A343-8E1D06AD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DB6-3C73-4C4F-8728-A870B724F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4E5-169D-4D8A-9CFB-3CE8101E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21D1-D4F5-46BD-B51F-44064497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EA59-EB32-4F6E-A2FE-7D6F8462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FC64-C6D7-4E68-9080-92ADB22C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E674-C895-4138-B587-7978C4E8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963D-7A90-45EB-8E97-BFA3D999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C84E-1E11-4980-B901-15B68E85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F51A-A220-45A9-A71C-FC4ECAE0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497-DECA-448D-9834-AFCFD642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0051-06F3-4F61-9DD4-D27FE4F7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8E2F-3D25-4948-A1C5-9E5808DF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9A42-0209-47BB-9D3A-4AD59917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5399-DA13-46FF-B309-7BA43835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BEE0-673A-4A6D-B520-1AF675F3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731-85F0-4103-82E4-EA25C255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C275-B05A-4743-B3AB-757A4511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DA45-971E-4E9B-9CCD-09A5BE31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6CA-91F6-40CC-9C84-B774DA09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9A9-C168-4D1C-9832-22DB7BE3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ADED-B409-421D-A1F8-FEAB4128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C95-CAFF-4005-979A-2A102E85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27C7-2E27-43CD-9098-43039CB95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95CD-3771-41F0-B5D2-39A518923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7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Предмет: СБО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(5 класс)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Тема урока: Приготовление бутербродов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38280" y="434304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работала:    учитель СБ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ачева Ир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ерге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1.20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3276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Хлеб занимает особое место в питании человека. В нем содержится много питательных веществ необходимых для жизнедеятельности человека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Хлеб – это наше богатство.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Пословицы о хлебе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леб  всему голо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леб сердце человека укрепи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леба ни куска и в горле тос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удет хлеб – будет и обед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ез хлеба куска везде тос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леб да вода мужицкая ед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905120"/>
            <a:ext cx="7848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Физминутка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190476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Виды бутербродов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419720" cy="4496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Простой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Канапе с огурцами"/>
          <p:cNvPicPr/>
          <p:nvPr/>
        </p:nvPicPr>
        <p:blipFill>
          <a:blip r:embed="rId2"/>
          <a:stretch/>
        </p:blipFill>
        <p:spPr>
          <a:xfrm>
            <a:off x="4724280" y="1828800"/>
            <a:ext cx="4114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115480" cy="5410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Сложный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6101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Открытый бутерброд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610480" cy="51976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861372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Закрытый бутерброд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5335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акрытые бутерброд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принято называть сэндвичам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ля приготовления сэндвичей обычно используются специальные булочки, но можно взять и простой хлеб. Перед тем как положить на хлеб начинку - мясо, рыбу, овощи, сыры  - кусочки смазывают сливочным маслом, горчицей, майонезом т.д., затем укладывают выбранную начинку, а сверху - второй ломтик хлеба, также предварительно смазанный маслом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сэндвич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Гамбургер «губернский»"/>
          <p:cNvPicPr/>
          <p:nvPr/>
        </p:nvPicPr>
        <p:blipFill>
          <a:blip r:embed="rId1"/>
          <a:stretch/>
        </p:blipFill>
        <p:spPr>
          <a:xfrm>
            <a:off x="685800" y="1662120"/>
            <a:ext cx="81532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ема урока: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иготовление бутерброд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формировать навык по приготовлению открытых бутербродов с соблюдением правил техники безопасности  и санита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 1.Оразовательная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знакомить учащихся с историей появления бутербр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хнологией приготовления бутербр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Коррекционно-развивающ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вивать внимательность, творческие способности, эстетический вкус при оформлении блюда и сервировки стол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Воспитательна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спитывать аккуратность, бережливость, самостоятельность, навыки коммуникативного общ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Бутерброды делятся на несколько видов: 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горячие и холодные бутерброды, в зависимости от того, в каком виде их подают на стол;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леные и сладкие бутерброды, в зависимости от вкусовых качеств  продуктов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закусочные (канапе). 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44080"/>
            <a:ext cx="83088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ffffb7"/>
                </a:solidFill>
                <a:latin typeface="Arial Black"/>
              </a:rPr>
              <a:t>КАНАПЕ </a:t>
            </a:r>
            <a:br>
              <a:rPr sz="6000"/>
            </a:b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3898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Канапе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– </a:t>
            </a:r>
            <a:br>
              <a:rPr sz="48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это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маленькие бутерброды толщиной 0,5-0,8 см, шириной или диаметром 3-4 см,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риготовленные на любом хлебе или печенье. 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Их подают к кофе, чаю, как закуску к ужину или перед обедом. 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о форме они могут быть треугольные, четырехугольные, круглые, квадратные, ромбовидные и др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.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Памятка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терброды необходимо готовить перед подач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дукты должны быть свежи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леб не должен быть слишком толстым или тонки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леб  должен быть полностью покрыт продук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утерброды на блюде располагают в один ря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Вопросы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64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такое бутерброд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ля чего нужны  бутербро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является основой бутерброд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акие продукты можно использовать для его приготовлени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такое сэндвич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такое канап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267080" cy="34275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00600" y="3200400"/>
            <a:ext cx="4038480" cy="3429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4267080" cy="28195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724280" y="22860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495680" cy="6141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4191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38480" cy="2747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4114800" cy="2774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724280" y="3352680"/>
            <a:ext cx="4229280" cy="31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Рецепт заливка для кисло-сладких маринадов."/>
          <p:cNvPicPr/>
          <p:nvPr/>
        </p:nvPicPr>
        <p:blipFill>
          <a:blip r:embed="rId1"/>
          <a:stretch/>
        </p:blipFill>
        <p:spPr>
          <a:xfrm>
            <a:off x="1828800" y="304920"/>
            <a:ext cx="55627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асставь цифры  в порядке возрастания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1905120"/>
          <a:ext cx="8540280" cy="4190760"/>
        </p:xfrm>
        <a:graphic>
          <a:graphicData uri="http://schemas.openxmlformats.org/drawingml/2006/table">
            <a:tbl>
              <a:tblPr/>
              <a:tblGrid>
                <a:gridCol w="948240"/>
                <a:gridCol w="950040"/>
                <a:gridCol w="947880"/>
                <a:gridCol w="950040"/>
                <a:gridCol w="947880"/>
                <a:gridCol w="950040"/>
                <a:gridCol w="948240"/>
                <a:gridCol w="950040"/>
                <a:gridCol w="947880"/>
              </a:tblGrid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3581280"/>
            <a:ext cx="70866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Бутербр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07" name="" descr="Башня из сандвичей"/>
          <p:cNvPicPr/>
          <p:nvPr/>
        </p:nvPicPr>
        <p:blipFill>
          <a:blip r:embed="rId1"/>
          <a:stretch/>
        </p:blipFill>
        <p:spPr>
          <a:xfrm>
            <a:off x="4800600" y="533520"/>
            <a:ext cx="4114800" cy="2824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4038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b7"/>
                </a:solidFill>
                <a:uFillTx/>
                <a:latin typeface="Arial Black"/>
              </a:rPr>
              <a:t>Бутерброд – </a:t>
            </a: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лово  немецкого происхождения. </a:t>
            </a:r>
            <a:br>
              <a:rPr sz="4800"/>
            </a:b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 переводе  означает: «бутер» - масло, «брод» - хлеб, т.е. масло на хлебе – так можно перевести это слово.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b7"/>
                </a:solidFill>
                <a:latin typeface="Arial Black"/>
              </a:rPr>
              <a:t>Загадки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162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очные да крупные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от такие круглые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Летом зеленеют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 осени краснеют.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4572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3200400"/>
            <a:ext cx="8464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ей продукт нам очень нужен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 пицце он необходим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 холодильнике хранится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кусный ароматный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726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540640" cy="20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 грядке длинный и зеленый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 в кадке желтый и соленый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172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3-01-20T05:08:18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