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463D-16FB-4432-8BEB-EBBF3A63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5180-2372-4C8F-8383-B1D50923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549-5C4B-48AB-9485-F4B670BE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3B1-9895-4DB6-A91C-B4DB200E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C3C7-F9BE-4B3C-B537-4A98EE4D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8B9-347A-4F1A-97D0-27E60BB6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B98-FE37-47F9-83F5-3BFDC2D5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9E77-00BF-4D86-9C69-06501C60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237-3741-4AAF-B94B-EF5CD261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64C-6D99-40D4-AD70-E01C33CA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504A-C44C-4FDC-9B53-06A9690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AED-0C83-42C4-A5DC-E1E3E2F5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CA7D-C555-4885-B695-7CE1644D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7970-43AE-4031-8F03-76375F13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0C49-2C55-4AA1-A82E-AA0D61D9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FBDE-75AE-4E9E-8C4D-059789DC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33A6-B402-44D3-B835-CB43A404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5A17F-947C-4BFF-902C-8E3D76DE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DD81D-BFFB-4F35-8414-1723644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41591-9C57-4018-A689-7A1BAB33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AAE90-0ACE-4571-9937-EF7059F6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57D9A-07F1-4A19-9107-D881B372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F69F-A13F-46F3-A88C-4F0BB65E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CEA90-16AE-47D3-9B37-9FEBD79A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59C697-98DB-44F5-858B-55CEA24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73E89-2CAC-4938-90DD-7230D9EC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6E855-72A8-44C0-82F8-119491ED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A9582-4C3C-4218-A8F3-5E7663AB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BC272-75EB-44CE-8904-75C04375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7F1E5-B485-49A5-8076-9034BD36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59A4F-AD15-4CE7-A6CD-73501470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56C15-7B28-4C6B-8AD1-338A484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4A5B3-CE12-4EFD-A65C-E47C8EF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2BCE-972E-4D4F-B305-4DA04610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DEA7F-3373-4484-8C6B-E300DFE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A7DF-A818-45FA-B4C7-C563AACA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E8906-CB4A-4E12-90E5-5D38825D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45B38-3E36-48AF-A61E-0C87D29A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8874-0815-4F7C-8A44-9D0F11D8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CFD4-5F44-42C7-B81C-E015F1A9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299D-F173-4B4C-86D8-97FC4D8B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094C-1B18-4B36-9310-E1A0F193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5B8F7-1B74-484D-94F4-B39EED37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D5DEE-DBEC-4307-9EA3-F4B48D10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D8B-4857-4509-8DA6-8D81FB8B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89EB7-5C14-4BD5-96D8-8B921C0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DF840B-3D94-4740-9359-DF0BD542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6216D-3511-4349-998C-D42D422C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F20437-43F9-4056-9073-DDDA297C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3D0B4-17F9-4FB7-9022-44FB47D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C6641-D30C-4D1B-85BC-65AF2A9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D4172-0A29-429B-94C2-41E6328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A607A-E253-4F93-8C4F-CC5F236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9C0B4-CC3A-4EBE-85D7-90A4E88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7527F5-5832-4C47-BAAF-057004D6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E8D-BC8B-4790-97BB-7BEF1264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8BC19-372F-4923-92DD-665A9B07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65B8C-5459-4574-8975-9A5BA613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E36F0-B3C0-470C-9402-CEA216C0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4140A-725B-4588-9BBF-053F935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645AA0-3268-48E5-BC7C-3DDA623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EBAB5-8432-4B64-9B5E-9F21C26F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097BB-0720-4AE3-B92B-BD3B07CC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A0255-441F-45B2-9FE0-A456D20B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8ADC5-C724-4B7B-BBCC-A8252DF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4274D-C6AD-42AE-928B-2926FA0A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2AB-2FD6-4F2B-A767-56B350EB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9BB58-AA0D-4739-AA37-29EEECA6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0ECEB-E2E0-4B4E-9B5D-DC38D0953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58A1C-A815-49AB-BCB6-CBE84F53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140EF-FD19-4179-98C1-FA9BFE1F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E4BBC-266A-4826-B832-AB7ECD24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4BAA2-26DC-4B24-A6D7-A433A54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58DAD1-189C-40B3-B876-483369A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9D54F-C5B9-4533-8ECA-24BC1AB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BBC17-1755-457D-93E6-4B7EA05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5623A0-12B9-48CA-B407-A0569FF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25F-AB8B-46DF-8B90-CED1575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A2977-02FD-41C1-A7AC-514BB438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E866A-0E10-419E-9881-507C238C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C1257-00C1-4DEC-A2BF-58C2B97A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C4D7C-C713-4875-A949-60853731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9EBA59-F85D-47D4-9A7C-98D832EC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CA3-4320-4353-87BF-908BF7C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D682-5E40-4756-AF60-DAEC209601B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B26-6241-4369-8C29-3158E9D270A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4D9-D344-428B-835D-CD18884FD9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B66D-C7CF-4114-BA0A-C2711B239EE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16CB-090E-4363-902F-0922C715C26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676-1914-4A61-A904-631ECC945EF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12E1-833B-4E47-B2B4-F8092C185E6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2781000"/>
            <a:ext cx="6172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ИК РЕЦЕПТОВ «ЛЮБИМЫЕ БЛЮДА А.С.ПУШКИНА И Е.ОНЕГИН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2555640" y="5003640"/>
            <a:ext cx="590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езова И.И.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36 г. Томск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3" descr="C:\Documents and Settings\Admin\Рабочий стол\урок на конкурс\онегин\10_629.jpg"/>
          <p:cNvPicPr/>
          <p:nvPr/>
        </p:nvPicPr>
        <p:blipFill>
          <a:blip r:embed="rId1"/>
          <a:stretch/>
        </p:blipFill>
        <p:spPr>
          <a:xfrm>
            <a:off x="971640" y="189000"/>
            <a:ext cx="2236680" cy="280044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4" descr="Логотип школы (зеленый)"/>
          <p:cNvPicPr/>
          <p:nvPr/>
        </p:nvPicPr>
        <p:blipFill>
          <a:blip r:embed="rId2"/>
          <a:stretch/>
        </p:blipFill>
        <p:spPr>
          <a:xfrm>
            <a:off x="7164360" y="189000"/>
            <a:ext cx="1474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ЁНЫЕ ГРИБ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836280"/>
            <a:ext cx="561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ди свежие 10к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 40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оп (стебли)4-5ш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хрена 2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нок 2-3головки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душистый 10г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вровый лист 10шт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засолить грузди, грибы отсортировать, очистить и вымачивать грузди в холодной воде 2—3 дня, меняя воду раз в сутки. Подготовленные грузди уложить в тщательно вымытую и стерилизованную посуду (бочки, банки), посыпая солью и перекладывая пряностями.  Затем грузди закрыть прокипяченной тканью, сверху уложить деревянный круг и легкий груз (вымытые и ошпаренные кипятком). Поместить грузди в прохладное место. Когда грузди осядут, к ним добавить новые. Необходимо следить, чтобы не было плесени. При ее появлении ткань надо заменить, а деревянный круг хорошо промыть.  Через 5—6 дней проверить наличие рассола в грибах, если его мало, увеличить груз. Соленые грузди готовы через 1—1,5 месяц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1" descr="C:\Users\ALEX\Desktop\картинки с призентации\84_1.jpg"/>
          <p:cNvPicPr/>
          <p:nvPr/>
        </p:nvPicPr>
        <p:blipFill>
          <a:blip r:embed="rId1"/>
          <a:stretch/>
        </p:blipFill>
        <p:spPr>
          <a:xfrm>
            <a:off x="4643280" y="907920"/>
            <a:ext cx="3384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ЧНАЯ В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197000"/>
            <a:ext cx="42591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ку вымыть, откинуть на дуршлаг или сито, дать стечь воде. Насыпать ягоды в стеклянную банку по плечики и залить холодной кипяченой водой до горлышка. Закрыть пластмассовой крышкой и поставить в прохладное темное место недели на две. Когда вода окрасится в интенсивный розовый цвет, напиток готов. Доливаем освободившееся в банке место свежей водой и вновь настаиваем. Бруснику для напитка использовать до тех пор, пока она не побелеет и не отдаст весь свой вкус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чная вода получается терпкой, с легкой кислинкой - такой, какова по вкусу свежая ягода. По вкусу в напиток можно добавлять мед или сахар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3" descr="C:\Documents and Settings\Admin\Рабочий стол\g_image_4ea8d0c0a7cfd.jpg"/>
          <p:cNvPicPr/>
          <p:nvPr/>
        </p:nvPicPr>
        <p:blipFill>
          <a:blip r:embed="rId1"/>
          <a:stretch/>
        </p:blipFill>
        <p:spPr>
          <a:xfrm>
            <a:off x="5003640" y="1700280"/>
            <a:ext cx="367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НОГО АППЕТИТА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0" name="Picture 2" descr="C:\Documents and Settings\Admin\Рабочий стол\0216122748.jpg"/>
          <p:cNvPicPr/>
          <p:nvPr/>
        </p:nvPicPr>
        <p:blipFill>
          <a:blip r:embed="rId1"/>
          <a:stretch/>
        </p:blipFill>
        <p:spPr>
          <a:xfrm>
            <a:off x="1042920" y="1413000"/>
            <a:ext cx="66420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БИФ «ПО-ОНЕГИНСКИ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23640" y="981000"/>
            <a:ext cx="489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 филе говядины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щепотке перца, соли и сахара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оловой ложке уксуса и растительного мас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ядину порезать на порционные куски поперёк волокон, хорошенько отбить. Затем каждый кусок – вручную! – обмазывать последовательно солью, уксусом, сахаром, растительным маслом, красным острым перцем. Мясо уложить в миску, чуть помесить, слегка отжимая, и оставить на пару часов. Затем выложить куски на противень, смазанный маслом, так, чтобы куски не касались друг друга. Поставить в сильно разогретую духовку на 15 минут, и духовку ни в коем случае не открывать! Подавать с отварной картошкой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Admin\Рабочий стол\урок на конкурс\онегин\ростбиф.jpg"/>
          <p:cNvPicPr/>
          <p:nvPr/>
        </p:nvPicPr>
        <p:blipFill>
          <a:blip r:embed="rId1"/>
          <a:stretch/>
        </p:blipFill>
        <p:spPr>
          <a:xfrm>
            <a:off x="5292720" y="1268280"/>
            <a:ext cx="3456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СБУРГСКИЙ ПАШТЕТ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50920" y="1052280"/>
            <a:ext cx="4968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арша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 г мякоти птицы, 130 г печёнки, 60 г шпика, 30 г репчатого лука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еста: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 г муки, 30 г масла, 10 г сахара, пол-яйца, 30 г сметаны, 20 г молока, перец, соль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ёнку нарезать кусочками, обжарить с частью шпика и репчатым луком. Жареную печёнку пропустить через мясорубку, отдельно прокрутить мясо курицы (или гуся, кролика), добавить молоко и тщательно размешать. Подготовленное мясо смешать с печёнкой, оставшимся шпиком, нарезанным мелкими кубиками, заправить солью, перцем, а при желании – мускатным орех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у просеять, собрать в горку, в середине сделать углубление, в которое положить сметану, масло (или маргарин), яйца, сахар, соль и быстро замесить тесто. Тесто раскатать длинной полоской толщиной около 0,5 сантиметра, положить на неё фарш, закрыть такой же полоской теста и края защипнуть. Смазать изделие яйцом, сделать сверху отверстия для выхода пара и выпекать при температуре 180-200°С. После выпечки через отверстия в крышке из теста налить расплавленный свиной жир. Паштет охладить, хранить в холодильнике и для подачи порезать ломтиками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p_030712_1"/>
          <p:cNvPicPr/>
          <p:nvPr/>
        </p:nvPicPr>
        <p:blipFill>
          <a:blip r:embed="rId1"/>
          <a:stretch/>
        </p:blipFill>
        <p:spPr>
          <a:xfrm>
            <a:off x="5219640" y="2781360"/>
            <a:ext cx="3465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А СТЕРЛЯЖЬЯ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0920" y="907560"/>
            <a:ext cx="496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 г воды для бульона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 стерляди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— по вкусу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рковь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ька лимона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черный горошком — по вкусу,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ь — по вкусу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лядь очистить, выпотрошить и промыть. Соскоблить ножом с кожи слизь, протереть рыбу салфеткой, ошпарить кипятком и через 20-30 секунд промыть холодной водой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стрюлю с ухой положить куски стерляди, перец горошком и варить 10-15 минут. Образующуюся пену удалять, оставляя блестки жира. Если жира на поверхности ухи мало, нужно измельченную на терке морковь спассеровать на масле и влить несколько капель этого масла в уху. Из готовой стерляди удалить хрящи. В тарелку положить кусок стерляди, налить уху, отдельно подать ломтик лимона и мелко нарезанную зелень петрушки или укропа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Documents and Settings\Admin\Рабочий стол\урок на конкурс\онегин\onegin_6.jpg"/>
          <p:cNvPicPr/>
          <p:nvPr/>
        </p:nvPicPr>
        <p:blipFill>
          <a:blip r:embed="rId1"/>
          <a:stretch/>
        </p:blipFill>
        <p:spPr>
          <a:xfrm>
            <a:off x="5435640" y="1125360"/>
            <a:ext cx="318456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ЕТЫ «ОНЕГИНСКИЕ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23640" y="907560"/>
            <a:ext cx="46796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г мяс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стакана ви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стакана бульон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он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 муки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о нарезать так, чтобы при каждой котлете была косточка, выбить, посолить, посыпать перцем, обвалять в муке, поджарить в масле с обеих сторон. Затем — положить в кастрюльку, влить 1/2 стакана вина и 1/2 стакана бульона, тушить до мягкости. Перед тем как подать, опустить туда несколько ломтиков лимона без зерен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Documents and Settings\Admin\Рабочий стол\урок на конкурс\онегин\onegin_7.jpg"/>
          <p:cNvPicPr/>
          <p:nvPr/>
        </p:nvPicPr>
        <p:blipFill>
          <a:blip r:embed="rId1"/>
          <a:stretch/>
        </p:blipFill>
        <p:spPr>
          <a:xfrm>
            <a:off x="4859280" y="981000"/>
            <a:ext cx="374508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ФШТЕК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50920" y="981000"/>
            <a:ext cx="475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ядина (вырезка) - 16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ло сливочное - 1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ой сок - 5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н (корень) - 15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нир - 150г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утолщенной части филейной вырезки (головка) нарезать порционные куски толщиной 20-30 мм и слегка отбить до толщины 15-20 мм, придавая им овальную или круглую форму. Перед жаркой мясо посыпать перцем и солью; жарить бифштекс в небольшом сотейнике или порционной сковороде на сливочном масле или маргарине в течение 7-15 мин. При подаче бифштекс положить на тарелку или блюдо, полить маслом и мясным соком. Гарнировать жареным картофелем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ны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еном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3" descr="C:\Users\ALEX\Desktop\картинки с призентации\image28.jpg"/>
          <p:cNvPicPr/>
          <p:nvPr/>
        </p:nvPicPr>
        <p:blipFill>
          <a:blip r:embed="rId1"/>
          <a:stretch/>
        </p:blipFill>
        <p:spPr>
          <a:xfrm>
            <a:off x="5435640" y="1484280"/>
            <a:ext cx="31687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ЮФЕЛИ ПОД СОУСОМ С МАДЕРО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341000"/>
            <a:ext cx="43308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юфели - 6 ш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пик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дера- 1 стака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ульо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ять 6 трюфелей, сложить в кастрюлю, покрыть тонкими ломтиками свежего шпика, залить бульонным жиром, сваренным без кореньев, влить 1 стакан мадера, варить на слабом огне 30 мин. Переложить трюфели в другую кастрюлю, процедить жир из соуса на трюфел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ть отдельно сливочное масло. Блюдо готовится на 6 персон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Picture 2" descr="C:\Users\ALEX\Desktop\картинки с призентации\1202124309_28028.jpg"/>
          <p:cNvPicPr/>
          <p:nvPr/>
        </p:nvPicPr>
        <p:blipFill>
          <a:blip r:embed="rId1"/>
          <a:stretch/>
        </p:blipFill>
        <p:spPr>
          <a:xfrm>
            <a:off x="5148360" y="1557360"/>
            <a:ext cx="345600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РТ ИЗ АНАНАС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ЛУБНИКОЙ И ЛИЧ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052280"/>
            <a:ext cx="44020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ананас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 клубник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г плодов личи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т. л. светлого ром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т. л. сахарной пудры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нас разрезать по диагонали, вырезать мякоть, крупно порубить. Клубнику промыть, удалить плодоножку. Личи очистить от кожуры, удалить косточки. Мякоть ананаса, клубнику и личи выложить в миску. Сахарную пудру растворить в роме и этим сиропом залить фрукты. Настоять 20 мин. Вынуть и уложить внутрь чаши ананас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9" name="Picture 2" descr="C:\Documents and Settings\Admin\Рабочий стол\урок на конкурс\онегин\ананас.jpg"/>
          <p:cNvPicPr/>
          <p:nvPr/>
        </p:nvPicPr>
        <p:blipFill>
          <a:blip r:embed="rId1"/>
          <a:stretch/>
        </p:blipFill>
        <p:spPr>
          <a:xfrm>
            <a:off x="5076720" y="1413000"/>
            <a:ext cx="3567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НЫ РУССКИЕ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0920" y="692280"/>
            <a:ext cx="475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онадобится: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г муки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йц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г дрожжей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. л. сахарного песк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ь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. л. сливочного масл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такана молок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т. л. растительного масла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приготовления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ть дрожжи, добавив 1 чайную ложку сахара, в небольшом количестве подогретого молока и дать постоять. Отделить яичные желтки от белков. Смешать желтки, оставшиеся молоко, сахар, соль и добавить при постоянном помешивании растительное и сливочное масло. Затем влить растворенные дрожж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шать и поставить в теплое место. Дать тесту подойти (объем теста должен увеличиться в 2 раза)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бить белки в пышную пену и непосредственно перед выпеканием добавить в тесто. Хорошо разогреть сковороду и испечь блины до образования румяной корочки. На один блин нужно примерно 75 г теста. Перед подачей на стол горячие блины смазать сливочным маслом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C:\Documents and Settings\Admin\Рабочий стол\tnkcI7HHcI.jpg"/>
          <p:cNvPicPr/>
          <p:nvPr/>
        </p:nvPicPr>
        <p:blipFill>
          <a:blip r:embed="rId1"/>
          <a:stretch/>
        </p:blipFill>
        <p:spPr>
          <a:xfrm>
            <a:off x="5076720" y="1413000"/>
            <a:ext cx="3672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6:53:56Z</dcterms:created>
  <dc:creator>Admin</dc:creator>
  <dc:description/>
  <dc:language>en-US</dc:language>
  <cp:lastModifiedBy>Admin</cp:lastModifiedBy>
  <dcterms:modified xsi:type="dcterms:W3CDTF">2013-02-14T04:20:26Z</dcterms:modified>
  <cp:revision>24</cp:revision>
  <dc:subject/>
  <dc:title>Слайд 1</dc:title>
</cp:coreProperties>
</file>