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E50-D8EB-46FF-92A0-C9F60471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061-C1AC-4035-A459-B3E16C1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6A7-3281-40F6-8F94-D2120349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876-2533-43BC-8202-72D7C73F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6DF5-729A-465F-9527-75AB6BEC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10A4-62CA-49ED-BE84-EF9CE945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CB78-D581-4410-A811-BC1E66B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C1DE-9EA8-4E1F-81E3-A9816B1C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6DC1-575C-4485-917B-0074FC47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07CA-888A-46DB-8C94-71F9B6C5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06B7-1B68-40ED-B99C-72F16DF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FEF-351D-4050-9389-4F059554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81BE-BBEB-4E20-89EE-95C2C5C4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75B6-0A20-4FE6-8156-9924DC2E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1112-15AB-42E8-86F7-55CD79CC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6C9C-4ED1-47F1-8B1C-28C811B7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A748-B4A0-4FFB-9D6A-2D9BEAEC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B69B2-6061-4E37-9A84-EAA670D0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2707C-E52E-4C81-BAF4-0DD508C9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34941-A414-4D38-A513-66954F56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B474D-9D05-43A9-9F35-3249AED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0DF8F-2B52-4E7A-8BB5-9593D91E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111-69BE-4698-B802-CEA291B2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A2600-ABCA-49C8-90B5-0C494511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BD96E-9758-4A9A-81E5-6576A59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C36C5-7AA2-4974-BAD3-4C11F8D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5376A-E65B-443F-A549-D5252C6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6F894-68FF-40CE-8FEA-7C9C3574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94500-E029-42B2-B7C2-8BF78F1B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03399-1079-4BCA-8A1F-4221BD24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8AD4-BE44-427A-9E4B-12E7C81E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320A-9CB7-4986-A28B-F03F3D4A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EBC4-610C-452C-B27D-3C318187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686-629F-405E-A33A-543486D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54AB-1FD7-463B-8445-7A0CCB14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AFB0-1E3F-45FC-BFBA-8789BDBD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24463-32B8-45BC-8421-54C99B1A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D6DC-99DF-4F9F-8F4D-44C9CD40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A8F6-1704-4FF2-B884-751AF1E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D10D-AB98-4751-9199-E4C0875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E9E9-18A6-4C96-95AC-725EF60B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C8809-0881-416B-A4CD-F309B99F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353B-604A-4A4B-BD2F-B8E5508D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035B5-FCE9-4B17-B404-E9F0F22A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29D-8A7F-42C9-9E60-1B2EBD9A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F6361-9420-42AB-ABB8-0480C53F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9503D-AF70-4398-80E7-BEB1A047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E13DA-75BD-41CB-A823-B555196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BFDD6-6194-411F-B7E0-7A6E8663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98A7A-3A07-418F-BF3A-6182589B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F61E3-62AD-4C1A-BEF7-2C9A2108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639FA-1858-4D62-8F8B-55C19C74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AA319-2F4F-414D-865C-EC3D3C7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CFA3E-B484-40FC-B035-97BB0036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A00D0-F847-469B-BCE3-ADE44246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969-4D76-4720-B231-A68A54BA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F66E0-E8A2-473D-97BA-EB5A8BD6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93132-6084-44A8-AA13-7A857C01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2F2CF-B896-4463-A9A9-73E79EE1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F72C2-B8F0-4AAF-8568-26355779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85F5D-0BFB-48DE-A3AE-2031A911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E8F74-E72C-4741-9AF1-9B10ADE7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1E0AA-3D72-4733-97D0-DA323CD1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C26DC-4243-4FD5-86C5-A96365A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872A1-62F9-4919-A645-2E147C23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CB89E-7AD8-44B4-872E-60E4D144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352-0D79-4714-BED8-873CC1F4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FADEA-E49C-4061-9054-581A1A4D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47122-D054-41DD-94C2-FF1E3755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86797-A72D-444D-BD47-DF007180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19935-E2BA-4675-9ACC-6AE2E9B0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02482-DA05-4048-81C8-9B5AD7AD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8CD17-417F-4E0A-8116-F3CE715E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B6E83-EEFF-4C69-BCCB-58D60B66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82FC0-1516-4DB9-9AA2-DB1030B4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47E914-0FB3-4EE0-B4A6-94882DAE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9D3FA-D0D8-4191-9ADF-901142A3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F4C-F300-4385-B5F6-D7DF35C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2869D-B301-4A36-96A3-DD4A2037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82499-056D-4E29-98B3-5E70B877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9F97F-DB81-462C-AA02-610904A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A16C6-0452-46C8-84E6-BCE051E0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6F19B-1AF6-4123-8089-E00C8DCC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696-B977-4FCE-BAEF-EE5CAC75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3C25-C271-4B7A-8FA3-FA5F05F0B6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7D22-B16C-45B3-9C81-866A85F6ED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B7C0-6692-49C9-8FDE-A22542DA0A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53BC-ECC9-4B15-B316-0A769C86695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22E7-6B1E-4FAE-A472-6745E8CF09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7792-0F2B-4F56-9861-8F1DC1B1132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3DD5-E2EB-4A6D-8409-93BA475179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5640" y="2781000"/>
            <a:ext cx="6172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НИК РЕЦЕПТОВ «ЛЮБИМЫЕ БЛЮДА А.С.ПУШКИНА И Е.ОНЕГИН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55640" y="5003640"/>
            <a:ext cx="590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езова И.И.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итературы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36 г. Томс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3" descr="C:\Documents and Settings\Admin\Рабочий стол\урок на конкурс\онегин\10_629.jpg"/>
          <p:cNvPicPr/>
          <p:nvPr/>
        </p:nvPicPr>
        <p:blipFill>
          <a:blip r:embed="rId1"/>
          <a:stretch/>
        </p:blipFill>
        <p:spPr>
          <a:xfrm>
            <a:off x="971640" y="189000"/>
            <a:ext cx="2236680" cy="28004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Логотип школы (зеленый)"/>
          <p:cNvPicPr/>
          <p:nvPr/>
        </p:nvPicPr>
        <p:blipFill>
          <a:blip r:embed="rId2"/>
          <a:stretch/>
        </p:blipFill>
        <p:spPr>
          <a:xfrm>
            <a:off x="7164360" y="189000"/>
            <a:ext cx="1474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ЁНЫЕ ГРИБ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50560" y="836280"/>
            <a:ext cx="5616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ди свежие 10к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 400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оп (стебли)4-5ш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хрена 20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к 2-3головк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душистый 10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ровый лист 10шт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солить грузди, грибы отсортировать, очистить и вымачивать грузди в холодной воде 2—3 дня, меняя воду раз в сутки. Подготовленные грузди уложить в тщательно вымытую и стерилизованную посуду (бочки, банки), посыпая солью и перекладывая пряностями.  Затем грузди закрыть прокипяченной тканью, сверху уложить деревянный круг и легкий груз (вымытые и ошпаренные кипятком). Поместить грузди в прохладное место. Когда грузди осядут, к ним добавить новые. Необходимо следить, чтобы не было плесени. При ее появлении ткань надо заменить, а деревянный круг хорошо промыть.  Через 5—6 дней проверить наличие рассола в грибах, если его мало, увеличить груз. Соленые грузди готовы через 1—1,5 месяц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1" descr="C:\Users\ALEX\Desktop\картинки с призентации\84_1.jpg"/>
          <p:cNvPicPr/>
          <p:nvPr/>
        </p:nvPicPr>
        <p:blipFill>
          <a:blip r:embed="rId1"/>
          <a:stretch/>
        </p:blipFill>
        <p:spPr>
          <a:xfrm>
            <a:off x="4643280" y="907920"/>
            <a:ext cx="33847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НИЧНАЯ В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197000"/>
            <a:ext cx="4259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нику вымыть, откинуть на дуршлаг или сито, дать стечь воде. Насыпать ягоды в стеклянную банку по плечики и залить холодной кипяченой водой до горлышка. Закрыть пластмассовой крышкой и поставить в прохладное темное место недели на две. Когда вода окрасится в интенсивный розовый цвет, напиток готов. Доливаем освободившееся в банке место свежей водой и вновь настаиваем. Бруснику для напитка использовать до тех пор, пока она не побелеет и не отдаст весь свой вкус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ничная вода получается терпкой, с легкой кислинкой - такой, какова по вкусу свежая ягода. По вкусу в напиток можно добавлять мед или сахар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3" descr="C:\Documents and Settings\Admin\Рабочий стол\g_image_4ea8d0c0a7cfd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ГО АППЕТИТА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Picture 2" descr="C:\Documents and Settings\Admin\Рабочий стол\0216122748.jpg"/>
          <p:cNvPicPr/>
          <p:nvPr/>
        </p:nvPicPr>
        <p:blipFill>
          <a:blip r:embed="rId1"/>
          <a:stretch/>
        </p:blipFill>
        <p:spPr>
          <a:xfrm>
            <a:off x="1042920" y="1413000"/>
            <a:ext cx="66420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БИФ «ПО-ОНЕГИНСКИ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23640" y="981000"/>
            <a:ext cx="4895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г филе говядины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щепотке перца, соли и сахара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оловой ложке уксуса и растительного мас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ядину порезать на порционные куски поперёк волокон, хорошенько отбить. Затем каждый кусок – вручную! – обмазывать последовательно солью, уксусом, сахаром, растительным маслом, красным острым перцем. Мясо уложить в миску, чуть помесить, слегка отжимая, и оставить на пару часов. Затем выложить куски на противень, смазанный маслом, так, чтобы куски не касались друг друга. Поставить в сильно разогретую духовку на 15 минут, и духовку ни в коем случае не открывать! Подавать с отварной картошк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Admin\Рабочий стол\урок на конкурс\онегин\ростбиф.jpg"/>
          <p:cNvPicPr/>
          <p:nvPr/>
        </p:nvPicPr>
        <p:blipFill>
          <a:blip r:embed="rId1"/>
          <a:stretch/>
        </p:blipFill>
        <p:spPr>
          <a:xfrm>
            <a:off x="5292720" y="1268280"/>
            <a:ext cx="3456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СБУРГСКИЙ ПАШТЕ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50920" y="1052280"/>
            <a:ext cx="4968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арша: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0 г мякоти птицы, 130 г печёнки, 60 г шпика, 30 г репчатого лука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ста: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 г муки, 30 г масла, 10 г сахара, пол-яйца, 30 г сметаны, 20 г молока, перец, соль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ёнку нарезать кусочками, обжарить с частью шпика и репчатым луком. Жареную печёнку пропустить через мясорубку, отдельно прокрутить мясо курицы (или гуся, кролика), добавить молоко и тщательно размешать. Подготовленное мясо смешать с печёнкой, оставшимся шпиком, нарезанным мелкими кубиками, заправить солью, перцем, а при желании – мускатным орехом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у просеять, собрать в горку, в середине сделать углубление, в которое положить сметану, масло (или маргарин), яйца, сахар, соль и быстро замесить тесто. Тесто раскатать длинной полоской толщиной около 0,5 сантиметра, положить на неё фарш, закрыть такой же полоской теста и края защипнуть. Смазать изделие яйцом, сделать сверху отверстия для выхода пара и выпекать при температуре 180-200°С. После выпечки через отверстия в крышке из теста налить расплавленный свиной жир. Паштет охладить, хранить в холодильнике и для подачи порезать ломтиками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p_030712_1"/>
          <p:cNvPicPr/>
          <p:nvPr/>
        </p:nvPicPr>
        <p:blipFill>
          <a:blip r:embed="rId1"/>
          <a:stretch/>
        </p:blipFill>
        <p:spPr>
          <a:xfrm>
            <a:off x="5219640" y="2781360"/>
            <a:ext cx="3465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А СТЕРЛЯЖЬЯ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0920" y="907560"/>
            <a:ext cx="496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 г воды для бульона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г стерляди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сливочное — по вкусу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рковь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ька лимона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черный горошком — по вкусу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ь — по вкус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лядь очистить, выпотрошить и промыть. Соскоблить ножом с кожи слизь, протереть рыбу салфеткой, ошпарить кипятком и через 20-30 секунд промыть холодной водой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стрюлю с ухой положить куски стерляди, перец горошком и варить 10-15 минут. Образующуюся пену удалять, оставляя блестки жира. Если жира на поверхности ухи мало, нужно измельченную на терке морковь спассеровать на масле и влить несколько капель этого масла в уху. Из готовой стерляди удалить хрящи. В тарелку положить кусок стерляди, налить уху, отдельно подать ломтик лимона и мелко нарезанную зелень петрушки или укропа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Documents and Settings\Admin\Рабочий стол\урок на конкурс\онегин\onegin_6.jpg"/>
          <p:cNvPicPr/>
          <p:nvPr/>
        </p:nvPicPr>
        <p:blipFill>
          <a:blip r:embed="rId1"/>
          <a:stretch/>
        </p:blipFill>
        <p:spPr>
          <a:xfrm>
            <a:off x="5435640" y="1125360"/>
            <a:ext cx="318456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ЛЕТЫ «ОНЕГИНСКИЕ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23640" y="907560"/>
            <a:ext cx="467964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г мяс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стакана вин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стакана бульон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г муки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о нарезать так, чтобы при каждой котлете была косточка, выбить, посолить, посыпать перцем, обвалять в муке, поджарить в масле с обеих сторон. Затем — положить в кастрюльку, влить 1/2 стакана вина и 1/2 стакана бульона, тушить до мягкости. Перед тем как подать, опустить туда несколько ломтиков лимона без зере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Documents and Settings\Admin\Рабочий стол\урок на конкурс\онегин\onegin_7.jpg"/>
          <p:cNvPicPr/>
          <p:nvPr/>
        </p:nvPicPr>
        <p:blipFill>
          <a:blip r:embed="rId1"/>
          <a:stretch/>
        </p:blipFill>
        <p:spPr>
          <a:xfrm>
            <a:off x="4859280" y="981000"/>
            <a:ext cx="37450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ФШТЕК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0920" y="981000"/>
            <a:ext cx="4752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ядина (вырезка) - 160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сливочное - 10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ной сок - 50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н (корень) - 15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нир - 150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толщенной части филейной вырезки (головка) нарезать порционные куски толщиной 20-30 мм и слегка отбить до толщины 15-20 мм, придавая им овальную или круглую форму. Перед жаркой мясо посыпать перцем и солью; жарить бифштекс в небольшом сотейнике или порционной сковороде на сливочном масле или маргарине в течение 7-15 мин. При подаче бифштекс положить на тарелку или блюдо, полить маслом и мясным соком. Гарнировать жареным картофелем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ны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н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3" descr="C:\Users\ALEX\Desktop\картинки с призентации\image28.jpg"/>
          <p:cNvPicPr/>
          <p:nvPr/>
        </p:nvPicPr>
        <p:blipFill>
          <a:blip r:embed="rId1"/>
          <a:stretch/>
        </p:blipFill>
        <p:spPr>
          <a:xfrm>
            <a:off x="5435640" y="1484280"/>
            <a:ext cx="3168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ЮФЕЛИ ПОД СОУСОМ С МАДЕРО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341000"/>
            <a:ext cx="43308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юфели - 6 ш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пи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дера- 1 стака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ульо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6 трюфелей, сложить в кастрюлю, покрыть тонкими ломтиками свежего шпика, залить бульонным жиром, сваренным без кореньев, влить 1 стакан мадера, варить на слабом огне 30 мин. Переложить трюфели в другую кастрюлю, процедить жир из соуса на трюфел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ь отдельно сливочное масло. Блюдо готовится на 6 персо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2" descr="C:\Users\ALEX\Desktop\картинки с призентации\1202124309_28028.jpg"/>
          <p:cNvPicPr/>
          <p:nvPr/>
        </p:nvPicPr>
        <p:blipFill>
          <a:blip r:embed="rId1"/>
          <a:stretch/>
        </p:blipFill>
        <p:spPr>
          <a:xfrm>
            <a:off x="5148360" y="1557360"/>
            <a:ext cx="3456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РТ ИЗ АНАНАСА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ЛУБНИКОЙ И ЛИЧИ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052280"/>
            <a:ext cx="44020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нанас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г клубники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г плодов личи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. л. светлого ром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. л. сахарной пудры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нас разрезать по диагонали, вырезать мякоть, крупно порубить. Клубнику промыть, удалить плодоножку. Личи очистить от кожуры, удалить косточки. Мякоть ананаса, клубнику и личи выложить в миску. Сахарную пудру растворить в роме и этим сиропом залить фрукты. Настоять 20 мин. Вынуть и уложить внутрь чаши ананас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C:\Documents and Settings\Admin\Рабочий стол\урок на конкурс\онегин\ананас.jpg"/>
          <p:cNvPicPr/>
          <p:nvPr/>
        </p:nvPicPr>
        <p:blipFill>
          <a:blip r:embed="rId1"/>
          <a:stretch/>
        </p:blipFill>
        <p:spPr>
          <a:xfrm>
            <a:off x="5076720" y="1413000"/>
            <a:ext cx="3567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НЫ РУССКИЕ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50920" y="692280"/>
            <a:ext cx="475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г муки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йц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г дрожжей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. л. сахарного песк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. л. сливочного масл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акана молок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. л. растительного масл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ть дрожжи, добавив 1 чайную ложку сахара, в небольшом количестве подогретого молока и дать постоять. Отделить яичные желтки от белков. Смешать желтки, оставшиеся молоко, сахар, соль и добавить при постоянном помешивании растительное и сливочное масло. Затем влить растворенные дрожж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шать и поставить в теплое место. Дать тесту подойти (объем теста должен увеличиться в 2 раза)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бить белки в пышную пену и непосредственно перед выпеканием добавить в тесто. Хорошо разогреть сковороду и испечь блины до образования румяной корочки. На один блин нужно примерно 75 г теста. Перед подачей на стол горячие блины смазать сливочным маслом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C:\Documents and Settings\Admin\Рабочий стол\tnkcI7HHcI.jpg"/>
          <p:cNvPicPr/>
          <p:nvPr/>
        </p:nvPicPr>
        <p:blipFill>
          <a:blip r:embed="rId1"/>
          <a:stretch/>
        </p:blipFill>
        <p:spPr>
          <a:xfrm>
            <a:off x="5076720" y="1413000"/>
            <a:ext cx="36720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6:53:56Z</dcterms:created>
  <dc:creator>Admin</dc:creator>
  <dc:description/>
  <dc:language>en-US</dc:language>
  <cp:lastModifiedBy>Admin</cp:lastModifiedBy>
  <dcterms:modified xsi:type="dcterms:W3CDTF">2013-02-14T04:20:26Z</dcterms:modified>
  <cp:revision>24</cp:revision>
  <dc:subject/>
  <dc:title>Слайд 1</dc:title>
</cp:coreProperties>
</file>