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BCF-31BE-4AA7-90CE-76CD7488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EAE-0828-4CDA-BFCA-A3DADC40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C19-9B7A-41C0-9927-71F20C7B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E72-40C2-49F4-B385-268B7D2E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5224-B539-4AEC-AAC5-B2824267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970-4D7D-4F2F-AAEB-608EB926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733-AC22-4CB0-B006-285636C4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220-3198-4F2C-9AAE-CEED9214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02E-A41D-451C-ACBA-8CD16694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70F-B1DC-4A2A-B2E6-39298B66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71AC-346D-4741-A093-9D631FA6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E0D-AFA1-418E-A1A5-463D780D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889D-4278-45BD-A703-9724952920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77920" y="3001680"/>
            <a:ext cx="8713800" cy="1191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ff"/>
                </a:solidFill>
                <a:latin typeface="Arial"/>
              </a:rPr>
              <a:t>Отделение присмот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ff"/>
                </a:solidFill>
                <a:latin typeface="Arial"/>
              </a:rPr>
              <a:t>за детьми дошкольного возраста из сем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ffff"/>
                </a:solidFill>
                <a:latin typeface="Arial"/>
              </a:rPr>
              <a:t>находящихся в трудной жизнен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359000" y="302400"/>
            <a:ext cx="6551640" cy="7333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итет по социальным вопрос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 «Всеволожский муниципальный район» 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КУСО «Социально-реабилитационный центр для несовершеннолетни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364000" y="4377600"/>
            <a:ext cx="298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e5"/>
                </a:solidFill>
                <a:latin typeface="Arial"/>
              </a:rPr>
              <a:t>Автор презентаци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e5"/>
                </a:solidFill>
                <a:latin typeface="Arial"/>
              </a:rPr>
              <a:t>Е.П. Терешкович - заведующая отделением Присмотр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419640" y="6145560"/>
            <a:ext cx="2016000" cy="520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Всеволож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3348000" y="1282680"/>
            <a:ext cx="201600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333440" y="99720"/>
            <a:ext cx="65516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здание отделения Присмо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3924360" y="1097280"/>
            <a:ext cx="4753080" cy="1618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 января 2012 года  согласно Постановлению Главы администрации МО «Всеволожский муниципальный район Ленинградской области»  на базе МКУСО «Социально-реабилитационного центра для несовершеннолетних»  было создано Отделение  присмотра за детьми дошкольного возраста из семей, находящихся в трудной жизненной ситуаци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24000" y="3301200"/>
            <a:ext cx="4103640" cy="3360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цель отделения Присмотра –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это  поддержка материнства и детства, развитие новых форм социальных услуг для семей, находящихся в трудной жизненной ситуации, проживающих на территории Всеволожского райо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адачи отделения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обеспечение присмотра за детьми дошкольного возраста из семей, находящихся в трудной жизненной ситуации, в семейных группах  присмотра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 предоставления возможности трудоустройства  многодетным родителям и родителям детей с ограниченными возможностями без отрыва от процесса воспитания дет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9" descr="\\tsclient\USB1\P9110002.JPG"/>
          <p:cNvPicPr/>
          <p:nvPr/>
        </p:nvPicPr>
        <p:blipFill>
          <a:blip r:embed="rId1"/>
          <a:stretch/>
        </p:blipFill>
        <p:spPr>
          <a:xfrm>
            <a:off x="684360" y="806400"/>
            <a:ext cx="29336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0" descr="\\tsclient\USB1\SDC12133.JPG"/>
          <p:cNvPicPr/>
          <p:nvPr/>
        </p:nvPicPr>
        <p:blipFill>
          <a:blip r:embed="rId2"/>
          <a:stretch/>
        </p:blipFill>
        <p:spPr>
          <a:xfrm>
            <a:off x="4788000" y="3429000"/>
            <a:ext cx="3671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147160" cy="1656000"/>
          </a:xfrm>
          <a:prstGeom prst="rect">
            <a:avLst/>
          </a:prstGeom>
          <a:solidFill>
            <a:srgbClr val="cae2f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ртале 2012 года специалистами отделения проводилась активная работа по информированию населения Всеволожского района о новой социальной услуге Центра: были разработаны рекламные буклеты, организовано взаимодействие с различными социальными структурами района: Центром занятости, Домами культуры, школами, администрациями поселений, средствами массовой информации, с целью выявления семей, нуждающихся в данной социальной услу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56000" y="2133720"/>
            <a:ext cx="606888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УСО «Социально-реабилитационный центр для несовершеннолетних» предлагает  новую  социальную услугу  - организация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ейных групп присмотра за детьми дошкольного возраста из семей, находящихся в трудной жизненной ситуаци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ледующих категорий гражда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ногодетных родители , у которых  есть двое и более детей в возрасте от 1,5 до 7 л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дители детей с ограниченными возможностями (в возрасте от 1,5 до 7 л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 официально НЕ работаете,  дети НЕ посещают детский сад, а ваша семья находится в трудной жизненной ситуации, вы можете быть оформлены на работу в наш Центр воспитателем семейной группы присмотра . Оформление производится по трудовой книжке, вы получаете возможность  получать заработную плату, как воспитатель собственного ребенка/детей, а также ежемесячную компенсацию на питание ребёнка/детей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и по телефону: 8(813-70)21 – 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2017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333440" y="327600"/>
            <a:ext cx="6551640" cy="368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здание семейных групп Присмот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2090880" y="1086480"/>
            <a:ext cx="47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течение 2012 года на базе отделения  было создано 56 семейных групп Присмот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которых воспитывалось 108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E:\profiles\Kulichkina\Рабочий стол\фото игрушки\Артёменко СГП.JPG"/>
          <p:cNvPicPr/>
          <p:nvPr/>
        </p:nvPicPr>
        <p:blipFill>
          <a:blip r:embed="rId1"/>
          <a:stretch/>
        </p:blipFill>
        <p:spPr>
          <a:xfrm>
            <a:off x="1979640" y="2205000"/>
            <a:ext cx="5051520" cy="3527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6021360"/>
            <a:ext cx="77515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Группа присмотра семьи Артёмен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266840" y="118440"/>
            <a:ext cx="65516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41760" y="967680"/>
            <a:ext cx="39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Родители и дети нашего отделения в течение года принимали участие в работе  клуба молодой семьи «Счастливая семья» и клуба для родителей детей с ограниченными возможностями «Мы вмест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\\tsclient\USB1\Изображение 010.jpg"/>
          <p:cNvPicPr/>
          <p:nvPr/>
        </p:nvPicPr>
        <p:blipFill>
          <a:blip r:embed="rId1"/>
          <a:stretch/>
        </p:blipFill>
        <p:spPr>
          <a:xfrm>
            <a:off x="395280" y="907920"/>
            <a:ext cx="3240000" cy="2305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\\tsclient\USB1\Изображение 009.jpg"/>
          <p:cNvPicPr/>
          <p:nvPr/>
        </p:nvPicPr>
        <p:blipFill>
          <a:blip r:embed="rId2"/>
          <a:stretch/>
        </p:blipFill>
        <p:spPr>
          <a:xfrm>
            <a:off x="395280" y="3645000"/>
            <a:ext cx="3402000" cy="2552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\\tsclient\USB1\Изображение 002.jpg"/>
          <p:cNvPicPr/>
          <p:nvPr/>
        </p:nvPicPr>
        <p:blipFill>
          <a:blip r:embed="rId3"/>
          <a:stretch/>
        </p:blipFill>
        <p:spPr>
          <a:xfrm>
            <a:off x="4932360" y="2952720"/>
            <a:ext cx="3143160" cy="2357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30400" y="5710320"/>
            <a:ext cx="3544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к «Её величество – Семья», посвящённый Дню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333440" y="190800"/>
            <a:ext cx="65516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55640" y="17049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ш первый 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6" descr="\\tsclient\USB1\Новая папка\20121224_105851.jpg"/>
          <p:cNvPicPr/>
          <p:nvPr/>
        </p:nvPicPr>
        <p:blipFill>
          <a:blip r:embed="rId1"/>
          <a:stretch/>
        </p:blipFill>
        <p:spPr>
          <a:xfrm>
            <a:off x="468360" y="2492280"/>
            <a:ext cx="3743280" cy="3313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7" descr="\\tsclient\USB1\Новая папка\20121220_131810.jpg"/>
          <p:cNvPicPr/>
          <p:nvPr/>
        </p:nvPicPr>
        <p:blipFill>
          <a:blip r:embed="rId2"/>
          <a:stretch/>
        </p:blipFill>
        <p:spPr>
          <a:xfrm>
            <a:off x="4932360" y="1268280"/>
            <a:ext cx="3371760" cy="2529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\\tsclient\USB1\Новая папка\20121220_131047.jpg"/>
          <p:cNvPicPr/>
          <p:nvPr/>
        </p:nvPicPr>
        <p:blipFill>
          <a:blip r:embed="rId3"/>
          <a:stretch/>
        </p:blipFill>
        <p:spPr>
          <a:xfrm>
            <a:off x="4935600" y="39625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308240" y="190800"/>
            <a:ext cx="65516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411280" y="112716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рганизация дистанционных услуг  специалистов Цен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87280" y="2060640"/>
            <a:ext cx="5761080" cy="3456000"/>
          </a:xfrm>
          <a:prstGeom prst="rect">
            <a:avLst/>
          </a:prstGeom>
          <a:solidFill>
            <a:srgbClr val="cae2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лайн-консульта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ля  воспитателей семейных групп присмотра оказывают специалисты Центр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дагог-психолог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юрист-консульт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ршая медицинская сестр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заведующая отделением для детей с ограниченными возможностям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ц. педагог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учитель-логопед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ефектолог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заведующая отделением Присмо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http://im8-tub-ru.yandex.net/i?id=166953360-43-72&amp;n=21"/>
          <p:cNvPicPr/>
          <p:nvPr/>
        </p:nvPicPr>
        <p:blipFill>
          <a:blip r:embed="rId1"/>
          <a:stretch/>
        </p:blipFill>
        <p:spPr>
          <a:xfrm>
            <a:off x="395280" y="2997360"/>
            <a:ext cx="2289240" cy="17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8:54:36Z</dcterms:created>
  <dc:creator>Ru</dc:creator>
  <dc:description/>
  <dc:language>en-US</dc:language>
  <cp:lastModifiedBy>Kulichkina</cp:lastModifiedBy>
  <dcterms:modified xsi:type="dcterms:W3CDTF">2013-02-14T10:02:55Z</dcterms:modified>
  <cp:revision>71</cp:revision>
  <dc:subject/>
  <dc:title>Слайд 1</dc:title>
</cp:coreProperties>
</file>