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F8D-3A7D-4476-9C75-6CBCB4FC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BF4-5642-46FF-BE5E-B33E9D45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45D-BA68-4795-BA3E-5CE2485F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7F9-469E-4CD1-92C6-6F344724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065-4225-43C7-9BE0-2A8589BD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AB4-5C7C-4C4E-A838-24A2E24F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546-27B0-44FF-B803-F3D799FD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E6B-3E71-44C3-A5ED-B8879FAB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916-5DE3-4F3E-ABD1-3BF7B350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1F8-6C4E-4CAD-B229-7E44A93F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D0C-88B3-46A7-B896-477BAB71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3DD-B506-4E9C-9059-EFE1CD74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8B1A-EAF2-4A39-8AEC-A8E3CD7FE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308240" y="19080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411280" y="112716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рганизация дистанционных услуг  специалистов Цен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87280" y="2060640"/>
            <a:ext cx="5761080" cy="3456000"/>
          </a:xfrm>
          <a:prstGeom prst="rect">
            <a:avLst/>
          </a:prstGeom>
          <a:solidFill>
            <a:srgbClr val="cae2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лайн-консульт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я  воспитателей семейных групп присмотра оказывают специалисты Центр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дагог-психол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юрист-консульт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ршая медицинская сестр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ведующая отделением для детей с ограниченными возможностям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ц. педаг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учитель-логопед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ефектол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ведующая отделением Присмо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im8-tub-ru.yandex.net/i?id=166953360-43-72&amp;n=21"/>
          <p:cNvPicPr/>
          <p:nvPr/>
        </p:nvPicPr>
        <p:blipFill>
          <a:blip r:embed="rId1"/>
          <a:stretch/>
        </p:blipFill>
        <p:spPr>
          <a:xfrm>
            <a:off x="395280" y="2997360"/>
            <a:ext cx="2289240" cy="17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33440" y="40644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403280" y="130284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крытие Игротеки на базе отделения Присмо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4608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т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развивающее  пространство, место для проведения  развивающих занятий, игр, программ реабилитаци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В помещении выделяются специальные игровые зоны, оснащенные материалами для детей разного дошкольного возраста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1" descr="http://dhshnr.ucoz.ru/_ph/2/932848319.jpg"/>
          <p:cNvPicPr/>
          <p:nvPr/>
        </p:nvPicPr>
        <p:blipFill>
          <a:blip r:embed="rId1"/>
          <a:stretch/>
        </p:blipFill>
        <p:spPr>
          <a:xfrm>
            <a:off x="4859280" y="2276640"/>
            <a:ext cx="3889440" cy="3384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http://im6-tub-ru.yandex.net/i?id=108310775-18-72&amp;n=21"/>
          <p:cNvPicPr/>
          <p:nvPr/>
        </p:nvPicPr>
        <p:blipFill>
          <a:blip r:embed="rId2"/>
          <a:stretch/>
        </p:blipFill>
        <p:spPr>
          <a:xfrm>
            <a:off x="900000" y="364500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66840" y="11844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833640" y="128448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Фотоконкурс «Семейный альб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30400" y="5710320"/>
            <a:ext cx="3544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 конкурса – семейная группа присмотра  Благодыр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0" descr="E:\profiles\Kulichkina\Рабочий стол\фото игрушки\София укладывает кота спать!.jpg"/>
          <p:cNvPicPr/>
          <p:nvPr/>
        </p:nvPicPr>
        <p:blipFill>
          <a:blip r:embed="rId1"/>
          <a:stretch/>
        </p:blipFill>
        <p:spPr>
          <a:xfrm>
            <a:off x="351000" y="1052640"/>
            <a:ext cx="2533320" cy="4511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E:\profiles\Kulichkina\Рабочий стол\фото игрушки\София и Диана двеинопланетянки!.jpg"/>
          <p:cNvPicPr/>
          <p:nvPr/>
        </p:nvPicPr>
        <p:blipFill>
          <a:blip r:embed="rId2"/>
          <a:stretch/>
        </p:blipFill>
        <p:spPr>
          <a:xfrm>
            <a:off x="5796000" y="2160720"/>
            <a:ext cx="2897280" cy="3430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E:\profiles\Kulichkina\Рабочий стол\фото игрушки\Диана и торт.jpg"/>
          <p:cNvPicPr/>
          <p:nvPr/>
        </p:nvPicPr>
        <p:blipFill>
          <a:blip r:embed="rId3"/>
          <a:stretch/>
        </p:blipFill>
        <p:spPr>
          <a:xfrm>
            <a:off x="3276720" y="2160720"/>
            <a:ext cx="220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33440" y="479520"/>
            <a:ext cx="655164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059280" y="177300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тодическое сопровождение воспитателей семейных групп присмо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5688000" cy="3384720"/>
          </a:xfrm>
          <a:prstGeom prst="rect">
            <a:avLst/>
          </a:prstGeom>
          <a:solidFill>
            <a:srgbClr val="cae2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методической помощи воспитателям СГ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казания им содействия в составлении и реализации на практике индивидуальных программ по воспитанию и социальной реабилитации воспитанников, в настоящее время разрабатываются методические материалы и пособия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ы д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детей дошкольного возраста;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и   развит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дошкольного возраста по разным возрастным категориям (н-р: тесты «Что должен знать Ваш ребёнок»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двигательных навыков, навыков самообслуживания,  навыков взаимодействия с людьми, творческих способностей,  речи, мышления, тонкой моторики;  игры, поощряющие исследование и экспериментирование и т. д.;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римерные программы по воспитанию и социальной реабилитац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ов СГП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http://im2-tub-ru.yandex.net/i?id=427361640-09-72&amp;n=21"/>
          <p:cNvPicPr/>
          <p:nvPr/>
        </p:nvPicPr>
        <p:blipFill>
          <a:blip r:embed="rId1"/>
          <a:stretch/>
        </p:blipFill>
        <p:spPr>
          <a:xfrm>
            <a:off x="6227640" y="3213000"/>
            <a:ext cx="2602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мамы-воспитатели не только осуществляют присмотр за своими детьми, но и проводят с ними  развивающие занятия.</a:t>
            </a:r>
            <a:br>
              <a:rPr sz="20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ГП (семейная группа присмотра) Артём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E:\profiles\Kulichkina\Рабочий стол\фото игрушки\спорт Артёменко.JPG"/>
          <p:cNvPicPr/>
          <p:nvPr/>
        </p:nvPicPr>
        <p:blipFill>
          <a:blip r:embed="rId1"/>
          <a:stretch/>
        </p:blipFill>
        <p:spPr>
          <a:xfrm>
            <a:off x="826920" y="1557360"/>
            <a:ext cx="3571920" cy="2509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E:\profiles\Kulichkina\Рабочий стол\фото игрушки\Путешествия Артёменко.JPG1.JPG"/>
          <p:cNvPicPr/>
          <p:nvPr/>
        </p:nvPicPr>
        <p:blipFill>
          <a:blip r:embed="rId2"/>
          <a:stretch/>
        </p:blipFill>
        <p:spPr>
          <a:xfrm>
            <a:off x="4932360" y="1663560"/>
            <a:ext cx="3427560" cy="2403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E:\profiles\Kulichkina\Рабочий стол\фото игрушки\с кроликом 1.JPG"/>
          <p:cNvPicPr/>
          <p:nvPr/>
        </p:nvPicPr>
        <p:blipFill>
          <a:blip r:embed="rId3"/>
          <a:stretch/>
        </p:blipFill>
        <p:spPr>
          <a:xfrm>
            <a:off x="824040" y="422100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E:\profiles\Kulichkina\Рабочий стол\фото игрушки\раз занятие.JPG"/>
          <p:cNvPicPr/>
          <p:nvPr/>
        </p:nvPicPr>
        <p:blipFill>
          <a:blip r:embed="rId4"/>
          <a:stretch/>
        </p:blipFill>
        <p:spPr>
          <a:xfrm>
            <a:off x="4932360" y="42210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959ff"/>
                </a:solidFill>
                <a:latin typeface="Times New Roman"/>
                <a:ea typeface="Times New Roman"/>
              </a:rPr>
              <a:t>Семейная группа присмотра  Суюновых.</a:t>
            </a:r>
            <a:br>
              <a:rPr sz="2000"/>
            </a:br>
            <a:r>
              <a:rPr b="1" i="1" lang="ru-RU" sz="2000" spc="-1" strike="noStrike">
                <a:solidFill>
                  <a:srgbClr val="5959ff"/>
                </a:solidFill>
                <a:latin typeface="Times New Roman"/>
                <a:ea typeface="Times New Roman"/>
              </a:rPr>
              <a:t> Лада Дмитриевна – замечательная мама и воспита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E:\profiles\Kulichkina\Рабочий стол\фото игрушки\развивающие уроки для детей Суюновы.JPG"/>
          <p:cNvPicPr/>
          <p:nvPr/>
        </p:nvPicPr>
        <p:blipFill>
          <a:blip r:embed="rId1"/>
          <a:stretch/>
        </p:blipFill>
        <p:spPr>
          <a:xfrm>
            <a:off x="4890960" y="4278240"/>
            <a:ext cx="3529080" cy="2227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E:\profiles\Kulichkina\Рабочий стол\фото игрушки\наш уютный дом2.jpg"/>
          <p:cNvPicPr/>
          <p:nvPr/>
        </p:nvPicPr>
        <p:blipFill>
          <a:blip r:embed="rId2"/>
          <a:stretch/>
        </p:blipFill>
        <p:spPr>
          <a:xfrm>
            <a:off x="831960" y="1652760"/>
            <a:ext cx="3387600" cy="22287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E:\profiles\Kulichkina\Рабочий стол\фото игрушки\св.тема - Ну и где тут бабушка.jpg"/>
          <p:cNvPicPr/>
          <p:nvPr/>
        </p:nvPicPr>
        <p:blipFill>
          <a:blip r:embed="rId3"/>
          <a:stretch/>
        </p:blipFill>
        <p:spPr>
          <a:xfrm>
            <a:off x="1042920" y="425592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E:\profiles\Kulichkina\Рабочий стол\фото игрушки\наш уютный дом7.jpg"/>
          <p:cNvPicPr/>
          <p:nvPr/>
        </p:nvPicPr>
        <p:blipFill>
          <a:blip r:embed="rId4"/>
          <a:stretch/>
        </p:blipFill>
        <p:spPr>
          <a:xfrm>
            <a:off x="5043600" y="1652760"/>
            <a:ext cx="3224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333440" y="115200"/>
            <a:ext cx="655164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тоги работы отделения Присмотра в 2012 г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49440" y="993600"/>
            <a:ext cx="8064360" cy="265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Новая форма социальных услуг – семейные группы присмотра за детьми дошкольного возраста из семей, находящихся в трудной жизненной ситуации, оказалась  востребована во Всеволожском рай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оздание отделения Присмотра на базе Центра позволило частично снять напряжённость с ситуацией нехватки мест в дошкольных образовательных учрежд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В результате проведённой работы наблюдается Увеличение охвата социальными услугами семей, находящихся в трудной жизненной ситуации (многодетные семьи и семьи с детьми-инвалидами, в том числе  дети в возрасте от 1,5 до 3-х л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Существует необходимость в  научно-методического сопровождении работы Отделения Присмотра, его модернизации, развитии новых форм социальных услуг на базе от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3149640" y="3908520"/>
            <a:ext cx="3063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8:54:36Z</dcterms:created>
  <dc:creator>Ru</dc:creator>
  <dc:description/>
  <dc:language>en-US</dc:language>
  <cp:lastModifiedBy>Kulichkina</cp:lastModifiedBy>
  <dcterms:modified xsi:type="dcterms:W3CDTF">2013-02-14T10:02:08Z</dcterms:modified>
  <cp:revision>71</cp:revision>
  <dc:subject/>
  <dc:title>Слайд 1</dc:title>
</cp:coreProperties>
</file>