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D56-A7F9-456E-8E68-BFB7D1B6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DD6-35BB-4F36-AFBD-62E10950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B42-F44C-4F91-B92C-F63FBBD0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A1B-61D9-4773-B14E-999B6A8C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1297-EEDA-49E2-963F-D6D1F749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9018-45FC-4832-B704-F3AEC854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D8A-F0D5-40F4-A709-2629E7C4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C4A0-BBD6-421D-896B-4B6DCB39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DD9-658E-4773-B39E-07768DBC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0AF-D28D-4E97-BD3E-5DB2B38C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7C2-EB5F-4333-ADA6-A86766F6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C23-FF82-4631-8E0C-DE8BE941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20D3-BA98-4FD4-9B58-2E2344FE12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308240" y="190800"/>
            <a:ext cx="65516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иболее значимые мо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ятельности отделения При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411280" y="1127160"/>
            <a:ext cx="42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рганизация дистанционных услуг  специалистов Цент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87280" y="2060640"/>
            <a:ext cx="5761080" cy="3456000"/>
          </a:xfrm>
          <a:prstGeom prst="rect">
            <a:avLst/>
          </a:prstGeom>
          <a:solidFill>
            <a:srgbClr val="cae2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лайн-консульта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ля  воспитателей семейных групп присмотра оказывают специалисты Центра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едагог-психолог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юрист-консульт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аршая медицинская сестр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заведующая отделением для детей с ограниченными возможностям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ц. педагог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 учитель-логопед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ефектолог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заведующая отделением Присмо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http://im8-tub-ru.yandex.net/i?id=166953360-43-72&amp;n=21"/>
          <p:cNvPicPr/>
          <p:nvPr/>
        </p:nvPicPr>
        <p:blipFill>
          <a:blip r:embed="rId1"/>
          <a:stretch/>
        </p:blipFill>
        <p:spPr>
          <a:xfrm>
            <a:off x="395280" y="2997360"/>
            <a:ext cx="2289240" cy="17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333440" y="406440"/>
            <a:ext cx="65516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иболее значимые мо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ятельности отделения При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403280" y="130284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ткрытие Игротеки на базе отделения Присмо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1916280"/>
            <a:ext cx="46083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гроте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развивающее  пространство, место для проведения  развивающих занятий, игр, программ реабилитаци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В помещении выделяются специальные игровые зоны, оснащенные материалами для детей разного дошкольного возраста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1" descr="http://dhshnr.ucoz.ru/_ph/2/932848319.jpg"/>
          <p:cNvPicPr/>
          <p:nvPr/>
        </p:nvPicPr>
        <p:blipFill>
          <a:blip r:embed="rId1"/>
          <a:stretch/>
        </p:blipFill>
        <p:spPr>
          <a:xfrm>
            <a:off x="4859280" y="2276640"/>
            <a:ext cx="3889440" cy="33843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2" descr="http://im6-tub-ru.yandex.net/i?id=108310775-18-72&amp;n=21"/>
          <p:cNvPicPr/>
          <p:nvPr/>
        </p:nvPicPr>
        <p:blipFill>
          <a:blip r:embed="rId2"/>
          <a:stretch/>
        </p:blipFill>
        <p:spPr>
          <a:xfrm>
            <a:off x="900000" y="3645000"/>
            <a:ext cx="3311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266840" y="118440"/>
            <a:ext cx="655164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иболее значимые мо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ятельности отделения При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833640" y="128448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Фотоконкурс «Семейный альбо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30400" y="5710320"/>
            <a:ext cx="35449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стники  конкурса – семейная группа присмотра  Благодырен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216000" y="158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0" descr="E:\profiles\Kulichkina\Рабочий стол\фото игрушки\София укладывает кота спать!.jpg"/>
          <p:cNvPicPr/>
          <p:nvPr/>
        </p:nvPicPr>
        <p:blipFill>
          <a:blip r:embed="rId1"/>
          <a:stretch/>
        </p:blipFill>
        <p:spPr>
          <a:xfrm>
            <a:off x="351000" y="1052640"/>
            <a:ext cx="2533320" cy="4511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1" descr="E:\profiles\Kulichkina\Рабочий стол\фото игрушки\София и Диана двеинопланетянки!.jpg"/>
          <p:cNvPicPr/>
          <p:nvPr/>
        </p:nvPicPr>
        <p:blipFill>
          <a:blip r:embed="rId2"/>
          <a:stretch/>
        </p:blipFill>
        <p:spPr>
          <a:xfrm>
            <a:off x="5796000" y="2160720"/>
            <a:ext cx="2897280" cy="3430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2" descr="E:\profiles\Kulichkina\Рабочий стол\фото игрушки\Диана и торт.jpg"/>
          <p:cNvPicPr/>
          <p:nvPr/>
        </p:nvPicPr>
        <p:blipFill>
          <a:blip r:embed="rId3"/>
          <a:stretch/>
        </p:blipFill>
        <p:spPr>
          <a:xfrm>
            <a:off x="3276720" y="2160720"/>
            <a:ext cx="220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333440" y="479520"/>
            <a:ext cx="655164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иболее значимые мо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ятельности отделения При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059280" y="1773000"/>
            <a:ext cx="35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Методическое сопровождение воспитателей семейных групп присмо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708280"/>
            <a:ext cx="5688000" cy="3384720"/>
          </a:xfrm>
          <a:prstGeom prst="rect">
            <a:avLst/>
          </a:prstGeom>
          <a:solidFill>
            <a:srgbClr val="cae2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ля методической помощи воспитателям СГП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казания им содействия в составлении и реализации на практике индивидуальных программ по воспитанию и социальной реабилитации воспитанников, в настоящее время разрабатываются методические материалы и пособия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ы дн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детей дошкольного возраста;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и   развит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дошкольного возраста по разным возрастным категориям (н-р: тесты «Что должен знать Ваш ребёнок»)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вития двигательных навыков, навыков самообслуживания,  навыков взаимодействия с людьми, творческих способностей,  речи, мышления, тонкой моторики;  игры, поощряющие исследование и экспериментирование и т. д.;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примерные программы по воспитанию и социальной реабилитаци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иков СГП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http://im2-tub-ru.yandex.net/i?id=427361640-09-72&amp;n=21"/>
          <p:cNvPicPr/>
          <p:nvPr/>
        </p:nvPicPr>
        <p:blipFill>
          <a:blip r:embed="rId1"/>
          <a:stretch/>
        </p:blipFill>
        <p:spPr>
          <a:xfrm>
            <a:off x="6227640" y="3213000"/>
            <a:ext cx="26020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мамы-воспитатели не только осуществляют присмотр за своими детьми, но и проводят с ними  развивающие занятия.</a:t>
            </a:r>
            <a:br>
              <a:rPr sz="2000"/>
            </a:br>
            <a:r>
              <a:rPr b="1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ГП (семейная группа присмотра) Артём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E:\profiles\Kulichkina\Рабочий стол\фото игрушки\спорт Артёменко.JPG"/>
          <p:cNvPicPr/>
          <p:nvPr/>
        </p:nvPicPr>
        <p:blipFill>
          <a:blip r:embed="rId1"/>
          <a:stretch/>
        </p:blipFill>
        <p:spPr>
          <a:xfrm>
            <a:off x="826920" y="1557360"/>
            <a:ext cx="3571920" cy="25099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E:\profiles\Kulichkina\Рабочий стол\фото игрушки\Путешествия Артёменко.JPG1.JPG"/>
          <p:cNvPicPr/>
          <p:nvPr/>
        </p:nvPicPr>
        <p:blipFill>
          <a:blip r:embed="rId2"/>
          <a:stretch/>
        </p:blipFill>
        <p:spPr>
          <a:xfrm>
            <a:off x="4932360" y="1663560"/>
            <a:ext cx="3427560" cy="2403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0" descr="E:\profiles\Kulichkina\Рабочий стол\фото игрушки\с кроликом 1.JPG"/>
          <p:cNvPicPr/>
          <p:nvPr/>
        </p:nvPicPr>
        <p:blipFill>
          <a:blip r:embed="rId3"/>
          <a:stretch/>
        </p:blipFill>
        <p:spPr>
          <a:xfrm>
            <a:off x="824040" y="4221000"/>
            <a:ext cx="3571920" cy="23814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1" descr="E:\profiles\Kulichkina\Рабочий стол\фото игрушки\раз занятие.JPG"/>
          <p:cNvPicPr/>
          <p:nvPr/>
        </p:nvPicPr>
        <p:blipFill>
          <a:blip r:embed="rId4"/>
          <a:stretch/>
        </p:blipFill>
        <p:spPr>
          <a:xfrm>
            <a:off x="4932360" y="4221000"/>
            <a:ext cx="3543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959ff"/>
                </a:solidFill>
                <a:latin typeface="Times New Roman"/>
                <a:ea typeface="Times New Roman"/>
              </a:rPr>
              <a:t>Семейная группа присмотра  Суюновых.</a:t>
            </a:r>
            <a:br>
              <a:rPr sz="2000"/>
            </a:br>
            <a:r>
              <a:rPr b="1" i="1" lang="ru-RU" sz="2000" spc="-1" strike="noStrike">
                <a:solidFill>
                  <a:srgbClr val="5959ff"/>
                </a:solidFill>
                <a:latin typeface="Times New Roman"/>
                <a:ea typeface="Times New Roman"/>
              </a:rPr>
              <a:t> Лада Дмитриевна – замечательная мама и воспитате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E:\profiles\Kulichkina\Рабочий стол\фото игрушки\развивающие уроки для детей Суюновы.JPG"/>
          <p:cNvPicPr/>
          <p:nvPr/>
        </p:nvPicPr>
        <p:blipFill>
          <a:blip r:embed="rId1"/>
          <a:stretch/>
        </p:blipFill>
        <p:spPr>
          <a:xfrm>
            <a:off x="4890960" y="4278240"/>
            <a:ext cx="3529080" cy="2227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E:\profiles\Kulichkina\Рабочий стол\фото игрушки\наш уютный дом2.jpg"/>
          <p:cNvPicPr/>
          <p:nvPr/>
        </p:nvPicPr>
        <p:blipFill>
          <a:blip r:embed="rId2"/>
          <a:stretch/>
        </p:blipFill>
        <p:spPr>
          <a:xfrm>
            <a:off x="831960" y="1652760"/>
            <a:ext cx="3387600" cy="22287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E:\profiles\Kulichkina\Рабочий стол\фото игрушки\св.тема - Ну и где тут бабушка.jpg"/>
          <p:cNvPicPr/>
          <p:nvPr/>
        </p:nvPicPr>
        <p:blipFill>
          <a:blip r:embed="rId3"/>
          <a:stretch/>
        </p:blipFill>
        <p:spPr>
          <a:xfrm>
            <a:off x="1042920" y="4255920"/>
            <a:ext cx="3083040" cy="2313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E:\profiles\Kulichkina\Рабочий стол\фото игрушки\наш уютный дом7.jpg"/>
          <p:cNvPicPr/>
          <p:nvPr/>
        </p:nvPicPr>
        <p:blipFill>
          <a:blip r:embed="rId4"/>
          <a:stretch/>
        </p:blipFill>
        <p:spPr>
          <a:xfrm>
            <a:off x="5043600" y="1652760"/>
            <a:ext cx="32241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4681440" y="45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333440" y="115200"/>
            <a:ext cx="6551640" cy="3682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43040"/>
                <a:tab algn="l" pos="1419120"/>
                <a:tab algn="l" pos="5667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тоги работы отделения Присмотра в 2012 г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49440" y="993600"/>
            <a:ext cx="8064360" cy="265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Новая форма социальных услуг – семейные группы присмотра за детьми дошкольного возраста из семей, находящихся в трудной жизненной ситуации, оказалась  востребована во Всеволожском райо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Создание отделения Присмотра на базе Центра позволило частично снять напряжённость с ситуацией нехватки мест в дошкольных образовательных учрежден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В результате проведённой работы наблюдается Увеличение охвата социальными услугами семей, находящихся в трудной жизненной ситуации (многодетные семьи и семьи с детьми-инвалидами, в том числе  дети в возрасте от 1,5 до 3-х ле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Существует необходимость в  научно-методического сопровождении работы Отделения Присмотра, его модернизации, развитии новых форм социальных услуг на базе отде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"/>
          <p:cNvPicPr/>
          <p:nvPr/>
        </p:nvPicPr>
        <p:blipFill>
          <a:blip r:embed="rId1"/>
          <a:stretch/>
        </p:blipFill>
        <p:spPr>
          <a:xfrm>
            <a:off x="3149640" y="3908520"/>
            <a:ext cx="3063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8:54:36Z</dcterms:created>
  <dc:creator>Ru</dc:creator>
  <dc:description/>
  <dc:language>en-US</dc:language>
  <cp:lastModifiedBy>Kulichkina</cp:lastModifiedBy>
  <dcterms:modified xsi:type="dcterms:W3CDTF">2013-02-14T10:02:08Z</dcterms:modified>
  <cp:revision>71</cp:revision>
  <dc:subject/>
  <dc:title>Слайд 1</dc:title>
</cp:coreProperties>
</file>