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97E5-3B24-46BC-98FA-C2FC124FBC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748-7A76-4319-A2AB-9810A09BD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E47-771D-4C3A-9EC9-EBD10550A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5BA9-25B4-46A7-AC4F-D78D54836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DA4-0476-4AA1-AA35-BC2A7EBCA5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A81-C7BB-4EF6-B18E-553C293A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536-1153-45BC-BDE8-475C5D48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895-BFC7-4805-8AB7-E4AFCB85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4320" y="182088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88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4320" y="3954600"/>
            <a:ext cx="250740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EB0-26C8-47CF-9376-420D17C1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08A-BA00-49D4-9ED8-DC6FEC0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9A4-4CCD-43D8-A46E-82373BD2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93A-3B2E-4035-8FA2-99F5F59A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CE52-75A5-4036-9C61-D6F805A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7BF-4AFB-46A7-97A1-FE4E427E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D1B-6D5A-4FE5-8C4A-A1EF7B7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5460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CB2-1813-49F6-9475-CD8869A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88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820880"/>
            <a:ext cx="380052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880" y="3954600"/>
            <a:ext cx="7788240" cy="19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F01-954D-401B-998E-7A9543E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9c3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820880"/>
            <a:ext cx="7788240" cy="4084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D187-0B0D-49D2-AFB3-C1152761B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3240" y="0"/>
            <a:ext cx="30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 ноября    2011 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онный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кутс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628560"/>
                <a:tab algn="l" pos="89532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0920" y="756360"/>
            <a:ext cx="7402320" cy="34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Преемственность начального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и основного общего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 образования в условиях реализации ФГОС</a:t>
            </a:r>
            <a:br>
              <a:rPr sz="3600"/>
            </a:br>
            <a:endParaRPr b="0" lang="en-US" sz="3600" spc="-1" strike="noStrike">
              <a:solidFill>
                <a:srgbClr val="ddd9c3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720" y="5805000"/>
            <a:ext cx="4402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92280" y="568440"/>
            <a:ext cx="7244280" cy="4353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…главная задача начальных классов – это научить ребенка учиться. Научить пользоваться тем инструментом, без которого ему с каждым годом все труднее и труднее овладевать знаниями, без которого он становится неуспевающим и неспособным.  Вот здесь и возникает разрыв между начальными классами и дальнейшими ступенями обучения. В начальных классах мы очень робко и несмело даем в руки ребенку инструмент, без совершенного владения которым невозможно представить его интеллектуальную жизнь, его всестороннее развитие. А потом в средних классах учителя требуют, чтобы инструмент этот в руках ребенка действовал быстро и безотказно. Учитель даже не интересуется, в каком состоянии этот инструмент, забывает, что его постоянно надо налаживать, не видит, что зачастую индивидуальный инструмент в руках ребенка сломался и только поэтому ребенок не может дальше учиться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708360" y="558972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 Сухомлинский, </a:t>
            </a:r>
            <a:br>
              <a:rPr sz="1800"/>
            </a:b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книга «Разговор с молодым директором шк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46120" y="699840"/>
            <a:ext cx="8051760" cy="545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Преемственность предполагает принятие общих для всех ступеней </a:t>
            </a:r>
            <a:r>
              <a:rPr b="1" lang="ru-RU" sz="4000" spc="-1" strike="noStrike">
                <a:solidFill>
                  <a:srgbClr val="ae1a16"/>
                </a:solidFill>
                <a:latin typeface="Cambria"/>
              </a:rPr>
              <a:t>основной идеи, содержания образования, методов, организационных форм обучения и воспитания, методики определения результативности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001"/>
              </a:spcBef>
              <a:buClr>
                <a:srgbClr val="ae1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Скругленный прямоугольник 13"/>
          <p:cNvGrpSpPr/>
          <p:nvPr/>
        </p:nvGrpSpPr>
        <p:grpSpPr>
          <a:xfrm>
            <a:off x="6370560" y="2530440"/>
            <a:ext cx="2286000" cy="1846440"/>
            <a:chOff x="6370560" y="2530440"/>
            <a:chExt cx="2286000" cy="1846440"/>
          </a:xfrm>
        </p:grpSpPr>
        <p:pic>
          <p:nvPicPr>
            <p:cNvPr id="81" name="Скругленный прямоугольник 13" descr=""/>
            <p:cNvPicPr/>
            <p:nvPr/>
          </p:nvPicPr>
          <p:blipFill>
            <a:blip r:embed="rId1"/>
            <a:stretch/>
          </p:blipFill>
          <p:spPr>
            <a:xfrm>
              <a:off x="6370560" y="2530440"/>
              <a:ext cx="228600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518160" y="2649600"/>
              <a:ext cx="200196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12"/>
          <p:cNvGrpSpPr/>
          <p:nvPr/>
        </p:nvGrpSpPr>
        <p:grpSpPr>
          <a:xfrm>
            <a:off x="549360" y="1444680"/>
            <a:ext cx="4724280" cy="4591080"/>
            <a:chOff x="549360" y="1444680"/>
            <a:chExt cx="4724280" cy="4591080"/>
          </a:xfrm>
        </p:grpSpPr>
        <p:pic>
          <p:nvPicPr>
            <p:cNvPr id="84" name="Скругленный 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549360" y="1444680"/>
              <a:ext cx="472428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8720" y="1701720"/>
              <a:ext cx="4173480" cy="40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Приоритетная цель школьного образования: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87680" y="1733400"/>
            <a:ext cx="4614480" cy="48747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развитие у ученика способности самостоятельно ставить учебную задачу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проектировать пути её реализаци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контролировать 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ценивать свои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достиж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24160" y="2796480"/>
            <a:ext cx="1987200" cy="16905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Научи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e1a16"/>
                </a:solidFill>
                <a:latin typeface="Cambria"/>
              </a:rPr>
              <a:t>учитьс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9" name="Стрелка вправо 11" descr=""/>
          <p:cNvPicPr/>
          <p:nvPr/>
        </p:nvPicPr>
        <p:blipFill>
          <a:blip r:embed="rId3"/>
          <a:stretch/>
        </p:blipFill>
        <p:spPr>
          <a:xfrm>
            <a:off x="4883040" y="2786040"/>
            <a:ext cx="1603440" cy="1517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Путь достижения этой цели –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формирование УУД,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обеспечивающих компетенцию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«научить учиться»,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а не только освоение учащимися конкретных предметных знаний и навыков в рамках отдельных дисциплин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29360" y="821160"/>
            <a:ext cx="7685280" cy="50324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Овладение учащимися УУД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e1a16"/>
                </a:solidFill>
                <a:latin typeface="Cambria"/>
              </a:rPr>
              <a:t>создает возможность </a:t>
            </a:r>
            <a:r>
              <a:rPr b="1" lang="ru-RU" sz="3600" spc="-1" strike="noStrike">
                <a:solidFill>
                  <a:srgbClr val="002060"/>
                </a:solidFill>
                <a:latin typeface="Cambria"/>
              </a:rPr>
              <a:t>самостоятельного и успешного усвоения новой учебной компетентности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73200" y="1633680"/>
            <a:ext cx="814392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88880" y="1744560"/>
            <a:ext cx="84916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Arial Unicode MS"/>
              </a:rPr>
              <a:t>ценностные ориентиры содержания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Arial Unicode MS"/>
              </a:rPr>
              <a:t>- характеристики УУД и типовые задачи их форм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  <a:ea typeface="Arial Unicode MS"/>
              </a:rPr>
              <a:t>- преемственность УУД при переходе от начального к  общему 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447840"/>
            <a:ext cx="921384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  <a:ea typeface="Arial Unicode MS"/>
              </a:rPr>
              <a:t>Программа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Arial Unicode MS"/>
              </a:rPr>
              <a:t> формирования У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Cambria"/>
                <a:ea typeface="Arial Unicode MS"/>
              </a:rPr>
              <a:t>включает в себя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919332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73200" y="1633680"/>
            <a:ext cx="814392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23880" y="398520"/>
            <a:ext cx="7980480" cy="57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mbria"/>
                <a:ea typeface="Arial Unicode MS"/>
              </a:rPr>
              <a:t>Преемственность</a:t>
            </a:r>
            <a:r>
              <a:rPr b="0" lang="ru-RU" sz="3300" spc="-1" strike="noStrike">
                <a:solidFill>
                  <a:srgbClr val="c00000"/>
                </a:solidFill>
                <a:latin typeface="Cambria"/>
                <a:ea typeface="Arial Unicode MS"/>
              </a:rPr>
              <a:t> </a:t>
            </a:r>
            <a:r>
              <a:rPr b="1" lang="ru-RU" sz="3300" spc="-1" strike="noStrike">
                <a:solidFill>
                  <a:srgbClr val="002060"/>
                </a:solidFill>
                <a:latin typeface="Cambria"/>
                <a:ea typeface="Arial Unicode MS"/>
              </a:rPr>
              <a:t>при переходе от начального к общему образованию должна осуществляться на уровне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целей и задач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содержания образова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организационных фор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  <a:ea typeface="Arial Unicode MS"/>
              </a:rPr>
              <a:t>- планируем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УД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560" y="1188000"/>
            <a:ext cx="3830760" cy="47311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широком значении термин «универсальные учебные действия» означает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умение учитьс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75440" y="1143000"/>
            <a:ext cx="4353480" cy="4747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и более узком (психологическом) значении этот термин можно определить как </a:t>
            </a: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совокупность способов действия учащегося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ФГОС предусматривает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формирование основ учебной деятельности ребёнка 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413000"/>
          <a:ext cx="8569080" cy="523404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беспечить познавательную мотивацию и интересы учащихся, их готовность и способность к сотрудничеству и совместной деятельности учения с учителем и одноклассниками, сформировать основы нравственного поведения, определяющего отношения личности с обществом и окружающими людь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беспечивать личностное самоопределение учащихся:  формирование нравственной, мировоззренческой и гражданской позиции, профессиональный выбор, выявление творческих способностей учащихся, развитие способностей самостоятельного решения проблем в различных видах и сферах деятель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ФГОС НОО и ФГОС ООО - 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преемственность и развитие</a:t>
            </a:r>
            <a:endParaRPr b="0" lang="en-US" sz="24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765000"/>
          <a:ext cx="8713800" cy="5815080"/>
        </p:xfrm>
        <a:graphic>
          <a:graphicData uri="http://schemas.openxmlformats.org/drawingml/2006/table">
            <a:tbl>
              <a:tblPr/>
              <a:tblGrid>
                <a:gridCol w="4066920"/>
                <a:gridCol w="4646880"/>
              </a:tblGrid>
              <a:tr h="9450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Метапредметные результа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1240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своенные обучающимися универсальные учебные действия (познавательные, регулятивные и коммуникативные), обеспечивающи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владение ключевыми компетенциями, составляющими основу умения учиться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 межпредметными понятия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ae1a1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ae1a16"/>
                          </a:solidFill>
                          <a:latin typeface="Calibri"/>
                        </a:rPr>
                        <a:t>освоенные обучающимися межпредметные понятия и универсальные учебные действия (регулятивные, познавательные, коммуникативные)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пособность их использования в учебной, познавательной и социальной практике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амостоятельность планирования и осуществления учебной деятельности и организации учебного сотрудничества с педагогами и сверстниками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8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остроение индивидуальной образовательной траектор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ФГОС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2880" y="1181880"/>
            <a:ext cx="8165880" cy="50688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  <a:ea typeface="宋体"/>
              </a:rPr>
              <a:t>Стандарт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宋体"/>
              </a:rPr>
              <a:t> 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宋体"/>
              </a:rPr>
              <a:t>это средство обеспечения стабильности качества образования, его постоянного воспроизводства и развития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  <a:ea typeface="宋体"/>
              </a:rPr>
              <a:t>Стандарт, будучи стабильным, в то же время динамичен и открыт для изменений, отражающих общественные потребности и возможности системы образовани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425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ФГОС НОО и ФГОС ООО -  преемственность и развит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бования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229600" cy="316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Цель НО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Цель  ОО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2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чить ученика учить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учить ученика учиться в обще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488880" y="642960"/>
            <a:ext cx="865368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6440"/>
                <a:tab algn="l" pos="814320"/>
                <a:tab algn="l" pos="1220760"/>
                <a:tab algn="l" pos="1628640"/>
                <a:tab algn="l" pos="2036880"/>
                <a:tab algn="l" pos="2443320"/>
                <a:tab algn="l" pos="2851200"/>
                <a:tab algn="l" pos="3259080"/>
                <a:tab algn="l" pos="3665520"/>
                <a:tab algn="l" pos="4073400"/>
                <a:tab algn="l" pos="4481640"/>
                <a:tab algn="l" pos="4889520"/>
                <a:tab algn="l" pos="5295960"/>
                <a:tab algn="l" pos="5703840"/>
                <a:tab algn="l" pos="6111720"/>
                <a:tab algn="l" pos="6518160"/>
                <a:tab algn="l" pos="6926400"/>
                <a:tab algn="l" pos="7334280"/>
                <a:tab algn="l" pos="7742160"/>
                <a:tab algn="l" pos="8148600"/>
                <a:tab algn="l" pos="85359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763560"/>
          <a:ext cx="8489880" cy="5931000"/>
        </p:xfrm>
        <a:graphic>
          <a:graphicData uri="http://schemas.openxmlformats.org/drawingml/2006/table">
            <a:tbl>
              <a:tblPr/>
              <a:tblGrid>
                <a:gridCol w="2786040"/>
                <a:gridCol w="5703840"/>
              </a:tblGrid>
              <a:tr h="863640">
                <a:tc>
                  <a:txBody>
                    <a:bodyPr lIns="82800" rIns="82800" tIns="107640" bIns="414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Личнос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амоопределение,  смыслообразование, нравственно-этическая ори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 gridSpan="2">
                  <a:txBody>
                    <a:bodyPr lIns="82800" rIns="82800" tIns="107640" bIns="414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етапредметные результат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660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гуля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Целеполагание, планирование,  осуществление учебных действий, прогнозирование, контроль и самоконтроль, коррекция, оценка, саморегуля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364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знавательные 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бщеучебные, знаково-символические, информационные, 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0992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ммуникативные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ициативное сотрудничество, планирование учебного сотрудничества, взаимодействие, управление коммуник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0400"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ме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2800" rIns="82800" tIns="107640" bIns="414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Определены с учетом содержания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48"/>
          <p:cNvSpPr/>
          <p:nvPr/>
        </p:nvSpPr>
        <p:spPr>
          <a:xfrm>
            <a:off x="2484360" y="274680"/>
            <a:ext cx="41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ланируем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88600" y="957240"/>
            <a:ext cx="8039160" cy="49039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3500" spc="-1" strike="noStrike">
                <a:solidFill>
                  <a:srgbClr val="c00000"/>
                </a:solidFill>
                <a:latin typeface="Cambria"/>
              </a:rPr>
              <a:t>В программе ООО нашёл отражение принцип преемственности НОО, в ней  предусматривается дальнейшее развитие личностных, регулятивных, коммуникативных и познавательных УУД, продолжается формирование  умения учиться.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8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Вывод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042200"/>
            <a:ext cx="8085600" cy="5133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Преемственность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двухсторонний процесс. С одной стороны − начальная ступень, которая формирует те знания, умения и навыки, которые необходимы для дальнейшего обучения в основной школе. С другой стороны – основная школа, которая развивает (а  не  игнорирует) накопленный в начальной школе потенциал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39640" y="162864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е условий для успешной адаптации пятиклассни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остепенного и успешного перехода учащихся 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в основную школу в условиях введения ФГОС ОО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468360" y="256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Задачи педагогического коллектива  в период  адаптации пятикласс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39640" y="3141720"/>
            <a:ext cx="763272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. 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этап -  предвари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з результатов уровня ЗУН, УУД , соответствие уровня обученности  каждого ученика потоку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ставление психологической характеристики классного коллек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емственность  в  работе с одаренными учащимися, с учащимися с особыми образовательными потреб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знакомление родителей с перспективами  обучения  учащихся в 5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Анализ уровня здоровья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468360" y="189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а работы по преемственности между начальным и основным общим 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ФГОС НОО- ФГОС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61128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539640" y="62064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этап – основ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ная диагностика ЗУН, УУ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родителей с особенностями адаптационного периода учащихся 5 классов , с содержанием и методами обучения, с системой  требований к учащимся 5 классов,  с целями и задачами работы  по преемственности между начальным и основным общем образованием, требованиями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ление организационно – психологических проблем класс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а, изучение индивидуальных особенностей учащихся, коррекция деятельности педагогов среднего звена с целью создания комфортных  условий для адаптации учащихся  5 классов в среднем звене обучения  познавательной учебной мотив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даптационный трен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дительские собрания с участием уч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755640" y="692280"/>
            <a:ext cx="662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 Заключительный эт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тогов обучения в 5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 работы по преемственности,  определение трудностей в развити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аботы по преемственности с одаренными учащимися, учащихся с особыми образовательными потреб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1042200" y="3716280"/>
            <a:ext cx="387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. Предполагаем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. Планирование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549360"/>
          <a:ext cx="8016840" cy="4716360"/>
        </p:xfrm>
        <a:graphic>
          <a:graphicData uri="http://schemas.openxmlformats.org/drawingml/2006/table">
            <a:tbl>
              <a:tblPr/>
              <a:tblGrid>
                <a:gridCol w="936720"/>
                <a:gridCol w="1366920"/>
                <a:gridCol w="1704960"/>
                <a:gridCol w="1336680"/>
                <a:gridCol w="1334880"/>
                <a:gridCol w="1336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ь проводимого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й за про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ходная диагнос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ить степень устойчивости ЗУН  за курс начальной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неделя сентяб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УР, руководители Ш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, коррекционная работа с учащими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276200" y="1341360"/>
            <a:ext cx="622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81bd"/>
                </a:solidFill>
                <a:latin typeface="Arial"/>
              </a:rPr>
              <a:t>Творческих  вам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384720" cy="2540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49000" y="487080"/>
            <a:ext cx="8116920" cy="5522760"/>
          </a:xfrm>
          <a:prstGeom prst="rect">
            <a:avLst/>
          </a:prstGeom>
          <a:solidFill>
            <a:srgbClr val="f5f5f5"/>
          </a:solidFill>
          <a:ln w="0">
            <a:noFill/>
          </a:ln>
          <a:effectLst>
            <a:outerShdw dist="107932" dir="13500000" blurRad="0" rotWithShape="0">
              <a:srgbClr val="ff0000">
                <a:alpha val="50000"/>
              </a:srgbClr>
            </a:outerShdw>
          </a:effectLst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В основе ФГОС лежит принцип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Единство  преемственности и развити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преемственно 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развивает многие идеи, реализованные (или декларированные) в предшествующих проектах образовательных стандартов (или их аналогах)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обеспечивает  преемственность</a:t>
            </a: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,  как ступеней общего образования, так и всей системы основных   образовательных   программ  - от дошкольных   до профессиональны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48800" y="767520"/>
            <a:ext cx="7646400" cy="5393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Стандарт направлен на обеспечение духовно-нравственного развития и воспитания обучающихся;  </a:t>
            </a:r>
            <a:r>
              <a:rPr b="1" lang="ru-RU" sz="4000" spc="-1" strike="noStrike">
                <a:solidFill>
                  <a:srgbClr val="ae1a16"/>
                </a:solidFill>
                <a:latin typeface="Cambria"/>
              </a:rPr>
              <a:t>преемственности основных образовательных программ дошкольного, начального общего, среднего образования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ФГОС ступеней обучения – преемственность и развитие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grpSp>
        <p:nvGrpSpPr>
          <p:cNvPr id="56" name="Скругленный прямоугольник 5"/>
          <p:cNvGrpSpPr/>
          <p:nvPr/>
        </p:nvGrpSpPr>
        <p:grpSpPr>
          <a:xfrm>
            <a:off x="334800" y="1517760"/>
            <a:ext cx="3786480" cy="3871800"/>
            <a:chOff x="334800" y="1517760"/>
            <a:chExt cx="3786480" cy="3871800"/>
          </a:xfrm>
        </p:grpSpPr>
        <p:pic>
          <p:nvPicPr>
            <p:cNvPr id="57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334800" y="1517760"/>
              <a:ext cx="3786480" cy="38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74560" y="1736640"/>
              <a:ext cx="331488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Феде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государствен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образовательный стандарт </a:t>
              </a:r>
              <a:r>
                <a:rPr b="1" lang="ru-RU" sz="2800" spc="-1" strike="noStrike">
                  <a:solidFill>
                    <a:srgbClr val="cc3300"/>
                  </a:solidFill>
                  <a:latin typeface="Times New Roman"/>
                </a:rPr>
                <a:t>начального </a:t>
              </a: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</a:rPr>
                <a:t>общего образова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Стрелка вправо 9" descr=""/>
          <p:cNvPicPr/>
          <p:nvPr/>
        </p:nvPicPr>
        <p:blipFill>
          <a:blip r:embed="rId2"/>
          <a:stretch/>
        </p:blipFill>
        <p:spPr>
          <a:xfrm>
            <a:off x="3700440" y="2633760"/>
            <a:ext cx="1548000" cy="150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5084640" y="1495440"/>
            <a:ext cx="3792600" cy="3865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1"/>
          <p:cNvSpPr/>
          <p:nvPr/>
        </p:nvSpPr>
        <p:spPr>
          <a:xfrm>
            <a:off x="5338800" y="2279520"/>
            <a:ext cx="32227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Федер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осударств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разовательный стандарт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основного</a:t>
            </a:r>
            <a:r>
              <a:rPr b="1" lang="ru-RU" sz="2800" spc="-1" strike="noStrike">
                <a:solidFill>
                  <a:srgbClr val="432d2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щего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Что такое преемственность</a:t>
            </a: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3440" y="1162080"/>
            <a:ext cx="8204760" cy="47091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ae1a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Преемственность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связь между явлениями в процессе развития в природе, обществе и познании, когда новое, сменяя старое, </a:t>
            </a: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сохраняет в себе некоторые его элементы.</a:t>
            </a:r>
            <a:r>
              <a:rPr b="0" lang="ru-RU" sz="32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 обществе означает передачу и усвоение социальных и культурных ценностей от поколения к поколению, от формации к формации.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Преемственность в образовани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7240" y="1452960"/>
            <a:ext cx="8129520" cy="4743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e1a16"/>
                </a:solidFill>
                <a:latin typeface="Cambria"/>
              </a:rPr>
              <a:t>– </a:t>
            </a:r>
            <a:r>
              <a:rPr b="1" lang="ru-RU" sz="3200" spc="-1" strike="noStrike">
                <a:solidFill>
                  <a:srgbClr val="ae1a16"/>
                </a:solidFill>
                <a:latin typeface="Cambria"/>
              </a:rPr>
              <a:t>это система связей</a:t>
            </a:r>
            <a:r>
              <a:rPr b="0" lang="ru-RU" sz="3200" spc="-1" strike="noStrike">
                <a:solidFill>
                  <a:srgbClr val="ae1a16"/>
                </a:solidFill>
                <a:latin typeface="Cambria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беспечивающая взаимодействие основных задач, содержания и методов обучения и воспитания с целью создания единого непрерывного образовательного процесса на смежных этапах развития ребенка. 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8560" y="692640"/>
            <a:ext cx="7993080" cy="5328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Преемственность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—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это не только подготовка к новому, но и, что еще более важно и существенно, </a:t>
            </a:r>
            <a:r>
              <a:rPr b="1" lang="ru-RU" sz="3600" spc="-1" strike="noStrike">
                <a:solidFill>
                  <a:srgbClr val="c00000"/>
                </a:solidFill>
                <a:latin typeface="Cambria"/>
              </a:rPr>
              <a:t>сохранение и развитие необходимого и целесообразного старого, связь между новым и старым как основа поступательного развития процесса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ребования к результата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ddd9c3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2160" y="525240"/>
            <a:ext cx="7699680" cy="49024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e1a16"/>
                </a:solidFill>
                <a:latin typeface="Cambria"/>
              </a:rPr>
              <a:t>Основанием преемственности</a:t>
            </a:r>
            <a:r>
              <a:rPr b="0" lang="ru-RU" sz="4400" spc="-1" strike="noStrike">
                <a:solidFill>
                  <a:srgbClr val="ae1a16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разных ступеней образовательной системы может стать ориентация на ключевой стратегический приоритет непрерывного образования — </a:t>
            </a:r>
            <a:r>
              <a:rPr b="1" lang="ru-RU" sz="4400" spc="-1" strike="noStrike">
                <a:solidFill>
                  <a:srgbClr val="ae1a16"/>
                </a:solidFill>
                <a:latin typeface="Cambria"/>
              </a:rPr>
              <a:t>формирование умения учиться</a:t>
            </a:r>
            <a:r>
              <a:rPr b="0" lang="ru-RU" sz="4400" spc="-1" strike="noStrike">
                <a:solidFill>
                  <a:srgbClr val="ae1a16"/>
                </a:solidFill>
                <a:latin typeface="Cambr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7:20:20Z</dcterms:created>
  <dc:creator>Феденко</dc:creator>
  <dc:description/>
  <cp:keywords/>
  <dc:language>en-US</dc:language>
  <cp:lastModifiedBy>Алексей</cp:lastModifiedBy>
  <dcterms:modified xsi:type="dcterms:W3CDTF">2013-01-27T11:41:35Z</dcterms:modified>
  <cp:revision>18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29991</vt:lpwstr>
  </property>
</Properties>
</file>