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2452-B71F-4347-85E9-638627B52A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32AE-3D0B-46BF-8C48-76F9CF8C7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F96-E11A-4E1C-AF3B-D6F8CBF1E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223F-E276-4251-B280-35DA9F52B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61A-3B31-4453-9FBA-7C909A55D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01E2-73B2-4E46-BEA0-6AE6904CC5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DAA2-E151-4627-8A8B-714E8639F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50A-C103-4FD7-9B96-71816AC4F6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1851-5EF2-40D1-B1DC-01BA232D8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F07C-D42F-48AD-8A24-4766F37DEE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1E9C-81E5-49D4-9C16-3C5297EC3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38A8-367C-4CEB-BE3D-3796AFA30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CA3-427A-4B26-A56F-CF8D3887A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028-AFD6-423A-9ED9-6DF8B5432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9C4-428A-460A-AE96-C19E6B589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E9B-065E-4A6A-8668-803785760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6BD-4288-42F7-A0AC-FD7602F066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94A-5779-4A85-A18B-6A255B2D6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E8AD-A903-4A9E-A5CD-D842ADB7D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173C-14CA-4000-B5CB-E987BA38F3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D444-C2DE-41C9-89AE-2A3369DE98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F5A9-DD56-4BFB-BF0F-95BA6EC7D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D3F-B0A4-435E-B3B8-DE202598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73C-3B87-482E-83CB-636CACFA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D2073-CE96-4862-8381-6073C49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A09C6-962C-4CD0-A839-B924E8E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E963-2F87-4278-9C33-9B390225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C9064-C872-4D7C-83BE-6A4F2C8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E19106-6EAA-422B-9E51-5D5C2B8C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F2E7-2DB4-4F81-8C1C-D49748B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FDD0A-B7FB-40F8-A5BC-44138DD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223C-8AAF-4BCB-ACA5-F974A824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B68DC-C11D-4C83-BA2A-5EF2117B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443-1013-4843-9912-26082B8F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5AA-6B05-4AFC-A1B8-4F674C3F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C3CC-7E01-4A3C-9103-DE9963EB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E18B-FB4C-4895-A5B0-3122959D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163-B685-4292-B2FC-DC7BACC2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05D7-DB14-4F8C-887A-BCB0D71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98E-D78F-4495-83E3-35E402F8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F0CB-9735-4113-881E-492104E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D872-D6AF-48B7-B2E9-9A05775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E8B-E3A5-4F92-849C-3ECA0FD0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B20-DC19-4F35-B6A9-2273C71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583-F8A0-4450-B200-E261038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826B-BDFE-4C56-8D77-1C0CCE51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E25E-D691-40F9-B23B-D021F3D0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8D29-251C-4673-AE44-79DD3C02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A5FE5-282B-4A94-AC45-DDE18570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3FCB-EDAC-4904-B383-5E526DE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DAAC-55D0-43F3-AB98-FE6B80D3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EDD0-01B2-4B79-AD07-50D91E71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4B25F-E57B-4C13-A7E7-BD72C2D7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889-E875-4726-9BA6-1E61EC1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11E4-351E-4783-8208-BDCE327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8159-2D81-4F94-9C9E-36DB0155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FC1A-7691-43D0-AF0F-03961F6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A1FB3-446C-45CA-9AA3-C019A7E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B113-7851-455E-9836-DD4FC411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E06F-F1AD-40C3-8580-0ABF851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088EC-9316-4D21-A184-B26ACB92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4A3FD-8206-4526-A4C5-3D063AAC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7776F-2750-44DA-94CF-215CD3EF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09992-F343-4C0D-8581-1D739107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31A-C2DE-4C9B-8E42-0CC211CB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94CE-1646-4F36-804B-373C9022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61F3-52E1-47F0-8555-929DBCE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F60E3-CECB-4D85-A35E-E905124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CC67-2DDA-43CB-AECA-E6576DFF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D1E4-0A61-49D6-B229-B871F35D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0F86-CF55-4A49-A4C1-2440350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D3A8-EAB8-48C8-AF5D-09140DAF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6E4C-9B0D-4189-934C-820D1026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B5994-A704-4D87-863B-F91E5AE0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3347E-2D6A-4808-87CC-1706791E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82F-1D97-4DAF-AF79-F517F59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FBF5E-A40A-45E6-8844-DF83AD32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43EA-E8CF-4CDD-A230-802C461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0471-580B-45B4-9B12-3FBF6E7C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13BC1-B1C9-40DA-A350-588265A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99B5A-251D-4FC5-935A-A5C906AD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2E1B-6D68-4D02-A446-D20CD809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91A83-4271-41DB-96CE-7D17E18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1D04-30E1-4476-B4C9-E5FB0F3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DC04E-DA9E-45F2-8FCB-E45F60FF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826D3-1A8A-44B9-B583-83A4026F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E79-C79C-4FC1-A616-6858EE74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6EFD-C710-4BA8-BD0A-D16E901B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2FA02-AF79-45A8-8F78-5DB24599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2F44A-0E92-4529-998F-4D14529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5EDA-215D-40BD-8ED2-DC1796C4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805E7-7B4F-4767-A10B-C0F315B5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E8108-5022-48FF-830D-4F018B6D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3074F-BC9F-4D81-96A1-368C7C5A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50D20-B1CC-487B-A8B7-EEB35642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C088C-1F9A-4E75-84BC-D0079B20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9FF3-3316-4871-B1FE-313B7C4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C05-8155-4EB0-A7A5-FC7ECD8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7199-CCED-49B7-8FDC-22AB1A6C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CAD5-BFBB-4E44-A12F-B8F6943A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BB11-6139-4E21-84F6-537598CB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83FF-5CCE-4BE3-ABA1-F0EFE2F6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B0BB-B696-4ADA-8DA7-4E968491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6F1FD-4C9B-4FD6-8B64-84C2B5D3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3313E-51CE-48FC-880E-8374A038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437E9-9F2B-4C21-BF29-C1D40E20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8EDA2-2BBE-462D-BEA6-44A83D4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B5768-FF05-4C3A-966A-50CF5A93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A3F-016F-4992-8647-F96A2E0B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96B9-3511-49F4-BD3E-B1EFA9AC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9895F-8884-46B3-ADCE-D37F4709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CE951-7F7D-4CDD-B3AD-CD0A450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E002-879C-4D83-8E1F-A7674E2C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1A76D-A938-43D9-AE2F-F60EB773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2295-F9D4-4385-866D-194142B3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556FB-E77B-4E7A-BDA4-EF7B4935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D01E8-3927-47D9-8A6D-B7C454EC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04899-37F4-481C-B12B-9E51E315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9FA62-08CE-4743-A157-E9BE2500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A251-613F-4A5B-BF20-173B24A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C9503-C84F-42B1-9B71-F70E7734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1862-9586-431C-BBCC-2369F4B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F5FAC-8F5E-454A-B8B0-BA118FC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97CA-42EE-47A5-AD91-E3B840CB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7336A-FD1C-4B2A-A6DD-FBA7B355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139A-9989-43F1-B8D0-B81E8722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B38BF-1649-431E-A386-D0E5CA3D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B535A-14A6-4224-BC39-DD2AAF11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9FA80-331B-46CC-9AA9-34DE8FD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9862A-97AD-4A6C-8B03-142260C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C16-789B-4C27-8449-21E7685EC9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138-6746-490B-938B-A4D3B80BE0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5BBF-FE8A-472F-9089-ED6CBE3F61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08F6-F0C8-4B83-9823-37D04E7633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D05-7877-4B68-9B05-734C402445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73FB-1749-41A3-8FDB-DF7802BBF2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338B-BDC1-45B3-A35F-7DFFBB1A3E9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91BF-320C-4A15-801F-D5412FA3604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361-FFD7-4ECE-A8D8-A88FB56B2A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ГИА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57200" y="914400"/>
            <a:ext cx="8478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05050"/>
                </a:solidFill>
                <a:latin typeface="Stencil"/>
              </a:rPr>
              <a:t>Брейн-ринг между 9-ми класс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Stencil"/>
              </a:rPr>
              <a:t>Средства художественной вырази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Подготовила Козлова И.Ю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 </a:t>
            </a: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МБУ школы №21 г.о. Тольят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5050"/>
                </a:solidFill>
                <a:latin typeface="Stencil"/>
              </a:rPr>
              <a:t>2011-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09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Text Box 13"/>
          <p:cNvSpPr/>
          <p:nvPr/>
        </p:nvSpPr>
        <p:spPr>
          <a:xfrm>
            <a:off x="457200" y="571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2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7"/>
          <p:cNvSpPr/>
          <p:nvPr/>
        </p:nvSpPr>
        <p:spPr>
          <a:xfrm>
            <a:off x="228600" y="228600"/>
            <a:ext cx="847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9.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В красном закате плыли и плыли величавые лебеди – розовато-золотые в солнце. Отзывался пустынный их крик в парке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Какое средство выразительности использовано в данном отрыв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49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0. Определите, в каком отрывке употреблена метони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дит лодырь у ворот, широко разинув рот, и никто не разберёт, где ворота, а где ро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пуганая ташкентская весна прошла за окном, вступила в лето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ынешь в блеске лунного све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стонешь, облитый пеною р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5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5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1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Сидит лодырь у ворот, широко разинув рот, и никто не разберёт, где ворота, а где рот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Определите средство вырази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6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4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6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2. Найдите оксюморон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8"/>
          <p:cNvSpPr/>
          <p:nvPr/>
        </p:nvSpPr>
        <p:spPr>
          <a:xfrm>
            <a:off x="99216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глой скромностью смотрит в гл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у белую апрельскую  ночь Петербург видел Блока последний ра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ите, простите, простите меня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ёд неокрепший на речке студёной словно как тающий сахар лежи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7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0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8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719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8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3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Талии никак не толще бутылочной шей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735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750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6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59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4. Найдите предложение с фразеолог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бязательно будет кривить душой перед други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у хотелось чего-то гигантского, необъятного, поражающ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полям, по дорог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5b40"/>
                </a:solidFill>
                <a:latin typeface="Arial"/>
              </a:rPr>
              <a:t>Стонет он по тюрьмам, по острога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и, ей весело грусти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ой нарядно обнаж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0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1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1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7"/>
          <p:cNvSpPr/>
          <p:nvPr/>
        </p:nvSpPr>
        <p:spPr>
          <a:xfrm>
            <a:off x="228600" y="2286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5.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Быстро лечу я по рельсам чугунным. /Думаю думу с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на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72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9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2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Rectangle 7"/>
          <p:cNvSpPr/>
          <p:nvPr/>
        </p:nvSpPr>
        <p:spPr>
          <a:xfrm>
            <a:off x="228600" y="228600"/>
            <a:ext cx="8478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6.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«Отколе, </a:t>
            </a:r>
            <a:r>
              <a:rPr b="1" i="1" lang="ru-RU" sz="2000" spc="-1" strike="noStrike">
                <a:solidFill>
                  <a:srgbClr val="00b050"/>
                </a:solidFill>
                <a:latin typeface="Arial"/>
              </a:rPr>
              <a:t>умная, </a:t>
            </a: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бредешь ты, голова?»— Лисица, встретяся с Ослом, его спросила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Определите средство выразительнос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о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918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2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633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633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963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6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3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т охватывает ветер стаи волн объятием креп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9"/>
          <p:cNvSpPr/>
          <p:nvPr/>
        </p:nvSpPr>
        <p:spPr>
          <a:xfrm>
            <a:off x="468360" y="4079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914400" y="25146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зде, по всей усадьбе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овно в муравейнике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ра до ночи копошились люд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ж близок полдень. Жар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 пахарь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ва отдых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8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3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53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18. </a:t>
            </a: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Простите, простите, простите меня!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акой приём здесь использован?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>
            <a:off x="992160" y="2492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сический пов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9"/>
          <p:cNvSpPr/>
          <p:nvPr/>
        </p:nvSpPr>
        <p:spPr>
          <a:xfrm>
            <a:off x="468360" y="2708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0"/>
          <p:cNvSpPr/>
          <p:nvPr/>
        </p:nvSpPr>
        <p:spPr>
          <a:xfrm>
            <a:off x="468360" y="41511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1"/>
          <p:cNvSpPr/>
          <p:nvPr/>
        </p:nvSpPr>
        <p:spPr>
          <a:xfrm>
            <a:off x="468360" y="5349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>
            <a:off x="992160" y="3863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ий в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4"/>
          <p:cNvSpPr/>
          <p:nvPr/>
        </p:nvSpPr>
        <p:spPr>
          <a:xfrm>
            <a:off x="990720" y="5083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8" dur="indefinite" restart="never" nodeType="tmRoot">
          <p:childTnLst>
            <p:seq>
              <p:cTn id="1039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1055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4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1085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4"/>
          <p:cNvGrpSpPr/>
          <p:nvPr/>
        </p:nvGrpSpPr>
        <p:grpSpPr>
          <a:xfrm>
            <a:off x="206280" y="189000"/>
            <a:ext cx="8937360" cy="6668640"/>
            <a:chOff x="206280" y="189000"/>
            <a:chExt cx="8937360" cy="6668640"/>
          </a:xfrm>
        </p:grpSpPr>
        <p:sp>
          <p:nvSpPr>
            <p:cNvPr id="415" name="Line 5"/>
            <p:cNvSpPr/>
            <p:nvPr/>
          </p:nvSpPr>
          <p:spPr>
            <a:xfrm>
              <a:off x="206280" y="18900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6"/>
            <p:cNvSpPr/>
            <p:nvPr/>
          </p:nvSpPr>
          <p:spPr>
            <a:xfrm>
              <a:off x="206280" y="18900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"/>
            <p:cNvSpPr/>
            <p:nvPr/>
          </p:nvSpPr>
          <p:spPr>
            <a:xfrm>
              <a:off x="206280" y="685764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8"/>
            <p:cNvSpPr/>
            <p:nvPr/>
          </p:nvSpPr>
          <p:spPr>
            <a:xfrm>
              <a:off x="9143640" y="18900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9"/>
          <p:cNvSpPr/>
          <p:nvPr/>
        </p:nvSpPr>
        <p:spPr>
          <a:xfrm>
            <a:off x="380880" y="304920"/>
            <a:ext cx="847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ределите, в каком предложении использована метаф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сама-то велич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тупает, словно п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ро Осень прос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плачет спросо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8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нь. Сказочный чертог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м открытый для обзор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9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окном ветерок весели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подпрыгнет, то притаится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67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19. Найдите олицетво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лачут вербы, шепчут т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2"/>
          <p:cNvSpPr/>
          <p:nvPr/>
        </p:nvSpPr>
        <p:spPr>
          <a:xfrm>
            <a:off x="457200" y="54100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то сорок солнц закат пыл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ктябрь серебристо-орех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ана восходящего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0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2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5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1146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68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Rectangle 7"/>
          <p:cNvSpPr/>
          <p:nvPr/>
        </p:nvSpPr>
        <p:spPr>
          <a:xfrm>
            <a:off x="228600" y="228600"/>
            <a:ext cx="84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20. Определите, в каком отрывке использована перифраза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990720" y="51055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нце русской поэз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468360" y="5299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2"/>
          <p:cNvSpPr/>
          <p:nvPr/>
        </p:nvSpPr>
        <p:spPr>
          <a:xfrm>
            <a:off x="457200" y="159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ищет он в стране дале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4"/>
          <p:cNvSpPr/>
          <p:nvPr/>
        </p:nvSpPr>
        <p:spPr>
          <a:xfrm>
            <a:off x="99072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ье – свет, а неученье – ть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5"/>
          <p:cNvSpPr/>
          <p:nvPr/>
        </p:nvSpPr>
        <p:spPr>
          <a:xfrm>
            <a:off x="992160" y="11970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хи действительно пошли. И самые фант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0" dur="indefinite" restart="never" nodeType="tmRoot">
          <p:childTnLst>
            <p:seq>
              <p:cTn id="1161" restart="whenNotActive" nodeType="interactiveSeq" fill="hold">
                <p:stCondLst>
                  <p:cond evt="onClick">
                    <p:tgtEl>
                      <p:spTgt spid="687"/>
                    </p:tgtEl>
                  </p:cond>
                </p:stCondLst>
                <p:childTnLst>
                  <p:par>
                    <p:cTn id="1162" fill="hold">
                      <p:stCondLst>
                        <p:cond evt="onClick">
                          <p:tgtEl>
                            <p:spTgt spid="687"/>
                          </p:tgtEl>
                        </p:cond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1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688"/>
                    </p:tgtEl>
                  </p:cond>
                </p:stCondLst>
                <p:childTnLst>
                  <p:par>
                    <p:cTn id="1177" fill="hold">
                      <p:stCondLst>
                        <p:cond evt="onClick">
                          <p:tgtEl>
                            <p:spTgt spid="688"/>
                          </p:tgtEl>
                        </p:cond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5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9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690"/>
                    </p:tgtEl>
                  </p:cond>
                </p:stCondLst>
                <p:childTnLst>
                  <p:par>
                    <p:cTn id="1207" fill="hold">
                      <p:stCondLst>
                        <p:cond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1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4" name=""/>
          <p:cNvGraphicFramePr/>
          <p:nvPr/>
        </p:nvGraphicFramePr>
        <p:xfrm>
          <a:off x="1523880" y="1397160"/>
          <a:ext cx="6096240" cy="25905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b050"/>
                          </a:solidFill>
                          <a:latin typeface="Franklin Gothic Book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ормили плохо, вечно хотелось е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тка была некрупная, молод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сё равно толку не добьёмся, нас восемь человек, а она такая маленьк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орачивая голову по сторонам, она смотрела на нас изумлёнными бусинками глаз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 txBox="1"/>
          <p:nvPr/>
        </p:nvSpPr>
        <p:spPr>
          <a:xfrm>
            <a:off x="914400" y="1599840"/>
            <a:ext cx="76932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мните, он корчил рожи, а вы ему сказали, что у него способности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десь жила Мария Петровна, его учительница по математике, как же он сразу о ней не подумал, не вспомнил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- Мария Петровна, - тихо сказал Павел Георгиевич, - вы меня узнаёте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Когда Сафонов вошёл в родной городок, окраины встретили его длинными тенями от старых тополей; ветви яблонь, обогретых солнцем, свешивались через забо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AutoShape 2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еред глазами его вдруг встало лицо Марины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на была ему другом, и как же посмел он сейчас так думать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лагодаря Марине Лёня никогда не чувствовал себя чужим в этой семье.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рина сидела на крылечке и с нетерпением ждала сын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AutoShape 2" descr=""/>
          <p:cNvPicPr/>
          <p:nvPr/>
        </p:nvPicPr>
        <p:blipFill>
          <a:blip r:embed="rId1"/>
          <a:stretch/>
        </p:blipFill>
        <p:spPr>
          <a:xfrm>
            <a:off x="615960" y="506520"/>
            <a:ext cx="8070840" cy="172404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 txBox="1"/>
          <p:nvPr/>
        </p:nvSpPr>
        <p:spPr>
          <a:xfrm>
            <a:off x="685800" y="2133360"/>
            <a:ext cx="76932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«Серёжка смотрит на неё, но видит не стадион, 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каменные стены римского Колизея. Сейчас он не ученик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средней школы, он – отважный гладиатор. На нём н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штаны и куртка, а кованые доспехи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ипербол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афо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Антитез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авнительный оборо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«И он готов ради этого работать ден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и ночь, трудиться не покладая рук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Синтаксический параллелиз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Фразеологизм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«Вообще мои родители то и дело обвиняли  нас обоих 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нечёткости: мы нечётко сообщали, кто звонил маме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отцу по телефону и что передавали в «Последни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Franklin Gothic Book"/>
              </a:rPr>
              <a:t>известиях», нечётко выполняли режим дня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ексический пов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етафор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AutoShape 2" descr=""/>
          <p:cNvPicPr/>
          <p:nvPr/>
        </p:nvPicPr>
        <p:blipFill>
          <a:blip r:embed="rId1"/>
          <a:stretch/>
        </p:blipFill>
        <p:spPr>
          <a:xfrm>
            <a:off x="189000" y="401760"/>
            <a:ext cx="8808840" cy="11714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«За пятёрочками Наталья не гонялась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Franklin Gothic Book"/>
              </a:rPr>
              <a:t>а они сами к ней липли»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Лексика разговорного стил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Эпите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Олицетвор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Гипербол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9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Rectangle 9"/>
          <p:cNvSpPr/>
          <p:nvPr/>
        </p:nvSpPr>
        <p:spPr>
          <a:xfrm>
            <a:off x="228600" y="228600"/>
            <a:ext cx="847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2. Липы обруч золотой —Как венец на новобрач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AutoShape 2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8437680" cy="130500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1 -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2 - 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3 - 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4 – 3 (антитеза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5 – 4 (фразеологизмы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6 – 1 (лексический повтор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дание 27 – 1 (лексика разговорного стиля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Заголовок 1" descr=""/>
          <p:cNvPicPr/>
          <p:nvPr/>
        </p:nvPicPr>
        <p:blipFill>
          <a:blip r:embed="rId1"/>
          <a:stretch/>
        </p:blipFill>
        <p:spPr>
          <a:xfrm>
            <a:off x="291960" y="285840"/>
            <a:ext cx="8328240" cy="11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2" name=""/>
          <p:cNvGraphicFramePr/>
          <p:nvPr/>
        </p:nvGraphicFramePr>
        <p:xfrm>
          <a:off x="304920" y="1554120"/>
          <a:ext cx="8686800" cy="4206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II</a:t>
                      </a: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Под ним струя светлей лазу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Жизни мышья беготня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то тревожишь ты мен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Богатырский конь через лес перепрыгив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альчик с пальч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98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Задремали звёзды золот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Лес, словно терем расписной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008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переди – пустынный сентябрьский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гда народ….    Белинского и Гого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базара понесет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136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 Вода устала петь, устала теч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иять, струиться и перелива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 Волга, колыбель моя! 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90748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4" name=""/>
          <p:cNvGraphicFramePr/>
          <p:nvPr/>
        </p:nvGraphicFramePr>
        <p:xfrm>
          <a:off x="457200" y="1066680"/>
          <a:ext cx="8229600" cy="537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 Спать одуванчики ложились спать вместе с нами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етьми, и вместе с нами встав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.Мело, мело по всей земл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о все пределы.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веча горела на стол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веча гор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Она щебечет и поё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преддверье бора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ак бы оберегая 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 лесные нор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В багрец и золото одетые ле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ни сошлись. Волна и камен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тихи и проза, лед и пламен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е столь различны меж соб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ы с тобой не виделись сто лет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Скоро Осень просн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 заплачет спросон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раздо интереснее казались морские конь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Но предстоит еще заледене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 уж не петь, а, как броня, звен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И пунша пламень голубой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457200" y="762120"/>
          <a:ext cx="8229600" cy="528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Прове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Franklin Gothic Book"/>
                        </a:rPr>
                        <a:t>Прове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(простое). 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иторический вопрос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ипер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ит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лице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Эпитет.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Метон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днородные члены предложения. 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бра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Олице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Лексический повтор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Анти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Мет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Гиперб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лицетвор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Срав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. Метаф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0492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есурс создан по шаблону, созданному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Захаровой Т.А.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методистом Рязанского института развития образования,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Байдаковой Т. Б.,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учителем русского языка и литературы МОУ СОШ № 3 г.Амурска Хабаровского кра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4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9"/>
          <p:cNvSpPr/>
          <p:nvPr/>
        </p:nvSpPr>
        <p:spPr>
          <a:xfrm>
            <a:off x="228600" y="228600"/>
            <a:ext cx="8478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Мы, листики осенние, на веточках сидели.</a:t>
            </a:r>
            <a:br>
              <a:rPr sz="2400"/>
            </a:b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     Дунул ветер - полете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Определите средство выразите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7"/>
          <p:cNvSpPr/>
          <p:nvPr/>
        </p:nvSpPr>
        <p:spPr>
          <a:xfrm>
            <a:off x="91440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57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9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. Назовите вариант ответа, в котором употреблена гипербола</a:t>
            </a:r>
            <a:r>
              <a:rPr b="1" lang="ru-RU" sz="2400" spc="-1" strike="noStrike">
                <a:solidFill>
                  <a:srgbClr val="505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чела из кельи вос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 за данью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всё пела? Это – де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флаги в гости будут к н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9"/>
          <p:cNvSpPr/>
          <p:nvPr/>
        </p:nvSpPr>
        <p:spPr>
          <a:xfrm>
            <a:off x="990720" y="50292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дкая пти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летит до середины Днеп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2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47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7"/>
          <p:cNvSpPr/>
          <p:nvPr/>
        </p:nvSpPr>
        <p:spPr>
          <a:xfrm>
            <a:off x="228600" y="228600"/>
            <a:ext cx="847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5. Так скушай же ещё тарелочку, мой друг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8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ф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юм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н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8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85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7"/>
          <p:cNvSpPr/>
          <p:nvPr/>
        </p:nvSpPr>
        <p:spPr>
          <a:xfrm>
            <a:off x="228600" y="228600"/>
            <a:ext cx="847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6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. Они сошлись. Волна и камень, Стихи и проза, лёд и плам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Не столь различны меж собой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сический пов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иторическ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99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7. Найдите «четвёртое лишн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"/>
          <p:cNvSpPr/>
          <p:nvPr/>
        </p:nvSpPr>
        <p:spPr>
          <a:xfrm>
            <a:off x="99216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, точно терем расписной…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3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зы желтою резьб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естят в лазури голубо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4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шки, елочки темнею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5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желтых кленах флигел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о в золоченых рама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0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513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fbee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Rectangle 7"/>
          <p:cNvSpPr/>
          <p:nvPr/>
        </p:nvSpPr>
        <p:spPr>
          <a:xfrm>
            <a:off x="228600" y="228600"/>
            <a:ext cx="847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ль нам с Европой спорить н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ль русский от побед отвы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Определите средство выразительности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п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3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орическое воскл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4"/>
          <p:cNvSpPr/>
          <p:nvPr/>
        </p:nvSpPr>
        <p:spPr>
          <a:xfrm>
            <a:off x="99072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5"/>
          <p:cNvSpPr/>
          <p:nvPr/>
        </p:nvSpPr>
        <p:spPr>
          <a:xfrm>
            <a:off x="99072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6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7:40:24Z</dcterms:created>
  <dc:creator>Ирина Юрьевна</dc:creator>
  <dc:description/>
  <dc:language>en-US</dc:language>
  <cp:lastModifiedBy>Ирина Юрьевна</cp:lastModifiedBy>
  <dcterms:modified xsi:type="dcterms:W3CDTF">2013-01-24T14:44:20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