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83B-F374-4788-A193-50F97E6562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013E-3F9C-4B70-82E9-9DA16C60C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837E-F499-496E-88FC-79DBD4AF8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337-CB32-4FFB-B3A2-E9A805E05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BB4-16B2-4A7C-A203-7B7BA89C2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3BA-E5C9-4DEB-BE5F-68EA89F3F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5330-0F11-4081-930F-7BAB0C989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271-B3A2-4FEC-8A39-4A36DFCBC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6CB4-B8D9-415D-8F08-5817577B2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B5C-8A1D-46C0-BDA9-EA66D584A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E8E1-3D01-480C-B12A-B540A97D7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3C8-3120-471C-A0DF-1A0387529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653D-6C76-4328-A200-5AFF9847E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9EE9-2DD0-4DF7-8BCD-854FFE3C6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007-AE7A-4CCE-B3FB-1A1C579FA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29E-723F-495D-974C-28BD69BF4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22E4-2438-4C36-A610-0FCE2DA88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D959-480D-4F1C-99C0-4EEDC29C6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D70-9B7C-4E16-869F-4495737C7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B3D6-7A24-444B-A943-11D5EB3A3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3398-5619-41E0-A8F4-15E8CAF42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340B-7566-49FB-9FEA-7E6416366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29A-839B-48E6-B376-94E8761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8F4-A118-48D2-BFD3-E7AFE39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69189-32A2-4212-9283-10E16A8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AC884-B4AD-469F-B304-7170D7E0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521C3-576D-44DD-981B-A53D46B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EC81-51B3-4959-A1E0-C582E92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BAF38-7DA2-4E3F-8F0F-54E3FE2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09D5A-4A8C-43B4-A10E-5BB573A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F5B6B-1BAF-465F-AF9B-8233767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86931-0F5C-41CD-B5B9-1065C9B6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8848A-3539-4FBB-93B7-057E7323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18D-5776-469F-A15F-A81A0B61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D0C-AD29-4DB6-AE72-F1C88590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47D-D06B-484D-A007-EF163D02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51CF-1961-4E37-A7AF-0EAB69EC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48C-62E1-4A6E-BD35-11062E0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E096-645B-451D-818D-A8BFCFE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4D5-1F75-4E05-9381-C71B97B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60C7-2AE9-429A-A52F-7FFD9BA6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B59-D677-46D0-A522-AC5F575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A21-D43C-4BA3-AE22-DD377031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A79-C553-4649-BBD4-99BE5F3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A57-2F41-4897-A7A8-6FBFCD3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364-BF23-4CE5-81E7-437774E6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0C29-082A-427A-AB18-40100B7C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F1F9-1391-4781-94C6-3D787C8A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17F6-295A-4A61-99A2-273C3DAC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6074-40B5-4613-92D7-9484292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6DF2-A359-4080-8ABE-09FCE97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9C44-0327-492B-BBE8-70AA370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F6C8-D1AE-49D2-81DF-2922447C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B24-8408-4A7B-9E40-BF8CDB7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692B-A93A-43C2-98C4-E5FD204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1C0F-BFC1-4CD8-B34F-3CE057F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7EF7-9CF0-40B9-9C75-75F1D08C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C55E-9AC0-4F75-A843-D1C3C21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8C91-001F-4072-ABC5-E97A22CB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A31E-AD94-420D-B403-56076C6F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509F-177D-4E50-987C-B459B113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B14D-5CF1-4E4C-AFF9-7E6C32BD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3B14-626A-4B80-806A-15F91F2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1E7D-7B8E-4857-92D7-DD7BE49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F1D-2193-4589-A7B3-42E3C7D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40CA-24CC-4DA2-A424-01F8C4A1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608F-E985-42CF-BA05-37ABDD0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7D84-DED0-4C7C-9EF0-51119D7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4A21-1150-4B7E-BDCB-E984936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53F6-BE86-49AD-A005-9CA3694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9050-7C26-40BB-B010-137DFD4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C77A-C143-4B01-9F75-7917644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E996-5CEB-41AC-8EF0-E7A1B79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37CA-EBD8-4A02-816A-236A39D7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CA6E-4EA5-45BD-878D-EB9169B0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DFA-4BBC-4944-81DB-A4724A0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8C96-36D8-4DE4-9B32-FA55D03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1BFA-EDE1-43A1-866B-7905A3A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5DD9-058C-4DDF-A2E9-2389481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E868-C6AC-4877-B775-B38AA83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A811-346C-43F1-83FB-EFE7B413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F40A-7304-4A50-9204-A069B25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CA49-80FE-4B38-95C3-29EB90C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9ECA-AA29-4BF0-B5A9-E8BE402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5FD8-32D1-406F-A3C4-BEB86E6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D373-6B95-4028-9027-4268687D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C9D-E5CD-4620-B0BA-85F452F7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DB69-9617-45B1-9FC0-C2912B3A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D1098-BB9B-4014-8AA0-858530DA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E7EE-6B9C-4D00-AFCD-271B979D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4E38-2C72-49F8-8407-6C33A7E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DD6B0-E00E-40DB-8E2A-5EFE4048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C774-F808-44DC-BE74-F7FDF68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688F8-BF2E-42E4-BE42-30A17B1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7FAB-275D-4A8E-8A25-09FF7254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B074D-A87C-418D-BA88-E7B38C9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842C-A642-46D9-BF31-EE19787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E14-58E5-4173-A0B2-2D7916D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EF38-32E6-488B-B677-ED42F9D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7DFF-507F-43EA-95BD-0ABA9A3C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2363-D14D-48DA-B75A-5EA5593C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9DBE-3F4C-4EE2-A4A5-E76A6738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B29B-1D88-4CB2-8BCF-DA15EB6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CE9D-BF9C-4EED-8F69-C6A76F8B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29F1-CF3F-47F5-9BA8-7459FEC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4FC3-4DC5-47AE-9BA5-9F6DCDB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3656B-5D34-487D-9372-3926811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020D-1A3C-4182-B72C-726A555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20A-B47D-4175-B672-9220A74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04E8-D64F-4939-8441-075767A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9F55B-F17A-4D5A-88E1-6DB0F36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FC531-060B-4091-B153-6701F28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233EA-05B7-4F48-9EC5-7A1F9A66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B4F42-BA25-4EEE-B9AE-9206082B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88CA-9A33-47C0-B139-2F483386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1919-6E55-47D5-9654-24D5A502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09228-52B3-472A-9B6A-7DD6AF2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7794F-C484-4E66-B13D-63866691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7B27-49DB-4BAB-A536-3147E815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457-4FA9-4E25-9AAC-C5730BB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55C0-CB64-4D56-A604-FF35AE0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616F-8DB9-42B4-92A5-D4439B6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829B-3A30-441E-9638-BCFF8FC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F753B-07B9-4F36-8C1C-87FA910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A2B3-9BF2-4F25-A84E-C8BDCD57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8ED8-1F4B-45AF-878E-E7FE458B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418D-EF18-4C28-B503-4ACFCA08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55DBC-5CE9-44CE-85F6-61E87042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48339-9B44-40DA-B09B-5947585B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0D66-8F12-4658-A71F-E120088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C632-0D7A-44FD-A790-14EF55F218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C411-5596-436A-9CFC-073C7A9FA3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DA0-A26B-4802-A14A-9FDA81B3EE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54D5-9B46-40AE-8A30-B4AE313EAA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763D-89AB-45FC-87A8-7F5137F03B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006-BFFF-48B5-B774-15DDB25C77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CABD-E000-4333-811E-15D27CCD1C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865D-2F83-44EC-A273-EED92C0DB7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3968-7911-410F-AD62-C3E21DFA42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57200" y="914400"/>
            <a:ext cx="8478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Брейн-ринг между 9-ми класс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Подготовила Козлова И.Ю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 </a:t>
            </a: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МБУ школы №21 г.о. Тольят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2011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9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9.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5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идит лодырь у ворот, широко разинув рот, и никто не разберёт, где ворота, а где рот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Определите средство выраз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2. Найдите оксюморон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0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3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алии никак не толще бутылочной шей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5.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6.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бредешь ты, голова?»— Лисица, встретяся с Ослом, его спросила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Определите средство вырази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8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акой приём здесь использован?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415" name="Line 5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380880" y="304920"/>
            <a:ext cx="847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20. Определите, в каком отрывке использована перифраза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16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177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1523880" y="1397160"/>
          <a:ext cx="6096240" cy="2590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рмили плохо, вечно хотелось е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тка была некрупная, молод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ё равно толку не добьёмся, нас восемь человек, а она такая маленьк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орачивая голову по сторонам, она смотрела на нас изумлёнными бусинками гла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914400" y="1599840"/>
            <a:ext cx="76932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мните, он корчил рожи, а вы ему сказали, что у него способност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десь жила Мария Петровна, его учительница по математике, как же он сразу о ней не подумал, не вспомнил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Мария Петровна, - тихо сказал Павел Георгиевич, - вы меня узнаё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гда Сафонов вошёл в родной городок, окраины встретили его длинными тенями от старых тополей; ветви яблонь, обогретых солнцем, свешивались через забо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д глазами его вдруг встало лицо Марины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на была ему другом, и как же посмел он сейчас так думать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агодаря Марине Лёня никогда не чувствовал себя чужим в этой семье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рина сидела на крылечке и с нетерпением ждала сы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AutoShape 2" descr=""/>
          <p:cNvPicPr/>
          <p:nvPr/>
        </p:nvPicPr>
        <p:blipFill>
          <a:blip r:embed="rId1"/>
          <a:stretch/>
        </p:blipFill>
        <p:spPr>
          <a:xfrm>
            <a:off x="615960" y="506520"/>
            <a:ext cx="8070840" cy="172404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685800" y="213336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«Серёжка смотрит на неё, но видит не стадион, 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каменные стены римского Колизея. Сейчас он не ученик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средней школы, он – отважный гладиатор. На нём 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штаны и куртка, а кованые доспехи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ипербо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афо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титез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авнительный оборо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«И он готов ради этого работать ден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и ночь, трудиться не покладая рук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интаксический параллелиз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Фразеологиз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«Вообще мои родители то и дело обвиняли  нас обоих 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нечёткости: мы нечётко сообщали, кто звонил маме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отцу по телефону и что передавали в «Последни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известиях», нечётко выполняли режим дня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ексический пов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афо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«За пятёрочками Наталья не гонялась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а они сами к ней липли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Лексика разговорного стил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Гипербо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9"/>
          <p:cNvSpPr/>
          <p:nvPr/>
        </p:nvSpPr>
        <p:spPr>
          <a:xfrm>
            <a:off x="228600" y="228600"/>
            <a:ext cx="847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2. Липы обруч золотой —Как венец на новобрач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AutoShape 2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1 -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2 -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3 - 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4 – 3 (антитез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5 – 4 (фразеологизм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6 – 1 (лексический повтор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7 – 1 (лексика разговорного стиля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Заголовок 1" descr=""/>
          <p:cNvPicPr/>
          <p:nvPr/>
        </p:nvPicPr>
        <p:blipFill>
          <a:blip r:embed="rId1"/>
          <a:stretch/>
        </p:blipFill>
        <p:spPr>
          <a:xfrm>
            <a:off x="291960" y="285840"/>
            <a:ext cx="8328240" cy="11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"/>
          <p:cNvGraphicFramePr/>
          <p:nvPr/>
        </p:nvGraphicFramePr>
        <p:xfrm>
          <a:off x="304920" y="1554120"/>
          <a:ext cx="8686800" cy="4206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Под ним струя светлей лаз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изни мышья беготн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ревожишь ты мен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Богатырский конь через лес перепрыг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альчик с пальч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Задремали звёзды золо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Лес, словно терем расписн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008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переди – пустынный сентябрь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гда народ….    Белинского и Гог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базара понесет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136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 Вода устала петь, устала теч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ять, струиться и перелива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 Волга, колыбель моя! 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90748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4" name=""/>
          <p:cNvGraphicFramePr/>
          <p:nvPr/>
        </p:nvGraphicFramePr>
        <p:xfrm>
          <a:off x="457200" y="1066680"/>
          <a:ext cx="8229600" cy="537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 Спать одуванчики ложились спать вместе с н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тьми, и вместе с нами встав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Мело, мело по всей земл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 все пределы.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веча горела на стол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веча гор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Она щебечет и поё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преддверье бор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к бы оберегая 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лесные но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В багрец и золото одетые л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ни сошлись. Волна и камен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тихи и проза, лед и пламен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 столь различны меж соб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ы с тобой не виделись сто ле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Скоро Осень просн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 заплачет спросон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раздо интереснее казались морские конь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Но предстоит еще заледене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 уж не петь, а, как броня, звен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И пунша пламень голубой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457200" y="762120"/>
          <a:ext cx="8229600" cy="528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Прове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Прове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(простое). 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торический вопро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ипер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и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лице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Эпитет.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тон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днородные члены предложения.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бра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лице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Лексический повтор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Анти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Мет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Гипер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лицетвор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 Мет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0492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сурс создан по шаблону, созданному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харовой Т.А.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методистом Рязанского института развития образования,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айдаковой Т. Б.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учителем русского языка и литературы МОУ СОШ № 3 г.Амурска Хабаровского кр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9"/>
          <p:cNvSpPr/>
          <p:nvPr/>
        </p:nvSpPr>
        <p:spPr>
          <a:xfrm>
            <a:off x="228600" y="228600"/>
            <a:ext cx="847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Мы, листики осенние, на веточках сидели.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     Дунул ветер - полет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9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. Назовите вариант ответа, в котором употреблена гипербола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7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5. Так скушай же ещё тарелочку, мой друг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8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. 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51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7:40:24Z</dcterms:created>
  <dc:creator>Ирина Юрьевна</dc:creator>
  <dc:description/>
  <dc:language>en-US</dc:language>
  <cp:lastModifiedBy>Ирина Юрьевна</cp:lastModifiedBy>
  <dcterms:modified xsi:type="dcterms:W3CDTF">2013-01-24T14:44:2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