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6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C478-38C6-40FC-BB43-ED281432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5F0C-29E5-4652-BA6E-245BF1F5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CF2B-21F0-4D65-A76D-4ED7E782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3CA6-A97D-4C39-8A66-797F04DC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4990-6F7F-44D4-88AF-1D6D9A8F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829A-8BA2-4F48-8CA8-311AED6F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98B6-A737-477C-B004-C0F9F207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2C41-C728-4307-BA67-30E95BB9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CBF0-0309-484D-87E7-861D2303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6E09-DCC4-4722-9ECC-F77E6DBA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7DF2-E0C1-4AA4-B8A3-9F33C519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6A65-7A09-4233-B390-D0715517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E337-0D64-4A38-B81F-ADE745C1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B59E-6E41-4E43-8DE7-E67D8CF7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8A08-A6FC-41F9-BD59-3AE4DCB3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B2B6-5D5A-4CFF-9CAE-83B71BF0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84E8-B6F0-4721-A71C-C448DC10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8154-5E47-4C9F-9F68-1E78A75D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C620-E221-4FFF-9433-2937C227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0605-DA04-4FE5-8B65-7B24A42E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0B8B-C672-4BBC-8358-539CC339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2F7-2375-45A9-8465-267BE422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ED10-5DC8-44BE-8240-18DAC1B9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4FE1-92B4-4667-A19B-F4C6BD9E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CDC6-C7E6-494B-BBF7-76F782B38EC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80F6-AECE-4DBD-AECD-3B0A1A06BF7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4"/>
          <p:cNvSpPr txBox="1"/>
          <p:nvPr/>
        </p:nvSpPr>
        <p:spPr>
          <a:xfrm>
            <a:off x="1403280" y="2205000"/>
            <a:ext cx="6408720" cy="20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анда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Пчелиный рай»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1979640" y="476280"/>
            <a:ext cx="5400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оминация 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кскурс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6"/>
          <a:stretch/>
        </p:blipFill>
        <p:spPr>
          <a:xfrm>
            <a:off x="684360" y="4581360"/>
            <a:ext cx="3097080" cy="19162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407520"/>
            <a:ext cx="697068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Comic Sans MS"/>
              </a:rPr>
              <a:t>Наш сказочный герой 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2" name="Group 20"/>
          <p:cNvGrpSpPr/>
          <p:nvPr/>
        </p:nvGrpSpPr>
        <p:grpSpPr>
          <a:xfrm>
            <a:off x="1692360" y="1628640"/>
            <a:ext cx="4751280" cy="1081080"/>
            <a:chOff x="1692360" y="1628640"/>
            <a:chExt cx="4751280" cy="1081080"/>
          </a:xfrm>
        </p:grpSpPr>
        <p:sp>
          <p:nvSpPr>
            <p:cNvPr id="93" name="WordArt 11"/>
            <p:cNvSpPr txBox="1"/>
            <p:nvPr/>
          </p:nvSpPr>
          <p:spPr>
            <a:xfrm>
              <a:off x="4643280" y="1700280"/>
              <a:ext cx="648000" cy="79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Tahoma"/>
                </a:rPr>
                <a:t>Ч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ahoma"/>
                <a:ea typeface="Tahoma"/>
              </a:endParaRPr>
            </a:p>
          </p:txBody>
        </p:sp>
        <p:sp>
          <p:nvSpPr>
            <p:cNvPr id="94" name="WordArt 12"/>
            <p:cNvSpPr txBox="1"/>
            <p:nvPr/>
          </p:nvSpPr>
          <p:spPr>
            <a:xfrm>
              <a:off x="5148360" y="1916280"/>
              <a:ext cx="71892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Tahoma"/>
                </a:rPr>
                <a:t>О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ahoma"/>
                <a:ea typeface="Tahoma"/>
              </a:endParaRPr>
            </a:p>
          </p:txBody>
        </p:sp>
        <p:sp>
          <p:nvSpPr>
            <p:cNvPr id="95" name="WordArt 13"/>
            <p:cNvSpPr txBox="1"/>
            <p:nvPr/>
          </p:nvSpPr>
          <p:spPr>
            <a:xfrm>
              <a:off x="5796000" y="1700280"/>
              <a:ext cx="647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ahoma"/>
                </a:rPr>
                <a:t>К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  <a:ea typeface="Tahoma"/>
              </a:endParaRPr>
            </a:p>
          </p:txBody>
        </p:sp>
        <p:sp>
          <p:nvSpPr>
            <p:cNvPr id="96" name="WordArt 9"/>
            <p:cNvSpPr txBox="1"/>
            <p:nvPr/>
          </p:nvSpPr>
          <p:spPr>
            <a:xfrm>
              <a:off x="3780000" y="1700280"/>
              <a:ext cx="57600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Tahoma"/>
                </a:rPr>
                <a:t>Р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ahoma"/>
                <a:ea typeface="Tahoma"/>
              </a:endParaRPr>
            </a:p>
          </p:txBody>
        </p:sp>
        <p:sp>
          <p:nvSpPr>
            <p:cNvPr id="97" name="WordArt 8"/>
            <p:cNvSpPr txBox="1"/>
            <p:nvPr/>
          </p:nvSpPr>
          <p:spPr>
            <a:xfrm>
              <a:off x="3203640" y="1989000"/>
              <a:ext cx="647640" cy="71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Tahoma"/>
                </a:rPr>
                <a:t>И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ahoma"/>
                <a:ea typeface="Tahoma"/>
              </a:endParaRPr>
            </a:p>
          </p:txBody>
        </p:sp>
        <p:sp>
          <p:nvSpPr>
            <p:cNvPr id="98" name="WordArt 7"/>
            <p:cNvSpPr txBox="1"/>
            <p:nvPr/>
          </p:nvSpPr>
          <p:spPr>
            <a:xfrm>
              <a:off x="2771640" y="1700280"/>
              <a:ext cx="5763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ahoma"/>
                </a:rPr>
                <a:t>Б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  <a:ea typeface="Tahoma"/>
              </a:endParaRPr>
            </a:p>
          </p:txBody>
        </p:sp>
        <p:sp>
          <p:nvSpPr>
            <p:cNvPr id="99" name="WordArt 6"/>
            <p:cNvSpPr txBox="1"/>
            <p:nvPr/>
          </p:nvSpPr>
          <p:spPr>
            <a:xfrm>
              <a:off x="2340000" y="1989000"/>
              <a:ext cx="57636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latin typeface="Tahoma"/>
                </a:rPr>
                <a:t>и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ahoma"/>
                <a:ea typeface="Tahoma"/>
              </a:endParaRPr>
            </a:p>
          </p:txBody>
        </p:sp>
        <p:sp>
          <p:nvSpPr>
            <p:cNvPr id="100" name="WordArt 5"/>
            <p:cNvSpPr txBox="1"/>
            <p:nvPr/>
          </p:nvSpPr>
          <p:spPr>
            <a:xfrm>
              <a:off x="1692360" y="1628640"/>
              <a:ext cx="72072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Tahoma"/>
                </a:rPr>
                <a:t>С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ahoma"/>
                <a:ea typeface="Tahoma"/>
              </a:endParaRPr>
            </a:p>
          </p:txBody>
        </p:sp>
        <p:sp>
          <p:nvSpPr>
            <p:cNvPr id="101" name="WordArt 10"/>
            <p:cNvSpPr txBox="1"/>
            <p:nvPr/>
          </p:nvSpPr>
          <p:spPr>
            <a:xfrm>
              <a:off x="4067280" y="1989000"/>
              <a:ext cx="720720" cy="71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Tahoma"/>
                </a:rPr>
                <a:t>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ahoma"/>
                <a:ea typeface="Tahoma"/>
              </a:endParaRPr>
            </a:p>
          </p:txBody>
        </p:sp>
      </p:grpSp>
      <p:pic>
        <p:nvPicPr>
          <p:cNvPr id="102" name="Picture 18" descr="SANY0335"/>
          <p:cNvPicPr/>
          <p:nvPr/>
        </p:nvPicPr>
        <p:blipFill>
          <a:blip r:embed="rId2"/>
          <a:stretch/>
        </p:blipFill>
        <p:spPr>
          <a:xfrm rot="15779400">
            <a:off x="2390040" y="3307680"/>
            <a:ext cx="3860640" cy="28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Comic Sans MS"/>
              </a:rPr>
              <a:t>Волшебные свойства Сибирячк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6600"/>
                </a:solidFill>
                <a:latin typeface="Comic Sans MS"/>
              </a:rPr>
              <a:t>Наш Сибирячок родился необычно – появился он из   шишки старого кедра, который рос на берегу Байкал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6600"/>
                </a:solidFill>
                <a:latin typeface="Comic Sans MS"/>
              </a:rPr>
              <a:t>Сибирячок умеет говорить на разных языках – на птичьем, на зверином, умеет разговаривать с деревьями, с цвет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1547640" y="4594320"/>
            <a:ext cx="3095640" cy="209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600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Comic Sans MS"/>
              </a:rPr>
              <a:t>Сказки, о нашем Сибирячк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640" y="1052280"/>
            <a:ext cx="7632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6600"/>
                </a:solidFill>
                <a:latin typeface="Comic Sans MS"/>
              </a:rPr>
              <a:t>Сибиряч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6600"/>
                </a:solidFill>
                <a:latin typeface="Comic Sans MS"/>
              </a:rPr>
              <a:t>Как Сибирячок читал лесную книг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6600"/>
                </a:solidFill>
                <a:latin typeface="Comic Sans MS"/>
              </a:rPr>
              <a:t>Как Сибирячок искал в тайге свой цвет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6600"/>
                </a:solidFill>
                <a:latin typeface="Comic Sans MS"/>
              </a:rPr>
              <a:t>Как Сибирячок осень собир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сибирячок0004"/>
          <p:cNvPicPr/>
          <p:nvPr/>
        </p:nvPicPr>
        <p:blipFill>
          <a:blip r:embed="rId2"/>
          <a:stretch/>
        </p:blipFill>
        <p:spPr>
          <a:xfrm rot="20574600">
            <a:off x="2627280" y="3789360"/>
            <a:ext cx="1575000" cy="259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сибирячок0005"/>
          <p:cNvPicPr/>
          <p:nvPr/>
        </p:nvPicPr>
        <p:blipFill>
          <a:blip r:embed="rId3"/>
          <a:stretch/>
        </p:blipFill>
        <p:spPr>
          <a:xfrm>
            <a:off x="539640" y="3789360"/>
            <a:ext cx="1573200" cy="252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сибирячок0006"/>
          <p:cNvPicPr/>
          <p:nvPr/>
        </p:nvPicPr>
        <p:blipFill>
          <a:blip r:embed="rId4"/>
          <a:stretch/>
        </p:blipFill>
        <p:spPr>
          <a:xfrm>
            <a:off x="5003640" y="3716280"/>
            <a:ext cx="1509840" cy="244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5"/>
          <a:stretch/>
        </p:blipFill>
        <p:spPr>
          <a:xfrm rot="357600">
            <a:off x="7380360" y="2781000"/>
            <a:ext cx="1422360" cy="23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Comic Sans MS"/>
              </a:rPr>
              <a:t>За что мы любим Сибиряч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6600"/>
                </a:solidFill>
                <a:latin typeface="Comic Sans MS"/>
              </a:rPr>
              <a:t>Сибирячок наш очень любознательный, с ним очень интересн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6600"/>
                </a:solidFill>
                <a:latin typeface="Comic Sans MS"/>
              </a:rPr>
              <a:t>С ним происходят очень интересные приключ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SANY0334"/>
          <p:cNvPicPr/>
          <p:nvPr/>
        </p:nvPicPr>
        <p:blipFill>
          <a:blip r:embed="rId2"/>
          <a:stretch/>
        </p:blipFill>
        <p:spPr>
          <a:xfrm rot="16692600">
            <a:off x="3828960" y="4316040"/>
            <a:ext cx="2492280" cy="186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6633"/>
                </a:solidFill>
                <a:latin typeface="Comic Sans MS"/>
              </a:rPr>
              <a:t>Почему же мы выбрали Сибиряч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84360" y="1197000"/>
            <a:ext cx="75546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cc9900"/>
                </a:solidFill>
                <a:latin typeface="Comic Sans MS"/>
              </a:rPr>
              <a:t>Во-первых, Сибирячок родился в нашем сибирском краю, на берегу нашего прекрасного озера Байк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9900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cc9900"/>
                </a:solidFill>
                <a:latin typeface="Comic Sans MS"/>
              </a:rPr>
              <a:t>Во-вторых, с 1992 года у нас, в Иркутской области выпускается журнал «Сибирячок». Этот журнал мы любим читать – в нем печатают сказки, стихи, рассказывают о писателях, художниках, народных умельцах, есть загадки, ребусы, проводятся разные конкурсы для нас, в которых мы участвуем и, конечно же, рассказывается о новых приключениях Сибиряч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SANY0333"/>
          <p:cNvPicPr/>
          <p:nvPr/>
        </p:nvPicPr>
        <p:blipFill>
          <a:blip r:embed="rId2"/>
          <a:stretch/>
        </p:blipFill>
        <p:spPr>
          <a:xfrm>
            <a:off x="826920" y="4365720"/>
            <a:ext cx="2652840" cy="1989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SANY0331"/>
          <p:cNvPicPr/>
          <p:nvPr/>
        </p:nvPicPr>
        <p:blipFill>
          <a:blip r:embed="rId3"/>
          <a:stretch/>
        </p:blipFill>
        <p:spPr>
          <a:xfrm>
            <a:off x="4067280" y="4365720"/>
            <a:ext cx="2519280" cy="18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0_6f554_89b3f9ca_orig"/>
          <p:cNvPicPr/>
          <p:nvPr/>
        </p:nvPicPr>
        <p:blipFill>
          <a:blip r:embed="rId2"/>
          <a:stretch/>
        </p:blipFill>
        <p:spPr>
          <a:xfrm rot="20921400">
            <a:off x="755280" y="475920"/>
            <a:ext cx="2695680" cy="3705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0_6f4ee_31b505d3_orig"/>
          <p:cNvPicPr/>
          <p:nvPr/>
        </p:nvPicPr>
        <p:blipFill>
          <a:blip r:embed="rId3"/>
          <a:stretch/>
        </p:blipFill>
        <p:spPr>
          <a:xfrm rot="504000">
            <a:off x="5849640" y="674640"/>
            <a:ext cx="2543040" cy="3457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сибирячок"/>
          <p:cNvPicPr/>
          <p:nvPr/>
        </p:nvPicPr>
        <p:blipFill>
          <a:blip r:embed="rId4"/>
          <a:stretch/>
        </p:blipFill>
        <p:spPr>
          <a:xfrm>
            <a:off x="3492360" y="0"/>
            <a:ext cx="2313000" cy="3268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0_6f555_e062733_orig"/>
          <p:cNvPicPr/>
          <p:nvPr/>
        </p:nvPicPr>
        <p:blipFill>
          <a:blip r:embed="rId5"/>
          <a:stretch/>
        </p:blipFill>
        <p:spPr>
          <a:xfrm rot="258000">
            <a:off x="3492000" y="3357720"/>
            <a:ext cx="2170080" cy="2974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6"/>
          <a:stretch/>
        </p:blipFill>
        <p:spPr>
          <a:xfrm>
            <a:off x="6012000" y="3500280"/>
            <a:ext cx="2047680" cy="2892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"/>
          <p:cNvPicPr/>
          <p:nvPr/>
        </p:nvPicPr>
        <p:blipFill>
          <a:blip r:embed="rId7"/>
          <a:stretch/>
        </p:blipFill>
        <p:spPr>
          <a:xfrm rot="20948400">
            <a:off x="971280" y="3789360"/>
            <a:ext cx="1996920" cy="282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21:39:28Z</dcterms:created>
  <dc:creator>Людмила</dc:creator>
  <dc:description/>
  <dc:language>en-US</dc:language>
  <cp:lastModifiedBy>Людмила</cp:lastModifiedBy>
  <dcterms:modified xsi:type="dcterms:W3CDTF">2013-02-13T22:05:25Z</dcterms:modified>
  <cp:revision>2</cp:revision>
  <dc:subject/>
  <dc:title>Слайд 1</dc:title>
</cp:coreProperties>
</file>