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D54-B08F-43B7-9F4A-58B0A7A3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24B-B233-410F-9896-C22F637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CD6-B387-4823-8DB8-5DEC0640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303-8B6E-4087-90F4-83F56EC9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E8BF-A197-457D-8843-BAA70104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472C-CE05-4B4E-8C5A-1107AB65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D432-2F55-408E-A743-F3A9C589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DB32-D50F-4BA8-91D3-CDD886E5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4ED6-C26D-40FE-A066-A3215764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50B6-EC7A-4008-A5E4-42EC2A9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00F9-6C8A-4326-A908-B2D27AD4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EA7-834B-45F8-8C6F-64A44396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7A43-70EA-4101-BDD8-0CC4E542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4A71-F1FC-40B9-A95C-997706A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3DB3-048B-4E63-BD99-A7B9E58C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9427-192D-4343-88AC-9ED3D832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F7C4-8F18-4739-8851-963F53F3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A7B-F15D-4BF1-89DB-911503FC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2DD-959F-4D7F-B72C-5D2D7C3E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627-EF19-4F0B-9483-82E647C2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654-83EB-43AA-BEA9-CAC0015D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645-E56C-4107-9087-09E6921D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1FB-AEF6-466F-B228-14EAC07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8CF-9062-4F1C-9419-47FE55F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9175-DE03-4CDA-BA30-CA3E16793A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9AA-E54E-456B-A38D-E06E971BBF8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1403280" y="2205000"/>
            <a:ext cx="640872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а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Пчелиный рай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1979640" y="476280"/>
            <a:ext cx="54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минация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скурс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6"/>
          <a:stretch/>
        </p:blipFill>
        <p:spPr>
          <a:xfrm>
            <a:off x="684360" y="4581360"/>
            <a:ext cx="3097080" cy="1916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407520"/>
            <a:ext cx="69706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Comic Sans MS"/>
              </a:rPr>
              <a:t>Наш сказочный герой 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2" name="Group 20"/>
          <p:cNvGrpSpPr/>
          <p:nvPr/>
        </p:nvGrpSpPr>
        <p:grpSpPr>
          <a:xfrm>
            <a:off x="1692360" y="1628640"/>
            <a:ext cx="4751280" cy="1081080"/>
            <a:chOff x="1692360" y="1628640"/>
            <a:chExt cx="4751280" cy="1081080"/>
          </a:xfrm>
        </p:grpSpPr>
        <p:sp>
          <p:nvSpPr>
            <p:cNvPr id="93" name="WordArt 11"/>
            <p:cNvSpPr txBox="1"/>
            <p:nvPr/>
          </p:nvSpPr>
          <p:spPr>
            <a:xfrm>
              <a:off x="4643280" y="1700280"/>
              <a:ext cx="648000" cy="7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ahoma"/>
                </a:rPr>
                <a:t>Ч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ahoma"/>
                <a:ea typeface="Tahoma"/>
              </a:endParaRPr>
            </a:p>
          </p:txBody>
        </p:sp>
        <p:sp>
          <p:nvSpPr>
            <p:cNvPr id="94" name="WordArt 12"/>
            <p:cNvSpPr txBox="1"/>
            <p:nvPr/>
          </p:nvSpPr>
          <p:spPr>
            <a:xfrm>
              <a:off x="5148360" y="1916280"/>
              <a:ext cx="71892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Tahoma"/>
                </a:rPr>
                <a:t>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ahoma"/>
                <a:ea typeface="Tahoma"/>
              </a:endParaRPr>
            </a:p>
          </p:txBody>
        </p:sp>
        <p:sp>
          <p:nvSpPr>
            <p:cNvPr id="95" name="WordArt 13"/>
            <p:cNvSpPr txBox="1"/>
            <p:nvPr/>
          </p:nvSpPr>
          <p:spPr>
            <a:xfrm>
              <a:off x="5796000" y="1700280"/>
              <a:ext cx="647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ahoma"/>
                </a:rPr>
                <a:t>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  <a:ea typeface="Tahoma"/>
              </a:endParaRPr>
            </a:p>
          </p:txBody>
        </p:sp>
        <p:sp>
          <p:nvSpPr>
            <p:cNvPr id="96" name="WordArt 9"/>
            <p:cNvSpPr txBox="1"/>
            <p:nvPr/>
          </p:nvSpPr>
          <p:spPr>
            <a:xfrm>
              <a:off x="3780000" y="1700280"/>
              <a:ext cx="5760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Tahoma"/>
                </a:rPr>
                <a:t>Р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ahoma"/>
                <a:ea typeface="Tahoma"/>
              </a:endParaRPr>
            </a:p>
          </p:txBody>
        </p:sp>
        <p:sp>
          <p:nvSpPr>
            <p:cNvPr id="97" name="WordArt 8"/>
            <p:cNvSpPr txBox="1"/>
            <p:nvPr/>
          </p:nvSpPr>
          <p:spPr>
            <a:xfrm>
              <a:off x="3203640" y="1989000"/>
              <a:ext cx="64764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ahoma"/>
                </a:rPr>
                <a:t>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ahoma"/>
                <a:ea typeface="Tahoma"/>
              </a:endParaRPr>
            </a:p>
          </p:txBody>
        </p:sp>
        <p:sp>
          <p:nvSpPr>
            <p:cNvPr id="98" name="WordArt 7"/>
            <p:cNvSpPr txBox="1"/>
            <p:nvPr/>
          </p:nvSpPr>
          <p:spPr>
            <a:xfrm>
              <a:off x="2771640" y="1700280"/>
              <a:ext cx="576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ahoma"/>
                </a:rPr>
                <a:t>Б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  <a:ea typeface="Tahoma"/>
              </a:endParaRPr>
            </a:p>
          </p:txBody>
        </p:sp>
        <p:sp>
          <p:nvSpPr>
            <p:cNvPr id="99" name="WordArt 6"/>
            <p:cNvSpPr txBox="1"/>
            <p:nvPr/>
          </p:nvSpPr>
          <p:spPr>
            <a:xfrm>
              <a:off x="2340000" y="1989000"/>
              <a:ext cx="5763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Tahoma"/>
                </a:rPr>
                <a:t>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ahoma"/>
                <a:ea typeface="Tahoma"/>
              </a:endParaRPr>
            </a:p>
          </p:txBody>
        </p:sp>
        <p:sp>
          <p:nvSpPr>
            <p:cNvPr id="100" name="WordArt 5"/>
            <p:cNvSpPr txBox="1"/>
            <p:nvPr/>
          </p:nvSpPr>
          <p:spPr>
            <a:xfrm>
              <a:off x="1692360" y="1628640"/>
              <a:ext cx="720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ahoma"/>
                </a:rPr>
                <a:t>С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ahoma"/>
                <a:ea typeface="Tahoma"/>
              </a:endParaRPr>
            </a:p>
          </p:txBody>
        </p:sp>
        <p:sp>
          <p:nvSpPr>
            <p:cNvPr id="101" name="WordArt 10"/>
            <p:cNvSpPr txBox="1"/>
            <p:nvPr/>
          </p:nvSpPr>
          <p:spPr>
            <a:xfrm>
              <a:off x="4067280" y="1989000"/>
              <a:ext cx="72072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ahoma"/>
                </a:rPr>
                <a:t>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  <a:ea typeface="Tahoma"/>
              </a:endParaRPr>
            </a:p>
          </p:txBody>
        </p:sp>
      </p:grpSp>
      <p:pic>
        <p:nvPicPr>
          <p:cNvPr id="102" name="Picture 18" descr="SANY0335"/>
          <p:cNvPicPr/>
          <p:nvPr/>
        </p:nvPicPr>
        <p:blipFill>
          <a:blip r:embed="rId2"/>
          <a:stretch/>
        </p:blipFill>
        <p:spPr>
          <a:xfrm rot="15779400">
            <a:off x="2390040" y="3307680"/>
            <a:ext cx="386064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Comic Sans MS"/>
              </a:rPr>
              <a:t>Волшебные свойства Сибирячк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Наш Сибирячок родился необычно – появился он из   шишки старого кедра, который рос на берегу Байк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Сибирячок умеет говорить на разных языках – на птичьем, на зверином, умеет разговаривать с деревьями, с цвет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547640" y="4594320"/>
            <a:ext cx="309564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60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Comic Sans MS"/>
              </a:rPr>
              <a:t>Сказки, о нашем Сибирячк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Сибиряч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Как Сибирячок читал лесную кни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Как Сибирячок искал в тайге свой цве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Как Сибирячок осень собир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сибирячок0004"/>
          <p:cNvPicPr/>
          <p:nvPr/>
        </p:nvPicPr>
        <p:blipFill>
          <a:blip r:embed="rId2"/>
          <a:stretch/>
        </p:blipFill>
        <p:spPr>
          <a:xfrm rot="20574600">
            <a:off x="2627280" y="3789360"/>
            <a:ext cx="157500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сибирячок0005"/>
          <p:cNvPicPr/>
          <p:nvPr/>
        </p:nvPicPr>
        <p:blipFill>
          <a:blip r:embed="rId3"/>
          <a:stretch/>
        </p:blipFill>
        <p:spPr>
          <a:xfrm>
            <a:off x="539640" y="3789360"/>
            <a:ext cx="1573200" cy="252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сибирячок0006"/>
          <p:cNvPicPr/>
          <p:nvPr/>
        </p:nvPicPr>
        <p:blipFill>
          <a:blip r:embed="rId4"/>
          <a:stretch/>
        </p:blipFill>
        <p:spPr>
          <a:xfrm>
            <a:off x="5003640" y="3716280"/>
            <a:ext cx="150984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5"/>
          <a:stretch/>
        </p:blipFill>
        <p:spPr>
          <a:xfrm rot="357600">
            <a:off x="7380360" y="2781000"/>
            <a:ext cx="142236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За что мы любим Сибиряч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Сибирячок наш очень любознательный, с ним очень интерес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С ним происходят очень интересные приклю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SANY0334"/>
          <p:cNvPicPr/>
          <p:nvPr/>
        </p:nvPicPr>
        <p:blipFill>
          <a:blip r:embed="rId2"/>
          <a:stretch/>
        </p:blipFill>
        <p:spPr>
          <a:xfrm rot="16692600">
            <a:off x="3828960" y="4316040"/>
            <a:ext cx="2492280" cy="18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6633"/>
                </a:solidFill>
                <a:latin typeface="Comic Sans MS"/>
              </a:rPr>
              <a:t>Почему же мы выбрали Сибиряч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4360" y="1197000"/>
            <a:ext cx="75546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Во-первых, Сибирячок родился в нашем сибирском краю, на берегу нашего прекрасного озера Бай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Во-вторых, с 1992 года у нас, в Иркутской области выпускается журнал «Сибирячок». Этот журнал мы любим читать – в нем печатают сказки, стихи, рассказывают о писателях, художниках, народных умельцах, есть загадки, ребусы, проводятся разные конкурсы для нас, в которых мы участвуем и, конечно же, рассказывается о новых приключениях Сибиря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SANY0333"/>
          <p:cNvPicPr/>
          <p:nvPr/>
        </p:nvPicPr>
        <p:blipFill>
          <a:blip r:embed="rId2"/>
          <a:stretch/>
        </p:blipFill>
        <p:spPr>
          <a:xfrm>
            <a:off x="826920" y="4365720"/>
            <a:ext cx="2652840" cy="198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SANY0331"/>
          <p:cNvPicPr/>
          <p:nvPr/>
        </p:nvPicPr>
        <p:blipFill>
          <a:blip r:embed="rId3"/>
          <a:stretch/>
        </p:blipFill>
        <p:spPr>
          <a:xfrm>
            <a:off x="4067280" y="4365720"/>
            <a:ext cx="251928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0_6f554_89b3f9ca_orig"/>
          <p:cNvPicPr/>
          <p:nvPr/>
        </p:nvPicPr>
        <p:blipFill>
          <a:blip r:embed="rId2"/>
          <a:stretch/>
        </p:blipFill>
        <p:spPr>
          <a:xfrm rot="20921400">
            <a:off x="755280" y="475920"/>
            <a:ext cx="2695680" cy="3705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0_6f4ee_31b505d3_orig"/>
          <p:cNvPicPr/>
          <p:nvPr/>
        </p:nvPicPr>
        <p:blipFill>
          <a:blip r:embed="rId3"/>
          <a:stretch/>
        </p:blipFill>
        <p:spPr>
          <a:xfrm rot="504000">
            <a:off x="5849640" y="674640"/>
            <a:ext cx="2543040" cy="345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сибирячок"/>
          <p:cNvPicPr/>
          <p:nvPr/>
        </p:nvPicPr>
        <p:blipFill>
          <a:blip r:embed="rId4"/>
          <a:stretch/>
        </p:blipFill>
        <p:spPr>
          <a:xfrm>
            <a:off x="3492360" y="0"/>
            <a:ext cx="2313000" cy="326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0_6f555_e062733_orig"/>
          <p:cNvPicPr/>
          <p:nvPr/>
        </p:nvPicPr>
        <p:blipFill>
          <a:blip r:embed="rId5"/>
          <a:stretch/>
        </p:blipFill>
        <p:spPr>
          <a:xfrm rot="258000">
            <a:off x="3492000" y="3357720"/>
            <a:ext cx="2170080" cy="297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6"/>
          <a:stretch/>
        </p:blipFill>
        <p:spPr>
          <a:xfrm>
            <a:off x="6012000" y="3500280"/>
            <a:ext cx="2047680" cy="289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7"/>
          <a:stretch/>
        </p:blipFill>
        <p:spPr>
          <a:xfrm rot="20948400">
            <a:off x="971280" y="3789360"/>
            <a:ext cx="1996920" cy="28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39:28Z</dcterms:created>
  <dc:creator>Людмила</dc:creator>
  <dc:description/>
  <dc:language>en-US</dc:language>
  <cp:lastModifiedBy>Людмила</cp:lastModifiedBy>
  <dcterms:modified xsi:type="dcterms:W3CDTF">2013-02-13T22:05:25Z</dcterms:modified>
  <cp:revision>2</cp:revision>
  <dc:subject/>
  <dc:title>Слайд 1</dc:title>
</cp:coreProperties>
</file>