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gif" ContentType="image/gif"/>
  <Override PartName="/ppt/media/image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8.jpeg" ContentType="image/jpeg"/>
  <Override PartName="/ppt/media/image27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6544-7A6A-4FF5-9534-03C8230C29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B8D5-2364-4E1E-9A06-8F84DD5E65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0EF1-7E40-4EDE-9183-50ACFCB769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6A7A-5FCC-47A7-B0D5-51ACFA67F1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CFA7-A2ED-4522-BD40-8E7AA07860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5F24-DD85-4C4E-B995-D41FD8941B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D652-BBAD-4CDA-BD92-B1B5A1F02E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926E-71F4-4EA9-AE36-1537264BC4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751F-F8D0-4DFC-9F6D-B1535741E8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BA86-A296-4AAD-AB74-F79C5E0D64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3153-390C-4742-B38E-07D933A35A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2546-96DC-472C-B797-60A1AE6749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8D56-D584-4D04-B358-16D3655160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0BA2-9974-4EBE-9C58-723DFD84BF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CB31-2329-4613-9CC7-3FC8E740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CEB9-9231-4E6E-8B3C-55B9F6F4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6A56-9684-482F-B7EF-9E3D4B4E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E157-AACD-4B79-9F2A-D8FCB563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EBD1-3769-4817-9B6B-EBECC05D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6BFE-47A1-4092-862A-D0F8E8E5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3AE1-1F5D-4CF0-B5A1-AF0E8A1F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986C-651B-4D58-8CC4-879AFCF2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413B-43E3-405B-B8A3-F74CFCEE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B5F4-46BF-4A23-A49B-2328D04E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4F3B-24C3-4687-8F82-D15E9B5A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E10C-5D8D-4A24-8D6B-AAAE3226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BC72-30E4-46EB-815E-7F585303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1CF6-285E-4981-A9B3-E0FC7C57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DAF5-15F0-43DB-A46C-5856AA9E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1AAF-C72A-4E67-B747-8D155597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2E22-092B-4D8D-99F9-8094DA2A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730CA-A3AE-4D49-A796-D4EF67B2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CDEE7-C348-4636-8C7F-2CC3D0F1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8A18A-3FD5-44D6-A448-80A57526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BDA4B-DFF7-4365-A055-D29D9A7E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B528A-8B68-494F-AD1C-9F7B40BF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49B4-7120-44FD-B933-8EDDB559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40692-A990-4FAB-B90E-CFDCC40A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BAE04-9C39-4EEE-BB1D-FE384F67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4541E-9CA5-43F5-B3E8-41284807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DE664-970B-49A8-B6F6-52EAF5C2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DBA1D-635D-4F58-B101-A5058C2D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1B782-7747-4365-B0B2-BFD398DC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04FA1-F8E9-412C-B064-EB9A32DB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1270-361B-4308-877D-340DB2A8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9579-98FB-4832-8F8F-F7A316CD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0A21-59EF-40FC-8D46-D472F44D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3B6D-86FC-48BC-BD1A-A848B4A2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2F14-DE05-412E-B216-DCA325C8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ABBA-3DBA-47E1-AF4B-8DABEF1A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21B7-1A17-457F-91E6-66FEB77712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C765-C820-4C8B-86E1-6EE6CB2BBB6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DD8B-0299-4DF6-BB8C-B43A7FD5A94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enc1p/47242" TargetMode="Externa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35&amp;text=&#1082;&#1072;&#1088;&#1090;&#1080;&#1085;&#1082;&#1072;%20&#1092;&#1086;&#1085;&#1090;&#1072;&#1085;&#1072;&amp;noreask=1&amp;img_url=http%3A%2F%2Fimg-fotki.yandex.ru%2Fget%2F3602%2Fvalentchernik.1%2F0_d919_9e435128_XL&amp;pos=1078&amp;rpt=simage&amp;lr=39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186920" y="4076280"/>
            <a:ext cx="74883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d0026"/>
                </a:solidFill>
                <a:latin typeface="Arial"/>
              </a:rPr>
              <a:t>«Согласные звуки [ ф], [ ф']. Буквы Ф, ф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0033"/>
                </a:solidFill>
                <a:latin typeface="Times New Roman"/>
              </a:rPr>
              <a:t>ФЕН</a:t>
            </a:r>
            <a:endParaRPr b="0" lang="en-US" sz="9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66" name="Picture 4" descr="1300_1"/>
          <p:cNvPicPr/>
          <p:nvPr/>
        </p:nvPicPr>
        <p:blipFill>
          <a:blip r:embed="rId1"/>
          <a:stretch/>
        </p:blipFill>
        <p:spPr>
          <a:xfrm>
            <a:off x="2771640" y="1989000"/>
            <a:ext cx="4105440" cy="3745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0033"/>
                </a:solidFill>
                <a:latin typeface="Times New Roman"/>
              </a:rPr>
              <a:t>ФАКЕЛ</a:t>
            </a:r>
            <a:endParaRPr b="0" lang="en-US" sz="9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68" name="Picture 3" descr="00537253"/>
          <p:cNvPicPr/>
          <p:nvPr/>
        </p:nvPicPr>
        <p:blipFill>
          <a:blip r:embed="rId1"/>
          <a:stretch/>
        </p:blipFill>
        <p:spPr>
          <a:xfrm>
            <a:off x="900000" y="1916280"/>
            <a:ext cx="3311640" cy="4503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13"/>
          <p:cNvPicPr/>
          <p:nvPr/>
        </p:nvPicPr>
        <p:blipFill>
          <a:blip r:embed="rId2"/>
          <a:stretch/>
        </p:blipFill>
        <p:spPr>
          <a:xfrm>
            <a:off x="4716360" y="2276640"/>
            <a:ext cx="302436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5"/>
          <p:cNvSpPr/>
          <p:nvPr/>
        </p:nvSpPr>
        <p:spPr>
          <a:xfrm>
            <a:off x="2484360" y="189000"/>
            <a:ext cx="504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0033"/>
                </a:solidFill>
                <a:latin typeface="Times New Roman"/>
              </a:rPr>
              <a:t>ФАУН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6" descr="297312452"/>
          <p:cNvPicPr/>
          <p:nvPr/>
        </p:nvPicPr>
        <p:blipFill>
          <a:blip r:embed="rId1"/>
          <a:stretch/>
        </p:blipFill>
        <p:spPr>
          <a:xfrm>
            <a:off x="611280" y="260280"/>
            <a:ext cx="1746000" cy="1503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7" descr="11433027_440986995_ca7b268c43"/>
          <p:cNvPicPr/>
          <p:nvPr/>
        </p:nvPicPr>
        <p:blipFill>
          <a:blip r:embed="rId2"/>
          <a:stretch/>
        </p:blipFill>
        <p:spPr>
          <a:xfrm>
            <a:off x="6588000" y="1413000"/>
            <a:ext cx="2409840" cy="1784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8" descr="mota_ru_0091015-preview"/>
          <p:cNvPicPr/>
          <p:nvPr/>
        </p:nvPicPr>
        <p:blipFill>
          <a:blip r:embed="rId3"/>
          <a:stretch/>
        </p:blipFill>
        <p:spPr>
          <a:xfrm>
            <a:off x="3635280" y="3716280"/>
            <a:ext cx="3907080" cy="2930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9" descr="blagorodniy_olen_3"/>
          <p:cNvPicPr/>
          <p:nvPr/>
        </p:nvPicPr>
        <p:blipFill>
          <a:blip r:embed="rId4"/>
          <a:stretch/>
        </p:blipFill>
        <p:spPr>
          <a:xfrm>
            <a:off x="611280" y="1844640"/>
            <a:ext cx="3636720" cy="2405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0" descr="HDpics"/>
          <p:cNvPicPr/>
          <p:nvPr/>
        </p:nvPicPr>
        <p:blipFill>
          <a:blip r:embed="rId5"/>
          <a:stretch/>
        </p:blipFill>
        <p:spPr>
          <a:xfrm>
            <a:off x="611280" y="4365720"/>
            <a:ext cx="2901960" cy="2319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1" descr="174b"/>
          <p:cNvPicPr/>
          <p:nvPr/>
        </p:nvPicPr>
        <p:blipFill>
          <a:blip r:embed="rId6"/>
          <a:stretch/>
        </p:blipFill>
        <p:spPr>
          <a:xfrm>
            <a:off x="4356000" y="2060640"/>
            <a:ext cx="2238480" cy="1550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2" descr="684257494751363968"/>
          <p:cNvPicPr/>
          <p:nvPr/>
        </p:nvPicPr>
        <p:blipFill>
          <a:blip r:embed="rId7"/>
          <a:stretch/>
        </p:blipFill>
        <p:spPr>
          <a:xfrm>
            <a:off x="7524720" y="3357720"/>
            <a:ext cx="1422360" cy="1803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3" descr="b_12373"/>
          <p:cNvPicPr/>
          <p:nvPr/>
        </p:nvPicPr>
        <p:blipFill>
          <a:blip r:embed="rId8"/>
          <a:stretch/>
        </p:blipFill>
        <p:spPr>
          <a:xfrm>
            <a:off x="6732720" y="5373720"/>
            <a:ext cx="2057400" cy="128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АУНА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982800" y="1653840"/>
            <a:ext cx="8145360" cy="49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14112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от латинского Fauna - богиня лесов и полей, покровительница животных в римской мифологии), исторически сложившаяся совокупность видов животных, обитающих на определенной территории. </a:t>
            </a:r>
            <a:r>
              <a:rPr b="0" lang="ru-RU" sz="3200" spc="-1" strike="noStrike" u="sng">
                <a:solidFill>
                  <a:srgbClr val="5a84d8"/>
                </a:solidFill>
                <a:uFillTx/>
                <a:latin typeface="Times New Roman"/>
                <a:hlinkClick r:id="rId1"/>
              </a:rPr>
              <a:t>Терми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"фауна" применяется и к совокупности животных какой-либо систематической категории (фауна птиц - орнитофауна, рыб - ихтиофаун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0033"/>
                </a:solidFill>
                <a:latin typeface="Times New Roman"/>
              </a:rPr>
              <a:t>ГРИФ</a:t>
            </a:r>
            <a:endParaRPr b="0" lang="en-US" sz="9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82" name="Picture 5" descr="guitar1"/>
          <p:cNvPicPr/>
          <p:nvPr/>
        </p:nvPicPr>
        <p:blipFill>
          <a:blip r:embed="rId1"/>
          <a:stretch/>
        </p:blipFill>
        <p:spPr>
          <a:xfrm>
            <a:off x="755640" y="1484280"/>
            <a:ext cx="3600360" cy="5040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2-48"/>
          <p:cNvPicPr/>
          <p:nvPr/>
        </p:nvPicPr>
        <p:blipFill>
          <a:blip r:embed="rId2"/>
          <a:stretch/>
        </p:blipFill>
        <p:spPr>
          <a:xfrm>
            <a:off x="4643280" y="1989000"/>
            <a:ext cx="3816360" cy="3983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0033"/>
                </a:solidFill>
                <a:latin typeface="Times New Roman"/>
              </a:rPr>
              <a:t>ФЛОРА</a:t>
            </a:r>
            <a:endParaRPr b="0" lang="en-US" sz="9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85" name="Picture 3" descr="romashka"/>
          <p:cNvPicPr/>
          <p:nvPr/>
        </p:nvPicPr>
        <p:blipFill>
          <a:blip r:embed="rId1"/>
          <a:stretch/>
        </p:blipFill>
        <p:spPr>
          <a:xfrm>
            <a:off x="395280" y="4365720"/>
            <a:ext cx="2665440" cy="2284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elgol"/>
          <p:cNvPicPr/>
          <p:nvPr/>
        </p:nvPicPr>
        <p:blipFill>
          <a:blip r:embed="rId2"/>
          <a:stretch/>
        </p:blipFill>
        <p:spPr>
          <a:xfrm>
            <a:off x="6372360" y="836640"/>
            <a:ext cx="2571480" cy="3527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bereza"/>
          <p:cNvPicPr/>
          <p:nvPr/>
        </p:nvPicPr>
        <p:blipFill>
          <a:blip r:embed="rId3"/>
          <a:stretch/>
        </p:blipFill>
        <p:spPr>
          <a:xfrm>
            <a:off x="6084720" y="4365720"/>
            <a:ext cx="2894040" cy="2271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14697"/>
          <p:cNvPicPr/>
          <p:nvPr/>
        </p:nvPicPr>
        <p:blipFill>
          <a:blip r:embed="rId4"/>
          <a:stretch/>
        </p:blipFill>
        <p:spPr>
          <a:xfrm>
            <a:off x="3492360" y="1484280"/>
            <a:ext cx="2811600" cy="2849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21_med"/>
          <p:cNvPicPr/>
          <p:nvPr/>
        </p:nvPicPr>
        <p:blipFill>
          <a:blip r:embed="rId5"/>
          <a:stretch/>
        </p:blipFill>
        <p:spPr>
          <a:xfrm>
            <a:off x="3132000" y="4365720"/>
            <a:ext cx="2880000" cy="2247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wallpapers_35244"/>
          <p:cNvPicPr/>
          <p:nvPr/>
        </p:nvPicPr>
        <p:blipFill>
          <a:blip r:embed="rId6"/>
          <a:stretch/>
        </p:blipFill>
        <p:spPr>
          <a:xfrm>
            <a:off x="539640" y="1916280"/>
            <a:ext cx="2880000" cy="2396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33"/>
                </a:solidFill>
                <a:latin typeface="Times New Roman"/>
              </a:rPr>
              <a:t>Флора</a:t>
            </a:r>
            <a:br>
              <a:rPr sz="4200"/>
            </a:b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2" name="Прямоугольник 2"/>
          <p:cNvSpPr/>
          <p:nvPr/>
        </p:nvSpPr>
        <p:spPr>
          <a:xfrm>
            <a:off x="826920" y="1379520"/>
            <a:ext cx="8317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лат. flora - по имени богини Флоры; от лат. flos, род. п. floris -цветок), исторически сложившаяся совокупность видов растений, населяющих какую-либо территорию или населявших ее в прошедшие геологические эпохи. Различают флору Земли, отдельных материков и их частей, островов, горных систем и т. п., а также флору стран, административных областей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0033"/>
                </a:solidFill>
                <a:latin typeface="Times New Roman"/>
              </a:rPr>
              <a:t>КОНФЕТТИ</a:t>
            </a:r>
            <a:endParaRPr b="0" lang="en-US" sz="9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94" name="Picture 3" descr="zvuk_konfetti1"/>
          <p:cNvPicPr/>
          <p:nvPr/>
        </p:nvPicPr>
        <p:blipFill>
          <a:blip r:embed="rId1"/>
          <a:stretch/>
        </p:blipFill>
        <p:spPr>
          <a:xfrm>
            <a:off x="1332000" y="1616040"/>
            <a:ext cx="6840360" cy="497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0033"/>
                </a:solidFill>
                <a:latin typeface="Times New Roman"/>
              </a:rPr>
              <a:t>ФЛОТ</a:t>
            </a:r>
            <a:endParaRPr b="0" lang="en-US" sz="9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96" name="Picture 4" descr="600"/>
          <p:cNvPicPr/>
          <p:nvPr/>
        </p:nvPicPr>
        <p:blipFill>
          <a:blip r:embed="rId1"/>
          <a:stretch/>
        </p:blipFill>
        <p:spPr>
          <a:xfrm>
            <a:off x="1187280" y="1700280"/>
            <a:ext cx="6978960" cy="4900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Расставь предложения в определённом порядке, чтобы получился рассказ: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8" name="Прямоугольник 2"/>
          <p:cNvSpPr/>
          <p:nvPr/>
        </p:nvSpPr>
        <p:spPr>
          <a:xfrm>
            <a:off x="831960" y="1484280"/>
            <a:ext cx="7920000" cy="58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Люди стояли на палуб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Вдруг один мальчик упал в во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ни подплыли к мальчику и не дали ему утону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о морю плыл большой теплохо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облизости плавали дельф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9" descr="http://im5-tub-ru.yandex.net/i?id=238117510-46-72&amp;n=21"/>
          <p:cNvPicPr/>
          <p:nvPr/>
        </p:nvPicPr>
        <p:blipFill>
          <a:blip r:embed="rId1"/>
          <a:stretch/>
        </p:blipFill>
        <p:spPr>
          <a:xfrm>
            <a:off x="0" y="11160"/>
            <a:ext cx="916956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33"/>
                </a:solidFill>
                <a:latin typeface="Times New Roman"/>
              </a:rPr>
              <a:t>Помощь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826920" y="1628640"/>
            <a:ext cx="792180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морю плыл большой теплох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близости плавали дельф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юди стояли на палу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друг один мальчик упал в в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ни подплыли к мальчику и не дали ему утон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О ком этот расск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- Ребята, как можно озаглавить расск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6477d"/>
                </a:solidFill>
                <a:latin typeface="Times New Roman"/>
              </a:rPr>
              <a:t>Проблемная ситуация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2" name="Прямоугольник 2"/>
          <p:cNvSpPr/>
          <p:nvPr/>
        </p:nvSpPr>
        <p:spPr>
          <a:xfrm>
            <a:off x="1116000" y="1628640"/>
            <a:ext cx="712800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- Назовите элемент бук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36477d"/>
                </a:solidFill>
                <a:latin typeface="Times New Roman"/>
              </a:rPr>
              <a:t>о</a:t>
            </a:r>
            <a:r>
              <a:rPr b="1" i="1" lang="ru-RU" sz="88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- В каких буквах встречаются такие элемен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3"/>
          <p:cNvSpPr/>
          <p:nvPr/>
        </p:nvSpPr>
        <p:spPr>
          <a:xfrm>
            <a:off x="755640" y="5300640"/>
            <a:ext cx="82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6477d"/>
                </a:solidFill>
                <a:latin typeface="Times New Roman"/>
              </a:rPr>
              <a:t>а б в о ю д Ф ф А Ж 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</a:rPr>
              <a:t>Строчная буква ф</a:t>
            </a:r>
            <a:endParaRPr b="0" lang="en-US" sz="6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5" name="Oval 15"/>
          <p:cNvSpPr/>
          <p:nvPr/>
        </p:nvSpPr>
        <p:spPr>
          <a:xfrm rot="1620600">
            <a:off x="3031920" y="2668680"/>
            <a:ext cx="936360" cy="2198520"/>
          </a:xfrm>
          <a:prstGeom prst="ellipse">
            <a:avLst/>
          </a:prstGeom>
          <a:noFill/>
          <a:ln w="152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8"/>
          <p:cNvSpPr/>
          <p:nvPr/>
        </p:nvSpPr>
        <p:spPr>
          <a:xfrm>
            <a:off x="1809720" y="2530440"/>
            <a:ext cx="1657440" cy="4076640"/>
          </a:xfrm>
          <a:custGeom>
            <a:avLst/>
            <a:gdLst/>
            <a:ahLst/>
            <a:rect l="l" t="t" r="r" b="b"/>
            <a:pathLst>
              <a:path w="1044" h="2568">
                <a:moveTo>
                  <a:pt x="0" y="2568"/>
                </a:moveTo>
                <a:cubicBezTo>
                  <a:pt x="90" y="2374"/>
                  <a:pt x="351" y="1820"/>
                  <a:pt x="525" y="1392"/>
                </a:cubicBezTo>
                <a:cubicBezTo>
                  <a:pt x="699" y="964"/>
                  <a:pt x="936" y="290"/>
                  <a:pt x="1044" y="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4"/>
          <p:cNvGrpSpPr/>
          <p:nvPr/>
        </p:nvGrpSpPr>
        <p:grpSpPr>
          <a:xfrm>
            <a:off x="539640" y="2530440"/>
            <a:ext cx="8569440" cy="2280960"/>
            <a:chOff x="539640" y="2530440"/>
            <a:chExt cx="8569440" cy="2280960"/>
          </a:xfrm>
        </p:grpSpPr>
        <p:sp>
          <p:nvSpPr>
            <p:cNvPr id="208" name="Line 5"/>
            <p:cNvSpPr/>
            <p:nvPr/>
          </p:nvSpPr>
          <p:spPr>
            <a:xfrm>
              <a:off x="539640" y="253044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>
              <a:off x="539640" y="48114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Oval 14"/>
          <p:cNvSpPr/>
          <p:nvPr/>
        </p:nvSpPr>
        <p:spPr>
          <a:xfrm rot="1620600">
            <a:off x="1995480" y="2639520"/>
            <a:ext cx="936720" cy="2198880"/>
          </a:xfrm>
          <a:prstGeom prst="ellipse">
            <a:avLst/>
          </a:prstGeom>
          <a:noFill/>
          <a:ln w="152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2"/>
          <p:cNvSpPr/>
          <p:nvPr/>
        </p:nvSpPr>
        <p:spPr>
          <a:xfrm>
            <a:off x="3340080" y="2516040"/>
            <a:ext cx="144360" cy="1447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Прописная /заглавная/ буква Ф</a:t>
            </a:r>
            <a:endParaRPr b="0" lang="en-US" sz="4000" spc="-1" strike="noStrike">
              <a:solidFill>
                <a:srgbClr val="660033"/>
              </a:solidFill>
              <a:latin typeface="Times New Roman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826920" y="1755720"/>
            <a:ext cx="8208720" cy="4373640"/>
            <a:chOff x="826920" y="1755720"/>
            <a:chExt cx="8208720" cy="4373640"/>
          </a:xfrm>
        </p:grpSpPr>
        <p:sp>
          <p:nvSpPr>
            <p:cNvPr id="214" name="Line 5"/>
            <p:cNvSpPr/>
            <p:nvPr/>
          </p:nvSpPr>
          <p:spPr>
            <a:xfrm>
              <a:off x="860760" y="3906720"/>
              <a:ext cx="802332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6"/>
            <p:cNvSpPr/>
            <p:nvPr/>
          </p:nvSpPr>
          <p:spPr>
            <a:xfrm>
              <a:off x="1012320" y="1755720"/>
              <a:ext cx="802332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7"/>
            <p:cNvSpPr/>
            <p:nvPr/>
          </p:nvSpPr>
          <p:spPr>
            <a:xfrm>
              <a:off x="826920" y="6129360"/>
              <a:ext cx="802296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Freeform 13"/>
          <p:cNvSpPr/>
          <p:nvPr/>
        </p:nvSpPr>
        <p:spPr>
          <a:xfrm>
            <a:off x="1355760" y="1754280"/>
            <a:ext cx="2606760" cy="4359240"/>
          </a:xfrm>
          <a:custGeom>
            <a:avLst/>
            <a:gdLst/>
            <a:ahLst/>
            <a:rect l="l" t="t" r="r" b="b"/>
            <a:pathLst>
              <a:path w="1642" h="2746">
                <a:moveTo>
                  <a:pt x="10" y="2328"/>
                </a:moveTo>
                <a:cubicBezTo>
                  <a:pt x="14" y="2360"/>
                  <a:pt x="0" y="2452"/>
                  <a:pt x="34" y="2520"/>
                </a:cubicBezTo>
                <a:cubicBezTo>
                  <a:pt x="68" y="2588"/>
                  <a:pt x="118" y="2746"/>
                  <a:pt x="214" y="2736"/>
                </a:cubicBezTo>
                <a:cubicBezTo>
                  <a:pt x="310" y="2726"/>
                  <a:pt x="452" y="2696"/>
                  <a:pt x="610" y="2460"/>
                </a:cubicBezTo>
                <a:cubicBezTo>
                  <a:pt x="768" y="2224"/>
                  <a:pt x="990" y="1730"/>
                  <a:pt x="1162" y="1320"/>
                </a:cubicBezTo>
                <a:cubicBezTo>
                  <a:pt x="1334" y="910"/>
                  <a:pt x="1542" y="275"/>
                  <a:pt x="1642" y="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6"/>
          <p:cNvSpPr/>
          <p:nvPr/>
        </p:nvSpPr>
        <p:spPr>
          <a:xfrm rot="1620600">
            <a:off x="2576160" y="1753920"/>
            <a:ext cx="936720" cy="2198520"/>
          </a:xfrm>
          <a:prstGeom prst="ellipse">
            <a:avLst/>
          </a:prstGeom>
          <a:noFill/>
          <a:ln w="152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7"/>
          <p:cNvSpPr/>
          <p:nvPr/>
        </p:nvSpPr>
        <p:spPr>
          <a:xfrm rot="1620600">
            <a:off x="3652920" y="1774440"/>
            <a:ext cx="936720" cy="2198880"/>
          </a:xfrm>
          <a:prstGeom prst="ellipse">
            <a:avLst/>
          </a:prstGeom>
          <a:noFill/>
          <a:ln w="152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0"/>
          <p:cNvSpPr/>
          <p:nvPr/>
        </p:nvSpPr>
        <p:spPr>
          <a:xfrm>
            <a:off x="3816360" y="1752480"/>
            <a:ext cx="144360" cy="1447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2"/>
          <p:cNvSpPr/>
          <p:nvPr/>
        </p:nvSpPr>
        <p:spPr>
          <a:xfrm>
            <a:off x="3672000" y="213372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560" y="41400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6477d"/>
                </a:solidFill>
                <a:latin typeface="Times New Roman"/>
                <a:ea typeface="Times New Roman"/>
              </a:rPr>
              <a:t>Почему одни слова с маленькой буквы записаны, а другие с большой?</a:t>
            </a:r>
            <a:br>
              <a:rPr sz="3600"/>
            </a:b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108000" y="1557360"/>
            <a:ext cx="903600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минго  флот   флаг франция  филя  фролов филин  футбол  фаи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-9360" y="4965840"/>
            <a:ext cx="9137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ишите слова: первый вариант –слова с маленькой буквы, второй вариант – слова с большой буквы. Поставьте ударения в слов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отнести слово и схе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фламин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фло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фла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фил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футбо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5"/>
          <p:cNvSpPr/>
          <p:nvPr/>
        </p:nvSpPr>
        <p:spPr>
          <a:xfrm>
            <a:off x="4859280" y="3068640"/>
            <a:ext cx="108108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952960" y="3068640"/>
            <a:ext cx="1090800" cy="517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30" name="Прямоугольник 7"/>
          <p:cNvSpPr/>
          <p:nvPr/>
        </p:nvSpPr>
        <p:spPr>
          <a:xfrm>
            <a:off x="7043760" y="3068640"/>
            <a:ext cx="623880" cy="51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9"/>
          <p:cNvSpPr/>
          <p:nvPr/>
        </p:nvSpPr>
        <p:spPr>
          <a:xfrm>
            <a:off x="5940360" y="2852640"/>
            <a:ext cx="1260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11"/>
          <p:cNvSpPr/>
          <p:nvPr/>
        </p:nvSpPr>
        <p:spPr>
          <a:xfrm>
            <a:off x="4859280" y="3068640"/>
            <a:ext cx="1093680" cy="50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13"/>
          <p:cNvSpPr/>
          <p:nvPr/>
        </p:nvSpPr>
        <p:spPr>
          <a:xfrm>
            <a:off x="5925960" y="3075120"/>
            <a:ext cx="1094040" cy="50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14"/>
          <p:cNvSpPr/>
          <p:nvPr/>
        </p:nvSpPr>
        <p:spPr>
          <a:xfrm flipH="1">
            <a:off x="5508360" y="2421000"/>
            <a:ext cx="14292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отнести слово и схе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Фра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Фи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Фро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Фа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994280" y="3432240"/>
            <a:ext cx="1090440" cy="517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38" name="Picture 3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597720" y="3421080"/>
            <a:ext cx="1090440" cy="519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9" name="Picture 4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6084720" y="3432240"/>
            <a:ext cx="513000" cy="517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0" name="Прямая соединительная линия 9"/>
          <p:cNvSpPr/>
          <p:nvPr/>
        </p:nvSpPr>
        <p:spPr>
          <a:xfrm>
            <a:off x="6084720" y="3213000"/>
            <a:ext cx="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13"/>
          <p:cNvSpPr/>
          <p:nvPr/>
        </p:nvSpPr>
        <p:spPr>
          <a:xfrm>
            <a:off x="6597720" y="3222720"/>
            <a:ext cx="0" cy="93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11"/>
          <p:cNvSpPr/>
          <p:nvPr/>
        </p:nvSpPr>
        <p:spPr>
          <a:xfrm>
            <a:off x="4994280" y="3432240"/>
            <a:ext cx="1090440" cy="51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16"/>
          <p:cNvSpPr/>
          <p:nvPr/>
        </p:nvSpPr>
        <p:spPr>
          <a:xfrm>
            <a:off x="6624720" y="3422520"/>
            <a:ext cx="100008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15"/>
          <p:cNvSpPr/>
          <p:nvPr/>
        </p:nvSpPr>
        <p:spPr>
          <a:xfrm flipH="1">
            <a:off x="6339960" y="2852640"/>
            <a:ext cx="257400" cy="37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33"/>
                </a:solidFill>
                <a:latin typeface="Times New Roman"/>
              </a:rPr>
              <a:t>Важное послание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46" name="Прямоугольник 2"/>
          <p:cNvSpPr/>
          <p:nvPr/>
        </p:nvSpPr>
        <p:spPr>
          <a:xfrm>
            <a:off x="684360" y="1773360"/>
            <a:ext cx="828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На  к…ждом  кора…ле   есть  …лаг. Мы горди…ся  своим  могучим  фл…том. Наш  флот х…дит   по  всем  морям и …кеан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33"/>
                </a:solidFill>
                <a:latin typeface="Times New Roman"/>
              </a:rPr>
              <a:t>Важное послание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48" name="Прямоугольник 2"/>
          <p:cNvSpPr/>
          <p:nvPr/>
        </p:nvSpPr>
        <p:spPr>
          <a:xfrm>
            <a:off x="684360" y="1773360"/>
            <a:ext cx="828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На  к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а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ждом  кора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б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ле   есть 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ф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лаг. Мы горди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м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я  своим  могучим  фл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о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том. Наш  флот х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о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дит   по  всем  морям и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о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кеан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0033"/>
                </a:solidFill>
                <a:latin typeface="Times New Roman"/>
              </a:rPr>
              <a:t>РЕБУС</a:t>
            </a:r>
            <a:endParaRPr b="0" lang="en-US" sz="6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"/>
          <p:cNvSpPr/>
          <p:nvPr/>
        </p:nvSpPr>
        <p:spPr>
          <a:xfrm>
            <a:off x="4140360" y="3716280"/>
            <a:ext cx="136836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2124000" y="5373720"/>
            <a:ext cx="51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03640" y="259920"/>
            <a:ext cx="293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0066ff"/>
                </a:solidFill>
                <a:latin typeface="Times New Roman"/>
              </a:rPr>
              <a:t>Ребусы</a:t>
            </a:r>
            <a:endParaRPr b="0" lang="en-US" sz="63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44956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Ф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58920" y="1413000"/>
            <a:ext cx="381492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 К Ф А Л 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  5 1 3 4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1332000" y="2492280"/>
            <a:ext cx="115092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758160" y="4724280"/>
            <a:ext cx="35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ФОНАР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651640" y="4869000"/>
            <a:ext cx="309564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ФИАЛ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Возьми голубой или синий карандаш и закрась все части рисунка, где изображена буква </a:t>
            </a:r>
            <a:r>
              <a:rPr b="0" lang="ru-RU" sz="4200" spc="-1" strike="noStrike">
                <a:solidFill>
                  <a:srgbClr val="660033"/>
                </a:solidFill>
                <a:latin typeface="Times New Roman"/>
              </a:rPr>
              <a:t>«Ф» или «ф»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900000" y="1684440"/>
            <a:ext cx="8097840" cy="4717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8436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ff"/>
                </a:solidFill>
                <a:latin typeface="Arial"/>
              </a:rPr>
              <a:t>ФОНТА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http://im2-tub-ru.yandex.net/i?id=26131794-27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628640"/>
            <a:ext cx="4321080" cy="289260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1"/>
          <p:cNvSpPr/>
          <p:nvPr/>
        </p:nvSpPr>
        <p:spPr>
          <a:xfrm>
            <a:off x="4427640" y="4562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НТАН (итал. fontana, от лат. fons - источник), 1) бьющая вверх струя (воды, нефти и т. д.). 2) Архитектурно оформленный источник; декоративное сооружение, служащее основанием или обрамлением льющих вверх или стекающих струй 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2880" y="263664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660033"/>
                </a:solidFill>
                <a:latin typeface="Times New Roman"/>
              </a:rPr>
              <a:t>СОГЛАСНАЯ БУКВА </a:t>
            </a:r>
            <a:br>
              <a:rPr sz="8800"/>
            </a:br>
            <a:r>
              <a:rPr b="0" lang="ru-RU" sz="16400" spc="-1" strike="noStrike">
                <a:solidFill>
                  <a:srgbClr val="660033"/>
                </a:solidFill>
                <a:latin typeface="Times New Roman"/>
              </a:rPr>
              <a:t>Ф</a:t>
            </a:r>
            <a:endParaRPr b="0" lang="en-US" sz="164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0033"/>
                </a:solidFill>
                <a:latin typeface="Times New Roman"/>
              </a:rPr>
              <a:t>Согласные звуки </a:t>
            </a: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[</a:t>
            </a:r>
            <a:r>
              <a:rPr b="0" lang="ru-RU" sz="4200" spc="-1" strike="noStrike">
                <a:solidFill>
                  <a:srgbClr val="660033"/>
                </a:solidFill>
                <a:latin typeface="Times New Roman"/>
              </a:rPr>
              <a:t>ф</a:t>
            </a: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]</a:t>
            </a:r>
            <a:r>
              <a:rPr b="0" lang="ru-RU" sz="4200" spc="-1" strike="noStrike">
                <a:solidFill>
                  <a:srgbClr val="660033"/>
                </a:solidFill>
                <a:latin typeface="Times New Roman"/>
              </a:rPr>
              <a:t>, </a:t>
            </a: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[</a:t>
            </a:r>
            <a:r>
              <a:rPr b="0" lang="ru-RU" sz="4200" spc="-1" strike="noStrike">
                <a:solidFill>
                  <a:srgbClr val="660033"/>
                </a:solidFill>
                <a:latin typeface="Times New Roman"/>
              </a:rPr>
              <a:t>ф  </a:t>
            </a: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]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5" name="Семиугольник 2"/>
          <p:cNvSpPr/>
          <p:nvPr/>
        </p:nvSpPr>
        <p:spPr>
          <a:xfrm>
            <a:off x="7380360" y="189000"/>
            <a:ext cx="179280" cy="982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2195640" y="2637000"/>
            <a:ext cx="2232000" cy="23763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4"/>
          <p:cNvSpPr/>
          <p:nvPr/>
        </p:nvSpPr>
        <p:spPr>
          <a:xfrm>
            <a:off x="5056200" y="2637000"/>
            <a:ext cx="2232000" cy="237636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565200" y="189000"/>
            <a:ext cx="854388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5000"/>
              </a:lnSpc>
              <a:spcBef>
                <a:spcPts val="601"/>
              </a:spcBef>
              <a:spcAft>
                <a:spcPts val="10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0026"/>
                </a:solidFill>
                <a:latin typeface="Arial"/>
                <a:ea typeface="Times New Roman"/>
              </a:rPr>
              <a:t>Корректурная проба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0" name="Прямоугольник 2"/>
          <p:cNvSpPr/>
          <p:nvPr/>
        </p:nvSpPr>
        <p:spPr>
          <a:xfrm>
            <a:off x="1042920" y="249228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п л т н г д а ц у е в д ы ф ч т х н к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 б ф п н е в ы д э ж т е к у м и с я ф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 ф и в ы ч с б н п в у т ф э ю т ь к н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 н т, а в ф с б т и м, а ф б о л д п, а 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0033"/>
                </a:solidFill>
                <a:latin typeface="Times New Roman"/>
              </a:rPr>
              <a:t>ФУФАЙКА</a:t>
            </a:r>
            <a:endParaRPr b="0" lang="en-US" sz="9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62" name="Picture 4" descr="610100 (1)"/>
          <p:cNvPicPr/>
          <p:nvPr/>
        </p:nvPicPr>
        <p:blipFill>
          <a:blip r:embed="rId1"/>
          <a:stretch/>
        </p:blipFill>
        <p:spPr>
          <a:xfrm>
            <a:off x="2268360" y="19162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0033"/>
                </a:solidFill>
                <a:latin typeface="Times New Roman"/>
              </a:rPr>
              <a:t>ОФИЦЕР</a:t>
            </a:r>
            <a:endParaRPr b="0" lang="en-US" sz="9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64" name="Picture 5" descr="fmt_53_28_1-oficery-cvet"/>
          <p:cNvPicPr/>
          <p:nvPr/>
        </p:nvPicPr>
        <p:blipFill>
          <a:blip r:embed="rId1"/>
          <a:stretch/>
        </p:blipFill>
        <p:spPr>
          <a:xfrm>
            <a:off x="1692360" y="1989000"/>
            <a:ext cx="511164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9:39:07Z</dcterms:created>
  <dc:creator>Огнева Виктория</dc:creator>
  <dc:description/>
  <dc:language>en-US</dc:language>
  <cp:lastModifiedBy>ТАНЯ</cp:lastModifiedBy>
  <dcterms:modified xsi:type="dcterms:W3CDTF">2013-02-05T16:05:52Z</dcterms:modified>
  <cp:revision>32</cp:revision>
  <dc:subject/>
  <dc:title>Ребусы</dc:title>
</cp:coreProperties>
</file>