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9458-61A8-41BF-BC60-ED343D161C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CF60-22FB-4ECC-AE11-B89BD399B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3B18-238C-4135-A29F-2BC81742A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28E8-EB82-499A-94B6-5C4B4891B1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7E1B-5670-471E-9555-136469722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4BFF-F023-4BBD-B225-337903B65D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090F-721F-492F-8D89-3B6786209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7AA9-A228-49B8-89C0-82C859823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922B-EA4B-41C0-AB8C-C7225AD71B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2271-806C-4058-BE4F-A76955A58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8625-4CFB-4F4C-BC0B-60B5202F7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CAA6-1CEF-4608-9A4B-2D3B5A63E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4C7B-E632-469D-8D78-16E7DCD6A4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9A67-5B3F-4945-9EB9-BEC91D9DF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974B-6A42-40AF-92DB-54AA248C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866-8963-439B-8C87-97384C88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F22-AB83-4C31-B359-8E83CD88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9CE-C6D3-407A-B236-00387C10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B238-110C-4362-9F49-E854068A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D4F5-765E-4F84-8E66-D346DE9E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9753-6C10-46E2-A338-200D92ED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42DC-76CD-42C9-A9A7-646F83BF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2E7A-6639-4B8D-83FC-C6D1E08D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D8EE-76B8-4D96-937F-19830F7F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507C-6DF1-4608-BB71-C28BCEA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2BD-14B4-4F9F-B63E-02F36810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2EAB-6524-49BE-8628-A18C2A06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31F5-B058-4134-9985-2F5BE5F1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B4B6-F7F0-4220-9F0E-5A6D201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6286-26F1-4984-B35A-7779A645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0B7D-D110-4E6E-BDE3-DB61F373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0F5A-7C06-42E9-A552-B48A23B3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2C9B-BA85-42E3-AB18-70956D78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7EC6-3E9F-4D1B-B8D1-09E951E4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0098D-66F9-4508-9351-0D7396D6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591C3-4DAB-4C77-92DF-6C0B4F35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B49-3D56-4A24-B721-936A5754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EB6E0-EB07-4EFF-A954-6E348E5C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6BAD-C00B-4714-B29F-6F76A6B5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2869-3A15-4462-96AA-32141E70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7ED9-4B4C-4217-B51C-3F46D71C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DE9B-A281-4F7E-ACBB-4C64B211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032C-A34E-4D4E-B9C3-4F7599FF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CE26-F6F8-49A6-B562-4FE7A475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F543-E3F6-4C4B-A351-B57AD914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B80-022E-48EB-A418-6FA84774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7FA-0296-41DA-8188-40A3BE31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E78-46CF-4BDB-B3E5-1E2A6C02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D0D-8FAE-44F4-BA11-3C124BFB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6EE-3FC6-4564-9FD2-CD760B5A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FC7E-328A-4C90-9B1F-1555E3EDB2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96C9-FB15-4401-8930-1F9E06658C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548-EC83-4B26-B0E2-A0F767EC54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1p/47242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5&amp;text=&#1082;&#1072;&#1088;&#1090;&#1080;&#1085;&#1082;&#1072;%20&#1092;&#1086;&#1085;&#1090;&#1072;&#1085;&#1072;&amp;noreask=1&amp;img_url=http%3A%2F%2Fimg-fotki.yandex.ru%2Fget%2F3602%2Fvalentchernik.1%2F0_d919_9e435128_XL&amp;pos=1078&amp;rpt=simage&amp;lr=39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86920" y="4076280"/>
            <a:ext cx="74883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d0026"/>
                </a:solidFill>
                <a:latin typeface="Arial"/>
              </a:rPr>
              <a:t>«Согласные звуки [ ф], [ ф']. Буквы Ф, ф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ЕН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6" name="Picture 4" descr="1300_1"/>
          <p:cNvPicPr/>
          <p:nvPr/>
        </p:nvPicPr>
        <p:blipFill>
          <a:blip r:embed="rId1"/>
          <a:stretch/>
        </p:blipFill>
        <p:spPr>
          <a:xfrm>
            <a:off x="2771640" y="1989000"/>
            <a:ext cx="410544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АКЕЛ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8" name="Picture 3" descr="00537253"/>
          <p:cNvPicPr/>
          <p:nvPr/>
        </p:nvPicPr>
        <p:blipFill>
          <a:blip r:embed="rId1"/>
          <a:stretch/>
        </p:blipFill>
        <p:spPr>
          <a:xfrm>
            <a:off x="900000" y="1916280"/>
            <a:ext cx="3311640" cy="4503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13"/>
          <p:cNvPicPr/>
          <p:nvPr/>
        </p:nvPicPr>
        <p:blipFill>
          <a:blip r:embed="rId2"/>
          <a:stretch/>
        </p:blipFill>
        <p:spPr>
          <a:xfrm>
            <a:off x="4716360" y="2276640"/>
            <a:ext cx="302436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5"/>
          <p:cNvSpPr/>
          <p:nvPr/>
        </p:nvSpPr>
        <p:spPr>
          <a:xfrm>
            <a:off x="2484360" y="189000"/>
            <a:ext cx="50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АУН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6" descr="297312452"/>
          <p:cNvPicPr/>
          <p:nvPr/>
        </p:nvPicPr>
        <p:blipFill>
          <a:blip r:embed="rId1"/>
          <a:stretch/>
        </p:blipFill>
        <p:spPr>
          <a:xfrm>
            <a:off x="611280" y="260280"/>
            <a:ext cx="1746000" cy="150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11433027_440986995_ca7b268c43"/>
          <p:cNvPicPr/>
          <p:nvPr/>
        </p:nvPicPr>
        <p:blipFill>
          <a:blip r:embed="rId2"/>
          <a:stretch/>
        </p:blipFill>
        <p:spPr>
          <a:xfrm>
            <a:off x="6588000" y="1413000"/>
            <a:ext cx="2409840" cy="1784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mota_ru_0091015-preview"/>
          <p:cNvPicPr/>
          <p:nvPr/>
        </p:nvPicPr>
        <p:blipFill>
          <a:blip r:embed="rId3"/>
          <a:stretch/>
        </p:blipFill>
        <p:spPr>
          <a:xfrm>
            <a:off x="3635280" y="3716280"/>
            <a:ext cx="3907080" cy="2930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blagorodniy_olen_3"/>
          <p:cNvPicPr/>
          <p:nvPr/>
        </p:nvPicPr>
        <p:blipFill>
          <a:blip r:embed="rId4"/>
          <a:stretch/>
        </p:blipFill>
        <p:spPr>
          <a:xfrm>
            <a:off x="611280" y="1844640"/>
            <a:ext cx="3636720" cy="2405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HDpics"/>
          <p:cNvPicPr/>
          <p:nvPr/>
        </p:nvPicPr>
        <p:blipFill>
          <a:blip r:embed="rId5"/>
          <a:stretch/>
        </p:blipFill>
        <p:spPr>
          <a:xfrm>
            <a:off x="611280" y="4365720"/>
            <a:ext cx="2901960" cy="2319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174b"/>
          <p:cNvPicPr/>
          <p:nvPr/>
        </p:nvPicPr>
        <p:blipFill>
          <a:blip r:embed="rId6"/>
          <a:stretch/>
        </p:blipFill>
        <p:spPr>
          <a:xfrm>
            <a:off x="4356000" y="2060640"/>
            <a:ext cx="2238480" cy="15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2" descr="684257494751363968"/>
          <p:cNvPicPr/>
          <p:nvPr/>
        </p:nvPicPr>
        <p:blipFill>
          <a:blip r:embed="rId7"/>
          <a:stretch/>
        </p:blipFill>
        <p:spPr>
          <a:xfrm>
            <a:off x="7524720" y="3357720"/>
            <a:ext cx="1422360" cy="1803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3" descr="b_12373"/>
          <p:cNvPicPr/>
          <p:nvPr/>
        </p:nvPicPr>
        <p:blipFill>
          <a:blip r:embed="rId8"/>
          <a:stretch/>
        </p:blipFill>
        <p:spPr>
          <a:xfrm>
            <a:off x="6732720" y="5373720"/>
            <a:ext cx="2057400" cy="12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УНА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982800" y="1653840"/>
            <a:ext cx="8145360" cy="49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14112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от латинского Fauna - богиня лесов и полей, покровительница животных в римской мифологии), исторически сложившаяся совокупность видов животных, обитающих на определенной территории. </a:t>
            </a:r>
            <a:r>
              <a:rPr b="0" lang="ru-RU" sz="3200" spc="-1" strike="noStrike" u="sng">
                <a:solidFill>
                  <a:srgbClr val="5a84d8"/>
                </a:solidFill>
                <a:uFillTx/>
                <a:latin typeface="Times New Roman"/>
                <a:hlinkClick r:id="rId1"/>
              </a:rPr>
              <a:t>Термин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"фауна" применяется и к совокупности животных какой-либо систематической категории (фауна птиц - орнитофауна, рыб - ихтиофау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ГРИФ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82" name="Picture 5" descr="guitar1"/>
          <p:cNvPicPr/>
          <p:nvPr/>
        </p:nvPicPr>
        <p:blipFill>
          <a:blip r:embed="rId1"/>
          <a:stretch/>
        </p:blipFill>
        <p:spPr>
          <a:xfrm>
            <a:off x="755640" y="1484280"/>
            <a:ext cx="3600360" cy="504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2-48"/>
          <p:cNvPicPr/>
          <p:nvPr/>
        </p:nvPicPr>
        <p:blipFill>
          <a:blip r:embed="rId2"/>
          <a:stretch/>
        </p:blipFill>
        <p:spPr>
          <a:xfrm>
            <a:off x="4643280" y="1989000"/>
            <a:ext cx="3816360" cy="3983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ЛОРА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85" name="Picture 3" descr="romashka"/>
          <p:cNvPicPr/>
          <p:nvPr/>
        </p:nvPicPr>
        <p:blipFill>
          <a:blip r:embed="rId1"/>
          <a:stretch/>
        </p:blipFill>
        <p:spPr>
          <a:xfrm>
            <a:off x="395280" y="4365720"/>
            <a:ext cx="2665440" cy="2284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elgol"/>
          <p:cNvPicPr/>
          <p:nvPr/>
        </p:nvPicPr>
        <p:blipFill>
          <a:blip r:embed="rId2"/>
          <a:stretch/>
        </p:blipFill>
        <p:spPr>
          <a:xfrm>
            <a:off x="6372360" y="836640"/>
            <a:ext cx="2571480" cy="3527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bereza"/>
          <p:cNvPicPr/>
          <p:nvPr/>
        </p:nvPicPr>
        <p:blipFill>
          <a:blip r:embed="rId3"/>
          <a:stretch/>
        </p:blipFill>
        <p:spPr>
          <a:xfrm>
            <a:off x="6084720" y="4365720"/>
            <a:ext cx="2894040" cy="2271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14697"/>
          <p:cNvPicPr/>
          <p:nvPr/>
        </p:nvPicPr>
        <p:blipFill>
          <a:blip r:embed="rId4"/>
          <a:stretch/>
        </p:blipFill>
        <p:spPr>
          <a:xfrm>
            <a:off x="3492360" y="1484280"/>
            <a:ext cx="2811600" cy="2849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21_med"/>
          <p:cNvPicPr/>
          <p:nvPr/>
        </p:nvPicPr>
        <p:blipFill>
          <a:blip r:embed="rId5"/>
          <a:stretch/>
        </p:blipFill>
        <p:spPr>
          <a:xfrm>
            <a:off x="3132000" y="4365720"/>
            <a:ext cx="2880000" cy="2247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wallpapers_35244"/>
          <p:cNvPicPr/>
          <p:nvPr/>
        </p:nvPicPr>
        <p:blipFill>
          <a:blip r:embed="rId6"/>
          <a:stretch/>
        </p:blipFill>
        <p:spPr>
          <a:xfrm>
            <a:off x="539640" y="1916280"/>
            <a:ext cx="2880000" cy="239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Флора</a:t>
            </a:r>
            <a:br>
              <a:rPr sz="4200"/>
            </a:b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826920" y="1379520"/>
            <a:ext cx="8317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лат. flora - по имени богини Флоры; от лат. flos, род. п. floris -цветок), исторически сложившаяся совокупность видов растений, населяющих какую-либо территорию или населявших ее в прошедшие геологические эпохи. Различают флору Земли, отдельных материков и их частей, островов, горных систем и т. п., а также флору стран, административных областей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КОНФЕТТИ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94" name="Picture 3" descr="zvuk_konfetti1"/>
          <p:cNvPicPr/>
          <p:nvPr/>
        </p:nvPicPr>
        <p:blipFill>
          <a:blip r:embed="rId1"/>
          <a:stretch/>
        </p:blipFill>
        <p:spPr>
          <a:xfrm>
            <a:off x="1332000" y="1616040"/>
            <a:ext cx="6840360" cy="497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ЛОТ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96" name="Picture 4" descr="600"/>
          <p:cNvPicPr/>
          <p:nvPr/>
        </p:nvPicPr>
        <p:blipFill>
          <a:blip r:embed="rId1"/>
          <a:stretch/>
        </p:blipFill>
        <p:spPr>
          <a:xfrm>
            <a:off x="1187280" y="1700280"/>
            <a:ext cx="6978960" cy="490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Расставь предложения в определённом порядке, чтобы получился рассказ: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8" name="Прямоугольник 2"/>
          <p:cNvSpPr/>
          <p:nvPr/>
        </p:nvSpPr>
        <p:spPr>
          <a:xfrm>
            <a:off x="831960" y="1484280"/>
            <a:ext cx="7920000" cy="58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юди стояли на палуб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друг один мальчик упал в в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ни подплыли к мальчику и не дали ему утону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 морю плыл большой теплох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близости плавали дельф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9" descr="http://im5-tub-ru.yandex.net/i?id=238117510-46-72&amp;n=21"/>
          <p:cNvPicPr/>
          <p:nvPr/>
        </p:nvPicPr>
        <p:blipFill>
          <a:blip r:embed="rId1"/>
          <a:stretch/>
        </p:blipFill>
        <p:spPr>
          <a:xfrm>
            <a:off x="0" y="11160"/>
            <a:ext cx="91695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Помощь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826920" y="1628640"/>
            <a:ext cx="79218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морю плыл большой тепло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близости плавали дельф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юди стояли на палу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друг один мальчик упал в в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и подплыли к мальчику и не дали ему уто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О ком этот расск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- Ребята, как можно озаглавить расск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6477d"/>
                </a:solidFill>
                <a:latin typeface="Times New Roman"/>
              </a:rPr>
              <a:t>Проблемная ситуация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2" name="Прямоугольник 2"/>
          <p:cNvSpPr/>
          <p:nvPr/>
        </p:nvSpPr>
        <p:spPr>
          <a:xfrm>
            <a:off x="1116000" y="1628640"/>
            <a:ext cx="7128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- Назовите элемент бук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36477d"/>
                </a:solidFill>
                <a:latin typeface="Times New Roman"/>
              </a:rPr>
              <a:t>о</a:t>
            </a:r>
            <a:r>
              <a:rPr b="1" i="1" lang="ru-RU" sz="8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- В каких буквах встречаются такие элемен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755640" y="5300640"/>
            <a:ext cx="82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6477d"/>
                </a:solidFill>
                <a:latin typeface="Times New Roman"/>
              </a:rPr>
              <a:t>а б в о ю д Ф ф А Ж 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</a:rPr>
              <a:t>Строчная буква ф</a:t>
            </a:r>
            <a:endParaRPr b="0" lang="en-US" sz="6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5" name="Oval 15"/>
          <p:cNvSpPr/>
          <p:nvPr/>
        </p:nvSpPr>
        <p:spPr>
          <a:xfrm rot="1620600">
            <a:off x="3031920" y="2668680"/>
            <a:ext cx="93636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8"/>
          <p:cNvSpPr/>
          <p:nvPr/>
        </p:nvSpPr>
        <p:spPr>
          <a:xfrm>
            <a:off x="1809720" y="2530440"/>
            <a:ext cx="1657440" cy="4076640"/>
          </a:xfrm>
          <a:custGeom>
            <a:avLst/>
            <a:gdLst/>
            <a:ahLst/>
            <a:rect l="l" t="t" r="r" b="b"/>
            <a:pathLst>
              <a:path w="1044" h="2568">
                <a:moveTo>
                  <a:pt x="0" y="2568"/>
                </a:moveTo>
                <a:cubicBezTo>
                  <a:pt x="90" y="2374"/>
                  <a:pt x="351" y="1820"/>
                  <a:pt x="525" y="1392"/>
                </a:cubicBezTo>
                <a:cubicBezTo>
                  <a:pt x="699" y="964"/>
                  <a:pt x="936" y="290"/>
                  <a:pt x="1044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539640" y="2530440"/>
            <a:ext cx="8569440" cy="2280960"/>
            <a:chOff x="539640" y="2530440"/>
            <a:chExt cx="8569440" cy="2280960"/>
          </a:xfrm>
        </p:grpSpPr>
        <p:sp>
          <p:nvSpPr>
            <p:cNvPr id="208" name="Line 5"/>
            <p:cNvSpPr/>
            <p:nvPr/>
          </p:nvSpPr>
          <p:spPr>
            <a:xfrm>
              <a:off x="539640" y="253044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539640" y="48114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Oval 14"/>
          <p:cNvSpPr/>
          <p:nvPr/>
        </p:nvSpPr>
        <p:spPr>
          <a:xfrm rot="1620600">
            <a:off x="1995480" y="2639520"/>
            <a:ext cx="936720" cy="219888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3340080" y="251604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Прописная /заглавная/ буква Ф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26920" y="1755720"/>
            <a:ext cx="8208720" cy="4373640"/>
            <a:chOff x="826920" y="1755720"/>
            <a:chExt cx="8208720" cy="4373640"/>
          </a:xfrm>
        </p:grpSpPr>
        <p:sp>
          <p:nvSpPr>
            <p:cNvPr id="214" name="Line 5"/>
            <p:cNvSpPr/>
            <p:nvPr/>
          </p:nvSpPr>
          <p:spPr>
            <a:xfrm>
              <a:off x="860760" y="3906720"/>
              <a:ext cx="80233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"/>
            <p:cNvSpPr/>
            <p:nvPr/>
          </p:nvSpPr>
          <p:spPr>
            <a:xfrm>
              <a:off x="1012320" y="1755720"/>
              <a:ext cx="802332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826920" y="6129360"/>
              <a:ext cx="80229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13"/>
          <p:cNvSpPr/>
          <p:nvPr/>
        </p:nvSpPr>
        <p:spPr>
          <a:xfrm>
            <a:off x="1355760" y="1754280"/>
            <a:ext cx="2606760" cy="4359240"/>
          </a:xfrm>
          <a:custGeom>
            <a:avLst/>
            <a:gdLst/>
            <a:ahLst/>
            <a:rect l="l" t="t" r="r" b="b"/>
            <a:pathLst>
              <a:path w="1642" h="2746">
                <a:moveTo>
                  <a:pt x="10" y="2328"/>
                </a:moveTo>
                <a:cubicBezTo>
                  <a:pt x="14" y="2360"/>
                  <a:pt x="0" y="2452"/>
                  <a:pt x="34" y="2520"/>
                </a:cubicBezTo>
                <a:cubicBezTo>
                  <a:pt x="68" y="2588"/>
                  <a:pt x="118" y="2746"/>
                  <a:pt x="214" y="2736"/>
                </a:cubicBezTo>
                <a:cubicBezTo>
                  <a:pt x="310" y="2726"/>
                  <a:pt x="452" y="2696"/>
                  <a:pt x="610" y="2460"/>
                </a:cubicBezTo>
                <a:cubicBezTo>
                  <a:pt x="768" y="2224"/>
                  <a:pt x="990" y="1730"/>
                  <a:pt x="1162" y="1320"/>
                </a:cubicBezTo>
                <a:cubicBezTo>
                  <a:pt x="1334" y="910"/>
                  <a:pt x="1542" y="275"/>
                  <a:pt x="1642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6"/>
          <p:cNvSpPr/>
          <p:nvPr/>
        </p:nvSpPr>
        <p:spPr>
          <a:xfrm rot="1620600">
            <a:off x="2576160" y="175392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7"/>
          <p:cNvSpPr/>
          <p:nvPr/>
        </p:nvSpPr>
        <p:spPr>
          <a:xfrm rot="1620600">
            <a:off x="3652920" y="1774440"/>
            <a:ext cx="936720" cy="219888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3816360" y="175248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3672000" y="21337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560" y="41400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477d"/>
                </a:solidFill>
                <a:latin typeface="Times New Roman"/>
                <a:ea typeface="Times New Roman"/>
              </a:rPr>
              <a:t>Почему одни слова с маленькой буквы записаны, а другие с большой?</a:t>
            </a:r>
            <a:br>
              <a:rPr sz="3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108000" y="1557360"/>
            <a:ext cx="90360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минго  флот   флаг франция  филя  фролов филин  футбол  фа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-9360" y="4965840"/>
            <a:ext cx="913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шите слова: первый вариант –слова с маленькой буквы, второй вариант – слова с большой буквы. Поставьте ударения в сло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отнести слово и 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л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4859280" y="3068640"/>
            <a:ext cx="108108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952960" y="3068640"/>
            <a:ext cx="1090800" cy="517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0" name="Прямоугольник 7"/>
          <p:cNvSpPr/>
          <p:nvPr/>
        </p:nvSpPr>
        <p:spPr>
          <a:xfrm>
            <a:off x="7043760" y="3068640"/>
            <a:ext cx="623880" cy="51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9"/>
          <p:cNvSpPr/>
          <p:nvPr/>
        </p:nvSpPr>
        <p:spPr>
          <a:xfrm>
            <a:off x="5940360" y="2852640"/>
            <a:ext cx="1260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1"/>
          <p:cNvSpPr/>
          <p:nvPr/>
        </p:nvSpPr>
        <p:spPr>
          <a:xfrm>
            <a:off x="4859280" y="3068640"/>
            <a:ext cx="109368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3"/>
          <p:cNvSpPr/>
          <p:nvPr/>
        </p:nvSpPr>
        <p:spPr>
          <a:xfrm>
            <a:off x="5925960" y="3075120"/>
            <a:ext cx="1094040" cy="50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14"/>
          <p:cNvSpPr/>
          <p:nvPr/>
        </p:nvSpPr>
        <p:spPr>
          <a:xfrm flipH="1">
            <a:off x="5508360" y="2421000"/>
            <a:ext cx="14292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отнести слово и 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р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а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994280" y="3432240"/>
            <a:ext cx="1090440" cy="51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38" name="Picture 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97720" y="3421080"/>
            <a:ext cx="1090440" cy="51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Picture 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6084720" y="3432240"/>
            <a:ext cx="513000" cy="51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0" name="Прямая соединительная линия 9"/>
          <p:cNvSpPr/>
          <p:nvPr/>
        </p:nvSpPr>
        <p:spPr>
          <a:xfrm>
            <a:off x="6084720" y="321300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3"/>
          <p:cNvSpPr/>
          <p:nvPr/>
        </p:nvSpPr>
        <p:spPr>
          <a:xfrm>
            <a:off x="6597720" y="322272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11"/>
          <p:cNvSpPr/>
          <p:nvPr/>
        </p:nvSpPr>
        <p:spPr>
          <a:xfrm>
            <a:off x="4994280" y="3432240"/>
            <a:ext cx="10904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6"/>
          <p:cNvSpPr/>
          <p:nvPr/>
        </p:nvSpPr>
        <p:spPr>
          <a:xfrm>
            <a:off x="6624720" y="3422520"/>
            <a:ext cx="100008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15"/>
          <p:cNvSpPr/>
          <p:nvPr/>
        </p:nvSpPr>
        <p:spPr>
          <a:xfrm flipH="1">
            <a:off x="6339960" y="2852640"/>
            <a:ext cx="257400" cy="37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Важное послание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684360" y="17733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  к…ждом  кора…ле   есть  …лаг. Мы горди…ся  своим  могучим  фл…том. Наш  флот х…дит   по  всем  морям и …кеан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Важное послание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684360" y="17733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  к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ждом  кора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б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е   есть 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ф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аг. Мы горди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м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я  своим  могучим  фл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том. Наш  флот х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ит   по  всем  морям и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еан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33"/>
                </a:solidFill>
                <a:latin typeface="Times New Roman"/>
              </a:rPr>
              <a:t>РЕБУС</a:t>
            </a:r>
            <a:endParaRPr b="0" lang="en-US" sz="6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4140360" y="3716280"/>
            <a:ext cx="13683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124000" y="537372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03640" y="259920"/>
            <a:ext cx="293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0066ff"/>
                </a:solidFill>
                <a:latin typeface="Times New Roman"/>
              </a:rPr>
              <a:t>Ребусы</a:t>
            </a:r>
            <a:endParaRPr b="0" lang="en-US" sz="63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44956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58920" y="1413000"/>
            <a:ext cx="38149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 К Ф А Л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  5 1 3 4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1332000" y="2492280"/>
            <a:ext cx="11509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58160" y="4724280"/>
            <a:ext cx="35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ОНАР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651640" y="4869000"/>
            <a:ext cx="30956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озьми голубой или синий карандаш и закрась все части рисунка, где изображена буква </a:t>
            </a: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«Ф» или «ф»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900000" y="1684440"/>
            <a:ext cx="8097840" cy="471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Arial"/>
              </a:rPr>
              <a:t>ФОНТ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http://im2-tub-ru.yandex.net/i?id=26131794-2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628640"/>
            <a:ext cx="4321080" cy="28926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1"/>
          <p:cNvSpPr/>
          <p:nvPr/>
        </p:nvSpPr>
        <p:spPr>
          <a:xfrm>
            <a:off x="4427640" y="45626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НТАН (итал. fontana, от лат. fons - источник), 1) бьющая вверх струя (воды, нефти и т. д.). 2) Архитектурно оформленный источник; декоративное сооружение, служащее основанием или обрамлением льющих вверх или стекающих струй 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2880" y="263664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0033"/>
                </a:solidFill>
                <a:latin typeface="Times New Roman"/>
              </a:rPr>
              <a:t>СОГЛАСНАЯ БУКВА </a:t>
            </a:r>
            <a:br>
              <a:rPr sz="8800"/>
            </a:br>
            <a:r>
              <a:rPr b="0" lang="ru-RU" sz="16400" spc="-1" strike="noStrike">
                <a:solidFill>
                  <a:srgbClr val="660033"/>
                </a:solidFill>
                <a:latin typeface="Times New Roman"/>
              </a:rPr>
              <a:t>Ф</a:t>
            </a:r>
            <a:endParaRPr b="0" lang="en-US" sz="16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Согласные звуки 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[</a:t>
            </a: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ф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]</a:t>
            </a: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, 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[</a:t>
            </a: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ф  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]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Семиугольник 2"/>
          <p:cNvSpPr/>
          <p:nvPr/>
        </p:nvSpPr>
        <p:spPr>
          <a:xfrm>
            <a:off x="7380360" y="189000"/>
            <a:ext cx="179280" cy="982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2195640" y="2637000"/>
            <a:ext cx="2232000" cy="237636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5056200" y="2637000"/>
            <a:ext cx="2232000" cy="237636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565200" y="189000"/>
            <a:ext cx="854388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spcBef>
                <a:spcPts val="601"/>
              </a:spcBef>
              <a:spcAft>
                <a:spcPts val="10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0026"/>
                </a:solidFill>
                <a:latin typeface="Arial"/>
                <a:ea typeface="Times New Roman"/>
              </a:rPr>
              <a:t>Корректурная проба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1042920" y="249228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п л т н г д а ц у е в д ы ф ч т х н 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 б ф п н е в ы д э ж т е к у м и с я ф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 ф и в ы ч с б н п в у т ф э ю т ь к н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 н т, а в ф с б т и м, а ф б о л д п, а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ФУФАЙКА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2" name="Picture 4" descr="610100 (1)"/>
          <p:cNvPicPr/>
          <p:nvPr/>
        </p:nvPicPr>
        <p:blipFill>
          <a:blip r:embed="rId1"/>
          <a:stretch/>
        </p:blipFill>
        <p:spPr>
          <a:xfrm>
            <a:off x="2268360" y="19162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0033"/>
                </a:solidFill>
                <a:latin typeface="Times New Roman"/>
              </a:rPr>
              <a:t>ОФИЦЕР</a:t>
            </a:r>
            <a:endParaRPr b="0" lang="en-US" sz="9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4" name="Picture 5" descr="fmt_53_28_1-oficery-cvet"/>
          <p:cNvPicPr/>
          <p:nvPr/>
        </p:nvPicPr>
        <p:blipFill>
          <a:blip r:embed="rId1"/>
          <a:stretch/>
        </p:blipFill>
        <p:spPr>
          <a:xfrm>
            <a:off x="1692360" y="1989000"/>
            <a:ext cx="51116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9:39:07Z</dcterms:created>
  <dc:creator>Огнева Виктория</dc:creator>
  <dc:description/>
  <dc:language>en-US</dc:language>
  <cp:lastModifiedBy>ТАНЯ</cp:lastModifiedBy>
  <dcterms:modified xsi:type="dcterms:W3CDTF">2013-02-05T16:05:52Z</dcterms:modified>
  <cp:revision>32</cp:revision>
  <dc:subject/>
  <dc:title>Ребусы</dc:title>
</cp:coreProperties>
</file>