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552-D4FC-4F2D-8096-64195664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8EE-3149-4009-97DD-1EDB123F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CA8-D4B3-44B1-8869-CA64A16A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9A1-3DD6-4B98-B667-CB5CCDE9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BA6B-20FC-4070-87DD-E4E12CF8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BA33-8372-4A31-9B22-E55A8728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F9C2-B740-4826-A252-2E31CC3A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9434-A7AA-4B8A-9AE4-16F8656D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EF31-B665-44EE-8F63-F8D6DE9A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E470-B6E3-47AF-B2A6-21A979EA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98EF-E1CE-4140-8837-D4355CF1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2FF-4C80-4000-B53A-3BCD1E65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DC98-F187-40E2-8B08-B80441EB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6CED-EAF6-45E2-804F-402EF4F0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EFA5-CDFD-40A2-B4BD-2B8B8586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621A-6CE4-432F-AE28-AA7A87B6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327C-47A0-4862-A8F4-08489282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B85-8165-4573-A69A-FBD4585B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996-B050-41C9-BC1A-91F52107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83B-C270-4F60-A9E7-4BCB4274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591-6BAB-43D0-89A6-5DC285FF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DD0-C5FF-487A-9953-FCD364EC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4FB-DFD7-4B3B-85C4-599DD01E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A4E-CABF-4568-8318-F3F4E3F8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CD65-5FE0-44C4-B257-AA680ACA4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9449-5B9C-46D8-A1FA-59759A744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5e1a8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988e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599840"/>
            <a:ext cx="821844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рименение методов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инамического программировани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ля решения стохастически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700360" y="2204640"/>
            <a:ext cx="446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5b00b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b00b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b00b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b00b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0,4;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0,2;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0,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b00b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2,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0,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1341360"/>
            <a:ext cx="58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ведем следующие обозна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708360" y="260280"/>
            <a:ext cx="181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Этап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547640" y="112500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ем среднюю прибы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780000" y="1628640"/>
                <a:ext cx="1728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348000" y="3027240"/>
            <a:ext cx="432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4*2+0,2*0+0,4*(–1)=0,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987640" y="3171960"/>
                <a:ext cx="4176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427640" y="2708280"/>
            <a:ext cx="360360" cy="360360"/>
          </a:xfrm>
          <a:prstGeom prst="downArrow">
            <a:avLst>
              <a:gd name="adj1" fmla="val 50157"/>
              <a:gd name="adj2" fmla="val 36593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4653000"/>
            <a:ext cx="488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=(1+0,4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,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4076640"/>
            <a:ext cx="27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708360" y="260280"/>
            <a:ext cx="181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Этап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2492280"/>
            <a:ext cx="360360" cy="360360"/>
          </a:xfrm>
          <a:prstGeom prst="downArrow">
            <a:avLst>
              <a:gd name="adj1" fmla="val 50157"/>
              <a:gd name="adj2" fmla="val 36593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95280" y="1197000"/>
                <a:ext cx="8569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26920" y="184464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          , 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492360" y="1916280"/>
                <a:ext cx="719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826920" y="3141720"/>
                <a:ext cx="7704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826920" y="5119560"/>
                <a:ext cx="7993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4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,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,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,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92360" y="3860640"/>
                <a:ext cx="59040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708360" y="476280"/>
            <a:ext cx="181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Этап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2205000"/>
            <a:ext cx="360360" cy="360360"/>
          </a:xfrm>
          <a:prstGeom prst="downArrow">
            <a:avLst>
              <a:gd name="adj1" fmla="val 50157"/>
              <a:gd name="adj2" fmla="val 36593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0160" y="144468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          , 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035600" y="1515960"/>
                <a:ext cx="718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96880" y="2924280"/>
                <a:ext cx="82360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427040" y="3645000"/>
                <a:ext cx="5854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28480" y="4869000"/>
                <a:ext cx="80172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,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,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,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44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708360" y="476280"/>
            <a:ext cx="181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Этап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84720" y="2421000"/>
            <a:ext cx="503280" cy="576360"/>
          </a:xfrm>
          <a:prstGeom prst="downArrow">
            <a:avLst>
              <a:gd name="adj1" fmla="val 50157"/>
              <a:gd name="adj2" fmla="val 41906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0160" y="144468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          , 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35600" y="1515960"/>
                <a:ext cx="718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092240" y="3429000"/>
                <a:ext cx="6811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15880" y="4653000"/>
                <a:ext cx="82915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44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,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,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,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16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          , а следователь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, 2, 3, 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оптимальным решением яв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стирование всех наличных денежных сред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каждого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2987640" y="475920"/>
            <a:ext cx="2819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35280" y="1628640"/>
                <a:ext cx="64908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684360" y="4149720"/>
            <a:ext cx="784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ные денежные средства к концу четыр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 составят 3,841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3,8416*10000=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8416 дол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3284640"/>
            <a:ext cx="503280" cy="576000"/>
          </a:xfrm>
          <a:prstGeom prst="downArrow">
            <a:avLst>
              <a:gd name="adj1" fmla="val 50157"/>
              <a:gd name="adj2" fmla="val 41880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727236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инамическое программ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8720" cy="23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о поэтапное планирование многошагового процесса,       при котором на каждом этапе оптимизируется только один ш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щая постановк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тохастической задач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1773360"/>
            <a:ext cx="8208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усть имеется физическая система S, которая с течением времени меняет свое состояние. Мы можем в какой-то мере воздействовать на этот процесс, направляя его в желательную сторону, но контролируем этот процесс не полностью, так как ход его, помимо управления, зависит еще и от случ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кто планирует инвестировать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ыс. долл. через фондовую биржу в течение последующих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т. Инвестиционный план состоит в покупке акций в начале года и продаже их в конце этого же года. Накопленные деньги затем могут быть снова инвестированы (все или часть) в начале следующего года. Степень риска инвестиции представлена тем, что прибыль имеет вероятностный характер. Изучение рынка свидетельствует о том, что прибыль от инвестиции зависит о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условий рынка (благоприятных или неблагоприятных). При этом услови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одит к прибыл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вероятностью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 1,2,…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Как следует инвестировать С тыс.долл. для наибольшего накопления к конц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ле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476280"/>
            <a:ext cx="698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Задача инвес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55640" y="2707920"/>
            <a:ext cx="7920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мма денежных средств, доступных для инвестирования в нач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го год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мма реальной инвестиции в нач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аксимальная ожидаемая сумма поступления денежных средств за годы 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условии, что в нач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го года имеется сум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1557360"/>
            <a:ext cx="66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бознач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о условия рынка имеем следующее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2924280"/>
            <a:ext cx="7416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nl-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=(S</a:t>
            </a:r>
            <a:r>
              <a:rPr b="0" i="1" lang="nl-NL" sz="2800" spc="-1" strike="noStrike" baseline="-25000">
                <a:solidFill>
                  <a:srgbClr val="000000"/>
                </a:solidFill>
                <a:latin typeface="Arial"/>
              </a:rPr>
              <a:t>i–1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–U</a:t>
            </a:r>
            <a:r>
              <a:rPr b="0" i="1" lang="nl-NL" sz="2800" spc="-1" strike="noStrike" baseline="-25000">
                <a:solidFill>
                  <a:srgbClr val="000000"/>
                </a:solidFill>
                <a:latin typeface="Arial"/>
              </a:rPr>
              <a:t>i–1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)+(1+w</a:t>
            </a:r>
            <a:r>
              <a:rPr b="0" i="1" lang="nl-N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)U</a:t>
            </a:r>
            <a:r>
              <a:rPr b="0" i="1" lang="nl-NL" sz="2800" spc="-1" strike="noStrike" baseline="-25000">
                <a:solidFill>
                  <a:srgbClr val="000000"/>
                </a:solidFill>
                <a:latin typeface="Arial"/>
              </a:rPr>
              <a:t>i–1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0" i="1" lang="nl-NL" sz="2800" spc="-1" strike="noStrike" baseline="-25000">
                <a:solidFill>
                  <a:srgbClr val="000000"/>
                </a:solidFill>
                <a:latin typeface="Arial"/>
              </a:rPr>
              <a:t>i–1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+w</a:t>
            </a:r>
            <a:r>
              <a:rPr b="0" i="1" lang="nl-N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nl-NL" sz="2800" spc="-1" strike="noStrike" baseline="-25000">
                <a:solidFill>
                  <a:srgbClr val="000000"/>
                </a:solidFill>
                <a:latin typeface="Arial"/>
              </a:rPr>
              <a:t>i–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3860640"/>
            <a:ext cx="640872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00720" y="4365720"/>
            <a:ext cx="502920" cy="647640"/>
          </a:xfrm>
          <a:prstGeom prst="downArrow">
            <a:avLst>
              <a:gd name="adj1" fmla="val 50000"/>
              <a:gd name="adj2" fmla="val 32194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640" y="1844280"/>
            <a:ext cx="345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гд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116000" y="692280"/>
                <a:ext cx="6553080" cy="11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9640" y="4221000"/>
                <a:ext cx="828216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59280" y="3645000"/>
            <a:ext cx="273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26920" y="476280"/>
            <a:ext cx="3924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Введя обозна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276360" y="2781360"/>
            <a:ext cx="24080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получа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195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492360" y="1341360"/>
                <a:ext cx="21607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362320" y="4957920"/>
                <a:ext cx="30366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w</m:t>
                                  </m:r>
                                </m:e>
                              </m:acc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908440" y="3589200"/>
                <a:ext cx="1414440" cy="10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4492800" y="3589200"/>
            <a:ext cx="129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86320" y="5029200"/>
            <a:ext cx="1297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645160" y="3589200"/>
                <a:ext cx="7207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537240" y="5056200"/>
                <a:ext cx="7207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45160" y="4165560"/>
                <a:ext cx="719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539040" y="5632560"/>
                <a:ext cx="718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% - кол-во инвестиций удво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- кол-во инвестиций не измен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% - потеря всех инвести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5:18:20Z</dcterms:created>
  <dc:creator>Фонд</dc:creator>
  <dc:description/>
  <dc:language>en-US</dc:language>
  <cp:lastModifiedBy>user</cp:lastModifiedBy>
  <dcterms:modified xsi:type="dcterms:W3CDTF">2008-01-24T06:32:17Z</dcterms:modified>
  <cp:revision>3</cp:revision>
  <dc:subject/>
  <dc:title>Применение методов  динамического программирования  для решения стохастических задач</dc:title>
</cp:coreProperties>
</file>