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F0B-3979-4AFA-8D2C-D3119CA8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B470-F671-4766-AB6F-3C5053EB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231-16EB-4F86-B6EF-6502D8F9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A9A-E54B-402A-8D94-4375130C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8F7E-BC95-46F9-A1ED-4A6A32C5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23CD-536A-4B52-ABA2-0465160A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46B6-6CEB-498F-AA70-B3B7175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A76C-313A-4DC2-AABC-FBD3D637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851E-6C14-49FB-B333-DB94652D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6CA7-3E88-4475-9ABE-54A57522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A2B0-F480-47EC-89BF-F2D869CE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233-4C11-4D6E-9CDB-CF7267DB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8A99-B355-4EB7-BF3D-3C51FBD7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2059-7563-4937-99D0-10CB507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A371-5A86-4713-86CD-A78C1084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EFA7-5E19-4107-8599-6377D38C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86A1-2605-4D01-9A96-AFDBCD12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1BE-BE6E-4062-A3C7-CDA553EA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D2F-4CA1-4902-BDD9-4B580AC5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70A-FCF4-458B-9D2F-85664BBA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E9A-D4BD-49C8-B871-83A2D9C3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116-55E8-48CA-8266-7261024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828-656D-4170-9222-D53A01C8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E7B-3053-4D1C-A517-EB0E779C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E146-F185-4ACD-96AA-B73C4EBD0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8810-6B02-4981-9FFB-B75A14254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82184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Применение методов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инамического программировани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ля решения стохастически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700360" y="2204640"/>
            <a:ext cx="446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4;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2;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5b00b6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2,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0,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–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19280" y="1341360"/>
            <a:ext cx="58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ведем следующие обозна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708360" y="260280"/>
            <a:ext cx="181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Этап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547640" y="112500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ем среднюю прибы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780000" y="1628640"/>
                <a:ext cx="1728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348000" y="3027240"/>
            <a:ext cx="432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0,4*2+0,2*0+0,4*(–1)=0,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987640" y="3171960"/>
                <a:ext cx="4176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427640" y="2708280"/>
            <a:ext cx="360360" cy="360360"/>
          </a:xfrm>
          <a:prstGeom prst="downArrow">
            <a:avLst>
              <a:gd name="adj1" fmla="val 50157"/>
              <a:gd name="adj2" fmla="val 36593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4653000"/>
            <a:ext cx="488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(1+0,4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,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407664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708360" y="260280"/>
            <a:ext cx="181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Этап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7280" y="2492280"/>
            <a:ext cx="360360" cy="360360"/>
          </a:xfrm>
          <a:prstGeom prst="downArrow">
            <a:avLst>
              <a:gd name="adj1" fmla="val 50157"/>
              <a:gd name="adj2" fmla="val 36593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5280" y="1197000"/>
                <a:ext cx="8569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26920" y="18446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          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492360" y="1916280"/>
                <a:ext cx="719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826920" y="3141720"/>
                <a:ext cx="7704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826920" y="5119560"/>
                <a:ext cx="7993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4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92360" y="3860640"/>
                <a:ext cx="5904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181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Этап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4720" y="2205000"/>
            <a:ext cx="360360" cy="360360"/>
          </a:xfrm>
          <a:prstGeom prst="downArrow">
            <a:avLst>
              <a:gd name="adj1" fmla="val 50157"/>
              <a:gd name="adj2" fmla="val 36593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0160" y="144468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          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35600" y="1515960"/>
                <a:ext cx="718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96880" y="2924280"/>
                <a:ext cx="8236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427040" y="3645000"/>
                <a:ext cx="5854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28480" y="4869000"/>
                <a:ext cx="80172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4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08360" y="476280"/>
            <a:ext cx="181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Этап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84720" y="2421000"/>
            <a:ext cx="503280" cy="576360"/>
          </a:xfrm>
          <a:prstGeom prst="downArrow">
            <a:avLst>
              <a:gd name="adj1" fmla="val 50157"/>
              <a:gd name="adj2" fmla="val 41906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0160" y="144468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          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035600" y="1515960"/>
                <a:ext cx="718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092240" y="3429000"/>
                <a:ext cx="6811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5880" y="4653000"/>
                <a:ext cx="8291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44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,4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16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          , а следователь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1, 2, 3, 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оптимальным решением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рование всех наличных денежных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каждого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2987640" y="475920"/>
            <a:ext cx="2819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5280" y="1628640"/>
                <a:ext cx="6490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684360" y="4149720"/>
            <a:ext cx="784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ные денежные средства к концу четыр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 составят 3,841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3,8416*10000=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8416 дол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3284640"/>
            <a:ext cx="503280" cy="576000"/>
          </a:xfrm>
          <a:prstGeom prst="downArrow">
            <a:avLst>
              <a:gd name="adj1" fmla="val 50157"/>
              <a:gd name="adj2" fmla="val 4188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727236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Динамическое программ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872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о поэтапное планирование многошагового процесса,       при котором на каждом этапе оптимизируется только один ша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щая постановк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тохастической задач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177336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усть имеется физическая система S, которая с течением времени меняет свое состояние. Мы можем в какой-то мере воздействовать на этот процесс, направляя его в желательную сторону, но контролируем этот процесс не полностью, так как ход его, помимо управления, зависит еще и от слу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то планирует инвестироват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ыс. долл. через фондовую биржу в течение последующи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т. Инвестиционный план состоит в покупке акций в начале года и продаже их в конце этого же года. Накопленные деньги затем могут быть снова инвестированы (все или часть) в начале следующего года. Степень риска инвестиции представлена тем, что прибыль имеет вероятностный характер. Изучение рынка свидетельствует о том, что прибыль от инвестиции зависит от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условий рынка (благоприятных или неблагоприятных). При этом услови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одит к прибыл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вероятностью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 1,2,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Как следует инвестировать С тыс.долл. для наибольшего накопления к конц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е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476280"/>
            <a:ext cx="6983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Задача инвес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55640" y="2707920"/>
            <a:ext cx="7920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мма денежных средств, доступных для инвестирования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год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умма реальной инвестиции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аксимальная ожидаемая сумма поступления денежных средств за годы 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 условии, что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года имеется су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1557360"/>
            <a:ext cx="669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Обознач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го условия рынка имеем следующе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2924280"/>
            <a:ext cx="741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=(S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–U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)+(1+w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)U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+w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nl-NL" sz="2800" spc="-1" strike="noStrike" baseline="-25000">
                <a:solidFill>
                  <a:srgbClr val="000000"/>
                </a:solidFill>
                <a:latin typeface="Arial"/>
              </a:rPr>
              <a:t>i–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3860640"/>
            <a:ext cx="640872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00720" y="4365720"/>
            <a:ext cx="502920" cy="647640"/>
          </a:xfrm>
          <a:prstGeom prst="downArrow">
            <a:avLst>
              <a:gd name="adj1" fmla="val 50000"/>
              <a:gd name="adj2" fmla="val 32194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640" y="184428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д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116000" y="692280"/>
                <a:ext cx="655308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9640" y="4221000"/>
                <a:ext cx="82821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59280" y="364500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39243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Введя обо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276360" y="2781360"/>
            <a:ext cx="2408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получа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957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492360" y="1341360"/>
                <a:ext cx="2160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362320" y="4957920"/>
                <a:ext cx="303660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w</m:t>
                                  </m:r>
                                </m:e>
                              </m:acc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908440" y="3589200"/>
                <a:ext cx="141444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4492800" y="3589200"/>
            <a:ext cx="129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86320" y="5029200"/>
            <a:ext cx="1297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645160" y="3589200"/>
                <a:ext cx="720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37240" y="5056200"/>
                <a:ext cx="720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45160" y="4165560"/>
                <a:ext cx="719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539040" y="5632560"/>
                <a:ext cx="718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 - кол-во инвестиций удво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% - кол-во инвестиций не измен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% - потеря всех инвести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18:20Z</dcterms:created>
  <dc:creator>Фонд</dc:creator>
  <dc:description/>
  <dc:language>en-US</dc:language>
  <cp:lastModifiedBy>user</cp:lastModifiedBy>
  <dcterms:modified xsi:type="dcterms:W3CDTF">2008-01-24T06:32:17Z</dcterms:modified>
  <cp:revision>3</cp:revision>
  <dc:subject/>
  <dc:title>Применение методов  динамического программирования  для решения стохастических задач</dc:title>
</cp:coreProperties>
</file>