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876-5C32-4CC6-A3B6-D2FA4480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E44-32E3-4F8E-8B33-351CEE75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D77-1B4E-45D6-AC04-B4F00D79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AD9-28F5-49A9-BC79-DEDFF0B5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2D61-3FEB-4A6C-A227-CD91D2B7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DC20-556E-46B5-B903-849D26DB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BA34-A487-43BF-9A2A-7CD3CDC4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0494-A839-403C-93BE-7EE4694C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AC91-A23D-40D2-98EA-8F309990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2693-6493-4CBF-899B-5D1D24F0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E3DE-63A1-4996-9F5D-E73270E5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EA7-0ABF-4B49-BFEF-7DBC2FB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E384-5E68-4D80-8A83-B283605B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63CC-21ED-42D4-BBB2-C1CE651D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E240-FAD2-4933-81F6-319105D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BB0A-D731-4414-ADE0-BAFF271A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50FC-7189-4F94-9630-E348A7EC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940-8935-48FE-8D5B-74C68EC0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363-EDC6-4EC2-9B21-F07C3B7A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316-49C5-4CCB-85F1-8A3340EA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45E-EAB6-4A41-93A4-7540B5F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985-7718-4544-90FD-244030B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E92-B21A-4534-B5EF-8F4CB8E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DC1-4779-40A5-BCD2-7044A9E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1E9A-C8EA-4418-B23F-708ABB600D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152F-A8A8-4BE8-9F80-BB29F37CD4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sentation 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made by student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‘B’ 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ctoria Morozova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oya Savitskay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hem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Edvard Munc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The Scream’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89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324480" y="613260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nk you for watching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772400" y="6491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25.01.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Edvard Munch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 December 1863 – 23 January 194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vard Mu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s a Norwegian painter and printmake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e of his most well-known works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Scr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189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1" descr="Portrait-of-Edvard-Munch-Akseli-Gallen-Kallela-1895"/>
          <p:cNvPicPr/>
          <p:nvPr/>
        </p:nvPicPr>
        <p:blipFill>
          <a:blip r:embed="rId1"/>
          <a:stretch/>
        </p:blipFill>
        <p:spPr>
          <a:xfrm>
            <a:off x="4572000" y="1600200"/>
            <a:ext cx="41338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most famous works are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2" descr="446px-August_Stindberg"/>
          <p:cNvPicPr/>
          <p:nvPr/>
        </p:nvPicPr>
        <p:blipFill>
          <a:blip r:embed="rId1"/>
          <a:stretch/>
        </p:blipFill>
        <p:spPr>
          <a:xfrm>
            <a:off x="704880" y="1523880"/>
            <a:ext cx="3290760" cy="441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478px-Nietzsche-munch"/>
          <p:cNvPicPr/>
          <p:nvPr/>
        </p:nvPicPr>
        <p:blipFill>
          <a:blip r:embed="rId2"/>
          <a:stretch/>
        </p:blipFill>
        <p:spPr>
          <a:xfrm>
            <a:off x="4923000" y="1523880"/>
            <a:ext cx="3527280" cy="4419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4"/>
          <p:cNvSpPr/>
          <p:nvPr/>
        </p:nvSpPr>
        <p:spPr>
          <a:xfrm>
            <a:off x="487440" y="632952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ugust Strindber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4876920" y="617220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Portrait of Friedrich Nietzsch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906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759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16" descr="Munch_vampire"/>
          <p:cNvPicPr/>
          <p:nvPr/>
        </p:nvPicPr>
        <p:blipFill>
          <a:blip r:embed="rId1"/>
          <a:stretch/>
        </p:blipFill>
        <p:spPr>
          <a:xfrm>
            <a:off x="152280" y="1752480"/>
            <a:ext cx="4343400" cy="364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645px-Munch_deathSickroom"/>
          <p:cNvPicPr/>
          <p:nvPr/>
        </p:nvPicPr>
        <p:blipFill>
          <a:blip r:embed="rId2"/>
          <a:stretch/>
        </p:blipFill>
        <p:spPr>
          <a:xfrm>
            <a:off x="4724280" y="1752480"/>
            <a:ext cx="4267440" cy="3589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8"/>
          <p:cNvSpPr/>
          <p:nvPr/>
        </p:nvSpPr>
        <p:spPr>
          <a:xfrm>
            <a:off x="457200" y="18288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457200" y="198108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80880" y="11430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ampi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3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4800600" y="1143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eath in the Sickro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Munch_Det_Syke_Barn_1885-86"/>
          <p:cNvPicPr/>
          <p:nvPr/>
        </p:nvPicPr>
        <p:blipFill>
          <a:blip r:embed="rId1"/>
          <a:stretch/>
        </p:blipFill>
        <p:spPr>
          <a:xfrm>
            <a:off x="380880" y="1219320"/>
            <a:ext cx="361800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5638320" y="5485680"/>
            <a:ext cx="19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''Ashes.''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89400" y="54856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he Sick Chi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5-8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8" descr="Munch_Ashes"/>
          <p:cNvPicPr/>
          <p:nvPr/>
        </p:nvPicPr>
        <p:blipFill>
          <a:blip r:embed="rId2"/>
          <a:stretch/>
        </p:blipFill>
        <p:spPr>
          <a:xfrm>
            <a:off x="4419720" y="121932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3733920"/>
            <a:ext cx="8381880" cy="25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 Scream (1893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2" descr="Scream-article_2209648c"/>
          <p:cNvPicPr/>
          <p:nvPr/>
        </p:nvPicPr>
        <p:blipFill>
          <a:blip r:embed="rId1"/>
          <a:stretch/>
        </p:blipFill>
        <p:spPr>
          <a:xfrm>
            <a:off x="1752480" y="457200"/>
            <a:ext cx="556272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685800" y="7621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066680" y="45720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Scream painting by Edvard Munch is one of the most well-known pieces of artwork in history, appealing to a wide audience even today. There are actually four different original versions of The Scream that Edvard Much created using different art mediums including oil paints, tempera, and pastels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2" descr="The_Scream_Pastel"/>
          <p:cNvPicPr/>
          <p:nvPr/>
        </p:nvPicPr>
        <p:blipFill>
          <a:blip r:embed="rId1"/>
          <a:stretch/>
        </p:blipFill>
        <p:spPr>
          <a:xfrm>
            <a:off x="6248520" y="2590920"/>
            <a:ext cx="2743200" cy="373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The_Scream2"/>
          <p:cNvPicPr/>
          <p:nvPr/>
        </p:nvPicPr>
        <p:blipFill>
          <a:blip r:embed="rId2"/>
          <a:stretch/>
        </p:blipFill>
        <p:spPr>
          <a:xfrm>
            <a:off x="3124080" y="2590920"/>
            <a:ext cx="2943360" cy="373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Munch_The_Scream_lithography"/>
          <p:cNvPicPr/>
          <p:nvPr/>
        </p:nvPicPr>
        <p:blipFill>
          <a:blip r:embed="rId3"/>
          <a:stretch/>
        </p:blipFill>
        <p:spPr>
          <a:xfrm>
            <a:off x="228600" y="2590920"/>
            <a:ext cx="26449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n The Scream’s timeless   image is a genderless person with a pale face, standing beside a rai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e person is screaming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outh hung wide open wi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hands on the sides of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face, and you can see that scream reflected and continuing on into the distance of the  red, orange, deep blue, and black colored back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Two peop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st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with their backs turned to the screaming figure, with their black silhouettes on the very edge of the sc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The_Scream"/>
          <p:cNvPicPr/>
          <p:nvPr/>
        </p:nvPicPr>
        <p:blipFill>
          <a:blip r:embed="rId1"/>
          <a:stretch/>
        </p:blipFill>
        <p:spPr>
          <a:xfrm>
            <a:off x="4724280" y="685800"/>
            <a:ext cx="404820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5181480" y="240264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In May 2012, "The Scream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so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New York financier Leon Black paid nearly $120 million for "The Scream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186x282"/>
          <p:cNvPicPr/>
          <p:nvPr/>
        </p:nvPicPr>
        <p:blipFill>
          <a:blip r:embed="rId1"/>
          <a:stretch/>
        </p:blipFill>
        <p:spPr>
          <a:xfrm>
            <a:off x="838080" y="914400"/>
            <a:ext cx="3148200" cy="477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11T17:58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