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08F-F193-4BB4-BE88-E7221838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99F-3345-48AC-B127-D647BB92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93D-BF91-4244-A47A-DCA3584B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4FC-03F1-40FD-9A68-37F334D8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3A77-038B-48DC-AD91-88916633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06E8-0474-4004-9A6E-2901F216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01C1-6CB1-4DB9-9B82-954667F2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3023-EBA8-43DE-B4B9-348F9654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CFA5-BC03-42D4-B230-8A9CA40A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9A5B-9467-4DA5-8A8F-8982D12C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FA33-730B-4083-AC7C-88032ACB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E67-6FEA-4990-BA20-9A58920F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1843-281B-4730-B466-50C8715A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DAF6-0079-4308-8269-D3BB0279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B5BF-F571-45F6-9155-21D12992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F04E-0041-4DAE-915A-839496E5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3E03-6AE2-49FE-A823-9A754C5B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D20-AB0C-4656-B702-63B21BF3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C9D-4CD1-4762-84EE-EC2F49E0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FA9-7076-4638-ADF2-9A45EE34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798-E1ED-47AC-9C1A-BC37328A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4AE-3627-4312-A1B4-0B1698FA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737-7C58-442F-BBF0-B8D7517C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E18-4805-40B1-897A-C738E09F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B8DC-BD73-4D48-A76F-B129CA6399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04F3-0E9F-4593-A0A2-E09DABC77C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sentation 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made by students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‘B’ 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ctoria Morozov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oya Savitskay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hem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Edvard Munc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The Scream’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324480" y="613260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nk you for watching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772400" y="6491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25.01.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Edvard Munch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December 1863 – 23 January 194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vard Mun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a Norwegian painter and printmake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e of his most well-known works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Scr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189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1" descr="Portrait-of-Edvard-Munch-Akseli-Gallen-Kallela-1895"/>
          <p:cNvPicPr/>
          <p:nvPr/>
        </p:nvPicPr>
        <p:blipFill>
          <a:blip r:embed="rId1"/>
          <a:stretch/>
        </p:blipFill>
        <p:spPr>
          <a:xfrm>
            <a:off x="4572000" y="1600200"/>
            <a:ext cx="41338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ost famous works are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12" descr="446px-August_Stindberg"/>
          <p:cNvPicPr/>
          <p:nvPr/>
        </p:nvPicPr>
        <p:blipFill>
          <a:blip r:embed="rId1"/>
          <a:stretch/>
        </p:blipFill>
        <p:spPr>
          <a:xfrm>
            <a:off x="704880" y="1523880"/>
            <a:ext cx="3290760" cy="4419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478px-Nietzsche-munch"/>
          <p:cNvPicPr/>
          <p:nvPr/>
        </p:nvPicPr>
        <p:blipFill>
          <a:blip r:embed="rId2"/>
          <a:stretch/>
        </p:blipFill>
        <p:spPr>
          <a:xfrm>
            <a:off x="4923000" y="1523880"/>
            <a:ext cx="3527280" cy="4419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4"/>
          <p:cNvSpPr/>
          <p:nvPr/>
        </p:nvSpPr>
        <p:spPr>
          <a:xfrm>
            <a:off x="487440" y="63295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ugust Strindber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4876920" y="617220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Portrait of Friedrich Nietzsch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906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75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16" descr="Munch_vampire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364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645px-Munch_deathSickroom"/>
          <p:cNvPicPr/>
          <p:nvPr/>
        </p:nvPicPr>
        <p:blipFill>
          <a:blip r:embed="rId2"/>
          <a:stretch/>
        </p:blipFill>
        <p:spPr>
          <a:xfrm>
            <a:off x="4724280" y="1752480"/>
            <a:ext cx="4267440" cy="3589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8"/>
          <p:cNvSpPr/>
          <p:nvPr/>
        </p:nvSpPr>
        <p:spPr>
          <a:xfrm>
            <a:off x="457200" y="1828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457200" y="198108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380880" y="11430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ampi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3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4800600" y="1143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eath in the Sickro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Munch_Det_Syke_Barn_1885-86"/>
          <p:cNvPicPr/>
          <p:nvPr/>
        </p:nvPicPr>
        <p:blipFill>
          <a:blip r:embed="rId1"/>
          <a:stretch/>
        </p:blipFill>
        <p:spPr>
          <a:xfrm>
            <a:off x="380880" y="1219320"/>
            <a:ext cx="361800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5638320" y="5485680"/>
            <a:ext cx="19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''Ashes.''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89400" y="548568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he Sick Chi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5-8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Munch_Ashes"/>
          <p:cNvPicPr/>
          <p:nvPr/>
        </p:nvPicPr>
        <p:blipFill>
          <a:blip r:embed="rId2"/>
          <a:stretch/>
        </p:blipFill>
        <p:spPr>
          <a:xfrm>
            <a:off x="4419720" y="1219320"/>
            <a:ext cx="43434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3733920"/>
            <a:ext cx="8381880" cy="25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e Scream (1893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Scream-article_2209648c"/>
          <p:cNvPicPr/>
          <p:nvPr/>
        </p:nvPicPr>
        <p:blipFill>
          <a:blip r:embed="rId1"/>
          <a:stretch/>
        </p:blipFill>
        <p:spPr>
          <a:xfrm>
            <a:off x="1752480" y="457200"/>
            <a:ext cx="556272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685800" y="762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66680" y="457200"/>
            <a:ext cx="7086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Scream painting by Edvard Munch is one of the most well-known pieces of artwork in history, appealing to a wide audience even today. There are actually four different original versions of The Scream that Edvard Much created using different art mediums including oil paints, tempera, and pastels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2" descr="The_Scream_Pastel"/>
          <p:cNvPicPr/>
          <p:nvPr/>
        </p:nvPicPr>
        <p:blipFill>
          <a:blip r:embed="rId1"/>
          <a:stretch/>
        </p:blipFill>
        <p:spPr>
          <a:xfrm>
            <a:off x="6248520" y="2590920"/>
            <a:ext cx="2743200" cy="3733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The_Scream2"/>
          <p:cNvPicPr/>
          <p:nvPr/>
        </p:nvPicPr>
        <p:blipFill>
          <a:blip r:embed="rId2"/>
          <a:stretch/>
        </p:blipFill>
        <p:spPr>
          <a:xfrm>
            <a:off x="3124080" y="2590920"/>
            <a:ext cx="2943360" cy="373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Munch_The_Scream_lithography"/>
          <p:cNvPicPr/>
          <p:nvPr/>
        </p:nvPicPr>
        <p:blipFill>
          <a:blip r:embed="rId3"/>
          <a:stretch/>
        </p:blipFill>
        <p:spPr>
          <a:xfrm>
            <a:off x="228600" y="2590920"/>
            <a:ext cx="26449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4038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n The Scream’s timeless   image is a genderless person with a pale face, standing beside a rai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e person is screaming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mouth hung wide open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hands on the sides of th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face, and you can see that scream reflected and continuing on into the distance of the  red, orange, deep blue, and black colored backg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wo peop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st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with their backs turned to the screaming figure, with their black silhouettes on the very edge of the sc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The_Scream"/>
          <p:cNvPicPr/>
          <p:nvPr/>
        </p:nvPicPr>
        <p:blipFill>
          <a:blip r:embed="rId1"/>
          <a:stretch/>
        </p:blipFill>
        <p:spPr>
          <a:xfrm>
            <a:off x="4724280" y="685800"/>
            <a:ext cx="404820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5181480" y="240264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n May 2012, "The Scream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so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New York financier Leon Black paid nearly $120 million for "The Scream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186x282"/>
          <p:cNvPicPr/>
          <p:nvPr/>
        </p:nvPicPr>
        <p:blipFill>
          <a:blip r:embed="rId1"/>
          <a:stretch/>
        </p:blipFill>
        <p:spPr>
          <a:xfrm>
            <a:off x="838080" y="914400"/>
            <a:ext cx="3148200" cy="477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1T17:58:5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