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13.wmf" ContentType="image/x-wmf"/>
  <Override PartName="/ppt/media/image16.wmf" ContentType="image/x-wmf"/>
  <Override PartName="/ppt/media/image8.gif" ContentType="image/gif"/>
  <Override PartName="/ppt/media/image15.wmf" ContentType="image/x-wmf"/>
  <Override PartName="/ppt/media/image7.gif" ContentType="image/gif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097-BCCF-442F-AC69-D467D737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ED9-8384-4E30-BF97-537F4F2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61A-E190-42FE-BE70-640D293F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F9C-9717-4F77-9FFA-256DEE19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C2F-9B32-4790-9A99-1F21EEEF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A16-E105-48DF-A29D-BF7BF8E3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C9B-7EB1-4D1A-99C7-9E7993D2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C77-23A0-4FCC-8AB0-27B8534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9B0-5458-4992-96EF-C67CDE6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9F1-B269-4C0C-852F-C1508CB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D1C-1AA4-474E-9B91-AACBBFBF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F8C-C9FD-4729-A543-A529C03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C547-B999-4B95-8949-D29A8E665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090359"/>
          <p:cNvPicPr/>
          <p:nvPr/>
        </p:nvPicPr>
        <p:blipFill>
          <a:blip r:embed="rId1"/>
          <a:stretch/>
        </p:blipFill>
        <p:spPr>
          <a:xfrm>
            <a:off x="-1440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281970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  <p:pic>
        <p:nvPicPr>
          <p:cNvPr id="45" name="kenny_g_-_havan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3412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j0336916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M45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188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SBRICKS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D0036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344463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280386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2-09-01T11:24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