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gif" ContentType="image/gif"/>
  <Override PartName="/ppt/media/image13.wmf" ContentType="image/x-wmf"/>
  <Override PartName="/ppt/media/image16.wmf" ContentType="image/x-wmf"/>
  <Override PartName="/ppt/media/image8.gif" ContentType="image/gif"/>
  <Override PartName="/ppt/media/image15.wmf" ContentType="image/x-wmf"/>
  <Override PartName="/ppt/media/image7.gif" ContentType="image/gif"/>
  <Override PartName="/ppt/media/image14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595A-42C4-498B-9CAB-B09FE1AB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22F-01DE-4CAD-B93D-C7DA895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ADE-9AD4-4A9C-876F-B888C779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43D-1964-437D-B7EA-55825C1D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E6AB-D036-4D82-B48F-B0D2A41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1FD-6B44-4FF4-B9FF-F35663D2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000-D725-4EEE-A7AF-7F4FF5B6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223-1810-4226-B98D-C248261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F5A-C1B1-48BE-B95D-6E8A772C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66B-8E37-4506-AB1D-2133381F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FB7-8250-4FDF-8A96-8944558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794-4258-4EE4-8568-0F3BF906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FED7-32B9-4438-A9D9-0114C4499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090359"/>
          <p:cNvPicPr/>
          <p:nvPr/>
        </p:nvPicPr>
        <p:blipFill>
          <a:blip r:embed="rId1"/>
          <a:stretch/>
        </p:blipFill>
        <p:spPr>
          <a:xfrm>
            <a:off x="-1440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j0281970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  <p:pic>
        <p:nvPicPr>
          <p:cNvPr id="45" name="kenny_g_-_havan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3412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0355131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N00790_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874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ED00019_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G00315_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AG00316_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j0336916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3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4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104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AG00317_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32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64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KIDS01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48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480"/>
                            </p:stCondLst>
                            <p:childTnLst>
                              <p:par>
                                <p:cTn id="3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M45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4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84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360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188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SBRICKS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D0036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0344463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280386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1109520" y="1219320"/>
            <a:ext cx="6924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12-09-01T11:24:4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