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F8B-C550-4468-ACE6-9CA940A0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D45-704E-483A-81FB-39217830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52F-754C-433B-AF61-51407ADB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9F1-8043-4668-B374-61247DA2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C3BA-803B-4712-866C-70EBF8D3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60E4-A8B3-4713-8048-2CE0FB0A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7B67-F50C-45D8-8EB8-130700C2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43B7-0348-4A80-A214-A84981F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268-2F60-42FD-A942-445673E9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B88E-9A22-4DF2-A3B0-D49A7F80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589D-9448-40F5-9278-362935C0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04B-CB61-4FBA-AA4B-F4DD3ACF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5D12-FAB9-4AD6-B722-2F3BBD24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1BF-9765-46D9-A0B9-F04DFD0A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BFD3-0AF5-44D1-A4F3-21DF977F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D635-DBF5-4600-A2C9-57E27656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60C2-46D5-40C3-BF23-2DA9AF3E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E8B-7612-4BEF-B31A-9C20545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515-3BAA-4D9B-A53D-E73A58D4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0A9-FE9C-45E0-B4F2-3F0C661C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19D-C54C-42A0-B449-A41E9A5D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ED3-D188-4304-9EC6-C78CD3E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F1E-B930-45CB-AD0E-4DE367FD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CEE-2C45-466C-8F03-1602D64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312-8AD5-4A3E-9B87-6AA5500A4A0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2AD8-6574-4C91-8189-F81E411E06D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art-assorty.ru/508-3d-risunki-na-asfalte.html" TargetMode="External"/><Relationship Id="rId2" Type="http://schemas.openxmlformats.org/officeDocument/2006/relationships/hyperlink" Target="http://www.liveinternet.ru/users/4389657/post181335115/" TargetMode="External"/><Relationship Id="rId3" Type="http://schemas.openxmlformats.org/officeDocument/2006/relationships/hyperlink" Target="http://www.vsehobby.ru/julian_beever_na_asfalte.html" TargetMode="External"/><Relationship Id="rId4" Type="http://schemas.openxmlformats.org/officeDocument/2006/relationships/hyperlink" Target="http://fotki.yandex.ru/users/saschimy/album/100889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 Rounded MT Bold"/>
              </a:rPr>
              <a:t>Стрит-ар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5257800" cy="3944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172120" y="2360520"/>
            <a:ext cx="397188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425840" y="380880"/>
            <a:ext cx="4718160" cy="5505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273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657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086440" y="0"/>
            <a:ext cx="40575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76312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105156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3909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53000" y="1523880"/>
            <a:ext cx="449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76520" y="-647640"/>
            <a:ext cx="5762520" cy="75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05840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09480" y="138240"/>
            <a:ext cx="716292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29628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99136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art-assorty.ru/508-3d-risunki-na-asfalte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liveinternet.ru/users/4389657/post181335115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www.vsehobby.ru/julian_beever_na_asfalte.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http://fotki.yandex.ru/users/saschimy/album/100889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76288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58400" cy="67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18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13472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lka</cp:lastModifiedBy>
  <dcterms:modified xsi:type="dcterms:W3CDTF">2013-02-14T20:30:2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