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0DCA-E8AC-49A5-B593-4EFD4C186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A8BF-AAE8-4CE8-B44B-9B7CF7C1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B06A-CF60-40C6-BCA3-2C552315B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A7D8-772C-4883-8FE3-19379720F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6567-1F49-490B-8378-50B110C2E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F04A-D857-40FC-99E5-99164EFD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9769-9E21-42A4-AD24-30478877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69BC-93C2-4DB7-A7F0-A41D003E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7426-4CA3-4B97-9813-AE3D42E2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7801E-3C65-4181-BBFB-250FF844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F870-2561-45F8-B993-4A118ACB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F8B1-ADC0-4BA4-98BC-C7807A75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11067-5B32-4744-8F6B-BC930722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0C972-ED46-40FD-AB51-648F3DB5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5BF5-73E9-41CE-8F82-A51494CA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BAE9-7254-4E86-8026-8B4AF1691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7C50-9213-4304-AF42-03AF617D1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58ED-C8CC-4A96-9E06-B20675ED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19E0-0AF9-40AD-BB23-EBB93A4C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0593-9FC7-45E3-A869-E3ABE43E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2330-F166-4E95-AD1B-2860B809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A461-784C-46F8-AE26-0C6C5CDA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1115-82FC-4BD5-9259-6EEDD369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939E-6639-41A2-AF07-A20198CA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117A-FC54-44C7-923D-D2E52602615A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CEC7-78AD-4BCF-ADF4-71D88A15AD04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art-assorty.ru/508-3d-risunki-na-asfalte.html" TargetMode="External"/><Relationship Id="rId2" Type="http://schemas.openxmlformats.org/officeDocument/2006/relationships/hyperlink" Target="http://www.liveinternet.ru/users/4389657/post181335115/" TargetMode="External"/><Relationship Id="rId3" Type="http://schemas.openxmlformats.org/officeDocument/2006/relationships/hyperlink" Target="http://www.vsehobby.ru/julian_beever_na_asfalte.html" TargetMode="External"/><Relationship Id="rId4" Type="http://schemas.openxmlformats.org/officeDocument/2006/relationships/hyperlink" Target="http://fotki.yandex.ru/users/saschimy/album/100889/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ecff"/>
                </a:solidFill>
                <a:latin typeface="Arial Rounded MT Bold"/>
              </a:rPr>
              <a:t>Стрит-арт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1722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114480"/>
            <a:ext cx="5257800" cy="39448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5172120" y="2360520"/>
            <a:ext cx="3971880" cy="44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425840" y="380880"/>
            <a:ext cx="4718160" cy="55054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42735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29240" cy="66578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5086440" y="0"/>
            <a:ext cx="405756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8763120" cy="58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105156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57800" cy="39099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4653000" y="1523880"/>
            <a:ext cx="4491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676520" y="-647640"/>
            <a:ext cx="5762520" cy="75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7848720" cy="67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7924680" cy="68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0058400" cy="62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363320" cy="67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14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609480" y="138240"/>
            <a:ext cx="7162920" cy="67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9296280" cy="67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991360" cy="67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Использованные ресурс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http://art-assorty.ru/508-3d-risunki-na-asfalte.htm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5b2ff"/>
                </a:solidFill>
                <a:uFillTx/>
                <a:latin typeface="Arial"/>
                <a:hlinkClick r:id="rId2"/>
              </a:rPr>
              <a:t>http://www.liveinternet.ru/users/4389657/post181335115/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5b2ff"/>
                </a:solidFill>
                <a:uFillTx/>
                <a:latin typeface="Arial"/>
                <a:hlinkClick r:id="rId3"/>
              </a:rPr>
              <a:t>http://www.vsehobby.ru/julian_beever_na_asfalte.htm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5b2ff"/>
                </a:solidFill>
                <a:uFillTx/>
                <a:latin typeface="Arial"/>
                <a:hlinkClick r:id="rId4"/>
              </a:rPr>
              <a:t>http://fotki.yandex.ru/users/saschimy/album/100889/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5762880" cy="70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58400" cy="67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618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82080" cy="66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1068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1013472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1068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elka</cp:lastModifiedBy>
  <dcterms:modified xsi:type="dcterms:W3CDTF">2013-02-14T20:30:28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