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05C6-72B4-4181-B560-000015FBA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C4BD-ECC7-4D0D-8BEC-06388E77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535D-EBB3-4732-9A8F-745016371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D1F8-9A26-4901-921F-A427E97B9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0849-8FD4-4590-A57F-A52C26586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74F0-C178-4137-91A6-E11DFB7D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3697-BE76-4E3E-85EC-EC170295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1B03-8A7C-4831-9AAC-E9978CD8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2D93-FA47-461D-AAAB-8601DD29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DC9B-9343-4AA8-A0BB-F0D56988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77B8D-E190-4CC5-A348-C27BD7D3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AAB3-B29F-47BA-91D9-92278F76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5DC5-20E6-4B6B-ABB5-7107BA79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8940-30D7-4E11-B6DE-6ADE6357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557ED-A958-44FE-A510-BC0DD905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EECF-10F3-427B-86A4-27AAACB5A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2FFA7-C696-4493-BE42-CCB23BB83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C2A6-E250-48EF-9A65-5711C3F45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79E5-286C-4A8B-8166-9FD099BB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6EC7-5391-4F84-A930-8B62C406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E9B9-CE76-42DD-8A5C-5EEFBD31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DE19-A6AF-4D39-BEEF-19626F5F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965F-C80F-41F0-8F45-12D20E4D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5783-2D1D-42AD-95DF-2A1D9CDE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9459-DF86-4A29-9C86-0CFA2739601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B0EF-6B5B-4D49-9A08-8C3C7D4BA7C1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378000" y="633240"/>
            <a:ext cx="8858160" cy="4219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285480" y="1214280"/>
            <a:ext cx="87152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[d] – dad, grandpa, addres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[s] – letter box, poster, se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[p] – postman, post office, stam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[e] – letter, address, se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[æ] – stamp, dad, postma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[v] – envelope, five, nev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[m] – mum, grandma, grandp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1"/>
          <a:stretch/>
        </p:blipFill>
        <p:spPr>
          <a:xfrm>
            <a:off x="237960" y="103320"/>
            <a:ext cx="8918640" cy="1439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D:\Лена\Новая папка (2)\Новая папка (3)\p0079.gif"/>
          <p:cNvPicPr/>
          <p:nvPr/>
        </p:nvPicPr>
        <p:blipFill>
          <a:blip r:embed="rId2"/>
          <a:stretch/>
        </p:blipFill>
        <p:spPr>
          <a:xfrm>
            <a:off x="311040" y="1557360"/>
            <a:ext cx="8832960" cy="4803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1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66cc"/>
                </a:solidFill>
                <a:latin typeface="Book Antiqua"/>
              </a:rPr>
              <a:t>Country</a:t>
            </a:r>
            <a:r>
              <a:rPr b="0" lang="en-US" sz="5600" spc="-1" strike="noStrike">
                <a:solidFill>
                  <a:srgbClr val="ffffff"/>
                </a:solidFill>
                <a:latin typeface="Book Antiqua"/>
              </a:rPr>
              <a:t> – </a:t>
            </a:r>
            <a:r>
              <a:rPr b="0" lang="ru-RU" sz="5600" spc="-1" strike="noStrike">
                <a:solidFill>
                  <a:srgbClr val="ffffff"/>
                </a:solidFill>
                <a:latin typeface="Times New Roman"/>
              </a:rPr>
              <a:t>страна;</a:t>
            </a:r>
            <a:endParaRPr b="0" lang="en-US" sz="5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66cc"/>
                </a:solidFill>
                <a:latin typeface="Book Antiqua"/>
              </a:rPr>
              <a:t>Town </a:t>
            </a:r>
            <a:r>
              <a:rPr b="0" lang="en-US" sz="5600" spc="-1" strike="noStrike">
                <a:solidFill>
                  <a:srgbClr val="ffffff"/>
                </a:solidFill>
                <a:latin typeface="Book Antiqua"/>
              </a:rPr>
              <a:t>–</a:t>
            </a:r>
            <a:r>
              <a:rPr b="0" lang="ru-RU" sz="5600" spc="-1" strike="noStrike">
                <a:solidFill>
                  <a:srgbClr val="ffffff"/>
                </a:solidFill>
                <a:latin typeface="Times New Roman"/>
              </a:rPr>
              <a:t> большой город;</a:t>
            </a:r>
            <a:endParaRPr b="0" lang="en-US" sz="5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66cc"/>
                </a:solidFill>
                <a:latin typeface="Book Antiqua"/>
              </a:rPr>
              <a:t>City</a:t>
            </a:r>
            <a:r>
              <a:rPr b="0" lang="en-US" sz="5600" spc="-1" strike="noStrike">
                <a:solidFill>
                  <a:srgbClr val="ffffff"/>
                </a:solidFill>
                <a:latin typeface="Book Antiqua"/>
              </a:rPr>
              <a:t> – </a:t>
            </a:r>
            <a:r>
              <a:rPr b="0" lang="ru-RU" sz="5600" spc="-1" strike="noStrike">
                <a:solidFill>
                  <a:srgbClr val="ffffff"/>
                </a:solidFill>
                <a:latin typeface="Times New Roman"/>
              </a:rPr>
              <a:t>небольшой город;</a:t>
            </a:r>
            <a:endParaRPr b="0" lang="en-US" sz="5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66cc"/>
                </a:solidFill>
                <a:latin typeface="Book Antiqua"/>
              </a:rPr>
              <a:t>Street</a:t>
            </a:r>
            <a:r>
              <a:rPr b="0" lang="en-US" sz="5600" spc="-1" strike="noStrike">
                <a:solidFill>
                  <a:srgbClr val="ffffff"/>
                </a:solidFill>
                <a:latin typeface="Book Antiqua"/>
              </a:rPr>
              <a:t> –</a:t>
            </a:r>
            <a:r>
              <a:rPr b="0" lang="ru-RU" sz="5600" spc="-1" strike="noStrike">
                <a:solidFill>
                  <a:srgbClr val="ffffff"/>
                </a:solidFill>
                <a:latin typeface="Times New Roman"/>
              </a:rPr>
              <a:t> улица.</a:t>
            </a:r>
            <a:endParaRPr b="0" lang="en-US" sz="5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D:\Лена\Новая папка (2)\Новая папка (3)\p007роп9.gif"/>
          <p:cNvPicPr/>
          <p:nvPr/>
        </p:nvPicPr>
        <p:blipFill>
          <a:blip r:embed="rId1"/>
          <a:stretch/>
        </p:blipFill>
        <p:spPr>
          <a:xfrm>
            <a:off x="142920" y="857160"/>
            <a:ext cx="8807400" cy="51339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4" descr=""/>
          <p:cNvPicPr/>
          <p:nvPr/>
        </p:nvPicPr>
        <p:blipFill>
          <a:blip r:embed="rId1"/>
          <a:stretch/>
        </p:blipFill>
        <p:spPr>
          <a:xfrm>
            <a:off x="-92160" y="133200"/>
            <a:ext cx="9102960" cy="3159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D:\Лена\Новая папка (2)\Новая папка (3)\р.gif"/>
          <p:cNvPicPr/>
          <p:nvPr/>
        </p:nvPicPr>
        <p:blipFill>
          <a:blip r:embed="rId2"/>
          <a:stretch/>
        </p:blipFill>
        <p:spPr>
          <a:xfrm>
            <a:off x="214200" y="3357720"/>
            <a:ext cx="8767800" cy="3028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0720" y="165240"/>
            <a:ext cx="8242560" cy="12618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250020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ook Antiqua"/>
              </a:rPr>
              <a:t>Ex. 2, 3,</a:t>
            </a:r>
            <a:r>
              <a:rPr b="0" lang="ru-RU" sz="7200" spc="-1" strike="noStrike">
                <a:solidFill>
                  <a:srgbClr val="ffffff"/>
                </a:solidFill>
                <a:latin typeface="Times New Roman"/>
              </a:rPr>
              <a:t>4,</a:t>
            </a:r>
            <a:r>
              <a:rPr b="0" lang="en-US" sz="7200" spc="-1" strike="noStrike">
                <a:solidFill>
                  <a:srgbClr val="ffffff"/>
                </a:solidFill>
                <a:latin typeface="Book Antiqua"/>
              </a:rPr>
              <a:t>p.</a:t>
            </a:r>
            <a:r>
              <a:rPr b="0" lang="ru-RU" sz="7200" spc="-1" strike="noStrike">
                <a:solidFill>
                  <a:srgbClr val="ffffff"/>
                </a:solidFill>
                <a:latin typeface="Times New Roman"/>
              </a:rPr>
              <a:t>51</a:t>
            </a:r>
            <a:r>
              <a:rPr b="0" lang="en-US" sz="7200" spc="-1" strike="noStrike">
                <a:solidFill>
                  <a:srgbClr val="ffffff"/>
                </a:solidFill>
                <a:latin typeface="Book Antiqua"/>
              </a:rPr>
              <a:t>(w.b.)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7T04:03:10Z</dcterms:created>
  <dc:creator>Пользователь</dc:creator>
  <dc:description/>
  <dc:language>en-US</dc:language>
  <cp:lastModifiedBy>1</cp:lastModifiedBy>
  <dcterms:modified xsi:type="dcterms:W3CDTF">2013-02-14T19:29:30Z</dcterms:modified>
  <cp:revision>7</cp:revision>
  <dc:subject/>
  <dc:title>Урок 44. Такие разные адреса.</dc:title>
</cp:coreProperties>
</file>