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1858-332D-4071-822B-F967694D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A454-93A9-46E2-BAEE-6FED9B96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A47E-6CFD-4ECB-8C17-77311A69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BB61-5C81-4D04-AB73-D680EB33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1242-5EB8-4748-944C-920853A7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847B-7C5C-4563-B460-B7B0DDDE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E12E-3EAB-40BF-853A-6A439C3A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0360-99E0-4E32-924E-1BCA577D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E11A-50D4-478A-BD07-6B8099A5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55C1-D043-4D6B-92A5-F5A30635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E8D8-3CA6-43F6-A33D-A85AC191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1656-DAF8-4859-B315-CABA84FE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4B30-6788-4DA6-B954-055B25E4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161D-FC73-4AD5-9C41-922A2767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AE54-9FE7-4343-A48F-D65301E2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DFD5-F18C-4081-8AA4-4C7F491D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2415-6863-4B5A-9350-47A4D47F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16E2-50C5-4C36-9173-EAD27EC8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C1DB-59A2-437F-B790-5786154A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A7E9-1F12-4239-9A60-64A50391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EF9E-3B8B-410E-9619-3C693DC3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F096-E64A-45A2-8C22-BF00F230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2E02-E3EF-43F6-9B6C-0D88F29C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4EFE-5B55-404D-AF65-74856A02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2AD3-EF4F-4C5B-AB5D-F9FCFAA684B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F24C-7AB2-49CC-AA14-83220A3E471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78000" y="633240"/>
            <a:ext cx="8858160" cy="421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85480" y="1214280"/>
            <a:ext cx="87152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[d] – dad, grandpa, addre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[s] – letter box, poster, se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[p] – postman, post office, stam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[e] – letter, address, se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[æ] – stamp, dad, postma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[v] – envelope, five, nev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[m] – mum, grandma, grandp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237960" y="103320"/>
            <a:ext cx="8918640" cy="143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:\Лена\Новая папка (2)\Новая папка (3)\p0079.gif"/>
          <p:cNvPicPr/>
          <p:nvPr/>
        </p:nvPicPr>
        <p:blipFill>
          <a:blip r:embed="rId2"/>
          <a:stretch/>
        </p:blipFill>
        <p:spPr>
          <a:xfrm>
            <a:off x="311040" y="1557360"/>
            <a:ext cx="8832960" cy="480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66cc"/>
                </a:solidFill>
                <a:latin typeface="Book Antiqua"/>
              </a:rPr>
              <a:t>Country</a:t>
            </a:r>
            <a:r>
              <a:rPr b="0" lang="en-US" sz="56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ru-RU" sz="5600" spc="-1" strike="noStrike">
                <a:solidFill>
                  <a:srgbClr val="ffffff"/>
                </a:solidFill>
                <a:latin typeface="Times New Roman"/>
              </a:rPr>
              <a:t>страна;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66cc"/>
                </a:solidFill>
                <a:latin typeface="Book Antiqua"/>
              </a:rPr>
              <a:t>Town </a:t>
            </a:r>
            <a:r>
              <a:rPr b="0" lang="en-US" sz="5600" spc="-1" strike="noStrike">
                <a:solidFill>
                  <a:srgbClr val="ffffff"/>
                </a:solidFill>
                <a:latin typeface="Book Antiqua"/>
              </a:rPr>
              <a:t>–</a:t>
            </a:r>
            <a:r>
              <a:rPr b="0" lang="ru-RU" sz="5600" spc="-1" strike="noStrike">
                <a:solidFill>
                  <a:srgbClr val="ffffff"/>
                </a:solidFill>
                <a:latin typeface="Times New Roman"/>
              </a:rPr>
              <a:t> большой город;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66cc"/>
                </a:solidFill>
                <a:latin typeface="Book Antiqua"/>
              </a:rPr>
              <a:t>City</a:t>
            </a:r>
            <a:r>
              <a:rPr b="0" lang="en-US" sz="56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ru-RU" sz="5600" spc="-1" strike="noStrike">
                <a:solidFill>
                  <a:srgbClr val="ffffff"/>
                </a:solidFill>
                <a:latin typeface="Times New Roman"/>
              </a:rPr>
              <a:t>небольшой город;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66cc"/>
                </a:solidFill>
                <a:latin typeface="Book Antiqua"/>
              </a:rPr>
              <a:t>Street</a:t>
            </a:r>
            <a:r>
              <a:rPr b="0" lang="en-US" sz="5600" spc="-1" strike="noStrike">
                <a:solidFill>
                  <a:srgbClr val="ffffff"/>
                </a:solidFill>
                <a:latin typeface="Book Antiqua"/>
              </a:rPr>
              <a:t> –</a:t>
            </a:r>
            <a:r>
              <a:rPr b="0" lang="ru-RU" sz="5600" spc="-1" strike="noStrike">
                <a:solidFill>
                  <a:srgbClr val="ffffff"/>
                </a:solidFill>
                <a:latin typeface="Times New Roman"/>
              </a:rPr>
              <a:t> улица.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:\Лена\Новая папка (2)\Новая папка (3)\p007роп9.gif"/>
          <p:cNvPicPr/>
          <p:nvPr/>
        </p:nvPicPr>
        <p:blipFill>
          <a:blip r:embed="rId1"/>
          <a:stretch/>
        </p:blipFill>
        <p:spPr>
          <a:xfrm>
            <a:off x="142920" y="857160"/>
            <a:ext cx="8807400" cy="5133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4" descr=""/>
          <p:cNvPicPr/>
          <p:nvPr/>
        </p:nvPicPr>
        <p:blipFill>
          <a:blip r:embed="rId1"/>
          <a:stretch/>
        </p:blipFill>
        <p:spPr>
          <a:xfrm>
            <a:off x="-92160" y="133200"/>
            <a:ext cx="9102960" cy="3159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D:\Лена\Новая папка (2)\Новая папка (3)\р.gif"/>
          <p:cNvPicPr/>
          <p:nvPr/>
        </p:nvPicPr>
        <p:blipFill>
          <a:blip r:embed="rId2"/>
          <a:stretch/>
        </p:blipFill>
        <p:spPr>
          <a:xfrm>
            <a:off x="214200" y="3357720"/>
            <a:ext cx="8767800" cy="3028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250020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ook Antiqua"/>
              </a:rPr>
              <a:t>Ex. 2, 3,</a:t>
            </a: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4,</a:t>
            </a:r>
            <a:r>
              <a:rPr b="0" lang="en-US" sz="7200" spc="-1" strike="noStrike">
                <a:solidFill>
                  <a:srgbClr val="ffffff"/>
                </a:solidFill>
                <a:latin typeface="Book Antiqua"/>
              </a:rPr>
              <a:t>p.</a:t>
            </a: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51</a:t>
            </a:r>
            <a:r>
              <a:rPr b="0" lang="en-US" sz="7200" spc="-1" strike="noStrike">
                <a:solidFill>
                  <a:srgbClr val="ffffff"/>
                </a:solidFill>
                <a:latin typeface="Book Antiqua"/>
              </a:rPr>
              <a:t>(w.b.)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04:03:10Z</dcterms:created>
  <dc:creator>Пользователь</dc:creator>
  <dc:description/>
  <dc:language>en-US</dc:language>
  <cp:lastModifiedBy>1</cp:lastModifiedBy>
  <dcterms:modified xsi:type="dcterms:W3CDTF">2013-02-14T19:29:30Z</dcterms:modified>
  <cp:revision>7</cp:revision>
  <dc:subject/>
  <dc:title>Урок 44. Такие разные адреса.</dc:title>
</cp:coreProperties>
</file>